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90D5-C8E9-47E7-ACF8-3D01808D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97FC-8F2D-4DE3-B622-7252A823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37D7-88D1-4D36-8263-30123D2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C02-AF20-4C3C-9E4D-FFA6A256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5B22-88F0-4BF7-948A-1FD7D642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2D2B-12E6-4D58-A92E-F68366D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C39A-A85D-4747-AF1C-CACD76C2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8EE9-E50C-4D2B-8FFA-7F622DC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A06F-4C62-4938-98F1-4915FC93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5DA-BB26-4FD0-975C-8769338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93E7-0F31-4257-9775-F5E4FA6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AD5F-D7F8-482A-923A-20FE10E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3D47-5B93-4A6D-B0D1-F842E891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15F3-CED6-46E2-B367-9E8CE19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82AA-1718-4713-B0AB-9FAFB29C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9B0-6849-4187-BD86-26F71CF2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D64A-63C8-41A6-9835-239F4FE9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A24A-AF98-412F-9A94-33A55A2B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E23C-3E9C-4CCF-908C-79849F3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9D50-9B9A-4FCD-B49B-6ED3E348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87AF-B845-4CA8-8CD4-BB80B6E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DE4D-7226-4930-B5BC-8F8E0F3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1A55-D1F9-4599-A9A4-E9EB05F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63E9-7F7C-449F-A67D-F41AF54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80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BFD-18A0-4B0D-B457-58A8AACCF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80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CF92-976D-488B-965A-307C1443331C}" type="slidenum"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Arial"/>
              </a:rPr>
              <a:t>ГЕОГРАФИЧЕСКАЯ КАРТА</a:t>
            </a:r>
            <a:endParaRPr b="0" lang="en-US" sz="6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26560" y="2781360"/>
            <a:ext cx="7705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"/>
                <a:hlinkClick r:id="rId1" action="ppaction://hlinksldjump"/>
              </a:rPr>
              <a:t>Форма и размеры Земли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"/>
                <a:hlinkClick r:id="rId2" action="ppaction://hlinksldjump"/>
              </a:rPr>
              <a:t>Географическая карт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Градусная сеть на глобусе и карте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Географическая широт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Географическая долгот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>
            <a:hlinkClick r:id="" action="ppaction://hlinkshowjump?jump=nextslide"/>
          </p:cNvPr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333360"/>
            <a:ext cx="3029040" cy="39988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6"/>
          <p:cNvSpPr/>
          <p:nvPr/>
        </p:nvSpPr>
        <p:spPr>
          <a:xfrm>
            <a:off x="324000" y="4292640"/>
            <a:ext cx="30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еликий картограф эпохи средневековья Герард Меркатор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419640" y="404640"/>
            <a:ext cx="55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Английский географ Эдвард Райт, создал тригонометрические таблицы, которые позволяли воспроизводить проекции Меркатора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5" name="Picture 1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003640" y="4076640"/>
            <a:ext cx="3029040" cy="179244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17"/>
          <p:cNvSpPr/>
          <p:nvPr/>
        </p:nvSpPr>
        <p:spPr>
          <a:xfrm>
            <a:off x="4140360" y="59421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илиндрическая равноугольная проекция Меркатора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Старинная карта Швейцарии </a:t>
            </a:r>
            <a:br>
              <a:rPr sz="2800"/>
            </a:b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(атлас Меркатора)</a:t>
            </a:r>
            <a:br>
              <a:rPr sz="2800"/>
            </a:br>
            <a:endParaRPr b="0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988920"/>
            <a:ext cx="741708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Arial"/>
              </a:rPr>
              <a:t>Проекции карт</a:t>
            </a:r>
            <a:endParaRPr b="0" lang="en-US" sz="6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Цилиндр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н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сая перспективно-цилиндр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ормальная азимутальн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перечная азимутальн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сая азимутальн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ликон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Схема 1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1821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Схема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Схема 1" descr=""/>
          <p:cNvPicPr/>
          <p:nvPr/>
        </p:nvPicPr>
        <p:blipFill>
          <a:blip r:embed="rId1"/>
          <a:stretch/>
        </p:blipFill>
        <p:spPr>
          <a:xfrm>
            <a:off x="-79200" y="-682560"/>
            <a:ext cx="9272520" cy="733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"/>
              </a:rPr>
              <a:t>ФОРМА И РАЗМЕРЫ ЗЕМЛИ</a:t>
            </a: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60093"/>
                </a:solidFill>
                <a:uFillTx/>
                <a:latin typeface="Arial"/>
                <a:hlinkClick r:id="rId2" action="ppaction://hlinksldjump"/>
              </a:rPr>
              <a:t>Сравнительная характеристика планет и звезд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60093"/>
                </a:solidFill>
                <a:uFillTx/>
                <a:latin typeface="Arial"/>
                <a:hlinkClick r:id="rId4" action="ppaction://hlinksldjump"/>
              </a:rPr>
              <a:t>Глобус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60093"/>
                </a:solidFill>
                <a:uFillTx/>
                <a:latin typeface="Arial"/>
                <a:hlinkClick r:id="rId6" action="ppaction://hlinksldjump"/>
              </a:rPr>
              <a:t>Современные представления о форме Земли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РАВНИТЕЛЬНАЯ ХАРАКТЕРИСТИКА ПЛАНЕТ И ЗВЕЗД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0" y="1989000"/>
          <a:ext cx="9144000" cy="4838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рты сходства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рты различия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орма и размеры планет и звезд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меют форму шара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Планеты намного меньше звезд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асположение и движение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Движутся по орбитам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Планеты вращаются вокруг звезды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озможность видения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Можно увидеть невооруженным глазом, т. к. они светятся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везды светят собственным светом, а планеты отраженным от звезд светом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Oval 83">
            <a:hlinkClick r:id="rId1" action="ppaction://hlinksldjump"/>
          </p:cNvPr>
          <p:cNvSpPr/>
          <p:nvPr/>
        </p:nvSpPr>
        <p:spPr>
          <a:xfrm>
            <a:off x="539640" y="220500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79"/>
          <p:cNvGraphicFramePr/>
          <p:nvPr/>
        </p:nvGraphicFramePr>
        <p:xfrm>
          <a:off x="0" y="0"/>
          <a:ext cx="2541600" cy="33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79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4160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Arial"/>
              </a:rPr>
              <a:t>ГЛОБУС</a:t>
            </a:r>
            <a:endParaRPr b="0" lang="en-US" sz="7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56000" y="1989000"/>
            <a:ext cx="590544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Т ЛАТИНСКОГО СЛОВА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globus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- ШАР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0" y="3284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век до н.э. – был изготовлен первый глобус в Милане (не сохранился)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1492г. – немецкий географ Бехайм Мартин изготовил глобус, который отражает представления о поверхности Земли накануне открытия Нового Света (г. Нюрнберг)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Конец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VII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в. - один из первых глобусов в России изготовил псковский дьякон Карп Максимов – 91,4 см в диаметре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30-е года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в. – первый в России рельефный глобус – нижегородский учитель географии В.И. Иванов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итальянец Орфео Бартолуччи изготовил самый большой в мире глобус (диаметр – 10м, вес – 30т</a:t>
            </a: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516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СОВРЕМЕННЫЕ ПРЕДСТАВЛЕНИЯ О ФОРМЕ ЗЕМЛИ</a:t>
            </a:r>
            <a:endParaRPr b="0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инная форма Земли – 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геоид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– трехслойный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эллипсоидный сфероид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ff"/>
                </a:solidFill>
                <a:uFillTx/>
                <a:latin typeface="Arial"/>
              </a:rPr>
              <a:t>Аристотель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 – первым привел доказательство шарообразности Земли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ff"/>
                </a:solidFill>
                <a:uFillTx/>
                <a:latin typeface="Arial"/>
              </a:rPr>
              <a:t>Эратосфен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– первый измерил величину земного шара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66"/>
                </a:solidFill>
                <a:latin typeface="Arial"/>
              </a:rPr>
              <a:t>РАЗМЕРЫ ЗЕМЛИ</a:t>
            </a:r>
            <a:endParaRPr b="0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лина окружности по экватору – 40075,7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лина окружности по меридианам – 40008,5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олярный радиус – 6356,8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Экваториальный радиус – 6378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лощадь поверхности Земли – 510,2 млн км</a:t>
            </a:r>
            <a:r>
              <a:rPr b="0" lang="ru-RU" sz="3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8"/>
          <p:cNvSpPr/>
          <p:nvPr/>
        </p:nvSpPr>
        <p:spPr>
          <a:xfrm>
            <a:off x="611280" y="5229360"/>
            <a:ext cx="28728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611280" y="4292640"/>
            <a:ext cx="287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2" name="Rectangle 26"/>
          <p:cNvSpPr/>
          <p:nvPr/>
        </p:nvSpPr>
        <p:spPr>
          <a:xfrm>
            <a:off x="539640" y="2997360"/>
            <a:ext cx="287280" cy="431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539640" y="1557360"/>
            <a:ext cx="28728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539640" y="692280"/>
            <a:ext cx="28728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4284720" y="1341360"/>
            <a:ext cx="4392720" cy="43210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grpSp>
        <p:nvGrpSpPr>
          <p:cNvPr id="536" name="Group 30"/>
          <p:cNvGrpSpPr/>
          <p:nvPr/>
        </p:nvGrpSpPr>
        <p:grpSpPr>
          <a:xfrm>
            <a:off x="5567400" y="1341360"/>
            <a:ext cx="1693800" cy="4321080"/>
            <a:chOff x="5567400" y="1341360"/>
            <a:chExt cx="1693800" cy="4321080"/>
          </a:xfrm>
        </p:grpSpPr>
        <p:sp>
          <p:nvSpPr>
            <p:cNvPr id="537" name="Freeform 10"/>
            <p:cNvSpPr/>
            <p:nvPr/>
          </p:nvSpPr>
          <p:spPr>
            <a:xfrm>
              <a:off x="5567400" y="1341360"/>
              <a:ext cx="804960" cy="4321080"/>
            </a:xfrm>
            <a:prstGeom prst="pie">
              <a:avLst/>
            </a:pr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38" name="Freeform 11"/>
            <p:cNvSpPr/>
            <p:nvPr/>
          </p:nvSpPr>
          <p:spPr>
            <a:xfrm>
              <a:off x="6372360" y="1341360"/>
              <a:ext cx="888840" cy="4321080"/>
            </a:xfrm>
            <a:prstGeom prst="pie">
              <a:avLst/>
            </a:prstGeom>
            <a:noFill/>
            <a:ln w="3816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grpSp>
        <p:nvGrpSpPr>
          <p:cNvPr id="539" name="Group 29"/>
          <p:cNvGrpSpPr/>
          <p:nvPr/>
        </p:nvGrpSpPr>
        <p:grpSpPr>
          <a:xfrm>
            <a:off x="4284720" y="2685960"/>
            <a:ext cx="4332240" cy="1908360"/>
            <a:chOff x="4284720" y="2685960"/>
            <a:chExt cx="4332240" cy="1908360"/>
          </a:xfrm>
        </p:grpSpPr>
        <p:sp>
          <p:nvSpPr>
            <p:cNvPr id="540" name="Freeform 13"/>
            <p:cNvSpPr/>
            <p:nvPr/>
          </p:nvSpPr>
          <p:spPr>
            <a:xfrm>
              <a:off x="4284720" y="3573360"/>
              <a:ext cx="4319640" cy="10209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41" name="Freeform 14"/>
            <p:cNvSpPr/>
            <p:nvPr/>
          </p:nvSpPr>
          <p:spPr>
            <a:xfrm>
              <a:off x="4284720" y="2685960"/>
              <a:ext cx="4332240" cy="8874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542" name="Line 15"/>
          <p:cNvSpPr/>
          <p:nvPr/>
        </p:nvSpPr>
        <p:spPr>
          <a:xfrm>
            <a:off x="6372360" y="1341360"/>
            <a:ext cx="7272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>
            <a:off x="6443640" y="3573360"/>
            <a:ext cx="2232000" cy="0"/>
          </a:xfrm>
          <a:prstGeom prst="line">
            <a:avLst/>
          </a:prstGeom>
          <a:ln w="414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4" name="Line 17"/>
          <p:cNvSpPr/>
          <p:nvPr/>
        </p:nvSpPr>
        <p:spPr>
          <a:xfrm flipH="1">
            <a:off x="5653080" y="3646440"/>
            <a:ext cx="792000" cy="8636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298764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кружность Земли 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Длина окружности по экватору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Длина окружности по меридиану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лярный радиус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кваториальный радиус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5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24" dur="25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25" dur="25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66"/>
                </a:solidFill>
                <a:latin typeface="Arial"/>
              </a:rPr>
              <a:t>ГЕОГРАФИЧЕСКАЯ КАРТА</a:t>
            </a:r>
            <a:endParaRPr b="0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НЕМНОГО ИСТОРИИ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РОЕКЦИИ КАРТ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УСЛОВНЫЕ ЗНАКИ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ЛЕГЕНДА КАРТЫ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МАСШТАБ КАРТЫ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ff"/>
                </a:solidFill>
                <a:latin typeface="Arial"/>
              </a:rPr>
              <a:t>НЕМНОГО ИСТОРИИ</a:t>
            </a:r>
            <a:endParaRPr b="0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49" name="Picture 4" descr="">
            <a:hlinkClick r:id="" action="ppaction://hlinkshowjump?jump=nextslide"/>
          </p:cNvPr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557360"/>
            <a:ext cx="3017880" cy="302904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0" y="4581360"/>
            <a:ext cx="37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Карта полинезийцев, сделанная из расщепленных черенков пальмовых листьев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635280" y="1557360"/>
            <a:ext cx="55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ссийский ученый и мореплаватель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в. Отто Коцебу видел подобные карты у жителей Океании.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щепленные черенки листьев кокосовых пальм связаны между собой волокнами, пересекались и служили или проливами или течениями. Раковины служили для обозначения островов.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56:54Z</dcterms:created>
  <dc:creator>Горева Елена</dc:creator>
  <dc:description/>
  <dc:language>en-US</dc:language>
  <cp:lastModifiedBy>1</cp:lastModifiedBy>
  <dcterms:modified xsi:type="dcterms:W3CDTF">2011-12-04T05:50:48Z</dcterms:modified>
  <cp:revision>21</cp:revision>
  <dc:subject/>
  <dc:title>ГЕОГРАФИЧЕСКАЯ КАРТА</dc:title>
</cp:coreProperties>
</file>