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5.png" ContentType="image/png"/>
  <Override PartName="/ppt/media/image10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DADB9-4705-4819-ADA0-0BA846EC1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F5E46-BCE7-4E7D-B44E-A97B03E7B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6BA33-F784-4931-BCE0-CBFFFA587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16D31-C2F1-4302-9C6D-5551C72BB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791B2-1FD6-4058-BB22-EBBB0985F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0F948-0715-42C4-84BB-7A7CB9CE4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D4370-9411-48BC-8716-A26A67349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08C2C-410F-4C1D-B1A1-86E476045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0EAB1-055D-4D1C-BD2E-999DBB6A5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A132C-4AB2-4AFC-A17D-94408F884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65B38-351A-4FD9-9E05-54F81E40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96E38-5021-4EDC-B3C1-B4CF9864A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E97E8-9211-4C4D-BF0A-FD879041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891C3-8ABF-4C2F-B3A5-9A21DAB8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3FE54-EBDF-45E6-83AE-6A934BDC2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67815-FD34-4BE4-B22A-1ED840E21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D03D0-2111-4261-AB9D-E968B1660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24E3F-5409-4815-A725-56A7B55B7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8C4B8-C343-42A1-8422-7B17D8E72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944B9-BE9D-477E-ADBD-8B5DFFD44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D739F-3D3A-40E3-9C6D-DB3F09C00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E59F0-8680-4A0D-B508-298C948B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01154-2ED6-4D9E-8730-C771DB34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B9BE6-2534-47EB-8898-18AB2BE3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e00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e00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e00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e00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e00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e00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e00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e00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e00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e00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b00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b00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5400a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5400a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e00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e00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b00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b00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b00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b00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b00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b00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b00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b00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8006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b00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b00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b00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5400a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5400a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5400a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1775F-9A3C-407B-B1B8-F770B6586D6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300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e00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e00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e00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e00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e00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e00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e00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e00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e00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e00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b00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b00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5400a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5400a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e00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e00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b00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b00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b00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b00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b00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b00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b00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b00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8006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b00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b00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b00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5400a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5400a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5400a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069B3-A50D-4930-9322-617A7C6DFAE4}" type="slidenum">
              <a:rPr b="0" lang="ru-RU" sz="1200" spc="-1" strike="noStrike">
                <a:solidFill>
                  <a:srgbClr val="ff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8.xm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3.xml"/><Relationship Id="rId3" Type="http://schemas.openxmlformats.org/officeDocument/2006/relationships/image" Target="../media/image4.png"/><Relationship Id="rId4" Type="http://schemas.openxmlformats.org/officeDocument/2006/relationships/slide" Target="slide4.xml"/><Relationship Id="rId5" Type="http://schemas.openxmlformats.org/officeDocument/2006/relationships/image" Target="../media/image4.png"/><Relationship Id="rId6" Type="http://schemas.openxmlformats.org/officeDocument/2006/relationships/slide" Target="slide5.xm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2448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9966"/>
                </a:solidFill>
                <a:latin typeface="Arial"/>
              </a:rPr>
              <a:t>ГЕОГРАФИЧЕСКАЯ КАРТА</a:t>
            </a:r>
            <a:endParaRPr b="0" lang="en-US" sz="6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826560" y="2781360"/>
            <a:ext cx="77058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d60093"/>
                </a:solidFill>
                <a:uFillTx/>
                <a:latin typeface="Arial"/>
                <a:hlinkClick r:id="rId1" action="ppaction://hlinksldjump"/>
              </a:rPr>
              <a:t>Форма и размеры Земли</a:t>
            </a: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d60093"/>
                </a:solidFill>
                <a:uFillTx/>
                <a:latin typeface="Arial"/>
                <a:hlinkClick r:id="rId2" action="ppaction://hlinksldjump"/>
              </a:rPr>
              <a:t>Географическая карта</a:t>
            </a: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Градусная сеть на глобусе и карте</a:t>
            </a: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Географическая широта</a:t>
            </a: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Географическая долгота</a:t>
            </a: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4" descr="">
            <a:hlinkClick r:id="" action="ppaction://hlinkshowjump?jump=nextslide"/>
          </p:cNvPr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395280" y="333360"/>
            <a:ext cx="3029040" cy="3998880"/>
          </a:xfrm>
          <a:prstGeom prst="rect">
            <a:avLst/>
          </a:prstGeom>
          <a:ln w="0">
            <a:noFill/>
          </a:ln>
        </p:spPr>
      </p:pic>
      <p:sp>
        <p:nvSpPr>
          <p:cNvPr id="553" name="Rectangle 6"/>
          <p:cNvSpPr/>
          <p:nvPr/>
        </p:nvSpPr>
        <p:spPr>
          <a:xfrm>
            <a:off x="324000" y="4292640"/>
            <a:ext cx="3058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"/>
              </a:rPr>
              <a:t>Великий картограф эпохи средневековья Герард Меркатор</a:t>
            </a:r>
            <a:endParaRPr b="0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54" name="Rectangle 7"/>
          <p:cNvSpPr/>
          <p:nvPr/>
        </p:nvSpPr>
        <p:spPr>
          <a:xfrm>
            <a:off x="3419640" y="404640"/>
            <a:ext cx="5580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Английский географ Эдвард Райт, создал тригонометрические таблицы, которые позволяли воспроизводить проекции Меркатора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pic>
        <p:nvPicPr>
          <p:cNvPr id="555" name="Picture 14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5003640" y="4076640"/>
            <a:ext cx="3029040" cy="1792440"/>
          </a:xfrm>
          <a:prstGeom prst="rect">
            <a:avLst/>
          </a:prstGeom>
          <a:ln w="0">
            <a:noFill/>
          </a:ln>
        </p:spPr>
      </p:pic>
      <p:sp>
        <p:nvSpPr>
          <p:cNvPr id="556" name="Rectangle 17"/>
          <p:cNvSpPr/>
          <p:nvPr/>
        </p:nvSpPr>
        <p:spPr>
          <a:xfrm>
            <a:off x="4140360" y="5942160"/>
            <a:ext cx="50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Цилиндрическая равноугольная проекция Меркатора</a:t>
            </a:r>
            <a:endParaRPr b="0" lang="en-US" sz="18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Arial"/>
              </a:rPr>
              <a:t>Старинная карта Швейцарии </a:t>
            </a:r>
            <a:br>
              <a:rPr sz="2800"/>
            </a:br>
            <a:r>
              <a:rPr b="1" lang="ru-RU" sz="2800" spc="-1" strike="noStrike">
                <a:solidFill>
                  <a:srgbClr val="00ffff"/>
                </a:solidFill>
                <a:latin typeface="Arial"/>
              </a:rPr>
              <a:t>(атлас Меркатора)</a:t>
            </a:r>
            <a:br>
              <a:rPr sz="2800"/>
            </a:br>
            <a:endParaRPr b="0" lang="en-US" sz="28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558" name="Picture 4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900000" y="988920"/>
            <a:ext cx="7417080" cy="581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9966"/>
                </a:solidFill>
                <a:latin typeface="Arial"/>
              </a:rPr>
              <a:t>Проекции карт</a:t>
            </a:r>
            <a:endParaRPr b="0" lang="en-US" sz="6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Цилиндрическая проекция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Коническая проекция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Косая перспективно-цилиндрическая проекция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Нормальная азимутальная проекция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Поперечная азимутальная проекция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Косая азимутальная проекция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Поликоническая проекция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Схема 1" descr=""/>
          <p:cNvPicPr/>
          <p:nvPr/>
        </p:nvPicPr>
        <p:blipFill>
          <a:blip r:embed="rId1"/>
          <a:stretch/>
        </p:blipFill>
        <p:spPr>
          <a:xfrm>
            <a:off x="-19080" y="-6480"/>
            <a:ext cx="918216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Схема 1" descr=""/>
          <p:cNvPicPr/>
          <p:nvPr/>
        </p:nvPicPr>
        <p:blipFill>
          <a:blip r:embed="rId1"/>
          <a:stretch/>
        </p:blipFill>
        <p:spPr>
          <a:xfrm>
            <a:off x="-6480" y="-19080"/>
            <a:ext cx="915696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Схема 1" descr=""/>
          <p:cNvPicPr/>
          <p:nvPr/>
        </p:nvPicPr>
        <p:blipFill>
          <a:blip r:embed="rId1"/>
          <a:stretch/>
        </p:blipFill>
        <p:spPr>
          <a:xfrm>
            <a:off x="-79200" y="-682560"/>
            <a:ext cx="9272520" cy="73324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66"/>
                </a:solidFill>
                <a:latin typeface="Arial"/>
              </a:rPr>
              <a:t>ФОРМА И РАЗМЕРЫ ЗЕМЛИ</a:t>
            </a:r>
            <a:endParaRPr b="0" lang="en-US" sz="4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d60093"/>
                </a:solidFill>
                <a:uFillTx/>
                <a:latin typeface="Arial"/>
                <a:hlinkClick r:id="rId2" action="ppaction://hlinksldjump"/>
              </a:rPr>
              <a:t>Сравнительная характеристика планет и звезд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d60093"/>
                </a:solidFill>
                <a:uFillTx/>
                <a:latin typeface="Arial"/>
                <a:hlinkClick r:id="rId4" action="ppaction://hlinksldjump"/>
              </a:rPr>
              <a:t>Глобус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d60093"/>
                </a:solidFill>
                <a:uFillTx/>
                <a:latin typeface="Arial"/>
                <a:hlinkClick r:id="rId6" action="ppaction://hlinksldjump"/>
              </a:rPr>
              <a:t>Современные представления о форме Земли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66"/>
                </a:solidFill>
                <a:latin typeface="Arial"/>
              </a:rPr>
              <a:t>СРАВНИТЕЛЬНАЯ ХАРАКТЕРИСТИКА ПЛАНЕТ И ЗВЕЗД</a:t>
            </a:r>
            <a:endParaRPr b="0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0" y="1989000"/>
          <a:ext cx="9144000" cy="483876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039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Черты сходства</a:t>
                      </a:r>
                      <a:endParaRPr b="0" lang="en-US" sz="24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800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Черты различия</a:t>
                      </a:r>
                      <a:endParaRPr b="0" lang="en-US" sz="24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0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noFill/>
                  </a:tcPr>
                </a:tc>
              </a:tr>
              <a:tr h="93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Форма и размеры планет и звезд</a:t>
                      </a:r>
                      <a:endParaRPr b="0" lang="en-US" sz="24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800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Имеют форму шара</a:t>
                      </a:r>
                      <a:endParaRPr b="0" lang="en-US" sz="24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0080"/>
                      </a:solidFill>
                    </a:lnL>
                    <a:lnR w="5760">
                      <a:solidFill>
                        <a:srgbClr val="80008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Планеты намного меньше звезд</a:t>
                      </a:r>
                      <a:endParaRPr b="0" lang="en-US" sz="24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0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noFill/>
                  </a:tcPr>
                </a:tc>
              </a:tr>
              <a:tr h="93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Расположение и движение</a:t>
                      </a:r>
                      <a:endParaRPr b="0" lang="en-US" sz="24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80008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Движутся по орбитам</a:t>
                      </a:r>
                      <a:endParaRPr b="0" lang="en-US" sz="24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0080"/>
                      </a:solidFill>
                    </a:lnL>
                    <a:lnR w="5760">
                      <a:solidFill>
                        <a:srgbClr val="80008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Планеты вращаются вокруг звезды</a:t>
                      </a:r>
                      <a:endParaRPr b="0" lang="en-US" sz="24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0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noFill/>
                  </a:tcPr>
                </a:tc>
              </a:tr>
              <a:tr h="192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Возможность видения</a:t>
                      </a:r>
                      <a:endParaRPr b="0" lang="en-US" sz="24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80008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Можно увидеть невооруженным глазом, т. к. они светятся</a:t>
                      </a:r>
                      <a:endParaRPr b="0" lang="en-US" sz="24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0080"/>
                      </a:solidFill>
                    </a:lnL>
                    <a:lnR w="5760">
                      <a:solidFill>
                        <a:srgbClr val="80008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Звезды светят собственным светом, а планеты отраженным от звезд светом</a:t>
                      </a:r>
                      <a:endParaRPr b="0" lang="en-US" sz="24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0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0" name="Oval 83">
            <a:hlinkClick r:id="rId1" action="ppaction://hlinksldjump"/>
          </p:cNvPr>
          <p:cNvSpPr/>
          <p:nvPr/>
        </p:nvSpPr>
        <p:spPr>
          <a:xfrm>
            <a:off x="539640" y="2205000"/>
            <a:ext cx="360360" cy="360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1" name="Object 79"/>
          <p:cNvGraphicFramePr/>
          <p:nvPr/>
        </p:nvGraphicFramePr>
        <p:xfrm>
          <a:off x="0" y="0"/>
          <a:ext cx="2541600" cy="330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2" name="Object 79" descr="">
                    <a:hlinkClick r:id="rId2" action="ppaction://hlinksldjump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2541600" cy="33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843280" y="2743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9966"/>
                </a:solidFill>
                <a:latin typeface="Arial"/>
              </a:rPr>
              <a:t>ГЛОБУС</a:t>
            </a:r>
            <a:endParaRPr b="0" lang="en-US" sz="72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2556000" y="1989000"/>
            <a:ext cx="5905440" cy="7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ОТ ЛАТИНСКОГО СЛОВА </a:t>
            </a:r>
            <a:r>
              <a:rPr b="1" i="1" lang="en-US" sz="3200" spc="-1" strike="noStrike">
                <a:solidFill>
                  <a:srgbClr val="ff0066"/>
                </a:solidFill>
                <a:latin typeface="Arial"/>
              </a:rPr>
              <a:t>globus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 - ШАР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0" y="3284640"/>
            <a:ext cx="91440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ff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ccff"/>
                </a:solidFill>
                <a:latin typeface="Arial"/>
              </a:rPr>
              <a:t>II</a:t>
            </a:r>
            <a:r>
              <a:rPr b="0" lang="ru-RU" sz="2000" spc="-1" strike="noStrike">
                <a:solidFill>
                  <a:srgbClr val="ffccff"/>
                </a:solidFill>
                <a:latin typeface="Arial"/>
              </a:rPr>
              <a:t> век до н.э. – был изготовлен первый глобус в Милане (не сохранился)</a:t>
            </a: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ff"/>
                </a:solidFill>
                <a:latin typeface="Arial"/>
              </a:rPr>
              <a:t>- 1492г. – немецкий географ Бехайм Мартин изготовил глобус, который отражает представления о поверхности Земли накануне открытия Нового Света (г. Нюрнберг)</a:t>
            </a: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ff"/>
                </a:solidFill>
                <a:latin typeface="Arial"/>
              </a:rPr>
              <a:t>- Конец </a:t>
            </a:r>
            <a:r>
              <a:rPr b="0" lang="en-US" sz="2000" spc="-1" strike="noStrike">
                <a:solidFill>
                  <a:srgbClr val="ffccff"/>
                </a:solidFill>
                <a:latin typeface="Arial"/>
              </a:rPr>
              <a:t>VII</a:t>
            </a:r>
            <a:r>
              <a:rPr b="0" lang="ru-RU" sz="2000" spc="-1" strike="noStrike">
                <a:solidFill>
                  <a:srgbClr val="ffccff"/>
                </a:solidFill>
                <a:latin typeface="Arial"/>
              </a:rPr>
              <a:t> в. - один из первых глобусов в России изготовил псковский дьякон Карп Максимов – 91,4 см в диаметре</a:t>
            </a: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ff"/>
                </a:solidFill>
                <a:latin typeface="Arial"/>
              </a:rPr>
              <a:t>- 30-е года </a:t>
            </a:r>
            <a:r>
              <a:rPr b="0" lang="en-US" sz="2000" spc="-1" strike="noStrike">
                <a:solidFill>
                  <a:srgbClr val="ffccff"/>
                </a:solidFill>
                <a:latin typeface="Arial"/>
              </a:rPr>
              <a:t>XIX</a:t>
            </a:r>
            <a:r>
              <a:rPr b="0" lang="ru-RU" sz="2000" spc="-1" strike="noStrike">
                <a:solidFill>
                  <a:srgbClr val="ffccff"/>
                </a:solidFill>
                <a:latin typeface="Arial"/>
              </a:rPr>
              <a:t> в. – первый в России рельефный глобус – нижегородский учитель географии В.И. Иванов</a:t>
            </a: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ff"/>
                </a:solidFill>
                <a:latin typeface="Arial"/>
              </a:rPr>
              <a:t>- итальянец Орфео Бартолуччи изготовил самый большой в мире глобус (диаметр – 10м, вес – 30т</a:t>
            </a:r>
            <a:r>
              <a:rPr b="0" lang="ru-RU" sz="2400" spc="-1" strike="noStrike">
                <a:solidFill>
                  <a:srgbClr val="ffcc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770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77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770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770" fill="hold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" dur="770" fill="hold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70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70" fill="hold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835164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6600"/>
                </a:solidFill>
                <a:latin typeface="Arial"/>
              </a:rPr>
              <a:t>СОВРЕМЕННЫЕ ПРЕДСТАВЛЕНИЯ О ФОРМЕ ЗЕМЛИ</a:t>
            </a:r>
            <a:endParaRPr b="0" lang="en-US" sz="4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0" y="2349360"/>
            <a:ext cx="914400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Истинная форма Земли – </a:t>
            </a:r>
            <a:r>
              <a:rPr b="0" lang="ru-RU" sz="4800" spc="-1" strike="noStrike">
                <a:solidFill>
                  <a:srgbClr val="00ff00"/>
                </a:solidFill>
                <a:latin typeface="Arial"/>
              </a:rPr>
              <a:t>геоид </a:t>
            </a: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– трехслойный</a:t>
            </a: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 эллипсоидный сфероид</a:t>
            </a:r>
            <a:endParaRPr b="0" lang="en-US" sz="4000" spc="-1" strike="noStrike">
              <a:solidFill>
                <a:srgbClr val="ff0066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9900ff"/>
                </a:solidFill>
                <a:uFillTx/>
                <a:latin typeface="Arial"/>
              </a:rPr>
              <a:t>Аристотель</a:t>
            </a:r>
            <a:r>
              <a:rPr b="0" lang="ru-RU" sz="3200" spc="-1" strike="noStrike">
                <a:solidFill>
                  <a:srgbClr val="9900ff"/>
                </a:solidFill>
                <a:latin typeface="Arial"/>
              </a:rPr>
              <a:t> – первым привел доказательство шарообразности Земли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ffff"/>
                </a:solidFill>
                <a:uFillTx/>
                <a:latin typeface="Arial"/>
              </a:rPr>
              <a:t>Эратосфен</a:t>
            </a:r>
            <a:r>
              <a:rPr b="0" lang="ru-RU" sz="4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– первый измерил величину земного шара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77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77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" dur="77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770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77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" dur="77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66"/>
                </a:solidFill>
                <a:latin typeface="Arial"/>
              </a:rPr>
              <a:t>РАЗМЕРЫ ЗЕМЛИ</a:t>
            </a:r>
            <a:endParaRPr b="0" lang="en-US" sz="5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Длина окружности по экватору – 40075,7 км</a:t>
            </a: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  <a:p>
            <a:pPr marL="339480" indent="-339480" algn="ctr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Длина окружности по меридианам – 40008,5 км</a:t>
            </a: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  <a:p>
            <a:pPr marL="339480" indent="-339480" algn="ctr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Полярный радиус – 6356,8 км</a:t>
            </a: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  <a:p>
            <a:pPr marL="339480" indent="-339480" algn="ctr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Экваториальный радиус – 6378 км</a:t>
            </a: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  <a:p>
            <a:pPr marL="339480" indent="-339480" algn="ctr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Площадь поверхности Земли – 510,2 млн км</a:t>
            </a:r>
            <a:r>
              <a:rPr b="0" lang="ru-RU" sz="3600" spc="-1" strike="noStrike" baseline="30000">
                <a:solidFill>
                  <a:srgbClr val="ff0066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28"/>
          <p:cNvSpPr/>
          <p:nvPr/>
        </p:nvSpPr>
        <p:spPr>
          <a:xfrm>
            <a:off x="611280" y="5229360"/>
            <a:ext cx="287280" cy="431640"/>
          </a:xfrm>
          <a:prstGeom prst="rect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31" name="Rectangle 27"/>
          <p:cNvSpPr/>
          <p:nvPr/>
        </p:nvSpPr>
        <p:spPr>
          <a:xfrm>
            <a:off x="611280" y="4292640"/>
            <a:ext cx="287280" cy="431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32" name="Rectangle 26"/>
          <p:cNvSpPr/>
          <p:nvPr/>
        </p:nvSpPr>
        <p:spPr>
          <a:xfrm>
            <a:off x="539640" y="2997360"/>
            <a:ext cx="287280" cy="431640"/>
          </a:xfrm>
          <a:prstGeom prst="rect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33" name="Rectangle 24"/>
          <p:cNvSpPr/>
          <p:nvPr/>
        </p:nvSpPr>
        <p:spPr>
          <a:xfrm>
            <a:off x="539640" y="1557360"/>
            <a:ext cx="287280" cy="431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34" name="Rectangle 23"/>
          <p:cNvSpPr/>
          <p:nvPr/>
        </p:nvSpPr>
        <p:spPr>
          <a:xfrm>
            <a:off x="539640" y="692280"/>
            <a:ext cx="287280" cy="360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35" name="Oval 5"/>
          <p:cNvSpPr/>
          <p:nvPr/>
        </p:nvSpPr>
        <p:spPr>
          <a:xfrm>
            <a:off x="4284720" y="1341360"/>
            <a:ext cx="4392720" cy="432108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66"/>
              </a:solidFill>
              <a:latin typeface="Arial"/>
            </a:endParaRPr>
          </a:p>
        </p:txBody>
      </p:sp>
      <p:grpSp>
        <p:nvGrpSpPr>
          <p:cNvPr id="536" name="Group 30"/>
          <p:cNvGrpSpPr/>
          <p:nvPr/>
        </p:nvGrpSpPr>
        <p:grpSpPr>
          <a:xfrm>
            <a:off x="5567400" y="1341360"/>
            <a:ext cx="1693800" cy="4321080"/>
            <a:chOff x="5567400" y="1341360"/>
            <a:chExt cx="1693800" cy="4321080"/>
          </a:xfrm>
        </p:grpSpPr>
        <p:sp>
          <p:nvSpPr>
            <p:cNvPr id="537" name="Freeform 10"/>
            <p:cNvSpPr/>
            <p:nvPr/>
          </p:nvSpPr>
          <p:spPr>
            <a:xfrm>
              <a:off x="5567400" y="1341360"/>
              <a:ext cx="804960" cy="4321080"/>
            </a:xfrm>
            <a:prstGeom prst="pie">
              <a:avLst/>
            </a:prstGeom>
            <a:noFill/>
            <a:ln w="381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538" name="Freeform 11"/>
            <p:cNvSpPr/>
            <p:nvPr/>
          </p:nvSpPr>
          <p:spPr>
            <a:xfrm>
              <a:off x="6372360" y="1341360"/>
              <a:ext cx="888840" cy="4321080"/>
            </a:xfrm>
            <a:prstGeom prst="pie">
              <a:avLst/>
            </a:prstGeom>
            <a:noFill/>
            <a:ln w="38160">
              <a:solidFill>
                <a:srgbClr val="ff00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</p:grpSp>
      <p:grpSp>
        <p:nvGrpSpPr>
          <p:cNvPr id="539" name="Group 29"/>
          <p:cNvGrpSpPr/>
          <p:nvPr/>
        </p:nvGrpSpPr>
        <p:grpSpPr>
          <a:xfrm>
            <a:off x="4284720" y="2685960"/>
            <a:ext cx="4332240" cy="1908360"/>
            <a:chOff x="4284720" y="2685960"/>
            <a:chExt cx="4332240" cy="1908360"/>
          </a:xfrm>
        </p:grpSpPr>
        <p:sp>
          <p:nvSpPr>
            <p:cNvPr id="540" name="Freeform 13"/>
            <p:cNvSpPr/>
            <p:nvPr/>
          </p:nvSpPr>
          <p:spPr>
            <a:xfrm>
              <a:off x="4284720" y="3573360"/>
              <a:ext cx="4319640" cy="1020960"/>
            </a:xfrm>
            <a:prstGeom prst="pie">
              <a:avLst/>
            </a:pr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  <p:sp>
          <p:nvSpPr>
            <p:cNvPr id="541" name="Freeform 14"/>
            <p:cNvSpPr/>
            <p:nvPr/>
          </p:nvSpPr>
          <p:spPr>
            <a:xfrm>
              <a:off x="4284720" y="2685960"/>
              <a:ext cx="4332240" cy="887400"/>
            </a:xfrm>
            <a:prstGeom prst="pie">
              <a:avLst/>
            </a:prstGeom>
            <a:noFill/>
            <a:ln w="38160">
              <a:solidFill>
                <a:srgbClr val="00ff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"/>
              </a:endParaRPr>
            </a:p>
          </p:txBody>
        </p:sp>
      </p:grpSp>
      <p:sp>
        <p:nvSpPr>
          <p:cNvPr id="542" name="Line 15"/>
          <p:cNvSpPr/>
          <p:nvPr/>
        </p:nvSpPr>
        <p:spPr>
          <a:xfrm>
            <a:off x="6372360" y="1341360"/>
            <a:ext cx="72720" cy="2232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43" name="Line 16"/>
          <p:cNvSpPr/>
          <p:nvPr/>
        </p:nvSpPr>
        <p:spPr>
          <a:xfrm>
            <a:off x="6443640" y="3573360"/>
            <a:ext cx="2232000" cy="0"/>
          </a:xfrm>
          <a:prstGeom prst="line">
            <a:avLst/>
          </a:prstGeom>
          <a:ln w="4140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44" name="Line 17"/>
          <p:cNvSpPr/>
          <p:nvPr/>
        </p:nvSpPr>
        <p:spPr>
          <a:xfrm flipH="1">
            <a:off x="5653080" y="3646440"/>
            <a:ext cx="792000" cy="863640"/>
          </a:xfrm>
          <a:prstGeom prst="line">
            <a:avLst/>
          </a:prstGeom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1115640" y="549360"/>
            <a:ext cx="2987640" cy="58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Окружность Земли </a:t>
            </a:r>
            <a:endParaRPr b="0" lang="en-US" sz="2800" spc="-1" strike="noStrike">
              <a:solidFill>
                <a:srgbClr val="ff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Длина окружности по экватору</a:t>
            </a:r>
            <a:endParaRPr b="0" lang="en-US" sz="2800" spc="-1" strike="noStrike">
              <a:solidFill>
                <a:srgbClr val="ff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Длина окружности по меридиану</a:t>
            </a:r>
            <a:endParaRPr b="0" lang="en-US" sz="2800" spc="-1" strike="noStrike">
              <a:solidFill>
                <a:srgbClr val="ff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Полярный радиус</a:t>
            </a:r>
            <a:endParaRPr b="0" lang="en-US" sz="2800" spc="-1" strike="noStrike">
              <a:solidFill>
                <a:srgbClr val="ff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Экваториальный радиус</a:t>
            </a:r>
            <a:endParaRPr b="0" lang="en-US" sz="2800" spc="-1" strike="noStrike">
              <a:solidFill>
                <a:srgbClr val="ff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" dur="1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2527c"/>
                                      </p:to>
                                    </p:animClr>
                                    <p:animClr clrSpc="rgb">
                                      <p:cBhvr>
                                        <p:cTn id="94" dur="1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2527c"/>
                                      </p:to>
                                    </p:animClr>
                                    <p:set>
                                      <p:cBhvr>
                                        <p:cTn id="95" dur="1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" dur="1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2527c"/>
                                      </p:to>
                                    </p:animClr>
                                    <p:animClr clrSpc="rgb">
                                      <p:cBhvr>
                                        <p:cTn id="105" dur="1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2527c"/>
                                      </p:to>
                                    </p:animClr>
                                    <p:set>
                                      <p:cBhvr>
                                        <p:cTn id="106" dur="1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" dur="2000" fill="hold"/>
                                        <p:tgtEl>
                                          <p:spTgt spid="5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9" dur="2000" fill="hold"/>
                                        <p:tgtEl>
                                          <p:spTgt spid="5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" dur="250" autoRev="1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animClr clrSpc="rgb">
                                      <p:cBhvr>
                                        <p:cTn id="124" dur="250" autoRev="1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125" dur="250" autoRev="1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66"/>
                </a:solidFill>
                <a:latin typeface="Arial"/>
              </a:rPr>
              <a:t>ГЕОГРАФИЧЕСКАЯ КАРТА</a:t>
            </a:r>
            <a:endParaRPr b="0" lang="en-US" sz="5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66"/>
                </a:solidFill>
                <a:latin typeface="Arial"/>
              </a:rPr>
              <a:t>НЕМНОГО ИСТОРИИ</a:t>
            </a:r>
            <a:endParaRPr b="0" lang="en-US" sz="4800" spc="-1" strike="noStrike">
              <a:solidFill>
                <a:srgbClr val="ff0066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66"/>
                </a:solidFill>
                <a:latin typeface="Arial"/>
              </a:rPr>
              <a:t>ПРОЕКЦИИ КАРТ</a:t>
            </a:r>
            <a:endParaRPr b="0" lang="en-US" sz="4800" spc="-1" strike="noStrike">
              <a:solidFill>
                <a:srgbClr val="ff0066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66"/>
                </a:solidFill>
                <a:latin typeface="Arial"/>
              </a:rPr>
              <a:t>УСЛОВНЫЕ ЗНАКИ</a:t>
            </a:r>
            <a:endParaRPr b="0" lang="en-US" sz="4800" spc="-1" strike="noStrike">
              <a:solidFill>
                <a:srgbClr val="ff0066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66"/>
                </a:solidFill>
                <a:latin typeface="Arial"/>
              </a:rPr>
              <a:t>ЛЕГЕНДА КАРТЫ</a:t>
            </a:r>
            <a:endParaRPr b="0" lang="en-US" sz="4800" spc="-1" strike="noStrike">
              <a:solidFill>
                <a:srgbClr val="ff0066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66"/>
                </a:solidFill>
                <a:latin typeface="Arial"/>
              </a:rPr>
              <a:t>МАСШТАБ КАРТЫ</a:t>
            </a:r>
            <a:endParaRPr b="0" lang="en-US" sz="48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66ff"/>
                </a:solidFill>
                <a:latin typeface="Arial"/>
              </a:rPr>
              <a:t>НЕМНОГО ИСТОРИИ</a:t>
            </a:r>
            <a:endParaRPr b="0" lang="en-US" sz="48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549" name="Picture 4" descr="">
            <a:hlinkClick r:id="" action="ppaction://hlinkshowjump?jump=nextslide"/>
          </p:cNvPr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468360" y="1557360"/>
            <a:ext cx="3017880" cy="3029040"/>
          </a:xfrm>
          <a:prstGeom prst="rect">
            <a:avLst/>
          </a:prstGeom>
          <a:ln w="0">
            <a:noFill/>
          </a:ln>
        </p:spPr>
      </p:pic>
      <p:sp>
        <p:nvSpPr>
          <p:cNvPr id="550" name="Rectangle 6"/>
          <p:cNvSpPr/>
          <p:nvPr/>
        </p:nvSpPr>
        <p:spPr>
          <a:xfrm>
            <a:off x="0" y="4581360"/>
            <a:ext cx="370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"/>
              </a:rPr>
              <a:t>Карта полинезийцев, сделанная из расщепленных черенков пальмовых листьев</a:t>
            </a:r>
            <a:endParaRPr b="0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51" name="Rectangle 7"/>
          <p:cNvSpPr/>
          <p:nvPr/>
        </p:nvSpPr>
        <p:spPr>
          <a:xfrm>
            <a:off x="3635280" y="1557360"/>
            <a:ext cx="5508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Российский ученый и мореплаватель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IX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в. Отто Коцебу видел подобные карты у жителей Океании.</a:t>
            </a:r>
            <a:endParaRPr b="0" lang="en-US" sz="2800" spc="-1" strike="noStrike">
              <a:solidFill>
                <a:srgbClr val="ff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Расщепленные черенки листьев кокосовых пальм связаны между собой волокнами, пересекались и служили или проливами или течениями. Раковины служили для обозначения островов.</a:t>
            </a:r>
            <a:endParaRPr b="0" lang="en-US" sz="28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56:54Z</dcterms:created>
  <dc:creator>Горева Елена</dc:creator>
  <dc:description/>
  <dc:language>en-US</dc:language>
  <cp:lastModifiedBy>1</cp:lastModifiedBy>
  <dcterms:modified xsi:type="dcterms:W3CDTF">2011-12-04T05:50:48Z</dcterms:modified>
  <cp:revision>21</cp:revision>
  <dc:subject/>
  <dc:title>ГЕОГРАФИЧЕСКАЯ КАРТА</dc:title>
</cp:coreProperties>
</file>