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5174-DD38-42F0-A914-A9BF602D20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5056-04DD-4FBE-9AD8-658D0F46D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FE03-1DDA-44CF-8E8A-EE54028F0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A1CA-62FC-4D55-B3ED-6E8BBE771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AF66-830A-48A6-904C-89FC8D15E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1799-64B0-433A-B61D-EE9FD0CDA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61E-261A-4E7A-BAE9-EE96D4B3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163-F66D-4AA3-8D90-9AE7193F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418-82C9-42BE-9780-AFBC2675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E3A-6775-43E9-849A-499C5405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490-16D3-4C6A-8AA5-C8E73559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3C2-872D-4E62-A74B-47DF66F5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35A-61E9-4C91-BFC2-9FDB86F5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2FC-A5CF-44AD-869D-D744BBFA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ABA-DE60-4FDA-A791-1724B811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84B-0159-4C04-8305-58F53D92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F7D-9172-4CF4-8788-2E4954F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A75-1667-4530-87D9-3943DBDB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6F20-8E1A-4D2C-AB21-3E2661620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1856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Организация 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проектной деятельности 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во внеклассной работе и дополнительном образовании 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с использованием И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ши наблю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_0512"/>
          <p:cNvPicPr/>
          <p:nvPr/>
        </p:nvPicPr>
        <p:blipFill>
          <a:blip r:embed="rId1"/>
          <a:stretch/>
        </p:blipFill>
        <p:spPr>
          <a:xfrm>
            <a:off x="457200" y="1371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ocu0057"/>
          <p:cNvPicPr/>
          <p:nvPr/>
        </p:nvPicPr>
        <p:blipFill>
          <a:blip r:embed="rId2"/>
          <a:stretch/>
        </p:blipFill>
        <p:spPr>
          <a:xfrm>
            <a:off x="5257800" y="457200"/>
            <a:ext cx="2952720" cy="254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ocu0068"/>
          <p:cNvPicPr/>
          <p:nvPr/>
        </p:nvPicPr>
        <p:blipFill>
          <a:blip r:embed="rId3"/>
          <a:stretch/>
        </p:blipFill>
        <p:spPr>
          <a:xfrm>
            <a:off x="4724280" y="3429000"/>
            <a:ext cx="4038840" cy="279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SC05160"/>
          <p:cNvPicPr/>
          <p:nvPr/>
        </p:nvPicPr>
        <p:blipFill>
          <a:blip r:embed="rId4"/>
          <a:stretch/>
        </p:blipFill>
        <p:spPr>
          <a:xfrm>
            <a:off x="13716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робуй разобрать мусор в своём ведре на полезный и вредны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езны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ртофельные очистки, яичная скорлупа, луковая шелуха, очистки от морковки, коробка от ботинок, рваные носки, тетрадь, кастрюля, конверт, карандаш, корзинка для печенья, коробка от конфет, газ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редны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анки из под пива, сломанная маши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чень вред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пачка от сосисок, пачка от «Педигри», крышка, пачка от печенья, бутылка от «Боржом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G_1090"/>
          <p:cNvPicPr/>
          <p:nvPr/>
        </p:nvPicPr>
        <p:blipFill>
          <a:blip r:embed="rId1"/>
          <a:stretch/>
        </p:blipFill>
        <p:spPr>
          <a:xfrm>
            <a:off x="2050920" y="1268280"/>
            <a:ext cx="4826160" cy="3240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 мотивировать исследовательскую дея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реализации какого-либо проекта цели обучения подчинены практическим целям, каждый шаг мотивируется интересом к конечному  результату деятельности, при этом решаются различные жизненные или просто интересные задачи. Дети делают с увлечением  то, что интересно для них сейчас и будет полезно для них в будущ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кции за чистоту гор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DSCF0468"/>
          <p:cNvPicPr/>
          <p:nvPr/>
        </p:nvPicPr>
        <p:blipFill>
          <a:blip r:embed="rId1"/>
          <a:stretch/>
        </p:blipFill>
        <p:spPr>
          <a:xfrm>
            <a:off x="457200" y="1600200"/>
            <a:ext cx="3962520" cy="373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SCF0474"/>
          <p:cNvPicPr/>
          <p:nvPr/>
        </p:nvPicPr>
        <p:blipFill>
          <a:blip r:embed="rId2"/>
          <a:stretch/>
        </p:blipFill>
        <p:spPr>
          <a:xfrm>
            <a:off x="4648320" y="2971800"/>
            <a:ext cx="40384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ая деятельность -  возможность подойти к изучению любого окружающего и заинтересовавшего ребёнка, объекта;  возможность самостоятельного решения вопроса. А это – стимул к развитию по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ое общество - стимул к мотивации интересов к конечн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мпьютерные технологии  - расширение индивидуализации и развитие чувства успешности у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– развитие детей с достаточно высокими и компетентными мотивациями, активными жизненными позиц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008840" y="3079800"/>
            <a:ext cx="21351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 flipH="1">
            <a:off x="9143280" y="3079800"/>
            <a:ext cx="2286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«Если хочешь изменить мир вокруг себя,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режде изменись сам».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Джордано Бру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048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чество, совершенно для себя незаметно, день за днём покоряя природу, делая мир вокруг удобнее, комфортнее, безопаснее подошло к опасному краю. Можно ли ещё предупредить катастроф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3"/>
          <p:cNvPicPr/>
          <p:nvPr/>
        </p:nvPicPr>
        <p:blipFill>
          <a:blip r:embed="rId1"/>
          <a:stretch/>
        </p:blipFill>
        <p:spPr>
          <a:xfrm>
            <a:off x="3505320" y="1773360"/>
            <a:ext cx="54100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Наш деви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ы все сильны своими связями друг с другом, если кто-то ослабит нить или отпустит её – паутинка распадётся, а этого нельзя допускать ни в коем случае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ocu0062"/>
          <p:cNvPicPr/>
          <p:nvPr/>
        </p:nvPicPr>
        <p:blipFill>
          <a:blip r:embed="rId1"/>
          <a:stretch/>
        </p:blipFill>
        <p:spPr>
          <a:xfrm>
            <a:off x="2666880" y="3962520"/>
            <a:ext cx="38102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В основе – создание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32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основе проектной деятельности происходит развитие познавательных интересов учащихся; умение самостоятельно конструировать свои знания, ориентироваться в информационном пространстве, проявлять компетенцию в вопросах, связанных с темой проекта; развитие крити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а ориентирована на самостоятельную деятельность индивидуально, парами или группами в определённые отрезки времени. При организации работы над проектами используются разнообразные виды деятель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docu0053"/>
          <p:cNvPicPr/>
          <p:nvPr/>
        </p:nvPicPr>
        <p:blipFill>
          <a:blip r:embed="rId1"/>
          <a:stretch/>
        </p:blipFill>
        <p:spPr>
          <a:xfrm>
            <a:off x="3803760" y="2743200"/>
            <a:ext cx="534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6000077"/>
          <p:cNvPicPr/>
          <p:nvPr/>
        </p:nvPicPr>
        <p:blipFill>
          <a:blip r:embed="rId1"/>
          <a:stretch/>
        </p:blipFill>
        <p:spPr>
          <a:xfrm rot="578400">
            <a:off x="5333760" y="91404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S6000079"/>
          <p:cNvPicPr/>
          <p:nvPr/>
        </p:nvPicPr>
        <p:blipFill>
          <a:blip r:embed="rId2"/>
          <a:stretch/>
        </p:blipFill>
        <p:spPr>
          <a:xfrm rot="20614200">
            <a:off x="533160" y="1066680"/>
            <a:ext cx="5578200" cy="418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SC01851"/>
          <p:cNvPicPr/>
          <p:nvPr/>
        </p:nvPicPr>
        <p:blipFill>
          <a:blip r:embed="rId3"/>
          <a:stretch/>
        </p:blipFill>
        <p:spPr>
          <a:xfrm>
            <a:off x="4114800" y="3429000"/>
            <a:ext cx="4281480" cy="3211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04920" y="228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ды в любое время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SCF0625"/>
          <p:cNvPicPr/>
          <p:nvPr/>
        </p:nvPicPr>
        <p:blipFill>
          <a:blip r:embed="rId1"/>
          <a:stretch/>
        </p:blipFill>
        <p:spPr>
          <a:xfrm rot="688200">
            <a:off x="3885840" y="68580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ocu0055"/>
          <p:cNvPicPr/>
          <p:nvPr/>
        </p:nvPicPr>
        <p:blipFill>
          <a:blip r:embed="rId2"/>
          <a:stretch/>
        </p:blipFill>
        <p:spPr>
          <a:xfrm rot="20131200">
            <a:off x="380880" y="609120"/>
            <a:ext cx="4267440" cy="3068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ocu0049"/>
          <p:cNvPicPr/>
          <p:nvPr/>
        </p:nvPicPr>
        <p:blipFill>
          <a:blip r:embed="rId3"/>
          <a:stretch/>
        </p:blipFill>
        <p:spPr>
          <a:xfrm>
            <a:off x="1447920" y="3373560"/>
            <a:ext cx="4800600" cy="3484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914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у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01028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ём проек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133720" y="4876920"/>
            <a:ext cx="23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ща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SCF0559"/>
          <p:cNvPicPr/>
          <p:nvPr/>
        </p:nvPicPr>
        <p:blipFill>
          <a:blip r:embed="rId1"/>
          <a:stretch/>
        </p:blipFill>
        <p:spPr>
          <a:xfrm>
            <a:off x="304920" y="227160"/>
            <a:ext cx="8229600" cy="61354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ри э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дагоги и дети взаимодействуют между собой и окружающей сре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ченики выполняют действия поэтапно, идя к достижению намеченной цели в соответствии личностных возможностей и наклонност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 ребёнка возникает возможность предвидеть результат и  планировать свои дальнейшие действия, самостоятельно реализовать свои возможности, почувствовать себя успеш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хема выполнения исследовательской раб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Обнаружение интересного фа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Освоение методов изучения объекта или 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– Определение целей и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– Дополнительные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– Камеральная обработка и оформление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– Защита (публика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ни: «Ковчег построил любитель, профессионалы постро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ита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ы для исследования пытливыми  учениками повсю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DSC05143"/>
          <p:cNvPicPr/>
          <p:nvPr/>
        </p:nvPicPr>
        <p:blipFill>
          <a:blip r:embed="rId1"/>
          <a:stretch/>
        </p:blipFill>
        <p:spPr>
          <a:xfrm>
            <a:off x="533520" y="137160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DSC05168"/>
          <p:cNvPicPr/>
          <p:nvPr/>
        </p:nvPicPr>
        <p:blipFill>
          <a:blip r:embed="rId2"/>
          <a:stretch/>
        </p:blipFill>
        <p:spPr>
          <a:xfrm>
            <a:off x="4267080" y="25909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0-12-03T19:39:5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