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2AE-B6B0-431C-89F6-72A2FB248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2F7-8D29-4DE8-928D-634BA8C3D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4CC-2CCF-488E-B445-B1A67674D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2F8-5539-44C5-9CD9-5D6217DB9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3832-AB38-4FFE-A487-594B3E14A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EAD-AE64-44C9-8FD1-365319CA8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4E0-9958-4848-B2F8-5AF8EC16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301-C3C4-4258-881F-055F601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15D-2BDE-44A7-AB85-4F9FE71C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350-7782-47F4-AD76-170D270F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79B-638C-48B9-B91C-3D5D80A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E6B-9BA6-4588-9558-AA3821C2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A26-7A6F-4405-87B9-100D4830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639-E542-4AA8-A35C-C8C6F706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15F-D214-415A-B568-F2405185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DA4-F71F-4F07-A851-9C9166C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DB3-77E8-465B-9BF8-3A552F2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54D-7274-4CCE-AB28-9460B7A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232-8584-4623-A2E3-4B392F7D7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Организация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проектной деятельности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во внеклассной работе и дополнительном образовании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 использованием И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ши наблю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0512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ocu0057"/>
          <p:cNvPicPr/>
          <p:nvPr/>
        </p:nvPicPr>
        <p:blipFill>
          <a:blip r:embed="rId2"/>
          <a:stretch/>
        </p:blipFill>
        <p:spPr>
          <a:xfrm>
            <a:off x="5257800" y="45720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ocu0068"/>
          <p:cNvPicPr/>
          <p:nvPr/>
        </p:nvPicPr>
        <p:blipFill>
          <a:blip r:embed="rId3"/>
          <a:stretch/>
        </p:blipFill>
        <p:spPr>
          <a:xfrm>
            <a:off x="4724280" y="3429000"/>
            <a:ext cx="4038840" cy="279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SC05160"/>
          <p:cNvPicPr/>
          <p:nvPr/>
        </p:nvPicPr>
        <p:blipFill>
          <a:blip r:embed="rId4"/>
          <a:stretch/>
        </p:blipFill>
        <p:spPr>
          <a:xfrm>
            <a:off x="13716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буй разобрать мусор в своём ведре на полезный и вредны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ез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ртофельные очистки, яичная скорлупа, луковая шелуха, очистки от морковки, коробка от ботинок, рваные носки, тетрадь, кастрюля, конверт, карандаш, корзинка для печенья, коробка от конфет, газ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ред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нки из под пива, сломанная маш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чень вред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ачка от сосисок, пачка от «Педигри», крышка, пачка от печенья, бутылка от «Боржом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1090"/>
          <p:cNvPicPr/>
          <p:nvPr/>
        </p:nvPicPr>
        <p:blipFill>
          <a:blip r:embed="rId1"/>
          <a:stretch/>
        </p:blipFill>
        <p:spPr>
          <a:xfrm>
            <a:off x="2050920" y="1268280"/>
            <a:ext cx="4826160" cy="3240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мотивировать исследовательск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реализации какого-либо проекта цели обучения подчинены практическим целям, каждый шаг мотивируется интересом к конечному  результату деятельности, при этом решаются различные жизненные или просто интересные задачи. Дети делают с увлечением  то, что интересно для них сейчас и будет полезно для них в будущ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кции за чистоту го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SCF0468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SCF0474"/>
          <p:cNvPicPr/>
          <p:nvPr/>
        </p:nvPicPr>
        <p:blipFill>
          <a:blip r:embed="rId2"/>
          <a:stretch/>
        </p:blipFill>
        <p:spPr>
          <a:xfrm>
            <a:off x="4648320" y="2971800"/>
            <a:ext cx="4038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 -  возможность подойти к изучению любого окружающего и заинтересовавшего ребёнка, объекта;  возможность самостоятельного решения вопроса. А это – стимул к развитию по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е общество - стимул к мотивации интересов к конеч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мпьютерные технологии  - расширение индивидуализации и развитие чувства успешности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– развитие детей с достаточно высокими и компетентными мотивациями, активными жизненными позиц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008840" y="3079800"/>
            <a:ext cx="21351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 flipH="1">
            <a:off x="9143280" y="3079800"/>
            <a:ext cx="2286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«Если хочешь изменить мир вокруг себя,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режде изменись сам».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Джордано Бру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048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тво, совершенно для себя незаметно, день за днём покоряя природу, делая мир вокруг удобнее, комфортнее, безопаснее подошло к опасному краю. Можно ли ещё предупредить катастроф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3"/>
          <p:cNvPicPr/>
          <p:nvPr/>
        </p:nvPicPr>
        <p:blipFill>
          <a:blip r:embed="rId1"/>
          <a:stretch/>
        </p:blipFill>
        <p:spPr>
          <a:xfrm>
            <a:off x="3505320" y="1773360"/>
            <a:ext cx="54100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аш деви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ы все сильны своими связями друг с другом, если кто-то ослабит нить или отпустит её – паутинка распадётся, а этого нельзя допускать ни в коем случа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ocu0062"/>
          <p:cNvPicPr/>
          <p:nvPr/>
        </p:nvPicPr>
        <p:blipFill>
          <a:blip r:embed="rId1"/>
          <a:stretch/>
        </p:blipFill>
        <p:spPr>
          <a:xfrm>
            <a:off x="2666880" y="3962520"/>
            <a:ext cx="38102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В основе – создание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32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основе проектной деятельности происходит развитие познавательных интересов учащихся; умение самостоятельно конструировать свои знания, ориентироваться в информационном пространстве, проявлять компетенцию в вопросах, связанных с темой проекта; развитие крит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ориентирована на самостоятельную деятельность индивидуально, парами или группами в определённые отрезки времени. При организации работы над проектами используются разнообразные виды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ocu0053"/>
          <p:cNvPicPr/>
          <p:nvPr/>
        </p:nvPicPr>
        <p:blipFill>
          <a:blip r:embed="rId1"/>
          <a:stretch/>
        </p:blipFill>
        <p:spPr>
          <a:xfrm>
            <a:off x="3803760" y="2743200"/>
            <a:ext cx="534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6000077"/>
          <p:cNvPicPr/>
          <p:nvPr/>
        </p:nvPicPr>
        <p:blipFill>
          <a:blip r:embed="rId1"/>
          <a:stretch/>
        </p:blipFill>
        <p:spPr>
          <a:xfrm rot="578400">
            <a:off x="5333760" y="914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S6000079"/>
          <p:cNvPicPr/>
          <p:nvPr/>
        </p:nvPicPr>
        <p:blipFill>
          <a:blip r:embed="rId2"/>
          <a:stretch/>
        </p:blipFill>
        <p:spPr>
          <a:xfrm rot="20614200">
            <a:off x="533160" y="1066680"/>
            <a:ext cx="5578200" cy="41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SC01851"/>
          <p:cNvPicPr/>
          <p:nvPr/>
        </p:nvPicPr>
        <p:blipFill>
          <a:blip r:embed="rId3"/>
          <a:stretch/>
        </p:blipFill>
        <p:spPr>
          <a:xfrm>
            <a:off x="4114800" y="3429000"/>
            <a:ext cx="4281480" cy="3211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04920" y="228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SCF0625"/>
          <p:cNvPicPr/>
          <p:nvPr/>
        </p:nvPicPr>
        <p:blipFill>
          <a:blip r:embed="rId1"/>
          <a:stretch/>
        </p:blipFill>
        <p:spPr>
          <a:xfrm rot="688200">
            <a:off x="3885840" y="6858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ocu0055"/>
          <p:cNvPicPr/>
          <p:nvPr/>
        </p:nvPicPr>
        <p:blipFill>
          <a:blip r:embed="rId2"/>
          <a:stretch/>
        </p:blipFill>
        <p:spPr>
          <a:xfrm rot="20131200">
            <a:off x="380880" y="609120"/>
            <a:ext cx="4267440" cy="306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ocu0049"/>
          <p:cNvPicPr/>
          <p:nvPr/>
        </p:nvPicPr>
        <p:blipFill>
          <a:blip r:embed="rId3"/>
          <a:stretch/>
        </p:blipFill>
        <p:spPr>
          <a:xfrm>
            <a:off x="1447920" y="3373560"/>
            <a:ext cx="4800600" cy="3484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91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у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01028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ём проек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33720" y="4876920"/>
            <a:ext cx="23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ща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SCF0559"/>
          <p:cNvPicPr/>
          <p:nvPr/>
        </p:nvPicPr>
        <p:blipFill>
          <a:blip r:embed="rId1"/>
          <a:stretch/>
        </p:blipFill>
        <p:spPr>
          <a:xfrm>
            <a:off x="304920" y="227160"/>
            <a:ext cx="8229600" cy="6135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ри э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дагоги и дети взаимодействуют между собой и окружающей сре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еники выполняют действия поэтапно, идя к достижению намеченной цели в соответствии личностных возможностей и наклоннос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 ребёнка возникает возможность предвидеть результат и  планировать свои дальнейшие действия, самостоятельно реализовать свои возможности, почувствовать себя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а выполнения исследовательской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Обнаружение интересного ф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Освоение методов изучения объекта или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Определение целей и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Дополнительные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– Камеральная обработка и оформление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– Защита (публик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ни: «Ковчег построил любитель, профессионалы постро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ита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ы для исследования пытливыми  учениками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SC05143"/>
          <p:cNvPicPr/>
          <p:nvPr/>
        </p:nvPicPr>
        <p:blipFill>
          <a:blip r:embed="rId1"/>
          <a:stretch/>
        </p:blipFill>
        <p:spPr>
          <a:xfrm>
            <a:off x="533520" y="137160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SC05168"/>
          <p:cNvPicPr/>
          <p:nvPr/>
        </p:nvPicPr>
        <p:blipFill>
          <a:blip r:embed="rId2"/>
          <a:stretch/>
        </p:blipFill>
        <p:spPr>
          <a:xfrm>
            <a:off x="4267080" y="25909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12-03T19:39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