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gif" ContentType="image/gif"/>
  <Override PartName="/ppt/media/image17.png" ContentType="image/png"/>
  <Override PartName="/ppt/media/image23.gif" ContentType="image/gif"/>
  <Override PartName="/ppt/media/image4.gif" ContentType="image/gif"/>
  <Override PartName="/ppt/media/image7.png" ContentType="image/png"/>
  <Override PartName="/ppt/media/image9.png" ContentType="image/png"/>
  <Override PartName="/ppt/media/image31.gif" ContentType="image/gif"/>
  <Override PartName="/ppt/media/image27.gif" ContentType="image/gif"/>
  <Override PartName="/ppt/media/image28.jpeg" ContentType="image/jpeg"/>
  <Override PartName="/ppt/media/image15.gif" ContentType="image/gif"/>
  <Override PartName="/ppt/media/image11.gif" ContentType="image/gif"/>
  <Override PartName="/ppt/media/image12.gif" ContentType="image/gif"/>
  <Override PartName="/ppt/media/image13.gif" ContentType="image/gif"/>
  <Override PartName="/ppt/media/wind.wav" ContentType="audio/x-wav"/>
  <Override PartName="/ppt/media/image29.png" ContentType="image/png"/>
  <Override PartName="/ppt/media/image6.png" ContentType="image/png"/>
  <Override PartName="/ppt/media/image26.gif" ContentType="image/gif"/>
  <Override PartName="/ppt/media/image30.png" ContentType="image/png"/>
  <Override PartName="/ppt/media/image8.png" ContentType="image/png"/>
  <Override PartName="/ppt/media/image3.wmf" ContentType="image/x-wmf"/>
  <Override PartName="/ppt/media/image2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14.gif" ContentType="image/gif"/>
  <Override PartName="/ppt/media/image16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486-044D-4278-9774-E57E6441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F7F-1BAC-4CEB-AD23-F7E2F8B0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E83-667E-4CE6-A032-C007E0CE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1F1-B06D-439C-AFF1-34AC5C67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47D1-672B-4029-99B3-4C359BBF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7150-B19C-4975-8E72-BBD9EB34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6839-0875-41AF-933C-C0E5AC8F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E57E-6010-44A8-AA81-7EEC2BA2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06E1-BCDE-44E8-A3C3-11DA806F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E361-1984-445D-9C61-7E9E73D8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1179-2668-41BD-9490-524BBA32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8AB-647A-4985-A1AC-557C412F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E963-14EB-4B59-BE72-5260FA41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48E4-3B6A-486A-BD1A-F2179E1D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BC54-E43A-4C47-8107-B55E90B5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8F8C-BEF8-42C4-916E-B9C5842E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9B4D-91CF-47B1-86FF-6D722EFD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085BE-34A7-44CA-A7C1-8D6671E6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9480D-6F2F-4887-BC08-5A995449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5C3FF-57E1-4119-B432-939B7D5A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BEEEC-C942-4AE1-88D0-944802D1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7890E-E0B9-4859-9B37-76C2D626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0EB-54C8-43B0-B98C-899CAC18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472B0-6987-4167-80E4-75109EA9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206C5-56BB-4E56-9ADC-0B3FD838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FC84E-42F4-4D95-B509-1F9734F7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1E924-7474-47FD-9A74-9F586A09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079FE-65D4-405A-91EA-C14A4C18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E2C07-376B-4AFF-92EC-2A093435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42039-A8BA-4C7E-B8A1-734D3DCA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F0C11-5DF3-4DA1-91F2-CB039832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4B915-2973-4688-995D-E84F2952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05B4-D6DF-4367-AD69-2F597310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AEA-A137-4533-8511-56C7E89A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C3AF5-BF4A-482F-81A8-35A9009B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0EB27-54D8-4860-99FB-FF5A8D38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90508-F1E3-4CFD-95D8-97B83E73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BA754-F585-4603-889B-413AC1E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D1807-87FD-4589-9959-AECDCB34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3943-F9B7-4AAA-A569-9A186C2A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750D-1BB8-42D7-99F7-AF9894C1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FE959-62C0-465C-BF0B-EDBDA4ED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3EA87-5E15-4DD2-8AD5-3DC6E3C4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B09-08C4-48B7-922A-07293C9D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DC3-5958-4CAD-8708-407A94B1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5F4-C7CC-406D-844B-683B6416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904-6237-47AB-96C7-061B983D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079-7B3B-4EF1-8555-10F71E66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E3B6-7F24-41C8-9ABD-BCAFEC6D6C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8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CF9B-4A20-4D53-9741-73590AB691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0E41-BAB8-480E-8FD5-F6FC1B7F12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8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F415-5D8D-4F74-A8E8-64ACE44E4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pn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22.xml"/><Relationship Id="rId6" Type="http://schemas.openxmlformats.org/officeDocument/2006/relationships/slide" Target="slide4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800600" y="4648320"/>
            <a:ext cx="4114800" cy="1752480"/>
          </a:xfrm>
          <a:prstGeom prst="rect">
            <a:avLst/>
          </a:prstGeom>
          <a:solidFill>
            <a:srgbClr val="3399ff">
              <a:alpha val="57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Материал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Нестерова Г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МОУ «СОШ №1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города Магнитого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228600" y="609480"/>
            <a:ext cx="8610480" cy="3048120"/>
          </a:xfrm>
          <a:prstGeom prst="horizontalScroll">
            <a:avLst>
              <a:gd name="adj" fmla="val 12500"/>
            </a:avLst>
          </a:prstGeom>
          <a:solidFill>
            <a:srgbClr val="ff99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спользование ИКТ как одно из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редств оптимизаци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разовательного процесс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начальной школ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8">
            <a:hlinkClick r:id="rId1" action="ppaction://hlinksldjump"/>
          </p:cNvPr>
          <p:cNvSpPr/>
          <p:nvPr/>
        </p:nvSpPr>
        <p:spPr>
          <a:xfrm>
            <a:off x="30492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8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0CE7-32A0-41AA-A311-3F85878432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830880" y="2276640"/>
            <a:ext cx="68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1912320" y="2276640"/>
            <a:ext cx="6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136320" y="2276640"/>
            <a:ext cx="6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4215960" y="2276640"/>
            <a:ext cx="6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521040" y="2205000"/>
            <a:ext cx="7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5297400" y="2276640"/>
            <a:ext cx="6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7667640" y="2276640"/>
            <a:ext cx="8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ставь сло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11280" y="4797360"/>
          <a:ext cx="8229600" cy="1008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Picture 53" descr="Entertainment-02"/>
          <p:cNvPicPr/>
          <p:nvPr/>
        </p:nvPicPr>
        <p:blipFill>
          <a:blip r:embed="rId1"/>
          <a:stretch/>
        </p:blipFill>
        <p:spPr>
          <a:xfrm>
            <a:off x="8143920" y="5562720"/>
            <a:ext cx="100008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4" descr="arg-a-25-trans-y"/>
          <p:cNvPicPr/>
          <p:nvPr/>
        </p:nvPicPr>
        <p:blipFill>
          <a:blip r:embed="rId2"/>
          <a:stretch/>
        </p:blipFill>
        <p:spPr>
          <a:xfrm>
            <a:off x="6516720" y="170028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5" descr="arg-k-25-trans-y"/>
          <p:cNvPicPr/>
          <p:nvPr/>
        </p:nvPicPr>
        <p:blipFill>
          <a:blip r:embed="rId3"/>
          <a:stretch/>
        </p:blipFill>
        <p:spPr>
          <a:xfrm>
            <a:off x="7596360" y="1773360"/>
            <a:ext cx="742680" cy="790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7" descr="arg-b-25-trans-y"/>
          <p:cNvPicPr/>
          <p:nvPr/>
        </p:nvPicPr>
        <p:blipFill>
          <a:blip r:embed="rId4"/>
          <a:stretch/>
        </p:blipFill>
        <p:spPr>
          <a:xfrm>
            <a:off x="4211640" y="1773360"/>
            <a:ext cx="723960" cy="80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9" descr="arg-p-25-trans-y"/>
          <p:cNvPicPr/>
          <p:nvPr/>
        </p:nvPicPr>
        <p:blipFill>
          <a:blip r:embed="rId5"/>
          <a:stretch/>
        </p:blipFill>
        <p:spPr>
          <a:xfrm>
            <a:off x="5292720" y="1700280"/>
            <a:ext cx="743040" cy="847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0" descr="BIGsmile006"/>
          <p:cNvPicPr/>
          <p:nvPr/>
        </p:nvPicPr>
        <p:blipFill>
          <a:blip r:embed="rId6"/>
          <a:stretch/>
        </p:blipFill>
        <p:spPr>
          <a:xfrm>
            <a:off x="179280" y="404640"/>
            <a:ext cx="2376720" cy="1656000"/>
          </a:xfrm>
          <a:prstGeom prst="rect">
            <a:avLst/>
          </a:prstGeom>
          <a:ln w="0">
            <a:noFill/>
          </a:ln>
        </p:spPr>
      </p:pic>
      <p:pic>
        <p:nvPicPr>
          <p:cNvPr id="278" name="03-Charango.mp3" descr=""/>
          <p:cNvPicPr/>
          <p:nvPr/>
        </p:nvPicPr>
        <p:blipFill>
          <a:blip r:embed="rId7"/>
          <a:stretch/>
        </p:blipFill>
        <p:spPr>
          <a:xfrm>
            <a:off x="8534520" y="1447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9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8403 L -0.12899 0.34653 E">
                                      <p:cBhvr>
                                        <p:cTn id="893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2 0.08403 L 0.13525 0.34653 E">
                                      <p:cBhvr>
                                        <p:cTn id="895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8403 L -0.496 0.34398 E">
                                      <p:cBhvr>
                                        <p:cTn id="897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9467 L 0.00486 0.34653 E">
                                      <p:cBhvr>
                                        <p:cTn id="899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0.08403 L -0.10556 0.35695 E">
                                      <p:cBhvr>
                                        <p:cTn id="901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0.08403 L 0.14098 0.34653 E">
                                      <p:cBhvr>
                                        <p:cTn id="903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0.08403 L 0.50903 0.34653 E">
                                      <p:cBhvr>
                                        <p:cTn id="90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7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МОУ "СОШ №1", Нестерова Г.И., уч. нач. к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2327-CE11-4163-B9CA-08A28757E9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687096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отнеси с местоим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12"/>
          <p:cNvSpPr txBox="1"/>
          <p:nvPr/>
        </p:nvSpPr>
        <p:spPr>
          <a:xfrm>
            <a:off x="2843280" y="836640"/>
            <a:ext cx="5761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Й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ДР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АНДА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ЖН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WordArt 15"/>
          <p:cNvSpPr txBox="1"/>
          <p:nvPr/>
        </p:nvSpPr>
        <p:spPr>
          <a:xfrm>
            <a:off x="1835280" y="5950080"/>
            <a:ext cx="113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5" name="WordArt 16"/>
          <p:cNvSpPr txBox="1"/>
          <p:nvPr/>
        </p:nvSpPr>
        <p:spPr>
          <a:xfrm>
            <a:off x="7236000" y="5950080"/>
            <a:ext cx="1180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6" name="WordArt 17"/>
          <p:cNvSpPr txBox="1"/>
          <p:nvPr/>
        </p:nvSpPr>
        <p:spPr>
          <a:xfrm>
            <a:off x="3635280" y="595008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7" name="WordArt 18"/>
          <p:cNvSpPr txBox="1"/>
          <p:nvPr/>
        </p:nvSpPr>
        <p:spPr>
          <a:xfrm>
            <a:off x="5148360" y="5950080"/>
            <a:ext cx="115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88" name="Picture 20" descr="eta_md_wht"/>
          <p:cNvPicPr/>
          <p:nvPr/>
        </p:nvPicPr>
        <p:blipFill>
          <a:blip r:embed="rId1"/>
          <a:stretch/>
        </p:blipFill>
        <p:spPr>
          <a:xfrm>
            <a:off x="0" y="0"/>
            <a:ext cx="504720" cy="692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1" descr="eta_md_wht"/>
          <p:cNvPicPr/>
          <p:nvPr/>
        </p:nvPicPr>
        <p:blipFill>
          <a:blip r:embed="rId2"/>
          <a:stretch/>
        </p:blipFill>
        <p:spPr>
          <a:xfrm>
            <a:off x="468360" y="189000"/>
            <a:ext cx="433440" cy="431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500"/>
                            </p:stCondLst>
                            <p:childTnLst>
                              <p:par>
                                <p:cTn id="9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5 -0.02313 C 0.00139 -0.03839 0.00209 -0.05343 0.00226 -0.06869 C 0.00296 -0.11818 0.00261 -0.16767 0.00348 -0.21716 C 0.00365 -0.23243 0.0073 -0.24954 0.0099 -0.26434 C 0.01129 -0.2722 0.01493 -0.28793 0.01493 -0.2877 C 0.01684 -0.30574 0.02136 -0.32146 0.025 -0.33858 C 0.03403 -0.38136 0.0257 -0.35361 0.03386 -0.37905 C 0.03907 -0.41212 0.04653 -0.4445 0.05417 -0.47664 C 0.05886 -0.49607 0.06111 -0.51596 0.06806 -0.534 C 0.07032 -0.55319 0.07657 -0.57748 0.08334 -0.59482 C 0.08507 -0.60708 0.08993 -0.61702 0.09219 -0.62859 C 0.09566 -0.64639 0.10018 -0.66351 0.10486 -0.68085 C 0.10625 -0.69172 0.1132 -0.72017 0.10105 -0.72294 C 0.09723 -0.72387 0.09341 -0.72294 0.08959 -0.72294 E">
                                      <p:cBhvr>
                                        <p:cTn id="937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134 C -0.00121 -0.02151 -0.01007 -0.03284 -0.01892 -0.03654 C -0.03784 -0.06175 -0.06128 -0.08002 -0.08212 -0.10222 C -0.11701 -0.13946 -0.08559 -0.10546 -0.10625 -0.13275 C -0.12743 -0.16073 -0.14791 -0.18826 -0.16701 -0.21855 C -0.17448 -0.23035 -0.17864 -0.24538 -0.18593 -0.2574 C -0.19687 -0.27521 -0.20625 -0.29441 -0.21632 -0.31314 C -0.21909 -0.31823 -0.22274 -0.32262 -0.22517 -0.32817 C -0.2375 -0.35546 -0.25034 -0.38344 -0.2658 -0.4075 C -0.26927 -0.41305 -0.27309 -0.41813 -0.27587 -0.42438 C -0.27708 -0.42715 -0.27812 -0.43016 -0.27968 -0.4327 C -0.28437 -0.4408 -0.29114 -0.44542 -0.29618 -0.45306 C -0.30121 -0.46046 -0.30434 -0.46716 -0.31128 -0.47156 C -0.31962 -0.48613 -0.33333 -0.49376 -0.34548 -0.50185 C -0.35017 -0.50486 -0.35642 -0.51018 -0.36198 -0.51041 C -0.37882 -0.51134 -0.39566 -0.51157 -0.4125 -0.51203 C -0.42326 -0.51434 -0.43142 -0.51758 -0.44166 -0.52059 C -0.44878 -0.52267 -0.45625 -0.52382 -0.46319 -0.52729 C -0.46805 -0.52984 -0.47309 -0.53284 -0.47708 -0.53724 C -0.48021 -0.54071 -0.4809 -0.54371 -0.48472 -0.54579 C -0.49218 -0.55019 -0.50069 -0.55296 -0.50868 -0.55597 C -0.51337 -0.55366 -0.51788 -0.5488 -0.52135 -0.54418 E">
                                      <p:cBhvr>
                                        <p:cTn id="941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77521E-007 C -0.00156 -0.01503 -0.00364 -0.0296 -0.00764 -0.04371 C -0.0092 -0.05528 -0.0125 -0.07054 -0.01649 -0.08095 C -0.01788 -0.09875 -0.02083 -0.11124 -0.02778 -0.12651 C -0.02951 -0.13714 -0.03038 -0.14709 -0.0342 -0.1568 C -0.03542 -0.16536 -0.03594 -0.17392 -0.03802 -0.18201 C -0.03889 -0.18548 -0.04045 -0.19219 -0.04045 -0.19219 C -0.04149 -0.20421 -0.04687 -0.22942 -0.05191 -0.23936 C -0.05312 -0.24607 -0.05399 -0.25047 -0.05694 -0.25625 C -0.06076 -0.27197 -0.07309 -0.29579 -0.08351 -0.30528 C -0.08767 -0.31568 -0.10052 -0.33534 -0.10885 -0.33881 C -0.11597 -0.35384 -0.12986 -0.36448 -0.14167 -0.37257 C -0.14253 -0.37327 -0.14826 -0.37558 -0.1493 -0.37604 C -0.1526 -0.3772 -0.15937 -0.37928 -0.15937 -0.37928 C -0.17934 -0.37812 -0.19687 -0.37442 -0.21649 -0.37442 E">
                                      <p:cBhvr>
                                        <p:cTn id="945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6.75301E-006 C -0.00139 -0.0081 -0.0033 -0.01111 -0.00764 -0.01689 C -0.01111 -0.02637 -0.01614 -0.03169 -0.02153 -0.03886 C -0.02552 -0.04418 -0.02899 -0.05042 -0.03298 -0.05574 C -0.046 -0.07309 -0.06805 -0.09205 -0.08489 -0.10292 C -0.09184 -0.10731 -0.09739 -0.11379 -0.10503 -0.11633 C -0.11944 -0.12628 -0.13472 -0.13391 -0.1493 -0.14339 C -0.15416 -0.14663 -0.15955 -0.15102 -0.16458 -0.15357 C -0.16701 -0.15496 -0.17222 -0.15681 -0.17222 -0.15681 C -0.17743 -0.16166 -0.18281 -0.16028 -0.18854 -0.16351 C -0.20798 -0.17461 -0.22986 -0.18016 -0.25069 -0.18548 C -0.28021 -0.20237 -0.25312 -0.18872 -0.32535 -0.19219 C -0.33472 -0.19265 -0.3467 -0.20028 -0.35573 -0.20398 C -0.3658 -0.21324 -0.36944 -0.20861 -0.38489 -0.20745 C -0.39323 -0.20352 -0.38993 -0.20537 -0.39496 -0.20237 E">
                                      <p:cBhvr>
                                        <p:cTn id="94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8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3E9B-3C70-461B-BF60-551DF816D7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оскажи словечко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9" descr="b2-3"/>
          <p:cNvPicPr/>
          <p:nvPr/>
        </p:nvPicPr>
        <p:blipFill>
          <a:blip r:embed="rId1"/>
          <a:stretch/>
        </p:blipFill>
        <p:spPr>
          <a:xfrm>
            <a:off x="6156360" y="3933720"/>
            <a:ext cx="1019160" cy="7430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r3"/>
          <p:cNvPicPr/>
          <p:nvPr/>
        </p:nvPicPr>
        <p:blipFill>
          <a:blip r:embed="rId2"/>
          <a:stretch/>
        </p:blipFill>
        <p:spPr>
          <a:xfrm>
            <a:off x="6300720" y="2421000"/>
            <a:ext cx="1152720" cy="771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0" descr="Kopyta5"/>
          <p:cNvPicPr/>
          <p:nvPr/>
        </p:nvPicPr>
        <p:blipFill>
          <a:blip r:embed="rId3"/>
          <a:stretch/>
        </p:blipFill>
        <p:spPr>
          <a:xfrm>
            <a:off x="6300720" y="5157720"/>
            <a:ext cx="885960" cy="96192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24" descr=""/>
          <p:cNvPicPr/>
          <p:nvPr/>
        </p:nvPicPr>
        <p:blipFill>
          <a:blip r:embed="rId4"/>
          <a:stretch/>
        </p:blipFill>
        <p:spPr>
          <a:xfrm>
            <a:off x="822240" y="1908000"/>
            <a:ext cx="5585040" cy="1273320"/>
          </a:xfrm>
          <a:prstGeom prst="rect">
            <a:avLst/>
          </a:prstGeom>
          <a:ln w="0">
            <a:noFill/>
          </a:ln>
        </p:spPr>
      </p:pic>
      <p:sp>
        <p:nvSpPr>
          <p:cNvPr id="298" name="WordArt 25"/>
          <p:cNvSpPr txBox="1"/>
          <p:nvPr/>
        </p:nvSpPr>
        <p:spPr>
          <a:xfrm>
            <a:off x="900000" y="3357720"/>
            <a:ext cx="5658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 петух с колючим ёжиком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жут сало острым ..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9" name="WordArt 26"/>
          <p:cNvSpPr txBox="1"/>
          <p:nvPr/>
        </p:nvSpPr>
        <p:spPr>
          <a:xfrm>
            <a:off x="1143000" y="4876920"/>
            <a:ext cx="52578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 этой речке утром ран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утонули два ..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horz"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F2E9-5CD2-4D2A-AAAE-FB4AA080CC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8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мени порядок букв и узнай сло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6"/>
          <p:cNvSpPr txBox="1"/>
          <p:nvPr/>
        </p:nvSpPr>
        <p:spPr>
          <a:xfrm>
            <a:off x="1116000" y="1916280"/>
            <a:ext cx="136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55840" y="6192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WordArt 10"/>
          <p:cNvSpPr txBox="1"/>
          <p:nvPr/>
        </p:nvSpPr>
        <p:spPr>
          <a:xfrm>
            <a:off x="3132000" y="1916280"/>
            <a:ext cx="1224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WordArt 13"/>
          <p:cNvSpPr txBox="1"/>
          <p:nvPr/>
        </p:nvSpPr>
        <p:spPr>
          <a:xfrm>
            <a:off x="4788000" y="1916280"/>
            <a:ext cx="151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4"/>
          <p:cNvSpPr txBox="1"/>
          <p:nvPr/>
        </p:nvSpPr>
        <p:spPr>
          <a:xfrm>
            <a:off x="6659640" y="1916280"/>
            <a:ext cx="1441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826920" y="3860640"/>
          <a:ext cx="7570800" cy="2422800"/>
        </p:xfrm>
        <a:graphic>
          <a:graphicData uri="http://schemas.openxmlformats.org/drawingml/2006/table">
            <a:tbl>
              <a:tblPr/>
              <a:tblGrid>
                <a:gridCol w="1892520"/>
                <a:gridCol w="1893960"/>
                <a:gridCol w="1892160"/>
                <a:gridCol w="1892160"/>
              </a:tblGrid>
              <a:tr h="24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WordArt 32"/>
          <p:cNvSpPr txBox="1"/>
          <p:nvPr/>
        </p:nvSpPr>
        <p:spPr>
          <a:xfrm>
            <a:off x="1116000" y="1916280"/>
            <a:ext cx="1368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WordArt 33"/>
          <p:cNvSpPr txBox="1"/>
          <p:nvPr/>
        </p:nvSpPr>
        <p:spPr>
          <a:xfrm>
            <a:off x="2843280" y="1916280"/>
            <a:ext cx="1511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WordArt 34"/>
          <p:cNvSpPr txBox="1"/>
          <p:nvPr/>
        </p:nvSpPr>
        <p:spPr>
          <a:xfrm>
            <a:off x="4788000" y="1916280"/>
            <a:ext cx="1512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WordArt 35"/>
          <p:cNvSpPr txBox="1"/>
          <p:nvPr/>
        </p:nvSpPr>
        <p:spPr>
          <a:xfrm>
            <a:off x="6732720" y="1916280"/>
            <a:ext cx="1295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WordArt 36"/>
          <p:cNvSpPr txBox="1"/>
          <p:nvPr/>
        </p:nvSpPr>
        <p:spPr>
          <a:xfrm>
            <a:off x="1042920" y="1916280"/>
            <a:ext cx="1441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WordArt 37"/>
          <p:cNvSpPr txBox="1"/>
          <p:nvPr/>
        </p:nvSpPr>
        <p:spPr>
          <a:xfrm>
            <a:off x="2916360" y="1844640"/>
            <a:ext cx="136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WordArt 38"/>
          <p:cNvSpPr txBox="1"/>
          <p:nvPr/>
        </p:nvSpPr>
        <p:spPr>
          <a:xfrm>
            <a:off x="4788000" y="1916280"/>
            <a:ext cx="1512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WordArt 39"/>
          <p:cNvSpPr txBox="1"/>
          <p:nvPr/>
        </p:nvSpPr>
        <p:spPr>
          <a:xfrm>
            <a:off x="6659640" y="1916280"/>
            <a:ext cx="1441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WordArt 40"/>
          <p:cNvSpPr txBox="1"/>
          <p:nvPr/>
        </p:nvSpPr>
        <p:spPr>
          <a:xfrm>
            <a:off x="1042920" y="1916280"/>
            <a:ext cx="1441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WordArt 41"/>
          <p:cNvSpPr txBox="1"/>
          <p:nvPr/>
        </p:nvSpPr>
        <p:spPr>
          <a:xfrm>
            <a:off x="2916360" y="1916280"/>
            <a:ext cx="1295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WordArt 42"/>
          <p:cNvSpPr txBox="1"/>
          <p:nvPr/>
        </p:nvSpPr>
        <p:spPr>
          <a:xfrm>
            <a:off x="4788000" y="1916280"/>
            <a:ext cx="1512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WordArt 43"/>
          <p:cNvSpPr txBox="1"/>
          <p:nvPr/>
        </p:nvSpPr>
        <p:spPr>
          <a:xfrm>
            <a:off x="6659640" y="1916280"/>
            <a:ext cx="1441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44"/>
          <p:cNvSpPr txBox="1"/>
          <p:nvPr/>
        </p:nvSpPr>
        <p:spPr>
          <a:xfrm>
            <a:off x="1042920" y="1916280"/>
            <a:ext cx="1441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WordArt 45"/>
          <p:cNvSpPr txBox="1"/>
          <p:nvPr/>
        </p:nvSpPr>
        <p:spPr>
          <a:xfrm>
            <a:off x="2916360" y="1916280"/>
            <a:ext cx="1368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46"/>
          <p:cNvSpPr txBox="1"/>
          <p:nvPr/>
        </p:nvSpPr>
        <p:spPr>
          <a:xfrm>
            <a:off x="4788000" y="1916280"/>
            <a:ext cx="1512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WordArt 47"/>
          <p:cNvSpPr txBox="1"/>
          <p:nvPr/>
        </p:nvSpPr>
        <p:spPr>
          <a:xfrm>
            <a:off x="6659640" y="1844640"/>
            <a:ext cx="1441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6" name="Picture 48" descr="16m2"/>
          <p:cNvPicPr/>
          <p:nvPr/>
        </p:nvPicPr>
        <p:blipFill>
          <a:blip r:embed="rId1"/>
          <a:stretch/>
        </p:blipFill>
        <p:spPr>
          <a:xfrm>
            <a:off x="0" y="4149720"/>
            <a:ext cx="1042920" cy="2136960"/>
          </a:xfrm>
          <a:prstGeom prst="rect">
            <a:avLst/>
          </a:prstGeom>
          <a:ln w="0">
            <a:noFill/>
          </a:ln>
        </p:spPr>
      </p:pic>
      <p:sp>
        <p:nvSpPr>
          <p:cNvPr id="327" name="Управляющая кнопка: далее 28">
            <a:hlinkClick r:id="" action="ppaction://hlinkshowjump?jump=nextslide"/>
          </p:cNvPr>
          <p:cNvSpPr/>
          <p:nvPr/>
        </p:nvSpPr>
        <p:spPr>
          <a:xfrm>
            <a:off x="845820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280"/>
                            </p:stCondLst>
                            <p:childTnLst>
                              <p:par>
                                <p:cTn id="10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13671 L -0.2323 0.30465 E">
                                      <p:cBhvr>
                                        <p:cTn id="1036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13671 L 0.20869 0.30465 E">
                                      <p:cBhvr>
                                        <p:cTn id="1038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13671 L -0.19688 0.30465 E">
                                      <p:cBhvr>
                                        <p:cTn id="1040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13671 L 0.20868 0.30465 E">
                                      <p:cBhvr>
                                        <p:cTn id="1042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61111E-006 -3.55309E-006 L -0.20851 0.30442 E">
                                      <p:cBhvr>
                                        <p:cTn id="1097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8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-3.55309E-006 L 0.2007 0.30442 E">
                                      <p:cBhvr>
                                        <p:cTn id="1099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0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-3.55309E-006 L -0.19688 0.31483 E">
                                      <p:cBhvr>
                                        <p:cTn id="1101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55309E-006 L 0.20087 0.30442 E">
                                      <p:cBhvr>
                                        <p:cTn id="1103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07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112E-017 -3.17372E-006 L -0.21667 0.2991 E">
                                      <p:cBhvr>
                                        <p:cTn id="1158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3.55309E-006 L 0.20469 0.30442 E">
                                      <p:cBhvr>
                                        <p:cTn id="1160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-3.55309E-006 L -0.19688 0.31483 E">
                                      <p:cBhvr>
                                        <p:cTn id="1162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55309E-006 L 0.20087 0.30442 E">
                                      <p:cBhvr>
                                        <p:cTn id="1164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7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3.55309E-006 L -0.21268 0.29378 E">
                                      <p:cBhvr>
                                        <p:cTn id="1219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0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3.55309E-006 L 0.20469 0.30442 E">
                                      <p:cBhvr>
                                        <p:cTn id="1221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-3.55309E-006 L -0.18906 0.30442 E">
                                      <p:cBhvr>
                                        <p:cTn id="1223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55309E-006 L 0.20087 0.30442 E">
                                      <p:cBhvr>
                                        <p:cTn id="1225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47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112E-017 -3.55309E-006 L -0.20868 0.29378 E">
                                      <p:cBhvr>
                                        <p:cTn id="1280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3.55309E-006 L 0.20469 0.29378 E">
                                      <p:cBhvr>
                                        <p:cTn id="1282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-3.55309E-006 L -0.18906 0.30442 E">
                                      <p:cBhvr>
                                        <p:cTn id="1284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55309E-006 L 0.20868 0.30442 E">
                                      <p:cBhvr>
                                        <p:cTn id="1286" dur="1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90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9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2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Укажи значение с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94920" y="1600200"/>
            <a:ext cx="3581640" cy="4525920"/>
          </a:xfrm>
          <a:prstGeom prst="rect">
            <a:avLst/>
          </a:prstGeom>
          <a:solidFill>
            <a:srgbClr val="00ccff">
              <a:alpha val="5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г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пер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ку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Г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Зе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Зевесов о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жемчуж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енастье с дождём, громом, мол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суд для питья из металла, кости, известный в дре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ул, гудение; крик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юбимая птица бога, помогающая ему во вс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огиня юности у древних гр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амый главный бог древних гр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2743200" y="1828800"/>
            <a:ext cx="2286000" cy="3049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V="1">
            <a:off x="2819520" y="1752480"/>
            <a:ext cx="2286000" cy="5335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2362320" y="2743200"/>
            <a:ext cx="2666880" cy="10666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2743200" y="2819520"/>
            <a:ext cx="2286000" cy="3808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2514600" y="4114800"/>
            <a:ext cx="2514600" cy="137160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1"/>
          <p:cNvSpPr/>
          <p:nvPr/>
        </p:nvSpPr>
        <p:spPr>
          <a:xfrm flipV="1">
            <a:off x="3962520" y="4191120"/>
            <a:ext cx="1066680" cy="3808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2514600" y="3657600"/>
            <a:ext cx="2514600" cy="114300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3" descr="FLASH5"/>
          <p:cNvPicPr/>
          <p:nvPr/>
        </p:nvPicPr>
        <p:blipFill>
          <a:blip r:embed="rId2"/>
          <a:stretch/>
        </p:blipFill>
        <p:spPr>
          <a:xfrm flipH="1">
            <a:off x="6858000" y="228600"/>
            <a:ext cx="1752480" cy="14479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13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281160"/>
          </a:xfrm>
          <a:custGeom>
            <a:avLst/>
            <a:gdLst>
              <a:gd name="textAreaLeft" fmla="*/ 18000 w 457200"/>
              <a:gd name="textAreaRight" fmla="*/ 439200 w 4572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35107" h="21600">
                <a:moveTo>
                  <a:pt x="0" y="0"/>
                </a:moveTo>
                <a:lnTo>
                  <a:pt x="35107" y="0"/>
                </a:lnTo>
                <a:lnTo>
                  <a:pt x="35107" y="21600"/>
                </a:lnTo>
                <a:lnTo>
                  <a:pt x="0" y="21600"/>
                </a:lnTo>
                <a:close/>
              </a:path>
              <a:path fill="lightenLess" w="35107" h="21600">
                <a:moveTo>
                  <a:pt x="0" y="0"/>
                </a:moveTo>
                <a:lnTo>
                  <a:pt x="35107" y="0"/>
                </a:lnTo>
                <a:lnTo>
                  <a:pt x="33707" y="1400"/>
                </a:lnTo>
                <a:lnTo>
                  <a:pt x="1400" y="1400"/>
                </a:lnTo>
                <a:close/>
              </a:path>
              <a:path fill="darken" w="35107" h="21600">
                <a:moveTo>
                  <a:pt x="35107" y="0"/>
                </a:moveTo>
                <a:lnTo>
                  <a:pt x="35107" y="21600"/>
                </a:lnTo>
                <a:lnTo>
                  <a:pt x="33707" y="20200"/>
                </a:lnTo>
                <a:lnTo>
                  <a:pt x="33707" y="1400"/>
                </a:lnTo>
                <a:close/>
              </a:path>
              <a:path fill="darkenLess" w="35107" h="21600">
                <a:moveTo>
                  <a:pt x="35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7" y="20200"/>
                </a:lnTo>
                <a:close/>
              </a:path>
              <a:path fill="lighten" w="35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7" h="21600">
                <a:moveTo>
                  <a:pt x="10547" y="3794"/>
                </a:moveTo>
                <a:lnTo>
                  <a:pt x="24560" y="10800"/>
                </a:lnTo>
                <a:lnTo>
                  <a:pt x="10547" y="17806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9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0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2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2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2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2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2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</a:rPr>
              <a:t>Укажи значение с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43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cc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3300"/>
                </a:solidFill>
                <a:latin typeface="Calibri"/>
              </a:rPr>
              <a:t>зефи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cc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3300"/>
                </a:solidFill>
                <a:latin typeface="Calibri"/>
              </a:rPr>
              <a:t>докучны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cc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3300"/>
                </a:solidFill>
                <a:latin typeface="Calibri"/>
              </a:rPr>
              <a:t>тощи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cc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3300"/>
                </a:solidFill>
                <a:latin typeface="Calibri"/>
              </a:rPr>
              <a:t>блестет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19720" y="16002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водящий ск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ятный, лёгкий 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верк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удный, слаб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6">
            <a:hlinkClick r:id="" action="ppaction://hlinkshowjump?jump=nextslide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53 0.0081 0.04236 -0.00208 0.06128 -0.00486 C 0.11354 -0.00416 0.15659 -0.00347 0.2059 0 C 0.20711 0.00046 0.2085 0.00046 0.20937 0.00162 C 0.21128 0.00417 0.21406 0.01087 0.21406 0.01087 C 0.21684 0.02522 0.21475 0.0199 0.21892 0.02822 C 0.22083 0.03632 0.2309 0.05136 0.23645 0.05644 C 0.24184 0.06662 0.23611 0.05436 0.2401 0.06894 C 0.24253 0.07749 0.24965 0.07819 0.25538 0.07981 C 0.25625 0.08073 0.26232 0.08582 0.26232 0.08767 C 0.26232 0.08929 0.25885 0.08929 0.25885 0.08929 E">
                                      <p:cBhvr>
                                        <p:cTn id="1455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0023 C 0.02448 0.00301 0.04931 0.00509 0.07379 0.00764 C 0.08837 0.00717 0.11476 0.01273 0.12813 -0.00023 C 0.12847 -0.00277 0.12917 -0.00578 0.12952 -0.00833 C 0.13021 -0.01457 0.12986 -0.02128 0.1309 -0.02752 C 0.13195 -0.03354 0.13542 -0.04048 0.13715 -0.04649 C 0.1375 -0.05505 0.12708 -0.11149 0.14809 -0.12607 C 0.15747 -0.15359 0.2191 -0.13879 0.22847 -0.13879 E">
                                      <p:cBhvr>
                                        <p:cTn id="1459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9926E-006 C 0.06025 0.00047 0.14514 -0.04742 0.18195 0.01134 C 0.18229 0.01296 0.18299 0.01481 0.18334 0.01643 C 0.18386 0.01851 0.1842 0.02082 0.1849 0.0229 C 0.18577 0.02637 0.18785 0.03262 0.18785 0.03285 C 0.18889 0.07657 0.1842 0.09438 0.19792 0.12631 C 0.2007 0.13255 0.20087 0.13787 0.20695 0.14111 C 0.2165 0.14643 0.22344 0.14643 0.2349 0.14782 C 0.24045 0.14897 0.24688 0.15244 0.25261 0.14944 E">
                                      <p:cBhvr>
                                        <p:cTn id="1463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5804E-006 C 0.00712 -0.00046 0.01441 -1.75803999999998E-006 0.02136 -0.00162 C 0.02639 -0.00277 0.0342 -0.00786 0.0342 -0.00763 C 0.03959 -0.01388 0.04393 -0.01272 0.05122 -0.01712 C 0.10313 -0.0495 0.13768 -0.02984 0.23021 -0.02984 E">
                                      <p:cBhvr>
                                        <p:cTn id="1467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9" descr="08ves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886200" cy="381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Times New Roman"/>
              </a:rPr>
              <a:t>Составь поговор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962160" cy="1600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100000"/>
              </a:lnSpc>
              <a:spcBef>
                <a:spcPts val="675"/>
              </a:spcBef>
              <a:buClr>
                <a:srgbClr val="eeece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Вода с гор потекла 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675"/>
              </a:spcBef>
              <a:buClr>
                <a:srgbClr val="eeece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Много воды 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675"/>
              </a:spcBef>
              <a:buClr>
                <a:srgbClr val="eeece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Где гроза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6480" y="1904760"/>
            <a:ext cx="3466800" cy="1600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там и ведро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	</a:t>
            </a: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весну принесл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	</a:t>
            </a: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много трав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0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500"/>
                            </p:stCondLst>
                            <p:childTnLst>
                              <p:par>
                                <p:cTn id="1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220"/>
                            </p:stCondLst>
                            <p:childTnLst>
                              <p:par>
                                <p:cTn id="148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8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11 0.01873 L -0.23802 0.14087 E">
                                      <p:cBhvr>
                                        <p:cTn id="1490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64 -0.00879 L -0.0743 -0.06431 E">
                                      <p:cBhvr>
                                        <p:cTn id="1494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97 -0.00301 L -0.18611 -0.06963 E">
                                      <p:cBhvr>
                                        <p:cTn id="1498" dur="2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2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5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0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РАЗГАДАЙ КРОССВОРД И </a:t>
            </a:r>
            <a:br>
              <a:rPr sz="2800"/>
            </a:b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УЗНАЙ ФАМИЛИЮ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762120" y="1981080"/>
          <a:ext cx="3771720" cy="3829320"/>
        </p:xfrm>
        <a:graphic>
          <a:graphicData uri="http://schemas.openxmlformats.org/drawingml/2006/table">
            <a:tbl>
              <a:tblPr/>
              <a:tblGrid>
                <a:gridCol w="628560"/>
                <a:gridCol w="628560"/>
                <a:gridCol w="628560"/>
                <a:gridCol w="628920"/>
                <a:gridCol w="533160"/>
                <a:gridCol w="7239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0" y="1905120"/>
            <a:ext cx="3772080" cy="4038480"/>
          </a:xfrm>
          <a:prstGeom prst="rect">
            <a:avLst/>
          </a:prstGeom>
          <a:solidFill>
            <a:srgbClr val="6699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1. Около кола – золотая голо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2. В каком месяце созревает горох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3. Помидор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4. Маленький, горький, луку бра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5. Кругла, а не месяц, желта, а не масло, с хвостиком, а не мыш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6. Красна, в землю вросл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03"/>
          <p:cNvSpPr/>
          <p:nvPr/>
        </p:nvSpPr>
        <p:spPr>
          <a:xfrm>
            <a:off x="84672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04"/>
          <p:cNvSpPr/>
          <p:nvPr/>
        </p:nvSpPr>
        <p:spPr>
          <a:xfrm>
            <a:off x="867240" y="32004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30"/>
          <p:cNvSpPr/>
          <p:nvPr/>
        </p:nvSpPr>
        <p:spPr>
          <a:xfrm>
            <a:off x="85788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56"/>
          <p:cNvSpPr/>
          <p:nvPr/>
        </p:nvSpPr>
        <p:spPr>
          <a:xfrm>
            <a:off x="857160" y="2590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57"/>
          <p:cNvSpPr/>
          <p:nvPr/>
        </p:nvSpPr>
        <p:spPr>
          <a:xfrm>
            <a:off x="864720" y="4267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9"/>
          <p:cNvSpPr/>
          <p:nvPr/>
        </p:nvSpPr>
        <p:spPr>
          <a:xfrm>
            <a:off x="1467000" y="259092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560"/>
          <p:cNvSpPr/>
          <p:nvPr/>
        </p:nvSpPr>
        <p:spPr>
          <a:xfrm>
            <a:off x="1460160" y="21337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561"/>
          <p:cNvSpPr/>
          <p:nvPr/>
        </p:nvSpPr>
        <p:spPr>
          <a:xfrm>
            <a:off x="1460880" y="3200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62"/>
          <p:cNvSpPr/>
          <p:nvPr/>
        </p:nvSpPr>
        <p:spPr>
          <a:xfrm>
            <a:off x="147456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563"/>
          <p:cNvSpPr/>
          <p:nvPr/>
        </p:nvSpPr>
        <p:spPr>
          <a:xfrm>
            <a:off x="2150640" y="32004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64"/>
          <p:cNvSpPr/>
          <p:nvPr/>
        </p:nvSpPr>
        <p:spPr>
          <a:xfrm>
            <a:off x="2152800" y="2590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565"/>
          <p:cNvSpPr/>
          <p:nvPr/>
        </p:nvSpPr>
        <p:spPr>
          <a:xfrm>
            <a:off x="2153520" y="4267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566"/>
          <p:cNvSpPr/>
          <p:nvPr/>
        </p:nvSpPr>
        <p:spPr>
          <a:xfrm>
            <a:off x="2133720" y="37339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67"/>
          <p:cNvSpPr/>
          <p:nvPr/>
        </p:nvSpPr>
        <p:spPr>
          <a:xfrm>
            <a:off x="2152800" y="48006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70"/>
          <p:cNvSpPr/>
          <p:nvPr/>
        </p:nvSpPr>
        <p:spPr>
          <a:xfrm>
            <a:off x="1530720" y="16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572"/>
          <p:cNvSpPr/>
          <p:nvPr/>
        </p:nvSpPr>
        <p:spPr>
          <a:xfrm>
            <a:off x="2771640" y="3200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573"/>
          <p:cNvSpPr/>
          <p:nvPr/>
        </p:nvSpPr>
        <p:spPr>
          <a:xfrm>
            <a:off x="2765160" y="2590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74"/>
          <p:cNvSpPr/>
          <p:nvPr/>
        </p:nvSpPr>
        <p:spPr>
          <a:xfrm>
            <a:off x="2774160" y="37339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75"/>
          <p:cNvSpPr/>
          <p:nvPr/>
        </p:nvSpPr>
        <p:spPr>
          <a:xfrm>
            <a:off x="2760120" y="48006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576"/>
          <p:cNvSpPr/>
          <p:nvPr/>
        </p:nvSpPr>
        <p:spPr>
          <a:xfrm>
            <a:off x="2751480" y="5257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77"/>
          <p:cNvSpPr/>
          <p:nvPr/>
        </p:nvSpPr>
        <p:spPr>
          <a:xfrm>
            <a:off x="275904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78"/>
          <p:cNvSpPr/>
          <p:nvPr/>
        </p:nvSpPr>
        <p:spPr>
          <a:xfrm>
            <a:off x="3359880" y="16765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579"/>
          <p:cNvSpPr/>
          <p:nvPr/>
        </p:nvSpPr>
        <p:spPr>
          <a:xfrm>
            <a:off x="3372480" y="37339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580"/>
          <p:cNvSpPr/>
          <p:nvPr/>
        </p:nvSpPr>
        <p:spPr>
          <a:xfrm>
            <a:off x="3367800" y="3200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81"/>
          <p:cNvSpPr/>
          <p:nvPr/>
        </p:nvSpPr>
        <p:spPr>
          <a:xfrm>
            <a:off x="3381120" y="2590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82"/>
          <p:cNvSpPr/>
          <p:nvPr/>
        </p:nvSpPr>
        <p:spPr>
          <a:xfrm>
            <a:off x="3375000" y="21337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84"/>
          <p:cNvSpPr/>
          <p:nvPr/>
        </p:nvSpPr>
        <p:spPr>
          <a:xfrm>
            <a:off x="3969720" y="16765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20"/>
          <p:cNvSpPr/>
          <p:nvPr/>
        </p:nvSpPr>
        <p:spPr>
          <a:xfrm>
            <a:off x="3993480" y="21337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21"/>
          <p:cNvSpPr/>
          <p:nvPr/>
        </p:nvSpPr>
        <p:spPr>
          <a:xfrm>
            <a:off x="3989160" y="2590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622"/>
          <p:cNvSpPr/>
          <p:nvPr/>
        </p:nvSpPr>
        <p:spPr>
          <a:xfrm>
            <a:off x="3990960" y="3200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23"/>
          <p:cNvSpPr/>
          <p:nvPr/>
        </p:nvSpPr>
        <p:spPr>
          <a:xfrm>
            <a:off x="397080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24"/>
          <p:cNvSpPr/>
          <p:nvPr/>
        </p:nvSpPr>
        <p:spPr>
          <a:xfrm>
            <a:off x="397548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25"/>
          <p:cNvSpPr/>
          <p:nvPr/>
        </p:nvSpPr>
        <p:spPr>
          <a:xfrm>
            <a:off x="398232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101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0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1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2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3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1" dur="8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2" dur="8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3" dur="8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4" dur="8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5" dur="8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3" dur="8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4" dur="8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5" dur="8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9" dur="8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0" dur="8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1" dur="8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3581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Arial"/>
              </a:rPr>
              <a:t>Реши кроссворд </a:t>
            </a:r>
            <a:br>
              <a:rPr sz="2400"/>
            </a:br>
            <a:r>
              <a:rPr b="1" lang="ru-RU" sz="2400" spc="-1" strike="noStrike">
                <a:solidFill>
                  <a:srgbClr val="eeece1"/>
                </a:solidFill>
                <a:latin typeface="Arial"/>
              </a:rPr>
              <a:t>и ты узнаешь название стихотв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95320" y="152280"/>
            <a:ext cx="3505320" cy="6019920"/>
          </a:xfrm>
          <a:prstGeom prst="rect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 В сенокос – горь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в мороз – слад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 за ягод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Кудри в речку опуст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о чём-то загруст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о ком она груст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кому не гов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Никто не пуг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вся дрож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) Вроде сосен, вроде ёл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зимою без иго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) Зимой и ле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им цв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) Весной зелен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том загор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енью на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сные корал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57200" y="1905120"/>
          <a:ext cx="3429000" cy="439092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  <a:gridCol w="571680"/>
                <a:gridCol w="571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88" name="Text Box 300"/>
          <p:cNvSpPr/>
          <p:nvPr/>
        </p:nvSpPr>
        <p:spPr>
          <a:xfrm>
            <a:off x="2291760" y="1600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02"/>
          <p:cNvSpPr/>
          <p:nvPr/>
        </p:nvSpPr>
        <p:spPr>
          <a:xfrm>
            <a:off x="55332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03"/>
          <p:cNvSpPr/>
          <p:nvPr/>
        </p:nvSpPr>
        <p:spPr>
          <a:xfrm>
            <a:off x="541800" y="2286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04"/>
          <p:cNvSpPr/>
          <p:nvPr/>
        </p:nvSpPr>
        <p:spPr>
          <a:xfrm>
            <a:off x="546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05"/>
          <p:cNvSpPr/>
          <p:nvPr/>
        </p:nvSpPr>
        <p:spPr>
          <a:xfrm>
            <a:off x="545760" y="3429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06"/>
          <p:cNvSpPr/>
          <p:nvPr/>
        </p:nvSpPr>
        <p:spPr>
          <a:xfrm>
            <a:off x="549360" y="3809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07"/>
          <p:cNvSpPr/>
          <p:nvPr/>
        </p:nvSpPr>
        <p:spPr>
          <a:xfrm>
            <a:off x="553320" y="4267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08"/>
          <p:cNvSpPr/>
          <p:nvPr/>
        </p:nvSpPr>
        <p:spPr>
          <a:xfrm>
            <a:off x="1093320" y="342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09"/>
          <p:cNvSpPr/>
          <p:nvPr/>
        </p:nvSpPr>
        <p:spPr>
          <a:xfrm>
            <a:off x="1078920" y="3048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10"/>
          <p:cNvSpPr/>
          <p:nvPr/>
        </p:nvSpPr>
        <p:spPr>
          <a:xfrm>
            <a:off x="1086480" y="3886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312" descr="5"/>
          <p:cNvPicPr/>
          <p:nvPr/>
        </p:nvPicPr>
        <p:blipFill>
          <a:blip r:embed="rId1"/>
          <a:stretch/>
        </p:blipFill>
        <p:spPr>
          <a:xfrm>
            <a:off x="7467480" y="4343400"/>
            <a:ext cx="1449360" cy="23036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313"/>
          <p:cNvSpPr/>
          <p:nvPr/>
        </p:nvSpPr>
        <p:spPr>
          <a:xfrm>
            <a:off x="593640" y="4303800"/>
            <a:ext cx="32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14"/>
          <p:cNvSpPr/>
          <p:nvPr/>
        </p:nvSpPr>
        <p:spPr>
          <a:xfrm>
            <a:off x="1752480" y="274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315"/>
          <p:cNvSpPr/>
          <p:nvPr/>
        </p:nvSpPr>
        <p:spPr>
          <a:xfrm>
            <a:off x="898560" y="4608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16"/>
          <p:cNvSpPr/>
          <p:nvPr/>
        </p:nvSpPr>
        <p:spPr>
          <a:xfrm>
            <a:off x="1050840" y="476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7"/>
          <p:cNvSpPr/>
          <p:nvPr/>
        </p:nvSpPr>
        <p:spPr>
          <a:xfrm>
            <a:off x="1752480" y="320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18"/>
          <p:cNvSpPr/>
          <p:nvPr/>
        </p:nvSpPr>
        <p:spPr>
          <a:xfrm>
            <a:off x="1355760" y="5065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19"/>
          <p:cNvSpPr/>
          <p:nvPr/>
        </p:nvSpPr>
        <p:spPr>
          <a:xfrm>
            <a:off x="1688760" y="3429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20"/>
          <p:cNvSpPr/>
          <p:nvPr/>
        </p:nvSpPr>
        <p:spPr>
          <a:xfrm>
            <a:off x="1693440" y="26668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21"/>
          <p:cNvSpPr/>
          <p:nvPr/>
        </p:nvSpPr>
        <p:spPr>
          <a:xfrm>
            <a:off x="1707480" y="30481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22"/>
          <p:cNvSpPr/>
          <p:nvPr/>
        </p:nvSpPr>
        <p:spPr>
          <a:xfrm>
            <a:off x="1692360" y="38862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23"/>
          <p:cNvSpPr/>
          <p:nvPr/>
        </p:nvSpPr>
        <p:spPr>
          <a:xfrm>
            <a:off x="1696320" y="4267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26"/>
          <p:cNvSpPr/>
          <p:nvPr/>
        </p:nvSpPr>
        <p:spPr>
          <a:xfrm>
            <a:off x="2298240" y="2286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27"/>
          <p:cNvSpPr/>
          <p:nvPr/>
        </p:nvSpPr>
        <p:spPr>
          <a:xfrm>
            <a:off x="2298960" y="1905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28"/>
          <p:cNvSpPr/>
          <p:nvPr/>
        </p:nvSpPr>
        <p:spPr>
          <a:xfrm>
            <a:off x="2305080" y="3048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29"/>
          <p:cNvSpPr/>
          <p:nvPr/>
        </p:nvSpPr>
        <p:spPr>
          <a:xfrm>
            <a:off x="2316960" y="26668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330"/>
          <p:cNvSpPr/>
          <p:nvPr/>
        </p:nvSpPr>
        <p:spPr>
          <a:xfrm>
            <a:off x="2314440" y="3886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31"/>
          <p:cNvSpPr/>
          <p:nvPr/>
        </p:nvSpPr>
        <p:spPr>
          <a:xfrm>
            <a:off x="2286000" y="34290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32"/>
          <p:cNvSpPr/>
          <p:nvPr/>
        </p:nvSpPr>
        <p:spPr>
          <a:xfrm>
            <a:off x="230184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3"/>
          <p:cNvSpPr/>
          <p:nvPr/>
        </p:nvSpPr>
        <p:spPr>
          <a:xfrm>
            <a:off x="230184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334"/>
          <p:cNvSpPr/>
          <p:nvPr/>
        </p:nvSpPr>
        <p:spPr>
          <a:xfrm>
            <a:off x="2298240" y="5105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35"/>
          <p:cNvSpPr/>
          <p:nvPr/>
        </p:nvSpPr>
        <p:spPr>
          <a:xfrm>
            <a:off x="2305800" y="5867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36"/>
          <p:cNvSpPr/>
          <p:nvPr/>
        </p:nvSpPr>
        <p:spPr>
          <a:xfrm>
            <a:off x="2298240" y="548640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37"/>
          <p:cNvSpPr/>
          <p:nvPr/>
        </p:nvSpPr>
        <p:spPr>
          <a:xfrm>
            <a:off x="2847960" y="2286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38"/>
          <p:cNvSpPr/>
          <p:nvPr/>
        </p:nvSpPr>
        <p:spPr>
          <a:xfrm>
            <a:off x="2832480" y="2666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39"/>
          <p:cNvSpPr/>
          <p:nvPr/>
        </p:nvSpPr>
        <p:spPr>
          <a:xfrm>
            <a:off x="284688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340"/>
          <p:cNvSpPr/>
          <p:nvPr/>
        </p:nvSpPr>
        <p:spPr>
          <a:xfrm>
            <a:off x="3451320" y="26668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41"/>
          <p:cNvSpPr/>
          <p:nvPr/>
        </p:nvSpPr>
        <p:spPr>
          <a:xfrm>
            <a:off x="3453120" y="30481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342"/>
          <p:cNvSpPr/>
          <p:nvPr/>
        </p:nvSpPr>
        <p:spPr>
          <a:xfrm>
            <a:off x="34556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43"/>
          <p:cNvSpPr/>
          <p:nvPr/>
        </p:nvSpPr>
        <p:spPr>
          <a:xfrm>
            <a:off x="3441240" y="3886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44"/>
          <p:cNvSpPr/>
          <p:nvPr/>
        </p:nvSpPr>
        <p:spPr>
          <a:xfrm>
            <a:off x="344484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45"/>
          <p:cNvSpPr/>
          <p:nvPr/>
        </p:nvSpPr>
        <p:spPr>
          <a:xfrm>
            <a:off x="3448800" y="46483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142">
            <a:hlinkClick r:id="" action="ppaction://hlinkshowjump?jump=nextslide"/>
          </p:cNvPr>
          <p:cNvSpPr/>
          <p:nvPr/>
        </p:nvSpPr>
        <p:spPr>
          <a:xfrm>
            <a:off x="8458200" y="624852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8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8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8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8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8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9" dur="8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8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8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2" dur="8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3" dur="8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8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8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8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8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8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8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8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8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8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8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6" dur="8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7" dur="8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8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8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8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0" dur="8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8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8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8" dur="8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8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8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800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5" dur="8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8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8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8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3" dur="8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8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8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800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800" fill="hold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800" fill="hold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800" fill="hold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800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8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8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8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2" dur="800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3" dur="800" fill="hold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800" fill="hold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800" fill="hold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8" dur="800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9" dur="800" fill="hold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800" fill="hold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800" fill="hold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6" dur="800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7" dur="8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8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8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Calibri"/>
              </a:rPr>
              <a:t>Отгадай пропущенные слова в отрывках из сказок Пушки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57200" y="1981080"/>
          <a:ext cx="8229600" cy="3959280"/>
        </p:xfrm>
        <a:graphic>
          <a:graphicData uri="http://schemas.openxmlformats.org/drawingml/2006/table">
            <a:tbl>
              <a:tblPr/>
              <a:tblGrid>
                <a:gridCol w="747720"/>
                <a:gridCol w="749160"/>
                <a:gridCol w="747720"/>
                <a:gridCol w="747720"/>
                <a:gridCol w="747720"/>
                <a:gridCol w="749520"/>
                <a:gridCol w="747720"/>
                <a:gridCol w="747720"/>
                <a:gridCol w="747720"/>
                <a:gridCol w="766800"/>
                <a:gridCol w="73008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33" name="Text Box 133"/>
          <p:cNvSpPr/>
          <p:nvPr/>
        </p:nvSpPr>
        <p:spPr>
          <a:xfrm>
            <a:off x="4211640" y="1989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   О    Р        Д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34"/>
          <p:cNvSpPr/>
          <p:nvPr/>
        </p:nvSpPr>
        <p:spPr>
          <a:xfrm>
            <a:off x="3635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35"/>
          <p:cNvSpPr/>
          <p:nvPr/>
        </p:nvSpPr>
        <p:spPr>
          <a:xfrm>
            <a:off x="1979640" y="5229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  Т          Л    И   Ц   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36"/>
          <p:cNvSpPr/>
          <p:nvPr/>
        </p:nvSpPr>
        <p:spPr>
          <a:xfrm>
            <a:off x="4286520" y="46530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37"/>
          <p:cNvSpPr/>
          <p:nvPr/>
        </p:nvSpPr>
        <p:spPr>
          <a:xfrm>
            <a:off x="514836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41"/>
          <p:cNvSpPr/>
          <p:nvPr/>
        </p:nvSpPr>
        <p:spPr>
          <a:xfrm>
            <a:off x="4930920" y="778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42"/>
          <p:cNvSpPr/>
          <p:nvPr/>
        </p:nvSpPr>
        <p:spPr>
          <a:xfrm>
            <a:off x="5148360" y="753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43"/>
          <p:cNvSpPr/>
          <p:nvPr/>
        </p:nvSpPr>
        <p:spPr>
          <a:xfrm>
            <a:off x="468360" y="263700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        Р   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Б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Л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44"/>
          <p:cNvSpPr/>
          <p:nvPr/>
        </p:nvSpPr>
        <p:spPr>
          <a:xfrm>
            <a:off x="3419640" y="328464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        Р   Т    И   Н   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45"/>
          <p:cNvSpPr/>
          <p:nvPr/>
        </p:nvSpPr>
        <p:spPr>
          <a:xfrm>
            <a:off x="2700360" y="393372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         Г   А    Т    Ы  Р    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46"/>
          <p:cNvSpPr/>
          <p:nvPr/>
        </p:nvSpPr>
        <p:spPr>
          <a:xfrm>
            <a:off x="361620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47"/>
          <p:cNvSpPr/>
          <p:nvPr/>
        </p:nvSpPr>
        <p:spPr>
          <a:xfrm>
            <a:off x="3492360" y="465300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         С   Т    О  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48"/>
          <p:cNvSpPr/>
          <p:nvPr/>
        </p:nvSpPr>
        <p:spPr>
          <a:xfrm>
            <a:off x="6590160" y="19890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49"/>
          <p:cNvSpPr/>
          <p:nvPr/>
        </p:nvSpPr>
        <p:spPr>
          <a:xfrm>
            <a:off x="1260720" y="26370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50"/>
          <p:cNvSpPr/>
          <p:nvPr/>
        </p:nvSpPr>
        <p:spPr>
          <a:xfrm>
            <a:off x="4284720" y="328464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51"/>
          <p:cNvSpPr/>
          <p:nvPr/>
        </p:nvSpPr>
        <p:spPr>
          <a:xfrm>
            <a:off x="3565800" y="39337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52"/>
          <p:cNvSpPr/>
          <p:nvPr/>
        </p:nvSpPr>
        <p:spPr>
          <a:xfrm>
            <a:off x="3565800" y="53006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153" descr="ARK1"/>
          <p:cNvPicPr/>
          <p:nvPr/>
        </p:nvPicPr>
        <p:blipFill>
          <a:blip r:embed="rId1"/>
          <a:stretch/>
        </p:blipFill>
        <p:spPr>
          <a:xfrm>
            <a:off x="533520" y="1447920"/>
            <a:ext cx="1728720" cy="10080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64">
            <a:hlinkClick r:id="rId2" action="ppaction://hlinksldjump"/>
          </p:cNvPr>
          <p:cNvSpPr/>
          <p:nvPr/>
        </p:nvSpPr>
        <p:spPr>
          <a:xfrm>
            <a:off x="228600" y="61722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5388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13543" y="3794"/>
                </a:lnTo>
                <a:lnTo>
                  <a:pt x="13543" y="17806"/>
                </a:lnTo>
                <a:lnTo>
                  <a:pt x="11881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7"/>
          <p:cNvSpPr/>
          <p:nvPr/>
        </p:nvSpPr>
        <p:spPr>
          <a:xfrm>
            <a:off x="0" y="56386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ЫСЛИТЕЛЬ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ОЦЕС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0" y="41911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ВОРЧЕСК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4680" y="304812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ПОСОБ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536040" y="21337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ВЫ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520" y="144792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М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-6480" y="152280"/>
            <a:ext cx="9047520" cy="1068840"/>
          </a:xfrm>
          <a:prstGeom prst="rect">
            <a:avLst/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Обучение в начальной школе является баз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фундаментом всего последующе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5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1" dur="3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400"/>
                            </p:stCondLst>
                            <p:childTnLst>
                              <p:par>
                                <p:cTn id="12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6" descr="00043775"/>
          <p:cNvPicPr/>
          <p:nvPr/>
        </p:nvPicPr>
        <p:blipFill>
          <a:blip r:embed="rId1"/>
          <a:stretch/>
        </p:blipFill>
        <p:spPr>
          <a:xfrm>
            <a:off x="1523880" y="304920"/>
            <a:ext cx="2664000" cy="18730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7"/>
          <p:cNvSpPr/>
          <p:nvPr/>
        </p:nvSpPr>
        <p:spPr>
          <a:xfrm>
            <a:off x="4195080" y="1341360"/>
            <a:ext cx="312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нн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ца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Text Box 8"/>
          <p:cNvGrpSpPr/>
          <p:nvPr/>
        </p:nvGrpSpPr>
        <p:grpSpPr>
          <a:xfrm>
            <a:off x="987480" y="2487600"/>
            <a:ext cx="8016840" cy="3760920"/>
            <a:chOff x="987480" y="2487600"/>
            <a:chExt cx="8016840" cy="3760920"/>
          </a:xfrm>
        </p:grpSpPr>
        <p:pic>
          <p:nvPicPr>
            <p:cNvPr id="455" name="Text Box 8" descr=""/>
            <p:cNvPicPr/>
            <p:nvPr/>
          </p:nvPicPr>
          <p:blipFill>
            <a:blip r:embed="rId2"/>
            <a:stretch/>
          </p:blipFill>
          <p:spPr>
            <a:xfrm>
              <a:off x="987480" y="2487600"/>
              <a:ext cx="8016840" cy="376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990720" y="2492280"/>
              <a:ext cx="800388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У ли</a:t>
              </a:r>
              <a:r>
                <a:rPr b="0" lang="ru-RU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ст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нн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и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цы т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я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жёлая др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–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сина. Дер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о мож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т ут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нуть в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де. Др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сина оч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нь д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лг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е</a:t>
              </a:r>
              <a:r>
                <a:rPr b="0" lang="ru-RU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чн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а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на </a:t>
              </a:r>
              <a:r>
                <a:rPr b="0" lang="ru-RU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н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гн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и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ёт в почв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и даже в в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де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Из неё люди м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а</a:t>
              </a:r>
              <a:r>
                <a:rPr b="0" lang="ru-RU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ст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рили </a:t>
              </a:r>
              <a:r>
                <a:rPr b="0" lang="ru-RU" sz="4000" spc="-1" strike="noStrike" u="sng">
                  <a:solidFill>
                    <a:srgbClr val="0000ff"/>
                  </a:solidFill>
                  <a:uFillTx/>
                  <a:latin typeface="Times New Roman"/>
                  <a:hlinkClick r:id="rId3" action="ppaction://hlinksldjump"/>
                </a:rPr>
                <a:t>сваи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для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ст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в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2303" dur="indefinite" restart="never" nodeType="tmRoot">
          <p:childTnLst>
            <p:seq>
              <p:cTn id="2304" dur="indefinite" nodeType="mainSeq">
                <p:childTnLst>
                  <p:par>
                    <p:cTn id="2305" fill="hold">
                      <p:stCondLst>
                        <p:cond delay="0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alibri"/>
              </a:rPr>
              <a:t>Значение слов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Rectangle 3"/>
          <p:cNvGrpSpPr/>
          <p:nvPr/>
        </p:nvGrpSpPr>
        <p:grpSpPr>
          <a:xfrm>
            <a:off x="1365120" y="1974960"/>
            <a:ext cx="6413760" cy="3517920"/>
            <a:chOff x="1365120" y="1974960"/>
            <a:chExt cx="6413760" cy="3517920"/>
          </a:xfrm>
        </p:grpSpPr>
        <p:pic>
          <p:nvPicPr>
            <p:cNvPr id="459" name="Rectangle 3" descr=""/>
            <p:cNvPicPr/>
            <p:nvPr/>
          </p:nvPicPr>
          <p:blipFill>
            <a:blip r:embed="rId1"/>
            <a:stretch/>
          </p:blipFill>
          <p:spPr>
            <a:xfrm>
              <a:off x="1365120" y="1974960"/>
              <a:ext cx="641376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1371600" y="1981080"/>
              <a:ext cx="640080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0" spc="-1" strike="noStrike" u="sng">
                  <a:solidFill>
                    <a:srgbClr val="ff0000"/>
                  </a:solidFill>
                  <a:uFillTx/>
                  <a:latin typeface="Arial"/>
                </a:rPr>
                <a:t>Сваи</a:t>
              </a:r>
              <a:r>
                <a:rPr b="0" lang="ru-RU" sz="5000" spc="-1" strike="noStrike">
                  <a:solidFill>
                    <a:srgbClr val="000000"/>
                  </a:solidFill>
                  <a:latin typeface="Arial"/>
                </a:rPr>
                <a:t> – это брёвна, забитые в землю для опоры в каких – либо сооружениях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AutoShape 4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8155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16310" y="3794"/>
                </a:lnTo>
                <a:lnTo>
                  <a:pt x="16310" y="17806"/>
                </a:lnTo>
                <a:lnTo>
                  <a:pt x="1464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ижний колонтитул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, нач.к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Номер слайд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3ABF-6B6B-4D0F-BDB6-4A726B0543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Дат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ahoma"/>
                <a:ea typeface="Tahoma"/>
              </a:rPr>
              <a:t>Письмо по памяти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Tahoma"/>
                <a:ea typeface="Tahoma"/>
              </a:rPr>
              <a:t>№37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В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т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 у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ж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 сн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г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 п_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ледний в пол_ та_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Тёплый пар в_сход_т от з_мл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И ку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ш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нч_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к син_й ра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цв_та_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И з_ву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т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 дру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г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 друга жур_в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(А.К.Толсто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3429000" y="17524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7"/>
          <p:cNvSpPr/>
          <p:nvPr/>
        </p:nvSpPr>
        <p:spPr>
          <a:xfrm>
            <a:off x="7080120" y="17524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7994520" y="17524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7156440" y="32004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10"/>
          <p:cNvSpPr/>
          <p:nvPr/>
        </p:nvSpPr>
        <p:spPr>
          <a:xfrm>
            <a:off x="6318000" y="32004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11"/>
          <p:cNvSpPr/>
          <p:nvPr/>
        </p:nvSpPr>
        <p:spPr>
          <a:xfrm>
            <a:off x="6324480" y="2438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12"/>
          <p:cNvSpPr/>
          <p:nvPr/>
        </p:nvSpPr>
        <p:spPr>
          <a:xfrm>
            <a:off x="990720" y="388620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13"/>
          <p:cNvSpPr/>
          <p:nvPr/>
        </p:nvSpPr>
        <p:spPr>
          <a:xfrm>
            <a:off x="3429000" y="24382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17"/>
          <p:cNvSpPr/>
          <p:nvPr/>
        </p:nvSpPr>
        <p:spPr>
          <a:xfrm>
            <a:off x="4250160" y="3200400"/>
            <a:ext cx="5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8"/>
          <p:cNvSpPr/>
          <p:nvPr/>
        </p:nvSpPr>
        <p:spPr>
          <a:xfrm>
            <a:off x="4783680" y="2438280"/>
            <a:ext cx="5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9"/>
          <p:cNvSpPr/>
          <p:nvPr/>
        </p:nvSpPr>
        <p:spPr>
          <a:xfrm>
            <a:off x="2743200" y="320040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21"/>
          <p:cNvSpPr/>
          <p:nvPr/>
        </p:nvSpPr>
        <p:spPr>
          <a:xfrm>
            <a:off x="5709240" y="388620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23"/>
          <p:cNvSpPr/>
          <p:nvPr/>
        </p:nvSpPr>
        <p:spPr>
          <a:xfrm>
            <a:off x="0" y="0"/>
            <a:ext cx="5105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Развитие орфографической грамо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326" dur="indefinite" restart="never" nodeType="tmRoot">
          <p:childTnLst>
            <p:seq>
              <p:cTn id="2327" dur="indefinite" nodeType="mainSeq">
                <p:childTnLst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31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35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3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2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43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47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8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6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1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1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2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6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Нижний колонтитул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, нач.к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Номер слайд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E0AB-36EA-4DCF-B4E5-0B94EC3974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Дат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ahoma"/>
                <a:ea typeface="Tahoma"/>
              </a:rPr>
              <a:t>№</a:t>
            </a:r>
            <a:r>
              <a:rPr b="0" lang="ru-RU" sz="3400" spc="-1" strike="noStrike">
                <a:solidFill>
                  <a:srgbClr val="000000"/>
                </a:solidFill>
                <a:latin typeface="Tahoma"/>
                <a:ea typeface="Tahoma"/>
              </a:rPr>
              <a:t>361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Tahoma"/>
                <a:ea typeface="Tahoma"/>
              </a:rPr>
              <a:t>Как делают бумагу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Бумагу делают на бумажн…   фабрик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из др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ны. Ст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лы д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ев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ь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щ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ют от к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ы, разр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ют на к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отк… кругляки, рубят в мелк…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щепу, размалывают в рыхл…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л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нист… м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, варят. П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ом жидк… кашица п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а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 в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ромн… цех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есь м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ш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ны пр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р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щ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ют её в дл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ый бумажный л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 Л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ы высу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ш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ают, пр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л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ж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ают, п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лируют и сматывают в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ромн… руло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171000" y="40464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824400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2403720" y="0"/>
            <a:ext cx="6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6099480" y="1890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у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7899840" y="40464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у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4760" y="3789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у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2346480" y="6338880"/>
            <a:ext cx="6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4564080" y="609300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6231240" y="63388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85680" y="63295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.п.,ж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569880" y="651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.п.,мн.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7089840" y="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.п.,ж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8006040" y="625644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.п.,ж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3299040" y="65898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м.п.,ж.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21">
            <a:hlinkClick r:id="rId1" action="ppaction://hlinksldjump"/>
          </p:cNvPr>
          <p:cNvSpPr/>
          <p:nvPr/>
        </p:nvSpPr>
        <p:spPr>
          <a:xfrm>
            <a:off x="228600" y="14479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57" dur="indefinite" restart="never" nodeType="tmRoot">
          <p:childTnLst>
            <p:seq>
              <p:cTn id="2458" dur="indefinite" nodeType="mainSeq">
                <p:childTnLst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98 0.00417 L 0.66702 0.1721 E">
                                      <p:cBhvr>
                                        <p:cTn id="2462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21 0.04233 L 0.43975 0.35692 E">
                                      <p:cBhvr>
                                        <p:cTn id="246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1.85288E-006 L 0.38368 -0.13209 E">
                                      <p:cBhvr>
                                        <p:cTn id="2466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5 0.04627 L -0.48646 0.45547 E">
                                      <p:cBhvr>
                                        <p:cTn id="2468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0624 L -0.40764 0.41777 E">
                                      <p:cBhvr>
                                        <p:cTn id="2470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28 -0.04811 L 0.30799 -0.34189 E">
                                      <p:cBhvr>
                                        <p:cTn id="2472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1 -0.01319 L -0.46927 -0.11806 E">
                                      <p:cBhvr>
                                        <p:cTn id="2474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29 -0.05251 L -0.07951 -0.37775 E">
                                      <p:cBhvr>
                                        <p:cTn id="2476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99 -0.02961 L 0.58159 -0.71154 E">
                                      <p:cBhvr>
                                        <p:cTn id="2480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35 0.03331 L 0.54392 0.33772 E">
                                      <p:cBhvr>
                                        <p:cTn id="2484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58 0.03239 L -0.43594 0.41013 E">
                                      <p:cBhvr>
                                        <p:cTn id="2488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54 -0.03979 L -0.67778 -0.43859 E">
                                      <p:cBhvr>
                                        <p:cTn id="2492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1201E-006 L -0.25382 -0.42424 E">
                                      <p:cBhvr>
                                        <p:cTn id="2496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76520" y="2514600"/>
            <a:ext cx="6635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 ц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вна 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л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ё п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я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д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 убр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7" descr="h20"/>
          <p:cNvPicPr/>
          <p:nvPr/>
        </p:nvPicPr>
        <p:blipFill>
          <a:blip r:embed="rId1"/>
          <a:stretch/>
        </p:blipFill>
        <p:spPr>
          <a:xfrm>
            <a:off x="6400800" y="380880"/>
            <a:ext cx="1571760" cy="1876680"/>
          </a:xfrm>
          <a:prstGeom prst="rect">
            <a:avLst/>
          </a:prstGeom>
          <a:ln w="0">
            <a:noFill/>
          </a:ln>
        </p:spPr>
      </p:pic>
      <p:sp>
        <p:nvSpPr>
          <p:cNvPr id="502" name="Line 11"/>
          <p:cNvSpPr/>
          <p:nvPr/>
        </p:nvSpPr>
        <p:spPr>
          <a:xfrm>
            <a:off x="5105520" y="320040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2"/>
          <p:cNvSpPr/>
          <p:nvPr/>
        </p:nvSpPr>
        <p:spPr>
          <a:xfrm>
            <a:off x="5105520" y="31240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3"/>
          <p:cNvSpPr/>
          <p:nvPr/>
        </p:nvSpPr>
        <p:spPr>
          <a:xfrm>
            <a:off x="5334120" y="403848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4"/>
          <p:cNvSpPr/>
          <p:nvPr/>
        </p:nvSpPr>
        <p:spPr>
          <a:xfrm>
            <a:off x="5334120" y="411480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6"/>
          <p:cNvSpPr/>
          <p:nvPr/>
        </p:nvSpPr>
        <p:spPr>
          <a:xfrm>
            <a:off x="2971800" y="320040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7"/>
          <p:cNvSpPr/>
          <p:nvPr/>
        </p:nvSpPr>
        <p:spPr>
          <a:xfrm>
            <a:off x="3612600" y="2438280"/>
            <a:ext cx="60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8"/>
          <p:cNvSpPr/>
          <p:nvPr/>
        </p:nvSpPr>
        <p:spPr>
          <a:xfrm>
            <a:off x="5894280" y="2362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9"/>
          <p:cNvSpPr/>
          <p:nvPr/>
        </p:nvSpPr>
        <p:spPr>
          <a:xfrm>
            <a:off x="604656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5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1" dur="1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2100"/>
                            </p:stCondLst>
                            <p:childTnLst>
                              <p:par>
                                <p:cTn id="25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042560" y="2614680"/>
            <a:ext cx="339084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Д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Ё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ЯЖ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508720" y="2531880"/>
            <a:ext cx="3030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WordArt 4"/>
          <p:cNvSpPr txBox="1"/>
          <p:nvPr/>
        </p:nvSpPr>
        <p:spPr>
          <a:xfrm>
            <a:off x="684360" y="260280"/>
            <a:ext cx="792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Повторяй - ка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189800" y="5013360"/>
            <a:ext cx="17046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- ЕШ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5582880" y="4941720"/>
            <a:ext cx="17305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- ИШ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307800" y="6095880"/>
            <a:ext cx="847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ffff"/>
                </a:solidFill>
                <a:uFillTx/>
                <a:latin typeface="Arial"/>
              </a:rPr>
              <a:t>От чего зависит окончание глагол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10" descr="ARK1"/>
          <p:cNvPicPr/>
          <p:nvPr/>
        </p:nvPicPr>
        <p:blipFill>
          <a:blip r:embed="rId1"/>
          <a:stretch/>
        </p:blipFill>
        <p:spPr>
          <a:xfrm>
            <a:off x="7010280" y="0"/>
            <a:ext cx="1729080" cy="1008000"/>
          </a:xfrm>
          <a:prstGeom prst="rect">
            <a:avLst/>
          </a:prstGeom>
          <a:ln w="0">
            <a:noFill/>
          </a:ln>
        </p:spPr>
      </p:pic>
      <p:sp>
        <p:nvSpPr>
          <p:cNvPr id="517" name="AutoShape 11">
            <a:hlinkClick r:id="" action="ppaction://hlinkshowjump?jump=nextslide"/>
          </p:cNvPr>
          <p:cNvSpPr/>
          <p:nvPr/>
        </p:nvSpPr>
        <p:spPr>
          <a:xfrm>
            <a:off x="8381880" y="43434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3794"/>
                </a:moveTo>
                <a:lnTo>
                  <a:pt x="24293" y="10800"/>
                </a:lnTo>
                <a:lnTo>
                  <a:pt x="1028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561" dur="indefinite" restart="never" nodeType="tmRoot">
          <p:childTnLst>
            <p:seq>
              <p:cTn id="2562" dur="indefinite" nodeType="mainSeq">
                <p:childTnLst>
                  <p:par>
                    <p:cTn id="2563" fill="hold">
                      <p:stCondLst>
                        <p:cond delay="0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6" dur="2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2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2" dur="2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5" dur="20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8" dur="20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2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1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4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амятки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морфологического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разб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539640" y="1360440"/>
          <a:ext cx="8064720" cy="5245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57832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.ч., м.р.,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.ч.,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пред. 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е грамматическ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. – нариц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уш. – неоду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фологические призна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</a:tr>
              <a:tr h="649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таксические призна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20" name="Freeform 41"/>
          <p:cNvSpPr/>
          <p:nvPr/>
        </p:nvSpPr>
        <p:spPr>
          <a:xfrm>
            <a:off x="826920" y="5589720"/>
            <a:ext cx="1981440" cy="15228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56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96"/>
                  <a:pt x="192" y="96"/>
                </a:cubicBezTo>
                <a:cubicBezTo>
                  <a:pt x="224" y="96"/>
                  <a:pt x="256" y="0"/>
                  <a:pt x="288" y="0"/>
                </a:cubicBezTo>
                <a:cubicBezTo>
                  <a:pt x="320" y="0"/>
                  <a:pt x="352" y="96"/>
                  <a:pt x="384" y="96"/>
                </a:cubicBezTo>
                <a:cubicBezTo>
                  <a:pt x="416" y="96"/>
                  <a:pt x="448" y="0"/>
                  <a:pt x="480" y="0"/>
                </a:cubicBezTo>
                <a:cubicBezTo>
                  <a:pt x="512" y="0"/>
                  <a:pt x="544" y="96"/>
                  <a:pt x="576" y="96"/>
                </a:cubicBezTo>
                <a:cubicBezTo>
                  <a:pt x="608" y="96"/>
                  <a:pt x="640" y="0"/>
                  <a:pt x="672" y="0"/>
                </a:cubicBezTo>
                <a:cubicBezTo>
                  <a:pt x="704" y="0"/>
                  <a:pt x="736" y="96"/>
                  <a:pt x="768" y="96"/>
                </a:cubicBezTo>
                <a:cubicBezTo>
                  <a:pt x="800" y="96"/>
                  <a:pt x="832" y="0"/>
                  <a:pt x="864" y="0"/>
                </a:cubicBezTo>
                <a:cubicBezTo>
                  <a:pt x="896" y="0"/>
                  <a:pt x="928" y="96"/>
                  <a:pt x="960" y="96"/>
                </a:cubicBezTo>
                <a:cubicBezTo>
                  <a:pt x="992" y="96"/>
                  <a:pt x="1024" y="48"/>
                  <a:pt x="105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42"/>
          <p:cNvGrpSpPr/>
          <p:nvPr/>
        </p:nvGrpSpPr>
        <p:grpSpPr>
          <a:xfrm>
            <a:off x="3780000" y="5516640"/>
            <a:ext cx="1523880" cy="431640"/>
            <a:chOff x="3780000" y="5516640"/>
            <a:chExt cx="1523880" cy="431640"/>
          </a:xfrm>
        </p:grpSpPr>
        <p:sp>
          <p:nvSpPr>
            <p:cNvPr id="522" name="Line 43"/>
            <p:cNvSpPr/>
            <p:nvPr/>
          </p:nvSpPr>
          <p:spPr>
            <a:xfrm>
              <a:off x="3780000" y="551664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44"/>
            <p:cNvSpPr/>
            <p:nvPr/>
          </p:nvSpPr>
          <p:spPr>
            <a:xfrm>
              <a:off x="3780000" y="573228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45"/>
            <p:cNvSpPr/>
            <p:nvPr/>
          </p:nvSpPr>
          <p:spPr>
            <a:xfrm>
              <a:off x="3780000" y="594828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46"/>
          <p:cNvGrpSpPr/>
          <p:nvPr/>
        </p:nvGrpSpPr>
        <p:grpSpPr>
          <a:xfrm>
            <a:off x="6516720" y="5661000"/>
            <a:ext cx="1523880" cy="76320"/>
            <a:chOff x="6516720" y="5661000"/>
            <a:chExt cx="1523880" cy="76320"/>
          </a:xfrm>
        </p:grpSpPr>
        <p:sp>
          <p:nvSpPr>
            <p:cNvPr id="526" name="Line 47"/>
            <p:cNvSpPr/>
            <p:nvPr/>
          </p:nvSpPr>
          <p:spPr>
            <a:xfrm>
              <a:off x="6516720" y="56610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48"/>
            <p:cNvSpPr/>
            <p:nvPr/>
          </p:nvSpPr>
          <p:spPr>
            <a:xfrm>
              <a:off x="6516720" y="57373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AutoShape 49"/>
          <p:cNvSpPr/>
          <p:nvPr/>
        </p:nvSpPr>
        <p:spPr>
          <a:xfrm>
            <a:off x="2771640" y="623736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3794"/>
                </a:moveTo>
                <a:lnTo>
                  <a:pt x="23240" y="10800"/>
                </a:lnTo>
                <a:lnTo>
                  <a:pt x="9227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50"/>
          <p:cNvSpPr/>
          <p:nvPr/>
        </p:nvSpPr>
        <p:spPr>
          <a:xfrm>
            <a:off x="543564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51"/>
          <p:cNvSpPr/>
          <p:nvPr/>
        </p:nvSpPr>
        <p:spPr>
          <a:xfrm>
            <a:off x="810108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52">
            <a:hlinkClick r:id="" action="ppaction://hlinkshowjump?jump=previousslide"/>
          </p:cNvPr>
          <p:cNvSpPr/>
          <p:nvPr/>
        </p:nvSpPr>
        <p:spPr>
          <a:xfrm>
            <a:off x="8675640" y="990720"/>
            <a:ext cx="468360" cy="457200"/>
          </a:xfrm>
          <a:custGeom>
            <a:avLst/>
            <a:gdLst>
              <a:gd name="textAreaLeft" fmla="*/ 29520 w 468360"/>
              <a:gd name="textAreaRight" fmla="*/ 438840 w 468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127" h="21600">
                <a:moveTo>
                  <a:pt x="0" y="0"/>
                </a:moveTo>
                <a:lnTo>
                  <a:pt x="22127" y="0"/>
                </a:lnTo>
                <a:lnTo>
                  <a:pt x="22127" y="21600"/>
                </a:lnTo>
                <a:lnTo>
                  <a:pt x="0" y="21600"/>
                </a:lnTo>
                <a:close/>
              </a:path>
              <a:path fill="lightenLess" w="22127" h="21600">
                <a:moveTo>
                  <a:pt x="0" y="0"/>
                </a:moveTo>
                <a:lnTo>
                  <a:pt x="22127" y="0"/>
                </a:lnTo>
                <a:lnTo>
                  <a:pt x="20727" y="1400"/>
                </a:lnTo>
                <a:lnTo>
                  <a:pt x="1400" y="1400"/>
                </a:lnTo>
                <a:close/>
              </a:path>
              <a:path fill="darken" w="22127" h="21600">
                <a:moveTo>
                  <a:pt x="22127" y="0"/>
                </a:moveTo>
                <a:lnTo>
                  <a:pt x="22127" y="21600"/>
                </a:lnTo>
                <a:lnTo>
                  <a:pt x="20727" y="20200"/>
                </a:lnTo>
                <a:lnTo>
                  <a:pt x="20727" y="1400"/>
                </a:lnTo>
                <a:close/>
              </a:path>
              <a:path fill="darkenLess" w="22127" h="21600">
                <a:moveTo>
                  <a:pt x="22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27" y="20200"/>
                </a:lnTo>
                <a:close/>
              </a:path>
              <a:path fill="lighten" w="22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27" h="21600">
                <a:moveTo>
                  <a:pt x="4057" y="3794"/>
                </a:moveTo>
                <a:lnTo>
                  <a:pt x="18070" y="10800"/>
                </a:lnTo>
                <a:lnTo>
                  <a:pt x="4057" y="17806"/>
                </a:lnTo>
                <a:close/>
              </a:path>
            </a:pathLst>
          </a:custGeom>
          <a:solidFill>
            <a:srgbClr val="cc9900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59" descr="ARK1"/>
          <p:cNvPicPr/>
          <p:nvPr/>
        </p:nvPicPr>
        <p:blipFill>
          <a:blip r:embed="rId1"/>
          <a:stretch/>
        </p:blipFill>
        <p:spPr>
          <a:xfrm>
            <a:off x="0" y="228600"/>
            <a:ext cx="1728720" cy="10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Calibri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5257800" cy="4038480"/>
          </a:xfrm>
          <a:prstGeom prst="rect">
            <a:avLst/>
          </a:prstGeom>
          <a:solidFill>
            <a:srgbClr val="6699ff">
              <a:alpha val="6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д.ч., м.р., И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и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де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4"/>
          <p:cNvSpPr/>
          <p:nvPr/>
        </p:nvSpPr>
        <p:spPr>
          <a:xfrm>
            <a:off x="2057400" y="4724280"/>
            <a:ext cx="1981080" cy="1526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056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96"/>
                  <a:pt x="192" y="96"/>
                </a:cubicBezTo>
                <a:cubicBezTo>
                  <a:pt x="224" y="96"/>
                  <a:pt x="256" y="0"/>
                  <a:pt x="288" y="0"/>
                </a:cubicBezTo>
                <a:cubicBezTo>
                  <a:pt x="320" y="0"/>
                  <a:pt x="352" y="96"/>
                  <a:pt x="384" y="96"/>
                </a:cubicBezTo>
                <a:cubicBezTo>
                  <a:pt x="416" y="96"/>
                  <a:pt x="448" y="0"/>
                  <a:pt x="480" y="0"/>
                </a:cubicBezTo>
                <a:cubicBezTo>
                  <a:pt x="512" y="0"/>
                  <a:pt x="544" y="96"/>
                  <a:pt x="576" y="96"/>
                </a:cubicBezTo>
                <a:cubicBezTo>
                  <a:pt x="608" y="96"/>
                  <a:pt x="640" y="0"/>
                  <a:pt x="672" y="0"/>
                </a:cubicBezTo>
                <a:cubicBezTo>
                  <a:pt x="704" y="0"/>
                  <a:pt x="736" y="96"/>
                  <a:pt x="768" y="96"/>
                </a:cubicBezTo>
                <a:cubicBezTo>
                  <a:pt x="800" y="96"/>
                  <a:pt x="832" y="0"/>
                  <a:pt x="864" y="0"/>
                </a:cubicBezTo>
                <a:cubicBezTo>
                  <a:pt x="896" y="0"/>
                  <a:pt x="928" y="96"/>
                  <a:pt x="960" y="96"/>
                </a:cubicBezTo>
                <a:cubicBezTo>
                  <a:pt x="992" y="96"/>
                  <a:pt x="1024" y="48"/>
                  <a:pt x="105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228600" y="6019920"/>
            <a:ext cx="531720" cy="380880"/>
          </a:xfrm>
          <a:custGeom>
            <a:avLst/>
            <a:gdLst>
              <a:gd name="textAreaLeft" fmla="*/ 24480 w 531720"/>
              <a:gd name="textAreaRight" fmla="*/ 507240 w 531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146" h="21600">
                <a:moveTo>
                  <a:pt x="0" y="0"/>
                </a:moveTo>
                <a:lnTo>
                  <a:pt x="30146" y="0"/>
                </a:lnTo>
                <a:lnTo>
                  <a:pt x="30146" y="21600"/>
                </a:lnTo>
                <a:lnTo>
                  <a:pt x="0" y="21600"/>
                </a:lnTo>
                <a:close/>
              </a:path>
              <a:path fill="lightenLess" w="30146" h="21600">
                <a:moveTo>
                  <a:pt x="0" y="0"/>
                </a:moveTo>
                <a:lnTo>
                  <a:pt x="30146" y="0"/>
                </a:lnTo>
                <a:lnTo>
                  <a:pt x="28746" y="1400"/>
                </a:lnTo>
                <a:lnTo>
                  <a:pt x="1400" y="1400"/>
                </a:lnTo>
                <a:close/>
              </a:path>
              <a:path fill="darken" w="30146" h="21600">
                <a:moveTo>
                  <a:pt x="30146" y="0"/>
                </a:moveTo>
                <a:lnTo>
                  <a:pt x="30146" y="21600"/>
                </a:lnTo>
                <a:lnTo>
                  <a:pt x="28746" y="20200"/>
                </a:lnTo>
                <a:lnTo>
                  <a:pt x="28746" y="1400"/>
                </a:lnTo>
                <a:close/>
              </a:path>
              <a:path fill="darkenLess" w="30146" h="21600">
                <a:moveTo>
                  <a:pt x="30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6" y="20200"/>
                </a:lnTo>
                <a:close/>
              </a:path>
              <a:path fill="lighten" w="30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46" h="21600">
                <a:moveTo>
                  <a:pt x="8067" y="10800"/>
                </a:moveTo>
                <a:lnTo>
                  <a:pt x="22080" y="3794"/>
                </a:lnTo>
                <a:lnTo>
                  <a:pt x="22080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7" descr="ARK1"/>
          <p:cNvPicPr/>
          <p:nvPr/>
        </p:nvPicPr>
        <p:blipFill>
          <a:blip r:embed="rId1"/>
          <a:stretch/>
        </p:blipFill>
        <p:spPr>
          <a:xfrm>
            <a:off x="0" y="228600"/>
            <a:ext cx="1728720" cy="10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Calibri"/>
              </a:rPr>
              <a:t>Гла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5943600" cy="4114800"/>
          </a:xfrm>
          <a:prstGeom prst="rect">
            <a:avLst/>
          </a:prstGeom>
          <a:solidFill>
            <a:srgbClr val="6699ff">
              <a:alpha val="62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еопределенная фо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ря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4"/>
          <p:cNvGrpSpPr/>
          <p:nvPr/>
        </p:nvGrpSpPr>
        <p:grpSpPr>
          <a:xfrm>
            <a:off x="2286000" y="5257800"/>
            <a:ext cx="2285640" cy="76320"/>
            <a:chOff x="2286000" y="5257800"/>
            <a:chExt cx="2285640" cy="76320"/>
          </a:xfrm>
        </p:grpSpPr>
        <p:sp>
          <p:nvSpPr>
            <p:cNvPr id="541" name="Line 5"/>
            <p:cNvSpPr/>
            <p:nvPr/>
          </p:nvSpPr>
          <p:spPr>
            <a:xfrm>
              <a:off x="2286000" y="5257800"/>
              <a:ext cx="22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6"/>
            <p:cNvSpPr/>
            <p:nvPr/>
          </p:nvSpPr>
          <p:spPr>
            <a:xfrm>
              <a:off x="2286000" y="5334120"/>
              <a:ext cx="22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3" name="Picture 9" descr="ARK1"/>
          <p:cNvPicPr/>
          <p:nvPr/>
        </p:nvPicPr>
        <p:blipFill>
          <a:blip r:embed="rId1"/>
          <a:stretch/>
        </p:blipFill>
        <p:spPr>
          <a:xfrm>
            <a:off x="0" y="228600"/>
            <a:ext cx="1728720" cy="100800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0"/>
          <p:cNvSpPr/>
          <p:nvPr/>
        </p:nvSpPr>
        <p:spPr>
          <a:xfrm>
            <a:off x="8534520" y="4419720"/>
            <a:ext cx="433440" cy="280800"/>
          </a:xfrm>
          <a:custGeom>
            <a:avLst/>
            <a:gdLst>
              <a:gd name="textAreaLeft" fmla="*/ 18000 w 433440"/>
              <a:gd name="textAreaRight" fmla="*/ 415440 w 433440"/>
              <a:gd name="textAreaTop" fmla="*/ 18000 h 280800"/>
              <a:gd name="textAreaBottom" fmla="*/ 262800 h 280800"/>
            </a:gdLst>
            <a:ahLst/>
            <a:rect l="textAreaLeft" t="textAreaTop" r="textAreaRight" b="textAreaBottom"/>
            <a:pathLst>
              <a:path w="33327" h="21600">
                <a:moveTo>
                  <a:pt x="0" y="0"/>
                </a:moveTo>
                <a:lnTo>
                  <a:pt x="33327" y="0"/>
                </a:lnTo>
                <a:lnTo>
                  <a:pt x="33327" y="21600"/>
                </a:lnTo>
                <a:lnTo>
                  <a:pt x="0" y="21600"/>
                </a:lnTo>
                <a:close/>
              </a:path>
              <a:path fill="lightenLess" w="33327" h="21600">
                <a:moveTo>
                  <a:pt x="0" y="0"/>
                </a:moveTo>
                <a:lnTo>
                  <a:pt x="33327" y="0"/>
                </a:lnTo>
                <a:lnTo>
                  <a:pt x="31927" y="1400"/>
                </a:lnTo>
                <a:lnTo>
                  <a:pt x="1400" y="1400"/>
                </a:lnTo>
                <a:close/>
              </a:path>
              <a:path fill="darken" w="33327" h="21600">
                <a:moveTo>
                  <a:pt x="33327" y="0"/>
                </a:moveTo>
                <a:lnTo>
                  <a:pt x="33327" y="21600"/>
                </a:lnTo>
                <a:lnTo>
                  <a:pt x="31927" y="20200"/>
                </a:lnTo>
                <a:lnTo>
                  <a:pt x="31927" y="1400"/>
                </a:lnTo>
                <a:close/>
              </a:path>
              <a:path fill="darkenLess" w="33327" h="21600">
                <a:moveTo>
                  <a:pt x="33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27" y="20200"/>
                </a:lnTo>
                <a:close/>
              </a:path>
              <a:path fill="lighten" w="33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27" h="21600">
                <a:moveTo>
                  <a:pt x="9657" y="3794"/>
                </a:moveTo>
                <a:lnTo>
                  <a:pt x="23670" y="10800"/>
                </a:lnTo>
                <a:lnTo>
                  <a:pt x="9657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Calibri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6553440" cy="4038480"/>
          </a:xfrm>
          <a:prstGeom prst="rect">
            <a:avLst/>
          </a:prstGeom>
          <a:solidFill>
            <a:srgbClr val="6699ff">
              <a:alpha val="7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.ч., 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ственное – нарицатель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ушевленное – неодушев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4"/>
          <p:cNvGrpSpPr/>
          <p:nvPr/>
        </p:nvGrpSpPr>
        <p:grpSpPr>
          <a:xfrm>
            <a:off x="1752480" y="4876920"/>
            <a:ext cx="1524240" cy="609480"/>
            <a:chOff x="1752480" y="4876920"/>
            <a:chExt cx="1524240" cy="609480"/>
          </a:xfrm>
        </p:grpSpPr>
        <p:sp>
          <p:nvSpPr>
            <p:cNvPr id="548" name="Line 5"/>
            <p:cNvSpPr/>
            <p:nvPr/>
          </p:nvSpPr>
          <p:spPr>
            <a:xfrm>
              <a:off x="1752480" y="487692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>
              <a:off x="1752480" y="518148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7"/>
            <p:cNvSpPr/>
            <p:nvPr/>
          </p:nvSpPr>
          <p:spPr>
            <a:xfrm>
              <a:off x="1752480" y="54864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AutoShape 8"/>
          <p:cNvSpPr/>
          <p:nvPr/>
        </p:nvSpPr>
        <p:spPr>
          <a:xfrm>
            <a:off x="2286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10" descr="ARK1"/>
          <p:cNvPicPr/>
          <p:nvPr/>
        </p:nvPicPr>
        <p:blipFill>
          <a:blip r:embed="rId1"/>
          <a:stretch/>
        </p:blipFill>
        <p:spPr>
          <a:xfrm>
            <a:off x="0" y="228600"/>
            <a:ext cx="1728720" cy="10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-4680" y="152280"/>
            <a:ext cx="49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обобщения и систематизации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-2520" y="2209680"/>
            <a:ext cx="405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развития пространствен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ображен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-2880" y="3657600"/>
            <a:ext cx="365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развития ассоциатив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логического мыш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-1440" y="5105520"/>
            <a:ext cx="413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развития зрительной памя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орфографической зорк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184440" y="5410080"/>
            <a:ext cx="29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imes New Roman"/>
              </a:rPr>
              <a:t>Развитие зритель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imes New Roman"/>
              </a:rPr>
              <a:t>и слухового восприя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707880" y="0"/>
            <a:ext cx="22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сты для контро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 проверки  зн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5">
            <a:hlinkClick r:id="rId2" action="ppaction://hlinksldjump"/>
          </p:cNvPr>
          <p:cNvSpPr/>
          <p:nvPr/>
        </p:nvSpPr>
        <p:spPr>
          <a:xfrm>
            <a:off x="228600" y="9144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6">
            <a:hlinkClick r:id="rId3" action="ppaction://hlinksldjump"/>
          </p:cNvPr>
          <p:cNvSpPr/>
          <p:nvPr/>
        </p:nvSpPr>
        <p:spPr>
          <a:xfrm>
            <a:off x="228600" y="3124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9">
            <a:hlinkClick r:id="rId4" action="ppaction://hlinksldjump"/>
          </p:cNvPr>
          <p:cNvSpPr/>
          <p:nvPr/>
        </p:nvSpPr>
        <p:spPr>
          <a:xfrm>
            <a:off x="228600" y="45720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0">
            <a:hlinkClick r:id="rId5" action="ppaction://hlinksldjump"/>
          </p:cNvPr>
          <p:cNvSpPr/>
          <p:nvPr/>
        </p:nvSpPr>
        <p:spPr>
          <a:xfrm>
            <a:off x="228600" y="601992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-1800" y="1371600"/>
            <a:ext cx="37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отработки техники чт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2">
            <a:hlinkClick r:id="rId6" action="ppaction://hlinksldjump"/>
          </p:cNvPr>
          <p:cNvSpPr/>
          <p:nvPr/>
        </p:nvSpPr>
        <p:spPr>
          <a:xfrm>
            <a:off x="228600" y="18288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3">
            <a:hlinkClick r:id="rId7" action="ppaction://hlinksldjump"/>
          </p:cNvPr>
          <p:cNvSpPr/>
          <p:nvPr/>
        </p:nvSpPr>
        <p:spPr>
          <a:xfrm>
            <a:off x="6934320" y="61722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7301"/>
                </a:moveTo>
                <a:lnTo>
                  <a:pt x="12782" y="7301"/>
                </a:lnTo>
                <a:lnTo>
                  <a:pt x="13165" y="7667"/>
                </a:lnTo>
                <a:lnTo>
                  <a:pt x="22373" y="7667"/>
                </a:lnTo>
                <a:lnTo>
                  <a:pt x="22930" y="8224"/>
                </a:lnTo>
                <a:lnTo>
                  <a:pt x="22930" y="8772"/>
                </a:lnTo>
                <a:lnTo>
                  <a:pt x="24776" y="8772"/>
                </a:lnTo>
                <a:lnTo>
                  <a:pt x="25141" y="8224"/>
                </a:lnTo>
                <a:lnTo>
                  <a:pt x="25881" y="8224"/>
                </a:lnTo>
                <a:lnTo>
                  <a:pt x="25881" y="13376"/>
                </a:lnTo>
                <a:lnTo>
                  <a:pt x="25141" y="13376"/>
                </a:lnTo>
                <a:lnTo>
                  <a:pt x="24776" y="12828"/>
                </a:lnTo>
                <a:lnTo>
                  <a:pt x="22930" y="12828"/>
                </a:lnTo>
                <a:lnTo>
                  <a:pt x="22930" y="14107"/>
                </a:lnTo>
                <a:lnTo>
                  <a:pt x="13348" y="14107"/>
                </a:lnTo>
                <a:lnTo>
                  <a:pt x="13348" y="9877"/>
                </a:lnTo>
                <a:lnTo>
                  <a:pt x="13165" y="9877"/>
                </a:lnTo>
                <a:lnTo>
                  <a:pt x="12782" y="10243"/>
                </a:lnTo>
                <a:lnTo>
                  <a:pt x="11868" y="10243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Литер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24">
            <a:hlinkClick r:id="rId8" action="ppaction://hlinksldjump"/>
          </p:cNvPr>
          <p:cNvSpPr/>
          <p:nvPr/>
        </p:nvSpPr>
        <p:spPr>
          <a:xfrm>
            <a:off x="7620120" y="61722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7301"/>
                </a:moveTo>
                <a:lnTo>
                  <a:pt x="12782" y="7301"/>
                </a:lnTo>
                <a:lnTo>
                  <a:pt x="13165" y="7667"/>
                </a:lnTo>
                <a:lnTo>
                  <a:pt x="22373" y="7667"/>
                </a:lnTo>
                <a:lnTo>
                  <a:pt x="22930" y="8224"/>
                </a:lnTo>
                <a:lnTo>
                  <a:pt x="22930" y="8772"/>
                </a:lnTo>
                <a:lnTo>
                  <a:pt x="24776" y="8772"/>
                </a:lnTo>
                <a:lnTo>
                  <a:pt x="25141" y="8224"/>
                </a:lnTo>
                <a:lnTo>
                  <a:pt x="25881" y="8224"/>
                </a:lnTo>
                <a:lnTo>
                  <a:pt x="25881" y="13376"/>
                </a:lnTo>
                <a:lnTo>
                  <a:pt x="25141" y="13376"/>
                </a:lnTo>
                <a:lnTo>
                  <a:pt x="24776" y="12828"/>
                </a:lnTo>
                <a:lnTo>
                  <a:pt x="22930" y="12828"/>
                </a:lnTo>
                <a:lnTo>
                  <a:pt x="22930" y="14107"/>
                </a:lnTo>
                <a:lnTo>
                  <a:pt x="13348" y="14107"/>
                </a:lnTo>
                <a:lnTo>
                  <a:pt x="13348" y="9877"/>
                </a:lnTo>
                <a:lnTo>
                  <a:pt x="13165" y="9877"/>
                </a:lnTo>
                <a:lnTo>
                  <a:pt x="12782" y="10243"/>
                </a:lnTo>
                <a:lnTo>
                  <a:pt x="11868" y="102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Окр.ми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25">
            <a:hlinkClick r:id="rId9" action="ppaction://hlinksldjump"/>
          </p:cNvPr>
          <p:cNvSpPr/>
          <p:nvPr/>
        </p:nvSpPr>
        <p:spPr>
          <a:xfrm>
            <a:off x="8305920" y="61722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7301"/>
                </a:moveTo>
                <a:lnTo>
                  <a:pt x="15482" y="7301"/>
                </a:lnTo>
                <a:lnTo>
                  <a:pt x="15865" y="7667"/>
                </a:lnTo>
                <a:lnTo>
                  <a:pt x="25073" y="7667"/>
                </a:lnTo>
                <a:lnTo>
                  <a:pt x="25630" y="8224"/>
                </a:lnTo>
                <a:lnTo>
                  <a:pt x="25630" y="8772"/>
                </a:lnTo>
                <a:lnTo>
                  <a:pt x="27476" y="8772"/>
                </a:lnTo>
                <a:lnTo>
                  <a:pt x="27841" y="8224"/>
                </a:lnTo>
                <a:lnTo>
                  <a:pt x="28581" y="8224"/>
                </a:lnTo>
                <a:lnTo>
                  <a:pt x="28581" y="13376"/>
                </a:lnTo>
                <a:lnTo>
                  <a:pt x="27841" y="13376"/>
                </a:lnTo>
                <a:lnTo>
                  <a:pt x="27476" y="12828"/>
                </a:lnTo>
                <a:lnTo>
                  <a:pt x="25630" y="12828"/>
                </a:lnTo>
                <a:lnTo>
                  <a:pt x="25630" y="14107"/>
                </a:lnTo>
                <a:lnTo>
                  <a:pt x="16048" y="14107"/>
                </a:lnTo>
                <a:lnTo>
                  <a:pt x="16048" y="9877"/>
                </a:lnTo>
                <a:lnTo>
                  <a:pt x="15865" y="9877"/>
                </a:lnTo>
                <a:lnTo>
                  <a:pt x="15482" y="10243"/>
                </a:lnTo>
                <a:lnTo>
                  <a:pt x="14568" y="102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26">
            <a:hlinkClick r:id="rId10" action="ppaction://hlinksldjump"/>
          </p:cNvPr>
          <p:cNvSpPr/>
          <p:nvPr/>
        </p:nvSpPr>
        <p:spPr>
          <a:xfrm>
            <a:off x="6248520" y="61722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7301"/>
                </a:moveTo>
                <a:lnTo>
                  <a:pt x="12782" y="7301"/>
                </a:lnTo>
                <a:lnTo>
                  <a:pt x="13165" y="7667"/>
                </a:lnTo>
                <a:lnTo>
                  <a:pt x="22373" y="7667"/>
                </a:lnTo>
                <a:lnTo>
                  <a:pt x="22930" y="8224"/>
                </a:lnTo>
                <a:lnTo>
                  <a:pt x="22930" y="8772"/>
                </a:lnTo>
                <a:lnTo>
                  <a:pt x="24776" y="8772"/>
                </a:lnTo>
                <a:lnTo>
                  <a:pt x="25141" y="8224"/>
                </a:lnTo>
                <a:lnTo>
                  <a:pt x="25881" y="8224"/>
                </a:lnTo>
                <a:lnTo>
                  <a:pt x="25881" y="13376"/>
                </a:lnTo>
                <a:lnTo>
                  <a:pt x="25141" y="13376"/>
                </a:lnTo>
                <a:lnTo>
                  <a:pt x="24776" y="12828"/>
                </a:lnTo>
                <a:lnTo>
                  <a:pt x="22930" y="12828"/>
                </a:lnTo>
                <a:lnTo>
                  <a:pt x="22930" y="14107"/>
                </a:lnTo>
                <a:lnTo>
                  <a:pt x="13348" y="14107"/>
                </a:lnTo>
                <a:lnTo>
                  <a:pt x="13348" y="9877"/>
                </a:lnTo>
                <a:lnTo>
                  <a:pt x="13165" y="9877"/>
                </a:lnTo>
                <a:lnTo>
                  <a:pt x="12782" y="10243"/>
                </a:lnTo>
                <a:lnTo>
                  <a:pt x="11868" y="102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Музе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27">
            <a:hlinkClick r:id="rId11" action="ppaction://hlinksldjump"/>
          </p:cNvPr>
          <p:cNvSpPr/>
          <p:nvPr/>
        </p:nvSpPr>
        <p:spPr>
          <a:xfrm>
            <a:off x="5943600" y="152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8">
            <a:hlinkClick r:id="rId12" action="ppaction://hlinksldjump"/>
          </p:cNvPr>
          <p:cNvSpPr/>
          <p:nvPr/>
        </p:nvSpPr>
        <p:spPr>
          <a:xfrm>
            <a:off x="8305920" y="48006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8406"/>
                </a:moveTo>
                <a:lnTo>
                  <a:pt x="16298" y="8406"/>
                </a:lnTo>
                <a:lnTo>
                  <a:pt x="20720" y="3794"/>
                </a:lnTo>
                <a:lnTo>
                  <a:pt x="20720" y="17806"/>
                </a:lnTo>
                <a:lnTo>
                  <a:pt x="16298" y="13194"/>
                </a:lnTo>
                <a:lnTo>
                  <a:pt x="11868" y="13194"/>
                </a:lnTo>
                <a:close/>
              </a:path>
              <a:path fill="darken" w="37749" h="21600">
                <a:moveTo>
                  <a:pt x="22373" y="10800"/>
                </a:moveTo>
                <a:lnTo>
                  <a:pt x="25881" y="10800"/>
                </a:lnTo>
              </a:path>
              <a:path fill="darken" w="37749" h="21600">
                <a:moveTo>
                  <a:pt x="22373" y="8406"/>
                </a:moveTo>
                <a:lnTo>
                  <a:pt x="25881" y="5639"/>
                </a:lnTo>
              </a:path>
              <a:path fill="darken" w="37749" h="21600">
                <a:moveTo>
                  <a:pt x="22373" y="13194"/>
                </a:moveTo>
                <a:lnTo>
                  <a:pt x="25881" y="15961"/>
                </a:lnTo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Ауди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9">
            <a:hlinkClick r:id="rId13" action="ppaction://hlinksldjump"/>
          </p:cNvPr>
          <p:cNvSpPr/>
          <p:nvPr/>
        </p:nvSpPr>
        <p:spPr>
          <a:xfrm>
            <a:off x="5867280" y="20574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22386" y="10800"/>
                </a:moveTo>
                <a:lnTo>
                  <a:pt x="11881" y="17806"/>
                </a:lnTo>
                <a:lnTo>
                  <a:pt x="11881" y="3794"/>
                </a:lnTo>
                <a:close/>
              </a:path>
              <a:path fill="darken" w="37775" h="21600">
                <a:moveTo>
                  <a:pt x="24231" y="3794"/>
                </a:moveTo>
                <a:lnTo>
                  <a:pt x="24231" y="17806"/>
                </a:lnTo>
                <a:lnTo>
                  <a:pt x="25894" y="17806"/>
                </a:lnTo>
                <a:lnTo>
                  <a:pt x="25894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Результа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858000" cy="1143000"/>
          </a:xfrm>
          <a:prstGeom prst="rect">
            <a:avLst/>
          </a:prstGeom>
          <a:solidFill>
            <a:srgbClr val="6699ff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Calibri"/>
              </a:rPr>
              <a:t>НЕОПРЕДЕЛЁННАЯ ФОРМА</a:t>
            </a: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Calibri"/>
              </a:rPr>
              <a:t>ГЛАГ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4038480" cy="2768400"/>
          </a:xfrm>
          <a:prstGeom prst="rect">
            <a:avLst/>
          </a:prstGeom>
          <a:solidFill>
            <a:srgbClr val="6699ff">
              <a:alpha val="5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УЛЯ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ДЕВА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Ь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8320" y="2614680"/>
            <a:ext cx="4038480" cy="2179440"/>
          </a:xfrm>
          <a:prstGeom prst="rect">
            <a:avLst/>
          </a:prstGeom>
          <a:solidFill>
            <a:srgbClr val="6699ff">
              <a:alpha val="5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СЛЫША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ГЛЯДЕ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Ь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5"/>
          <p:cNvSpPr/>
          <p:nvPr/>
        </p:nvSpPr>
        <p:spPr>
          <a:xfrm flipH="1">
            <a:off x="1908000" y="1844640"/>
            <a:ext cx="194328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6"/>
          <p:cNvSpPr/>
          <p:nvPr/>
        </p:nvSpPr>
        <p:spPr>
          <a:xfrm>
            <a:off x="3851280" y="1844640"/>
            <a:ext cx="1944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4356000" y="1268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ффиксы: ТЬ, ТИ, Ч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8"/>
          <p:cNvSpPr/>
          <p:nvPr/>
        </p:nvSpPr>
        <p:spPr>
          <a:xfrm>
            <a:off x="304920" y="6248520"/>
            <a:ext cx="431640" cy="228600"/>
          </a:xfrm>
          <a:custGeom>
            <a:avLst/>
            <a:gdLst>
              <a:gd name="textAreaLeft" fmla="*/ 14760 w 431640"/>
              <a:gd name="textAreaRight" fmla="*/ 416880 w 4316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0755" h="21600">
                <a:moveTo>
                  <a:pt x="0" y="0"/>
                </a:moveTo>
                <a:lnTo>
                  <a:pt x="40755" y="0"/>
                </a:lnTo>
                <a:lnTo>
                  <a:pt x="40755" y="21600"/>
                </a:lnTo>
                <a:lnTo>
                  <a:pt x="0" y="21600"/>
                </a:lnTo>
                <a:close/>
              </a:path>
              <a:path fill="lightenLess" w="40755" h="21600">
                <a:moveTo>
                  <a:pt x="0" y="0"/>
                </a:moveTo>
                <a:lnTo>
                  <a:pt x="40755" y="0"/>
                </a:lnTo>
                <a:lnTo>
                  <a:pt x="39355" y="1400"/>
                </a:lnTo>
                <a:lnTo>
                  <a:pt x="1400" y="1400"/>
                </a:lnTo>
                <a:close/>
              </a:path>
              <a:path fill="darken" w="40755" h="21600">
                <a:moveTo>
                  <a:pt x="40755" y="0"/>
                </a:moveTo>
                <a:lnTo>
                  <a:pt x="40755" y="21600"/>
                </a:lnTo>
                <a:lnTo>
                  <a:pt x="39355" y="20200"/>
                </a:lnTo>
                <a:lnTo>
                  <a:pt x="39355" y="1400"/>
                </a:lnTo>
                <a:close/>
              </a:path>
              <a:path fill="darkenLess" w="40755" h="21600">
                <a:moveTo>
                  <a:pt x="4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55" y="20200"/>
                </a:lnTo>
                <a:close/>
              </a:path>
              <a:path fill="lighten" w="4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55" h="21600">
                <a:moveTo>
                  <a:pt x="13371" y="10800"/>
                </a:moveTo>
                <a:lnTo>
                  <a:pt x="27384" y="3794"/>
                </a:lnTo>
                <a:lnTo>
                  <a:pt x="2738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0"/>
          <p:cNvSpPr/>
          <p:nvPr/>
        </p:nvSpPr>
        <p:spPr>
          <a:xfrm>
            <a:off x="533520" y="4876920"/>
            <a:ext cx="1368360" cy="577800"/>
          </a:xfrm>
          <a:prstGeom prst="downArrowCallout">
            <a:avLst>
              <a:gd name="adj1" fmla="val 59211"/>
              <a:gd name="adj2" fmla="val 59206"/>
              <a:gd name="adj3" fmla="val 16667"/>
              <a:gd name="adj4" fmla="val 66667"/>
            </a:avLst>
          </a:prstGeom>
          <a:solidFill>
            <a:srgbClr val="eeece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- 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1"/>
          <p:cNvSpPr/>
          <p:nvPr/>
        </p:nvSpPr>
        <p:spPr>
          <a:xfrm>
            <a:off x="4191120" y="4800600"/>
            <a:ext cx="3384360" cy="1058760"/>
          </a:xfrm>
          <a:prstGeom prst="downArrowCallout">
            <a:avLst>
              <a:gd name="adj1" fmla="val 79921"/>
              <a:gd name="adj2" fmla="val 79913"/>
              <a:gd name="adj3" fmla="val 16667"/>
              <a:gd name="adj4" fmla="val 6666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-ать, - ять, еть, - ы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- оть, - у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2"/>
          <p:cNvSpPr/>
          <p:nvPr/>
        </p:nvSpPr>
        <p:spPr>
          <a:xfrm>
            <a:off x="539640" y="5445000"/>
            <a:ext cx="1440000" cy="720720"/>
          </a:xfrm>
          <a:prstGeom prst="wedgeEllipseCallout">
            <a:avLst>
              <a:gd name="adj1" fmla="val 106337"/>
              <a:gd name="adj2" fmla="val 38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сп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3"/>
          <p:cNvSpPr/>
          <p:nvPr/>
        </p:nvSpPr>
        <p:spPr>
          <a:xfrm>
            <a:off x="5219640" y="5877000"/>
            <a:ext cx="1366920" cy="647640"/>
          </a:xfrm>
          <a:prstGeom prst="wedgeEllipseCallout">
            <a:avLst>
              <a:gd name="adj1" fmla="val 120152"/>
              <a:gd name="adj2" fmla="val -218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сп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2628720" y="56563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5"/>
          <p:cNvSpPr/>
          <p:nvPr/>
        </p:nvSpPr>
        <p:spPr>
          <a:xfrm>
            <a:off x="7380360" y="580536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7"/>
          <p:cNvSpPr/>
          <p:nvPr/>
        </p:nvSpPr>
        <p:spPr>
          <a:xfrm>
            <a:off x="8458200" y="6248520"/>
            <a:ext cx="539640" cy="250560"/>
          </a:xfrm>
          <a:custGeom>
            <a:avLst/>
            <a:gdLst>
              <a:gd name="textAreaLeft" fmla="*/ 16200 w 539640"/>
              <a:gd name="textAreaRight" fmla="*/ 523440 w 53964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46485" h="21600">
                <a:moveTo>
                  <a:pt x="0" y="0"/>
                </a:moveTo>
                <a:lnTo>
                  <a:pt x="46485" y="0"/>
                </a:lnTo>
                <a:lnTo>
                  <a:pt x="46485" y="21600"/>
                </a:lnTo>
                <a:lnTo>
                  <a:pt x="0" y="21600"/>
                </a:lnTo>
                <a:close/>
              </a:path>
              <a:path fill="lightenLess" w="46485" h="21600">
                <a:moveTo>
                  <a:pt x="0" y="0"/>
                </a:moveTo>
                <a:lnTo>
                  <a:pt x="46485" y="0"/>
                </a:lnTo>
                <a:lnTo>
                  <a:pt x="45085" y="1400"/>
                </a:lnTo>
                <a:lnTo>
                  <a:pt x="1400" y="1400"/>
                </a:lnTo>
                <a:close/>
              </a:path>
              <a:path fill="darken" w="46485" h="21600">
                <a:moveTo>
                  <a:pt x="46485" y="0"/>
                </a:moveTo>
                <a:lnTo>
                  <a:pt x="46485" y="21600"/>
                </a:lnTo>
                <a:lnTo>
                  <a:pt x="45085" y="20200"/>
                </a:lnTo>
                <a:lnTo>
                  <a:pt x="45085" y="1400"/>
                </a:lnTo>
                <a:close/>
              </a:path>
              <a:path fill="darkenLess" w="46485" h="21600">
                <a:moveTo>
                  <a:pt x="4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85" y="20200"/>
                </a:lnTo>
                <a:close/>
              </a:path>
              <a:path fill="lighten" w="4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85" h="21600">
                <a:moveTo>
                  <a:pt x="26741" y="10800"/>
                </a:moveTo>
                <a:lnTo>
                  <a:pt x="16236" y="17806"/>
                </a:lnTo>
                <a:lnTo>
                  <a:pt x="16236" y="3794"/>
                </a:lnTo>
                <a:close/>
              </a:path>
              <a:path fill="darken" w="46485" h="21600">
                <a:moveTo>
                  <a:pt x="28587" y="3794"/>
                </a:moveTo>
                <a:lnTo>
                  <a:pt x="28587" y="17806"/>
                </a:lnTo>
                <a:lnTo>
                  <a:pt x="30249" y="17806"/>
                </a:lnTo>
                <a:lnTo>
                  <a:pt x="30249" y="379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18" descr="ARK1"/>
          <p:cNvPicPr/>
          <p:nvPr/>
        </p:nvPicPr>
        <p:blipFill>
          <a:blip r:embed="rId1"/>
          <a:stretch/>
        </p:blipFill>
        <p:spPr>
          <a:xfrm>
            <a:off x="0" y="228600"/>
            <a:ext cx="1728720" cy="10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, нач.к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Номер слайд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C0C4-3497-4E48-93AF-0950CC372B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Дат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2"/>
          <p:cNvSpPr txBox="1"/>
          <p:nvPr/>
        </p:nvSpPr>
        <p:spPr>
          <a:xfrm>
            <a:off x="611280" y="404640"/>
            <a:ext cx="1439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3"/>
          <p:cNvSpPr txBox="1"/>
          <p:nvPr/>
        </p:nvSpPr>
        <p:spPr>
          <a:xfrm>
            <a:off x="611280" y="3500280"/>
            <a:ext cx="1439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4932360" y="404640"/>
            <a:ext cx="1297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WordArt 5"/>
          <p:cNvSpPr txBox="1"/>
          <p:nvPr/>
        </p:nvSpPr>
        <p:spPr>
          <a:xfrm>
            <a:off x="5003640" y="404640"/>
            <a:ext cx="1295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6"/>
          <p:cNvSpPr txBox="1"/>
          <p:nvPr/>
        </p:nvSpPr>
        <p:spPr>
          <a:xfrm>
            <a:off x="5003640" y="404640"/>
            <a:ext cx="13669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WordArt 7"/>
          <p:cNvSpPr txBox="1"/>
          <p:nvPr/>
        </p:nvSpPr>
        <p:spPr>
          <a:xfrm>
            <a:off x="5003640" y="404640"/>
            <a:ext cx="1513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8"/>
          <p:cNvSpPr txBox="1"/>
          <p:nvPr/>
        </p:nvSpPr>
        <p:spPr>
          <a:xfrm>
            <a:off x="4859280" y="3500280"/>
            <a:ext cx="144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9"/>
          <p:cNvSpPr txBox="1"/>
          <p:nvPr/>
        </p:nvSpPr>
        <p:spPr>
          <a:xfrm>
            <a:off x="4932360" y="3500280"/>
            <a:ext cx="144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ё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10"/>
          <p:cNvSpPr txBox="1"/>
          <p:nvPr/>
        </p:nvSpPr>
        <p:spPr>
          <a:xfrm>
            <a:off x="4932360" y="3500280"/>
            <a:ext cx="1512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ю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WordArt 11"/>
          <p:cNvSpPr txBox="1"/>
          <p:nvPr/>
        </p:nvSpPr>
        <p:spPr>
          <a:xfrm>
            <a:off x="4932360" y="3500280"/>
            <a:ext cx="144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WordArt 12"/>
          <p:cNvSpPr txBox="1"/>
          <p:nvPr/>
        </p:nvSpPr>
        <p:spPr>
          <a:xfrm>
            <a:off x="4932360" y="3500280"/>
            <a:ext cx="144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Picture 13" descr="j0301252"/>
          <p:cNvPicPr/>
          <p:nvPr/>
        </p:nvPicPr>
        <p:blipFill>
          <a:blip r:embed="rId1"/>
          <a:stretch/>
        </p:blipFill>
        <p:spPr>
          <a:xfrm>
            <a:off x="7313760" y="0"/>
            <a:ext cx="1830240" cy="1565280"/>
          </a:xfrm>
          <a:prstGeom prst="rect">
            <a:avLst/>
          </a:prstGeom>
          <a:ln w="0">
            <a:noFill/>
          </a:ln>
        </p:spPr>
      </p:pic>
      <p:sp>
        <p:nvSpPr>
          <p:cNvPr id="207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8534520" y="6272280"/>
            <a:ext cx="457200" cy="357120"/>
          </a:xfrm>
          <a:custGeom>
            <a:avLst/>
            <a:gdLst>
              <a:gd name="textAreaLeft" fmla="*/ 23040 w 457200"/>
              <a:gd name="textAreaRight" fmla="*/ 434160 w 4572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6247" y="1400"/>
                </a:lnTo>
                <a:lnTo>
                  <a:pt x="1400" y="1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6247" y="20200"/>
                </a:lnTo>
                <a:lnTo>
                  <a:pt x="26247" y="1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7" y="20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47" h="21600">
                <a:moveTo>
                  <a:pt x="6817" y="3794"/>
                </a:moveTo>
                <a:lnTo>
                  <a:pt x="20830" y="10800"/>
                </a:lnTo>
                <a:lnTo>
                  <a:pt x="6817" y="17806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17"/>
          <p:cNvSpPr/>
          <p:nvPr/>
        </p:nvSpPr>
        <p:spPr>
          <a:xfrm>
            <a:off x="14400" y="0"/>
            <a:ext cx="3186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тработки навыка чтения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3.33333E-006 L -0.2993 -3.33333E-006 E">
                                      <p:cBhvr>
                                        <p:cTn id="171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L -0.31492 0.00023 E">
                                      <p:cBhvr>
                                        <p:cTn id="187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3.33333E-006 L -0.31493 -3.33333E-006 E">
                                      <p:cBhvr>
                                        <p:cTn id="203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2.96296E-006 L -0.31494 2.96296E-006 E">
                                      <p:cBhvr>
                                        <p:cTn id="21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22222E-006 L -0.29914 -2.22222E-006 E">
                                      <p:cBhvr>
                                        <p:cTn id="235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1 8.14815E-006 L -0.30713 8.14815E-006 E">
                                      <p:cBhvr>
                                        <p:cTn id="25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1.11111E-005 L -0.2915 1.11111E-005 E">
                                      <p:cBhvr>
                                        <p:cTn id="267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2222E-005 6.2963E-006 L -0.29931 6.2963E-006 E">
                                      <p:cBhvr>
                                        <p:cTn id="283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0.00024 L -0.29914 0.00024 E">
                                      <p:cBhvr>
                                        <p:cTn id="299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0" y="0"/>
            <a:ext cx="655164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468360" y="620640"/>
            <a:ext cx="655164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1116000" y="1197000"/>
            <a:ext cx="6480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2268360" y="2205000"/>
            <a:ext cx="65516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ыс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1835280" y="476280"/>
            <a:ext cx="6551640" cy="587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4" name="Picture 9" descr="c_md_wht-1"/>
          <p:cNvPicPr/>
          <p:nvPr/>
        </p:nvPicPr>
        <p:blipFill>
          <a:blip r:embed="rId1"/>
          <a:stretch/>
        </p:blipFill>
        <p:spPr>
          <a:xfrm>
            <a:off x="8101080" y="0"/>
            <a:ext cx="514440" cy="765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c_md_wht-1"/>
          <p:cNvPicPr/>
          <p:nvPr/>
        </p:nvPicPr>
        <p:blipFill>
          <a:blip r:embed="rId2"/>
          <a:stretch/>
        </p:blipFill>
        <p:spPr>
          <a:xfrm>
            <a:off x="8675640" y="404640"/>
            <a:ext cx="468360" cy="3337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10">
            <a:hlinkClick r:id="" action="ppaction://hlinkshowjump?jump=nextslide"/>
          </p:cNvPr>
          <p:cNvSpPr/>
          <p:nvPr/>
        </p:nvSpPr>
        <p:spPr>
          <a:xfrm>
            <a:off x="8458200" y="6324480"/>
            <a:ext cx="533520" cy="370080"/>
          </a:xfrm>
          <a:custGeom>
            <a:avLst/>
            <a:gdLst>
              <a:gd name="textAreaLeft" fmla="*/ 23760 w 533520"/>
              <a:gd name="textAreaRight" fmla="*/ 509760 w 533520"/>
              <a:gd name="textAreaTop" fmla="*/ 23760 h 370080"/>
              <a:gd name="textAreaBottom" fmla="*/ 346320 h 370080"/>
            </a:gdLst>
            <a:ahLst/>
            <a:rect l="textAreaLeft" t="textAreaTop" r="textAreaRight" b="textAreaBottom"/>
            <a:pathLst>
              <a:path w="31130" h="21600">
                <a:moveTo>
                  <a:pt x="0" y="0"/>
                </a:moveTo>
                <a:lnTo>
                  <a:pt x="31130" y="0"/>
                </a:lnTo>
                <a:lnTo>
                  <a:pt x="31130" y="21600"/>
                </a:lnTo>
                <a:lnTo>
                  <a:pt x="0" y="21600"/>
                </a:lnTo>
                <a:close/>
              </a:path>
              <a:path fill="lightenLess" w="31130" h="21600">
                <a:moveTo>
                  <a:pt x="0" y="0"/>
                </a:moveTo>
                <a:lnTo>
                  <a:pt x="31130" y="0"/>
                </a:lnTo>
                <a:lnTo>
                  <a:pt x="29730" y="1400"/>
                </a:lnTo>
                <a:lnTo>
                  <a:pt x="1400" y="1400"/>
                </a:lnTo>
                <a:close/>
              </a:path>
              <a:path fill="darken" w="31130" h="21600">
                <a:moveTo>
                  <a:pt x="31130" y="0"/>
                </a:moveTo>
                <a:lnTo>
                  <a:pt x="31130" y="21600"/>
                </a:lnTo>
                <a:lnTo>
                  <a:pt x="29730" y="20200"/>
                </a:lnTo>
                <a:lnTo>
                  <a:pt x="29730" y="1400"/>
                </a:lnTo>
                <a:close/>
              </a:path>
              <a:path fill="darkenLess" w="31130" h="21600">
                <a:moveTo>
                  <a:pt x="31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0" y="20200"/>
                </a:lnTo>
                <a:close/>
              </a:path>
              <a:path fill="lighten" w="31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0" h="21600">
                <a:moveTo>
                  <a:pt x="8559" y="3794"/>
                </a:moveTo>
                <a:lnTo>
                  <a:pt x="22571" y="10800"/>
                </a:lnTo>
                <a:lnTo>
                  <a:pt x="8559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Прочти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395280" y="1484280"/>
            <a:ext cx="4032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7"/>
          <p:cNvSpPr txBox="1"/>
          <p:nvPr/>
        </p:nvSpPr>
        <p:spPr>
          <a:xfrm>
            <a:off x="5076720" y="1484280"/>
            <a:ext cx="3816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395280" y="1484280"/>
            <a:ext cx="4103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WordArt 9"/>
          <p:cNvSpPr txBox="1"/>
          <p:nvPr/>
        </p:nvSpPr>
        <p:spPr>
          <a:xfrm>
            <a:off x="5076720" y="1484280"/>
            <a:ext cx="35989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WordArt 11"/>
          <p:cNvSpPr txBox="1"/>
          <p:nvPr/>
        </p:nvSpPr>
        <p:spPr>
          <a:xfrm>
            <a:off x="324000" y="1557360"/>
            <a:ext cx="4176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WordArt 12"/>
          <p:cNvSpPr txBox="1"/>
          <p:nvPr/>
        </p:nvSpPr>
        <p:spPr>
          <a:xfrm>
            <a:off x="4932360" y="1484280"/>
            <a:ext cx="421164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4" name="WordArt 13"/>
          <p:cNvSpPr txBox="1"/>
          <p:nvPr/>
        </p:nvSpPr>
        <p:spPr>
          <a:xfrm>
            <a:off x="395280" y="1557360"/>
            <a:ext cx="4032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ы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WordArt 14"/>
          <p:cNvSpPr txBox="1"/>
          <p:nvPr/>
        </p:nvSpPr>
        <p:spPr>
          <a:xfrm>
            <a:off x="5003640" y="1484280"/>
            <a:ext cx="3889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WordArt 15"/>
          <p:cNvSpPr txBox="1"/>
          <p:nvPr/>
        </p:nvSpPr>
        <p:spPr>
          <a:xfrm>
            <a:off x="468360" y="1557360"/>
            <a:ext cx="4105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WordArt 16"/>
          <p:cNvSpPr txBox="1"/>
          <p:nvPr/>
        </p:nvSpPr>
        <p:spPr>
          <a:xfrm>
            <a:off x="5003640" y="1484280"/>
            <a:ext cx="3889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8" name="AutoShape 14">
            <a:hlinkClick r:id="rId1" action="ppaction://hlinksldjump"/>
          </p:cNvPr>
          <p:cNvSpPr/>
          <p:nvPr/>
        </p:nvSpPr>
        <p:spPr>
          <a:xfrm>
            <a:off x="8458200" y="64008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48" nodeType="after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500"/>
                            </p:stCondLst>
                            <p:childTnLst>
                              <p:par>
                                <p:cTn id="4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000"/>
                            </p:stCondLst>
                            <p:childTnLst>
                              <p:par>
                                <p:cTn id="4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500"/>
                            </p:stCondLst>
                            <p:childTnLst>
                              <p:par>
                                <p:cTn id="475" nodeType="after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8500"/>
                            </p:stCondLst>
                            <p:childTnLst>
                              <p:par>
                                <p:cTn id="4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9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500"/>
                            </p:stCondLst>
                            <p:childTnLst>
                              <p:par>
                                <p:cTn id="502" nodeType="after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3132000" y="692280"/>
            <a:ext cx="28083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324000" y="692280"/>
            <a:ext cx="2160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6156360" y="765000"/>
            <a:ext cx="21607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324000" y="692280"/>
            <a:ext cx="2160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324000" y="692280"/>
            <a:ext cx="230328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9"/>
          <p:cNvSpPr txBox="1"/>
          <p:nvPr/>
        </p:nvSpPr>
        <p:spPr>
          <a:xfrm>
            <a:off x="395280" y="692280"/>
            <a:ext cx="2232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324000" y="692280"/>
            <a:ext cx="23032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11"/>
          <p:cNvSpPr txBox="1"/>
          <p:nvPr/>
        </p:nvSpPr>
        <p:spPr>
          <a:xfrm>
            <a:off x="6156360" y="765000"/>
            <a:ext cx="223200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1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2"/>
          <p:cNvSpPr txBox="1"/>
          <p:nvPr/>
        </p:nvSpPr>
        <p:spPr>
          <a:xfrm>
            <a:off x="6084720" y="765000"/>
            <a:ext cx="2303640" cy="554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1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3"/>
          <p:cNvSpPr txBox="1"/>
          <p:nvPr/>
        </p:nvSpPr>
        <p:spPr>
          <a:xfrm>
            <a:off x="6300720" y="765000"/>
            <a:ext cx="2232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14"/>
          <p:cNvSpPr txBox="1"/>
          <p:nvPr/>
        </p:nvSpPr>
        <p:spPr>
          <a:xfrm>
            <a:off x="6156360" y="765000"/>
            <a:ext cx="23032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AutoShape 14">
            <a:hlinkClick r:id="" action="ppaction://hlinkshowjump?jump=nextslide"/>
          </p:cNvPr>
          <p:cNvSpPr/>
          <p:nvPr/>
        </p:nvSpPr>
        <p:spPr>
          <a:xfrm>
            <a:off x="8405640" y="6400800"/>
            <a:ext cx="509760" cy="304920"/>
          </a:xfrm>
          <a:custGeom>
            <a:avLst/>
            <a:gdLst>
              <a:gd name="textAreaLeft" fmla="*/ 19440 w 509760"/>
              <a:gd name="textAreaRight" fmla="*/ 490320 w 509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6093" h="21600">
                <a:moveTo>
                  <a:pt x="0" y="0"/>
                </a:moveTo>
                <a:lnTo>
                  <a:pt x="36093" y="0"/>
                </a:lnTo>
                <a:lnTo>
                  <a:pt x="36093" y="21600"/>
                </a:lnTo>
                <a:lnTo>
                  <a:pt x="0" y="21600"/>
                </a:lnTo>
                <a:close/>
              </a:path>
              <a:path fill="lightenLess" w="36093" h="21600">
                <a:moveTo>
                  <a:pt x="0" y="0"/>
                </a:moveTo>
                <a:lnTo>
                  <a:pt x="36093" y="0"/>
                </a:lnTo>
                <a:lnTo>
                  <a:pt x="34693" y="1400"/>
                </a:lnTo>
                <a:lnTo>
                  <a:pt x="1400" y="1400"/>
                </a:lnTo>
                <a:close/>
              </a:path>
              <a:path fill="darken" w="36093" h="21600">
                <a:moveTo>
                  <a:pt x="36093" y="0"/>
                </a:moveTo>
                <a:lnTo>
                  <a:pt x="36093" y="21600"/>
                </a:lnTo>
                <a:lnTo>
                  <a:pt x="34693" y="20200"/>
                </a:lnTo>
                <a:lnTo>
                  <a:pt x="34693" y="1400"/>
                </a:lnTo>
                <a:close/>
              </a:path>
              <a:path fill="darkenLess" w="36093" h="21600">
                <a:moveTo>
                  <a:pt x="36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93" y="20200"/>
                </a:lnTo>
                <a:close/>
              </a:path>
              <a:path fill="lighten" w="36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93" h="21600">
                <a:moveTo>
                  <a:pt x="11040" y="3794"/>
                </a:moveTo>
                <a:lnTo>
                  <a:pt x="25053" y="10800"/>
                </a:lnTo>
                <a:lnTo>
                  <a:pt x="1104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5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9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ижний колонтитул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учитель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омер слайда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6802-ED6F-404F-9203-5BDEE7B0BD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Дат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7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Быстро и чётко читай столбики слов с буквой </a:t>
            </a:r>
            <a:r>
              <a:rPr b="1" lang="ru-RU" sz="3400" spc="-1" strike="noStrike" u="sng">
                <a:solidFill>
                  <a:srgbClr val="ffffff"/>
                </a:solidFill>
                <a:uFillTx/>
                <a:latin typeface="Arial"/>
              </a:rPr>
              <a:t>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43520" cy="4530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6000"/>
          </a:bodyPr>
          <a:p>
            <a:pPr marL="29484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р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р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р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нт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3811680" cy="4530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а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8"/>
          <p:cNvSpPr txBox="1"/>
          <p:nvPr/>
        </p:nvSpPr>
        <p:spPr>
          <a:xfrm rot="5400000">
            <a:off x="-504360" y="3033000"/>
            <a:ext cx="431964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1f497d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1f497d"/>
              </a:solidFill>
              <a:latin typeface="Arial"/>
              <a:ea typeface="Arial"/>
            </a:endParaRPr>
          </a:p>
        </p:txBody>
      </p:sp>
      <p:sp>
        <p:nvSpPr>
          <p:cNvPr id="248" name="WordArt 11"/>
          <p:cNvSpPr txBox="1"/>
          <p:nvPr/>
        </p:nvSpPr>
        <p:spPr>
          <a:xfrm rot="5400000">
            <a:off x="3744720" y="3105000"/>
            <a:ext cx="4319640" cy="165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1f497d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1f497d"/>
              </a:solidFill>
              <a:latin typeface="Arial"/>
              <a:ea typeface="Arial"/>
            </a:endParaRPr>
          </a:p>
        </p:txBody>
      </p:sp>
      <p:sp>
        <p:nvSpPr>
          <p:cNvPr id="249" name="AutoShape 11">
            <a:hlinkClick r:id="" action="ppaction://hlinkshowjump?jump=nextslide"/>
          </p:cNvPr>
          <p:cNvSpPr/>
          <p:nvPr/>
        </p:nvSpPr>
        <p:spPr>
          <a:xfrm>
            <a:off x="8458200" y="624852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4000"/>
                            </p:stCondLst>
                            <p:childTnLst>
                              <p:par>
                                <p:cTn id="6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000"/>
                            </p:stCondLst>
                            <p:childTnLst>
                              <p:par>
                                <p:cTn id="6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6500"/>
                            </p:stCondLst>
                            <p:childTnLst>
                              <p:par>
                                <p:cTn id="6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ижний колонтитул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учитель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Номер слайд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80F9-1E3E-476F-A1AB-C942DFDB21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Дат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7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Быстро и чётко читай столбики сл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4648320" y="1447920"/>
            <a:ext cx="216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е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ес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ещ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ест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4752720" y="1447920"/>
            <a:ext cx="22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дол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дру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роз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кач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4743000" y="1447920"/>
            <a:ext cx="2292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зво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дол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дру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згля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WordArt 14"/>
          <p:cNvSpPr txBox="1"/>
          <p:nvPr/>
        </p:nvSpPr>
        <p:spPr>
          <a:xfrm rot="5400000">
            <a:off x="804600" y="2471400"/>
            <a:ext cx="4495680" cy="24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8" name="WordArt 12"/>
          <p:cNvSpPr txBox="1"/>
          <p:nvPr/>
        </p:nvSpPr>
        <p:spPr>
          <a:xfrm>
            <a:off x="1905120" y="1828800"/>
            <a:ext cx="24382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9" name="AutoShape 14">
            <a:hlinkClick r:id="rId1" action="ppaction://hlinksldjump"/>
          </p:cNvPr>
          <p:cNvSpPr/>
          <p:nvPr/>
        </p:nvSpPr>
        <p:spPr>
          <a:xfrm>
            <a:off x="228600" y="601992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5411" y="10800"/>
                </a:moveTo>
                <a:lnTo>
                  <a:pt x="25916" y="3794"/>
                </a:lnTo>
                <a:lnTo>
                  <a:pt x="25916" y="17806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13565" y="3794"/>
                </a:lnTo>
                <a:lnTo>
                  <a:pt x="13565" y="17806"/>
                </a:lnTo>
                <a:lnTo>
                  <a:pt x="1190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950"/>
                            </p:stCondLst>
                            <p:childTnLst>
                              <p:par>
                                <p:cTn id="7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950"/>
                            </p:stCondLst>
                            <p:childTnLst>
                              <p:par>
                                <p:cTn id="7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950"/>
                            </p:stCondLst>
                            <p:childTnLst>
                              <p:par>
                                <p:cTn id="7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450"/>
                            </p:stCondLst>
                            <p:childTnLst>
                              <p:par>
                                <p:cTn id="7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950"/>
                            </p:stCondLst>
                            <p:childTnLst>
                              <p:par>
                                <p:cTn id="7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950"/>
                            </p:stCondLst>
                            <p:childTnLst>
                              <p:par>
                                <p:cTn id="7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6450"/>
                            </p:stCondLst>
                            <p:childTnLst>
                              <p:par>
                                <p:cTn id="7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6950"/>
                            </p:stCondLst>
                            <p:childTnLst>
                              <p:par>
                                <p:cTn id="7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450"/>
                            </p:stCondLst>
                            <p:childTnLst>
                              <p:par>
                                <p:cTn id="7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450"/>
                            </p:stCondLst>
                            <p:childTnLst>
                              <p:par>
                                <p:cTn id="8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8950"/>
                            </p:stCondLst>
                            <p:childTnLst>
                              <p:par>
                                <p:cTn id="8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945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950"/>
                            </p:stCondLst>
                            <p:childTnLst>
                              <p:par>
                                <p:cTn id="8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4-01-28T04:41:28Z</dcterms:modified>
  <cp:revision>115</cp:revision>
  <dc:subject/>
  <dc:title>Слайд 1</dc:title>
</cp:coreProperties>
</file>