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76EB-2F0B-40B4-A4B9-0153A394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809B-F295-42EC-A0E0-575985AF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645A-6A7D-4F40-8415-8BD1CCF25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E8A6-C2CE-4DFA-8BF5-E2D0E630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778E-DEBE-41C3-B796-2E6E4D0A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F240-BF55-46F8-A117-79323780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5B3B-16DA-4725-AAF6-2A15A294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EC3D-8555-40BD-9F7A-71D43F55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AF1C-90EE-41E0-BB9E-5B118B7E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FFD3-95CB-46B0-BFBC-D95AC95D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86B6-BD82-4051-A7C1-246AC5E3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C56E-8D5F-4E99-8A59-ADBA8F57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81FD-63B6-42A1-BAEA-86865FAA63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iographer.ru/biographies/144.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38894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рцева Ольга Владимировн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-психолог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лификационная категор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№5» г. Усть-Или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66920" y="4941720"/>
            <a:ext cx="460836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нисюк Лариса Серафим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лификационная категор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№5» г. Усть-Или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SL375905"/>
          <p:cNvPicPr/>
          <p:nvPr/>
        </p:nvPicPr>
        <p:blipFill>
          <a:blip r:embed="rId1"/>
          <a:stretch/>
        </p:blipFill>
        <p:spPr>
          <a:xfrm>
            <a:off x="1116000" y="1700280"/>
            <a:ext cx="2160720" cy="4176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IMG_2306"/>
          <p:cNvPicPr/>
          <p:nvPr/>
        </p:nvPicPr>
        <p:blipFill>
          <a:blip r:embed="rId2"/>
          <a:stretch/>
        </p:blipFill>
        <p:spPr>
          <a:xfrm>
            <a:off x="5867280" y="333360"/>
            <a:ext cx="218124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Эрнестина Дёрнберг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810 – 189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00680" y="6215040"/>
            <a:ext cx="47145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Эрнестина Пфеффель, вторая жена поэта. Художник Ф. Дюрк. Начало 1840-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4200" y="785520"/>
            <a:ext cx="35006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839 год 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– Тютчев женится на баронессе Дернгейм. В этом же году за самовольный отъезд в Швейцарию (чтобы заключить брак) он отставлен со службы и лишен звания камергера. Тютчев с женой переезжают в Мюнхе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3786120" y="214200"/>
            <a:ext cx="5108760" cy="5853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57400" y="5929200"/>
            <a:ext cx="507204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рнестина Дёрнберг. Литография Г. Бодмера с портрета работы Й. Штилера. Мюнхен. 183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840" y="285840"/>
            <a:ext cx="36435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Люблю глаза твои, мой друг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С игрой их пламенно-чудесной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Когда их приподымешь вдруг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И, словно молнией небесной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Окинешь бегло целый круг… Но есть сильней очарованья: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Глаза потупленные ниц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В минуты страстного лобзанья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И сквозь опущенных ресниц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Угрюмый, тусклый огнь желань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000680" y="285840"/>
            <a:ext cx="4933800" cy="5852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освящается Эрнестине Тютчевой. 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(Некоторые исследователи творчества Тютчева считают, что стихи посвящены 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Е. Денисьевой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00720" y="1213920"/>
            <a:ext cx="46432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на сидела на полу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груду писем разбирала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, как остывшую золу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рала их в руки и бросала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рала знакомые листы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чудно так на них глядела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ак души смотрят с высоты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На ими брошенное тело.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, сколько жизни было тут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Невозвратимо пережитой!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, сколько горестных минут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Любви и радости убитой!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оял я молча в стороне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пасть готов был на колени,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страшно грустно стало мне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ак от присущей милой те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214200" y="1571760"/>
            <a:ext cx="4324320" cy="4357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28760" y="5500440"/>
            <a:ext cx="364356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рнестина Федоровна Тютчева. Петербург. Фото 186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840" y="642600"/>
            <a:ext cx="4429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е знаю я, коснется ль благод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Моей души болезненно-греховно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Удастся ль ей воскреснуть и восстат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ройдет ли обморок духовны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о если бы душа мог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Здесь, на земле, найти успокоень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Мне благодатью ты б была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Ты, ты, мое земное провидень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4857840" y="714240"/>
            <a:ext cx="3990960" cy="47628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857240" y="285840"/>
            <a:ext cx="5214960" cy="5214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13880" y="5643720"/>
            <a:ext cx="7572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рнестина Федоровна Тютчева (справа) с дочерью Марией Федоровно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етербург. Фото 186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712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Елена Денисьева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826 – 186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6840" y="428760"/>
            <a:ext cx="82580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В 1850  начинается сближение Тютчева с  Денисьевой. Она училась в  Смольном институте с дочерьми Тютчева. Всей душой  они полюбили друг друга и четырнадцать лет открыто были связаны узами гражданского брака и двумя детьми. В глазах высшего света петербургского света их открытая связь была вызывающе скандальной, причем вся тяжесть осуждения пала на плечи Денисьевой. С официальной своей семьей Тютчев не порывал, тем не менее в гостиных Петербурга и окрестностей его нещадно поносили - ему не могли простить этот роман на стороне, потому что здесь была подлинная страсть, не таимая от света, отличавшаяся постоянством. На  Денисьеву было воздвигнуто общественное гонение. Трудны и тяжелы были для Тютчева и сцены, нередко происходившие между ним и Денисьевой. Мы знаем о ней мало, помимо стихов, посвященных ей Тютчевым. Отрывочные сведения, дошедшие до нас, рисуют нам Денисьеву с чертами иных героинь Достоевского, душевно растерзанных, способных к самым мрачным выходк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1640" y="6071760"/>
            <a:ext cx="414324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Е.А. Денисьева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ото начала 1860-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57120" y="285480"/>
            <a:ext cx="4143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«Денисьевский» цикл - это собрание стихотворений Ф.И. Тютчева, в которых говорится о его любви к Елене Денисьевой. Отношения поэта с Денисьевой были более чем драматичными, однако продолжались в течение четырнадцати лет. Общество с трудом мирилось с их связью: во-первых, Тютчев был женат, во-вторых, возлюбленная годилась ему в дочери. Но, несмотря ни на что, отношения продолжались.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4714920" y="214200"/>
            <a:ext cx="3987720" cy="5853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785840" y="6000840"/>
            <a:ext cx="37148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Е.И. Денисьева с дочерью Еленой Тютчевой. Фото 1862–186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4500720" y="285840"/>
            <a:ext cx="4438440" cy="57150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3"/>
          <p:cNvSpPr/>
          <p:nvPr/>
        </p:nvSpPr>
        <p:spPr>
          <a:xfrm>
            <a:off x="285840" y="642960"/>
            <a:ext cx="4071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раз ты слышала признанье: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Не стою я любви твоей".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ускай мое она созданье -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 как я беден перед ней… Перед любовию твоею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не больно вспомнить о себе -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ою, молчу, благоговею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поклоняюся тебе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гда, порой, так умиленно,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такою верой и мольбой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вольно клонишь ты колено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 колыбелью дорого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де спит она - твое рожденье -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вой безымянный херувим, -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йми ж и ты мое смиренье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 сердцем любящим твоим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85840" y="428760"/>
            <a:ext cx="36432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«Нежней мы любим и суеверней…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Любовная лирика Тютчев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4071960" y="357120"/>
            <a:ext cx="4819680" cy="5715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4"/>
          <p:cNvSpPr/>
          <p:nvPr/>
        </p:nvSpPr>
        <p:spPr>
          <a:xfrm>
            <a:off x="5365440" y="6072120"/>
            <a:ext cx="255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Ф.И. Тютч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Художник М. Решетн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021_V.S.O. - With You I'm Born Again.mp3" descr=""/>
          <p:cNvPicPr/>
          <p:nvPr/>
        </p:nvPicPr>
        <p:blipFill>
          <a:blip r:embed="rId2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7965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6160" y="6214680"/>
            <a:ext cx="450072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Е.И. Денисьева.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Художник Иванов. 1850-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56760" y="500040"/>
            <a:ext cx="37148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О, как на склоне наших лет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Нежней мы любим и суеверней…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Сияй, сияй, прощальный свет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Любви последней, зари вечерней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олнеба обхватила тень,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Лишь там, на западе, бродит сиянье, -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омедли, помедли, вечерний день,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родлись, продлись очаровань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ускай скудеет в жилах кровь,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Но в сердце не скудеет нежность…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О ты, последняя любовь!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Ты и блаженство и безнадеж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4214880" y="285840"/>
            <a:ext cx="4556160" cy="5852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Амалия фон Лерхенфельд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808 – 1888)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57800" y="5214600"/>
            <a:ext cx="40003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Амалия Адлерберг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Художник А. Цебенс. 186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4200" y="214200"/>
            <a:ext cx="35719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Весной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1823 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года Тютчев влюбился в совсем ещё юную Амалию фон Лерхенфельд. Амалия лишь считалась дочерью видного мюнхенского дипломата графа Максимилиана фон Лерхенфельд-Кеферинга. На самом деле она была внебрачной дочерью прусского короля Фридриха-Вильгельма III и княгини Турн-и-Таксис (и являлась, таким образом, побочной сестрой другой дочери этого короля-русской императрицы Александры Федоровны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3786120" y="1214280"/>
            <a:ext cx="5111640" cy="3808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500040"/>
            <a:ext cx="83296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Королевская дочь, ослепительной красоты, Амалия явно стремилась добиться как можно более высокого положения в обществе. И это ей удалось. За время отъезда Тютчева в отпуск Амалия обвенчалась с его сослуживцем, бароном Александром Сергеевичем Крюндером. Неизвестно, когда точно Тютчев узнал о свадьбе Амалии, но легко представить себе его тогдашнюю боль и отчаянье. Шли годы, и в 1870 г. Тютчеву довелось вновь встретить уже и немолодую Амалию Максимилиановну в Карсбаде, куда поэт приехал лечиться.. Тогда-то и было написано стихотворение «Я встретил вас…». Но, несмотря на обиды, взаимоотношения Амалии с Тютчевым продолжались целых полвека, несмотря на то, что он был женат на другой, он посвятил ей стих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00680" y="6143760"/>
            <a:ext cx="47145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.И. Тютчев.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Неизвестный художник. 1819–18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14200" y="142920"/>
            <a:ext cx="37864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Я помню время золотое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Я помню сердцу милый край.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День вечерел; мы были двое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Внизу, в тени, шумел Дунай. И на холму, там, где, белея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Руина замка вдаль глядит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Стояла ты, младая фея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а мшистый опершись гранит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огой младенческой касаясь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Обломков груды вековой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солнце медлило, прощаясь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С холмом, и с замком, и тобо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ветер тихий мимолетом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Твоей одеждою играл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с диких яблонь цвет за цветом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а плечи юные свева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Ты беззаботно вдаль глядела…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Край неба дымно гас в лучах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День догорал; звучнее пела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Река в померкших берега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ты с веселостью беспечной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Счастливый провожала день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сладко жизни быстротечной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ад нами пролетала тен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071960" y="285840"/>
            <a:ext cx="4857840" cy="5852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0440" y="47145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Амалия Крюденер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отография с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ортрета маслом работы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художника И.Штилера. 1838 г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5572080" y="514440"/>
            <a:ext cx="3214800" cy="4265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213840" y="285840"/>
            <a:ext cx="535788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вой милый взор, невинной страсти полный,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Златой рассвет небесных чувств твоих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Не мог - увы! умилостивить их -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н служит им укорою безмолвн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Сии сердца, в которых правды нет,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ни, о друг, бегут, как приговора,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воей любви младенческого взора.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н страшен им, как память детских ле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Но для меня сей взор благодеянье;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Как жизни ключ, в душевной глубине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вой взор живет и будет жить во мне: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н нужен ей, как небо и дыхань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аков горе - духов блаженный свет;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Лишь в небесах сияет он, небесный;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В ночи греха, на дне ужасной бездны,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Сей чистый огнь, как пламень адский, жжет.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285840"/>
            <a:ext cx="40384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. Б.</a:t>
            </a:r>
            <a:br>
              <a:rPr sz="24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Я встретил вас - и все былое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 отжившем сердце ожило;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Я вспомнил время золотое 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сердцу стало так тепло.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ак поздней осени порою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ывают дни, бывает час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огда повеет вдруг весною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что-то встрепенется в нас,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ак, весь обвеян духовеньем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ех лет душевной полноты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 давно забытым упоеньем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мотрю на милые черты.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ак после вековой разлуки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Гляжу на вас, как бы во сне,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вот - слышнее стали звуки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Не умолкавшие во мне.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ут не одно воспоминанье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ут жизнь заговорила вновь,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то же в нас очарованье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та ж в душе моей любовь!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4643280" y="500040"/>
            <a:ext cx="4286520" cy="5786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6840" y="285480"/>
            <a:ext cx="368604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Нам не дано предугадать,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Как слово наше отзовется, -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И нам сочувствие дается,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Как нам дается благода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4357800" y="357120"/>
            <a:ext cx="4500360" cy="6143760"/>
          </a:xfrm>
          <a:prstGeom prst="rect">
            <a:avLst/>
          </a:prstGeom>
          <a:ln w="0">
            <a:noFill/>
          </a:ln>
        </p:spPr>
      </p:pic>
      <p:pic>
        <p:nvPicPr>
          <p:cNvPr id="108" name="kb_romans.mp3" descr=""/>
          <p:cNvPicPr/>
          <p:nvPr/>
        </p:nvPicPr>
        <p:blipFill>
          <a:blip r:embed="rId2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8848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14200" y="1214280"/>
            <a:ext cx="38577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е то, что мните вы, природ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е слепок, не бездушный лик 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 ней есть душа, в ней есть свобод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 ней есть любовь, в ней есть язык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200480" y="357120"/>
            <a:ext cx="4756320" cy="5500800"/>
          </a:xfrm>
          <a:prstGeom prst="rect">
            <a:avLst/>
          </a:prstGeom>
          <a:ln w="0">
            <a:noFill/>
          </a:ln>
        </p:spPr>
      </p:pic>
      <p:pic>
        <p:nvPicPr>
          <p:cNvPr id="111" name="025_Dinu Radu - Einsame Hirte.mp3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77319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Анализ лирики в старших классах: 10-11/ И.Е.Каплан.-М.: Экзамен, 200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Литература учит: 10кл.: книга для учащихся. М.: Просвещение, 199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Поурочные разработки по литературе 19 в. 10 кл. М.:Вако, 20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http://window.edu.ru/window_catalog/redir?id=28079&amp;file=prosv016.pd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Технологии успеха. 1001 совет школьнику/ И.Л.Добротворский. М.:ВЛАДОС,20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.Исцеляющий цвет/ Г.Сташевская.- СПб.:ИК «Комплект», 199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.  "Арт-Терапия в подготовке специалистов помогающих профессий"/В.Л.Кокоренко.- СПб.: Речь,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42920" y="357120"/>
            <a:ext cx="46432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Выдающимся явлением в русской и мировой литературе была любовная лирика Тютчева, отличающаяся глубиной мысли, поэтической силой в передаче человеческих чувств и ярко индивидуализированным лирическим образом женщины, любящей “наперекор и людям, и судьбе” .</a:t>
            </a: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5000760" y="571680"/>
            <a:ext cx="3857400" cy="5429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Элеонора Петерсон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799 – 1838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57800" y="6143400"/>
            <a:ext cx="457200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леонора Ботмер, первая жена Ф.И. Тютчева. Миниатюра И. Щелера. 1830-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4200" y="214200"/>
            <a:ext cx="35006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826 год – 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Тютчев женится на графине Ботмер. Их семью посещает вся баварская интеллигенция. Тютчев переводит на русский язык стихотворение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Гейне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 «С чужой стороны». Перевод произведения назывался «Сосны» и годом позже был напечатан в «Аонидах». Известно также, что Федор Иванович спорил с немецким философом Шеллинг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4214880" y="214200"/>
            <a:ext cx="4641840" cy="5853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47960" y="213840"/>
            <a:ext cx="43527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Это был во многих отношениях необычный, странный брак. Двадцатидвухлетний Тютчев тайно обвенчался с совсем недавно овдовевшей женщиной, матерью четырёх сыновей в возрасте от одного до семи лет, к тому же с женщиной на четыре года старше. Еще и через два года многие в Мюнхене, по свидетельству Генриха Гейне, не знали об этой свадьбе. «Серьёзные умственные запросы были ей чужды», но однако бесконечна очаровательная, обаятельная - писал биограф поэта К.В. Пигарев об Элеонор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14200" y="785880"/>
            <a:ext cx="4038840" cy="50594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8"/>
          <p:cNvSpPr/>
          <p:nvPr/>
        </p:nvSpPr>
        <p:spPr>
          <a:xfrm>
            <a:off x="285840" y="5929200"/>
            <a:ext cx="428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Ф.И. Тютчев. Неизвестный художник. 18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648320" y="285840"/>
            <a:ext cx="42098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Можно предположить, что Тютчев решился на женитьбу главным образом ради спасения от мук и унижения, вызванных утратой истинной своей возлюбленной. Но, так или иначе, Тютчев не совершил ошибки. Элеонора беспредельно полюбила его. Она сумела создать уютный и гостеприимный дом. Тютчев прожил с Элеонорой 12 лет. От этого брака у него было три дочери: Анна, Дарья, Екатерина.</a:t>
            </a:r>
            <a:r>
              <a:rPr b="1" lang="ru-RU" sz="23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642960" y="642960"/>
            <a:ext cx="368928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5"/>
          <p:cNvSpPr/>
          <p:nvPr/>
        </p:nvSpPr>
        <p:spPr>
          <a:xfrm>
            <a:off x="214200" y="55008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Ф.И. Тютчев. Неизвестный художни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8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42920" y="6072120"/>
            <a:ext cx="392940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леонора Тютчева, первая жена поэта. Художник И. Штилер. 1830-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4643280" y="142920"/>
            <a:ext cx="4013280" cy="58532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3840" y="785520"/>
            <a:ext cx="4357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Ещё томлюсь тоской желани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Ещё стремлюсь к тебе душой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И в сумраке воспомин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Ещё ловлю я образ твой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Твой милый образ, незабвенны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Он предо мной везде, всегд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Недостижимый, неизменны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Как ночью на небе звезда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18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214960" y="6072120"/>
            <a:ext cx="32860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.И. Тютчев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Художник И. Рехберг. 183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3840" y="214200"/>
            <a:ext cx="44290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часы, когда бывает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Так тяжко на груди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сердце изнывает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тьма лишь впереди;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Без сил и без движенья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Мы так удручены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Что даже утешенья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Друзей нам не смешны, –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друг солнца луч приветный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ойдет украдкой к нам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брызнет огнецветной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труею по стенам;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с тверди благосклонной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 лазуревых высот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друг воздух благовонный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окно на нас пахнет...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Уроков и советов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Они нам не несут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от судьбы наветов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Они нас не спасут.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Но силу их мы чуем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х слышим благодать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меньше мы тоскуем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легче нам дышать...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Так мило-благодатна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оздушна и светла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Душе моей стократно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Любовь твоя была.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(1858)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дор Иванович Тютчев, 1838 год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4857840" y="357120"/>
            <a:ext cx="3781440" cy="5591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08:18:47Z</dcterms:created>
  <dc:creator>Илья</dc:creator>
  <dc:description>rusedu.ru</dc:description>
  <dc:language>en-US</dc:language>
  <cp:lastModifiedBy>Слава</cp:lastModifiedBy>
  <dcterms:modified xsi:type="dcterms:W3CDTF">2011-12-04T14:29:20Z</dcterms:modified>
  <cp:revision>146</cp:revision>
  <dc:subject/>
  <dc:title>Биография Тютчева</dc:title>
</cp:coreProperties>
</file>