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8470-8BF1-4906-A72F-4E97B01B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306F-EF34-48CD-9E7A-A4EE7A17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0996-6579-474A-B764-DE830B05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81C-532C-4017-A264-1D7406F4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C41-0ABF-42F1-B904-DC8C64B8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39C-F8DF-4701-8804-F8083329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CD7-A61D-4D5D-A183-E2E76BDB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759-6228-45EC-85EC-594E7DCE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F10E-6FB0-42BC-9B7B-2FEFBC6C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DD50-1DE4-4E7C-8033-AA0DB4BD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BA7-3AE5-4A29-85F8-754404BF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5C94-B80E-46E9-B37C-2C9F4720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4BA9-AC1D-4B0D-B5C2-E697A932E8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iographer.ru/biographies/144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3889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цева Ольга Владимировн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-психолог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66920" y="4941720"/>
            <a:ext cx="46083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исюк Лариса Серафим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SL375905"/>
          <p:cNvPicPr/>
          <p:nvPr/>
        </p:nvPicPr>
        <p:blipFill>
          <a:blip r:embed="rId1"/>
          <a:stretch/>
        </p:blipFill>
        <p:spPr>
          <a:xfrm>
            <a:off x="1116000" y="1700280"/>
            <a:ext cx="2160720" cy="417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IMG_2306"/>
          <p:cNvPicPr/>
          <p:nvPr/>
        </p:nvPicPr>
        <p:blipFill>
          <a:blip r:embed="rId2"/>
          <a:stretch/>
        </p:blipFill>
        <p:spPr>
          <a:xfrm>
            <a:off x="5867280" y="333360"/>
            <a:ext cx="218124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рнестина Дёрнберг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10 – 189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00680" y="6215040"/>
            <a:ext cx="47145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Эрнестина Пфеффель, вторая жена поэта. Художник Ф. Дюрк. Начало 1840-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4200" y="785520"/>
            <a:ext cx="35006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39 год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– Тютчев женится на баронессе Дернгейм. В этом же году за самовольный отъезд в Швейцарию (чтобы заключить брак) он отставлен со службы и лишен звания камергера. Тютчев с женой переезжают в Мюнх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10876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57400" y="5929200"/>
            <a:ext cx="50720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Дёрнберг. Литография Г. Бодмера с портрета работы Й. Штилера. Мюнхен. 183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840" y="285840"/>
            <a:ext cx="36435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Люблю глаза твои, мой друг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С игрой их пламенно-чудесной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Когда их приподымешь вдруг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, словно молнией небесной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Окинешь бегло целый круг… Но есть сильней очарованья: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Глаза потупленные ниц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В минуты страстного лобзанья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 сквозь опущенных ресниц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Угрюмый, тусклый огнь желань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000680" y="285840"/>
            <a:ext cx="493380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свящается Эрнестине Тютчевой.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(Некоторые исследователи творчества Тютчева считают, что стихи посвящены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Е. Денисьев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720" y="1213920"/>
            <a:ext cx="4643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на сидела на полу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груду писем разбирала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, как остывшую золу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рала их в руки и бросала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рала знакомые лист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чудно так на них глядела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души смотрят с высот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а ими брошенное тело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, сколько жизни было тут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возвратимо пережитой!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, сколько горестных минут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юбви и радости убитой!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оял я молча в сторон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пасть готов был на колени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страшно грустно стало мн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от присущей милой те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4324320" cy="4357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28760" y="5500440"/>
            <a:ext cx="36435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Федоровна Тютчева. Петербург. Фото 186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840" y="642600"/>
            <a:ext cx="4429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е знаю я, коснется ль благод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оей души болезненно-греховн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дастся ль ей воскреснуть и восста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йдет ли обморок духовны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о если бы душа мог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десь, на земле, найти успокоень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не благодатью ты б была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Ты, ты, мое земное провиден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857840" y="714240"/>
            <a:ext cx="3990960" cy="4762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857240" y="285840"/>
            <a:ext cx="5214960" cy="521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13880" y="5643720"/>
            <a:ext cx="7572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Федоровна Тютчева (справа) с дочерью Марией Федоровн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етербург. Фото 186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712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Елена Денисьева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26 – 186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684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 1850  начинается сближение Тютчева с  Денисьевой. Она училась в  Смольном институте с дочерьми Тютчева. Всей душой  они полюбили друг друга и четырнадцать лет открыто были связаны узами гражданского брака и двумя детьми. В глазах высшего света петербургского света их открытая связь была вызывающе скандальной, причем вся тяжесть осуждения пала на плечи Денисьевой. С официальной своей семьей Тютчев не порывал, тем не менее в гостиных Петербурга и окрестностей его нещадно поносили - ему не могли простить этот роман на стороне, потому что здесь была подлинная страсть, не таимая от света, отличавшаяся постоянством. На  Денисьеву было воздвигнуто общественное гонение. Трудны и тяжелы были для Тютчева и сцены, нередко происходившие между ним и Денисьевой. Мы знаем о ней мало, помимо стихов, посвященных ей Тютчевым. Отрывочные сведения, дошедшие до нас, рисуют нам Денисьеву с чертами иных героинь Достоевского, душевно растерзанных, способных к самым мрачным выходк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1640" y="6071760"/>
            <a:ext cx="414324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А. Денисьева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то начала 1860-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7120" y="285480"/>
            <a:ext cx="4143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«Денисьевский» цикл - это собрание стихотворений Ф.И. Тютчева, в которых говорится о его любви к Елене Денисьевой. Отношения поэта с Денисьевой были более чем драматичными, однако продолжались в течение четырнадцати лет. Общество с трудом мирилось с их связью: во-первых, Тютчев был женат, во-вторых, возлюбленная годилась ему в дочери. Но, несмотря ни на что, отношения продолжались.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4714920" y="214200"/>
            <a:ext cx="398772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785840" y="6000840"/>
            <a:ext cx="3714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И. Денисьева с дочерью Еленой Тютчевой. Фото 1862–186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443844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3"/>
          <p:cNvSpPr/>
          <p:nvPr/>
        </p:nvSpPr>
        <p:spPr>
          <a:xfrm>
            <a:off x="285840" y="642960"/>
            <a:ext cx="4071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раз ты слышала признанье: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Не стою я любви твоей".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скай мое она создань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 как я беден перед ней… Перед любовию твоею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е больно вспомнить о себ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ою, молчу, благоговею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поклоняюся тебе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гда, порой, так умиленно,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такою верой и мольбой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вольно клонишь ты колено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 колыбелью дорог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 спит она - твое рождень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й безымянный херувим,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йми ж и ты мое смиренье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 сердцем любящим твои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85840" y="428760"/>
            <a:ext cx="36432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«Нежней мы любим и суеверней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Любовная лирика Тютче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071960" y="357120"/>
            <a:ext cx="481968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5365440" y="6072120"/>
            <a:ext cx="25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Художник М. Решетн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021_V.S.O. - With You I'm Born Again.mp3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96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6160" y="6214680"/>
            <a:ext cx="45007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И. Денисьева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Художник Иванов. 185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6760" y="500040"/>
            <a:ext cx="37148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О, как на склоне наших лет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ежней мы любим и суеверней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Сияй, сияй, прощальный свет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юбви последней, зари вечерней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олнеба обхватила тен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ишь там, на западе, бродит сиянье, -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омедли, помедли, вечерний ден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родлись, продлись очаровань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ускай скудеет в жилах кров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о в сердце не скудеет нежность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О ты, последняя любовь!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Ты и блаженство и безнадеж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214880" y="285840"/>
            <a:ext cx="455616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малия фон Лерхенфельд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08 – 1888)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57800" y="5214600"/>
            <a:ext cx="40003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малия Адлерберг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 А. Цебенс. 186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4200" y="214200"/>
            <a:ext cx="35719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есной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823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года Тютчев влюбился в совсем ещё юную Амалию фон Лерхенфельд. Амалия лишь считалась дочерью видного мюнхенского дипломата графа Максимилиана фон Лерхенфельд-Кеферинга. На самом деле она была внебрачной дочерью прусского короля Фридриха-Вильгельма III и княгини Турн-и-Таксис (и являлась, таким образом, побочной сестрой другой дочери этого короля-русской императрицы Александры Федоровны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786120" y="1214280"/>
            <a:ext cx="5111640" cy="3808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500040"/>
            <a:ext cx="83296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Королевская дочь, ослепительной красоты, Амалия явно стремилась добиться как можно более высокого положения в обществе. И это ей удалось. За время отъезда Тютчева в отпуск Амалия обвенчалась с его сослуживцем, бароном Александром Сергеевичем Крюндером. Неизвестно, когда точно Тютчев узнал о свадьбе Амалии, но легко представить себе его тогдашнюю боль и отчаянье. Шли годы, и в 1870 г. Тютчеву довелось вновь встретить уже и немолодую Амалию Максимилиановну в Карсбаде, куда поэт приехал лечиться.. Тогда-то и было написано стихотворение «Я встретил вас…». Но, несмотря на обиды, взаимоотношения Амалии с Тютчевым продолжались целых полвека, несмотря на то, что он был женат на другой, он посвятил ей стих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00680" y="6143760"/>
            <a:ext cx="47145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.И. Тютчев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Неизвестный художник. 1819–18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4200" y="142920"/>
            <a:ext cx="3786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Я помню время золотое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Я помню сердцу милый край.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нь вечерел; мы были двое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Внизу, в тени, шумел Дунай. И на холму, там, где, белея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уина замка вдаль глядит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тояла ты, младая фея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 мшистый опершись грани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огой младенческой касаяс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Обломков груды вековой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олнце медлило, прощаяс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 холмом, и с замком, и тоб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ветер тихий мимолетом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воей одеждою играл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 диких яблонь цвет за цветом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 плечи юные свева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ы беззаботно вдаль глядела…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Край неба дымно гас в лучах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нь догорал; звучнее пела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ека в померкших берег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ты с веселостью беспечной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частливый провожала день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ладко жизни быстротечной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д нами пролетала тен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071960" y="285840"/>
            <a:ext cx="485784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0440" y="47145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малия Крюденер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тография с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ртрета маслом работы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а И.Штилера. 1838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572080" y="514440"/>
            <a:ext cx="3214800" cy="4265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13840" y="285840"/>
            <a:ext cx="535788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й милый взор, невинной страсти полный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Златой рассвет небесных чувств твоих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Не мог - увы! умилостивить их -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служит им укорою безмолв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ии сердца, в которых правды нет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и, о друг, бегут, как приговора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ей любви младенческого взора.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страшен им, как память детских л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Но для меня сей взор благодеянье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Как жизни ключ, в душевной глубине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й взор живет и будет жить во мне: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нужен ей, как небо и дыхань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аков горе - духов блаженный свет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Лишь в небесах сияет он, небесный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В ночи греха, на дне ужасной бездны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ей чистый огнь, как пламень адский, жжет.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285840"/>
            <a:ext cx="4038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. Б.</a:t>
            </a:r>
            <a:br>
              <a:rPr sz="24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Я встретил вас - и все было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отжившем сердце ожило;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Я вспомнил время золотое 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сердцу стало так тепло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поздней осени порою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ывают дни, бывает час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гда повеет вдруг весною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что-то встрепенется в нас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к, весь обвеян духовенье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ех лет душевной полноты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 давно забытым упоенье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мотрю на милые черты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после вековой разлуки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ляжу на вас, как бы во сне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вот - слышнее стали звуки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 умолкавшие во мне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ут не одно воспоминань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ут жизнь заговорила вновь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то же в нас очаровань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та ж в душе моей любовь!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643280" y="500040"/>
            <a:ext cx="428652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285480"/>
            <a:ext cx="36860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Нам не дано предугадать,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ак слово наше отзовется, -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И нам сочувствие дается,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ак нам дается благод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4357800" y="357120"/>
            <a:ext cx="4500360" cy="6143760"/>
          </a:xfrm>
          <a:prstGeom prst="rect">
            <a:avLst/>
          </a:prstGeom>
          <a:ln w="0">
            <a:noFill/>
          </a:ln>
        </p:spPr>
      </p:pic>
      <p:pic>
        <p:nvPicPr>
          <p:cNvPr id="108" name="kb_romans.mp3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8848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14200" y="1214280"/>
            <a:ext cx="38577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то, что мните вы, приро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слепок, не бездушный лик 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ней есть душа, в ней есть свобод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ней есть любовь, в ней есть язык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200480" y="357120"/>
            <a:ext cx="4756320" cy="5500800"/>
          </a:xfrm>
          <a:prstGeom prst="rect">
            <a:avLst/>
          </a:prstGeom>
          <a:ln w="0">
            <a:noFill/>
          </a:ln>
        </p:spPr>
      </p:pic>
      <p:pic>
        <p:nvPicPr>
          <p:cNvPr id="111" name="025_Dinu Radu - Einsame Hirte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7319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Анализ лирики в старших классах: 10-11/ И.Е.Каплан.-М.: Экзамен, 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Литература учит: 10кл.: книга для учащихся. М.: Просвещение, 19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Поурочные разработки по литературе 19 в. 10 кл. М.:Вако, 20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http://window.edu.ru/window_catalog/redir?id=28079&amp;file=prosv016.pd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Технологии успеха. 1001 совет школьнику/ И.Л.Добротворский. М.:ВЛАДОС,20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Исцеляющий цвет/ Г.Сташевская.- СПб.:ИК «Комплект», 1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 "Арт-Терапия в подготовке специалистов помогающих профессий"/В.Л.Кокоренко.- СПб.: Речь,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42920" y="357120"/>
            <a:ext cx="4643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ыдающимся явлением в русской и мировой литературе была любовная лирика Тютчева, отличающаяся глубиной мысли, поэтической силой в передаче человеческих чувств и ярко индивидуализированным лирическим образом женщины, любящей “наперекор и людям, и судьбе” .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5000760" y="571680"/>
            <a:ext cx="385740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леонора Петерсон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799 – 1838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57800" y="6143400"/>
            <a:ext cx="45720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леонора Ботмер, первая жена Ф.И. Тютчева. Миниатюра И. Щелера. 183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4200" y="214200"/>
            <a:ext cx="35006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26 год –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Тютчев женится на графине Ботмер. Их семью посещает вся баварская интеллигенция. Тютчев переводит на русский язык стихотворение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Гейне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«С чужой стороны». Перевод произведения назывался «Сосны» и годом позже был напечатан в «Аонидах». Известно также, что Федор Иванович спорил с немецким философом Шеллинг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214880" y="214200"/>
            <a:ext cx="464184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47960" y="213840"/>
            <a:ext cx="43527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Это был во многих отношениях необычный, странный брак. Двадцатидвухлетний Тютчев тайно обвенчался с совсем недавно овдовевшей женщиной, матерью четырёх сыновей в возрасте от одного до семи лет, к тому же с женщиной на четыре года старше. Еще и через два года многие в Мюнхене, по свидетельству Генриха Гейне, не знали об этой свадьбе. «Серьёзные умственные запросы были ей чужды», но однако бесконечна очаровательная, обаятельная - писал биограф поэта К.В. Пигарев об Элеоно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4038840" cy="50594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8"/>
          <p:cNvSpPr/>
          <p:nvPr/>
        </p:nvSpPr>
        <p:spPr>
          <a:xfrm>
            <a:off x="285840" y="592920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 Неизвестный художник. 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48320" y="285840"/>
            <a:ext cx="42098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Можно предположить, что Тютчев решился на женитьбу главным образом ради спасения от мук и унижения, вызванных утратой истинной своей возлюбленной. Но, так или иначе, Тютчев не совершил ошибки. Элеонора беспредельно полюбила его. Она сумела создать уютный и гостеприимный дом. Тютчев прожил с Элеонорой 12 лет. От этого брака у него было три дочери: Анна, Дарья, Екатерина.</a:t>
            </a:r>
            <a:r>
              <a:rPr b="1" lang="ru-RU" sz="23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368928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214200" y="55008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 Неизвестный худож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42920" y="6072120"/>
            <a:ext cx="39294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леонора Тютчева, первая жена поэта. Художник И. Штилер. 183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643280" y="142920"/>
            <a:ext cx="4013280" cy="5853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3840" y="785520"/>
            <a:ext cx="4357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томлюсь тоской желан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стремлюсь к тебе душой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И в сумраке воспоми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ловлю я образ твой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Твой милый образ, незабвен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Он предо мной везде, всег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Недостижимый, неизмен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Как ночью на небе звезд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8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14960" y="6072120"/>
            <a:ext cx="32860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.И. Тютчев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 И. Рехберг. 183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3840" y="214200"/>
            <a:ext cx="4429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часы, когда бывает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ак тяжко на груди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сердце изнывает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тьма лишь впереди;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Без сил и без движенья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Мы так удручены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Что даже утешенья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Друзей нам не смешны, –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друг солнца луч приветны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ойдет украдкой к нам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брызнет огнецветно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уею по стенам;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с тверди благосклонной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 лазуревых высот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друг воздух благовонны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окно на нас пахнет..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Уроков и советов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ни нам не несут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от судьбы наветов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ни нас не спасут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Но силу их мы чуем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х слышим благодать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меньше мы тоскуем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легче нам дышать..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ак мило-благодатна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оздушна и светла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Душе моей стократно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Любовь твоя была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(1858)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ор Иванович Тютчев, 1838 год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857840" y="357120"/>
            <a:ext cx="3781440" cy="5591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8:18:47Z</dcterms:created>
  <dc:creator>Илья</dc:creator>
  <dc:description>rusedu.ru</dc:description>
  <dc:language>en-US</dc:language>
  <cp:lastModifiedBy>Слава</cp:lastModifiedBy>
  <dcterms:modified xsi:type="dcterms:W3CDTF">2011-12-04T14:29:20Z</dcterms:modified>
  <cp:revision>146</cp:revision>
  <dc:subject/>
  <dc:title>Биография Тютчева</dc:title>
</cp:coreProperties>
</file>