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293D-7870-4444-8CAA-3ECFDA8A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C2E4-32FD-424C-A0EA-BF9C015E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1BC6-9DCC-489A-B744-D8E56410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448C-ADBA-4C62-9D29-4631F72C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1A14-A03B-496C-845E-B3E7D3E0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325D-0457-4BB9-8E17-383C7BD4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1DA9-0F57-49CD-8FBF-CAD5794B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0EA8-153F-45EC-B3A6-FE7DF2BE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5045-6105-41EF-9A82-D3EFD2B5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7E0F-8289-4D67-BB44-4E372E42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BA2D-5E55-4D3E-8CC4-2D560B51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D0ED-034A-4880-9A9C-D22D03CB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DC2B-9494-4EBE-8F54-520C01EA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DAEF-E672-4C0F-A28F-03CF5110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26E9-C32B-4A61-9671-4B5EFC8D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EF4A-093C-49ED-9040-55FBB9AC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AC1D-3193-4705-9CF5-D63816CA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003-4D1F-4DF9-92F5-C1C7D349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B2BA-95C4-4332-8CFA-B0A434AC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5BF8-7F87-4A2A-B3AE-CDE59927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1FE0-6D57-4A75-86CA-485AC8EF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4FDF-DD91-41DB-9CB9-8C7E4138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A992-17F8-4761-875E-5C7A8872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26E6-CD2B-4992-B303-F064A059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FF5D-1F30-4684-87C2-5C69D8D7DC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4283-5C93-48D9-B8BE-CA14923C947E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920" y="1557360"/>
            <a:ext cx="7702560" cy="23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араллельные прямые. Признаки параллельных прямы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56288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Две прямые на плоскости называются параллельными, если они не пересекаются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02120" y="3076560"/>
            <a:ext cx="184140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1467000" y="2666880"/>
          <a:ext cx="380664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7000" y="2666880"/>
                    <a:ext cx="380664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5640" y="1267920"/>
            <a:ext cx="77202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Углы, образованные при пересечении двух прямых секущей, называются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70240" y="3156120"/>
            <a:ext cx="353700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73737"/>
                </a:solidFill>
                <a:latin typeface="Tahoma"/>
              </a:rPr>
              <a:t>Соответственны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73737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2 и </a:t>
            </a:r>
            <a:r>
              <a:rPr b="0" lang="ru-RU" sz="2400" spc="-1" strike="noStrike">
                <a:solidFill>
                  <a:srgbClr val="c73737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 6, </a:t>
            </a:r>
            <a:r>
              <a:rPr b="0" lang="ru-RU" sz="2400" spc="-1" strike="noStrike">
                <a:solidFill>
                  <a:srgbClr val="c73737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 3 и </a:t>
            </a:r>
            <a:r>
              <a:rPr b="0" lang="ru-RU" sz="2400" spc="-1" strike="noStrike">
                <a:solidFill>
                  <a:srgbClr val="c73737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 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73737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1 и </a:t>
            </a:r>
            <a:r>
              <a:rPr b="0" lang="ru-RU" sz="2400" spc="-1" strike="noStrike">
                <a:solidFill>
                  <a:srgbClr val="c73737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 5, </a:t>
            </a:r>
            <a:r>
              <a:rPr b="0" lang="ru-RU" sz="2400" spc="-1" strike="noStrike">
                <a:solidFill>
                  <a:srgbClr val="c73737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 4 и </a:t>
            </a:r>
            <a:r>
              <a:rPr b="0" lang="ru-RU" sz="2400" spc="-1" strike="noStrike">
                <a:solidFill>
                  <a:srgbClr val="c73737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 8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70600" y="2041560"/>
            <a:ext cx="3867120" cy="11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Накрест лежащ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3 и </a:t>
            </a:r>
            <a:r>
              <a:rPr b="0" lang="ru-RU" sz="2400" spc="-1" strike="noStrike">
                <a:solidFill>
                  <a:srgbClr val="003399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5, </a:t>
            </a:r>
            <a:r>
              <a:rPr b="0" lang="ru-RU" sz="2400" spc="-1" strike="noStrike">
                <a:solidFill>
                  <a:srgbClr val="003399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4 и </a:t>
            </a:r>
            <a:r>
              <a:rPr b="0" lang="ru-RU" sz="2400" spc="-1" strike="noStrike">
                <a:solidFill>
                  <a:srgbClr val="003399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5076720" y="479736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7000"/>
                </a:solidFill>
                <a:latin typeface="Tahoma"/>
              </a:rPr>
              <a:t>Внутренние односторонние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7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8a7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a7000"/>
                </a:solidFill>
                <a:latin typeface="Times New Roman"/>
              </a:rPr>
              <a:t>4 и </a:t>
            </a:r>
            <a:r>
              <a:rPr b="0" lang="ru-RU" sz="1800" spc="-1" strike="noStrike">
                <a:solidFill>
                  <a:srgbClr val="8a7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8a7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a7000"/>
                </a:solidFill>
                <a:latin typeface="Times New Roman"/>
              </a:rPr>
              <a:t>5, </a:t>
            </a:r>
            <a:r>
              <a:rPr b="0" lang="ru-RU" sz="1800" spc="-1" strike="noStrike">
                <a:solidFill>
                  <a:srgbClr val="8a7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8a7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a7000"/>
                </a:solidFill>
                <a:latin typeface="Times New Roman"/>
              </a:rPr>
              <a:t>3 и </a:t>
            </a:r>
            <a:r>
              <a:rPr b="0" lang="ru-RU" sz="1800" spc="-1" strike="noStrike">
                <a:solidFill>
                  <a:srgbClr val="8a7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8a7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a7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Object 16"/>
          <p:cNvGraphicFramePr/>
          <p:nvPr/>
        </p:nvGraphicFramePr>
        <p:xfrm>
          <a:off x="250920" y="2349360"/>
          <a:ext cx="4103640" cy="26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349360"/>
                    <a:ext cx="410364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знаки параллельности двух прямых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1640" y="2204640"/>
            <a:ext cx="381636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Если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=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, то 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║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1640" y="3057120"/>
            <a:ext cx="381636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Если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=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, то 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║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4572000" y="386064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Если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+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=180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║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Object 9"/>
          <p:cNvGraphicFramePr/>
          <p:nvPr/>
        </p:nvGraphicFramePr>
        <p:xfrm>
          <a:off x="395280" y="1951200"/>
          <a:ext cx="3745080" cy="29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51200"/>
                    <a:ext cx="3745080" cy="29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00000" y="2781360"/>
            <a:ext cx="334512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ая прямая на рисунке является секущей по отношению к двум другим прямым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5340240" y="2568600"/>
          <a:ext cx="3538800" cy="30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0240" y="2568600"/>
                    <a:ext cx="3538800" cy="30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42920" y="1267920"/>
            <a:ext cx="779328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опросы и задачи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46051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ямые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ересечены секущей р. Назовите из восьми образовавшихся углов все пары углов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)накрест лежащи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)внутренних                       односторонни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)соответственн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4788000" y="1989000"/>
          <a:ext cx="4074840" cy="35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989000"/>
                    <a:ext cx="4074840" cy="35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042560" y="1267920"/>
            <a:ext cx="698508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опросы и задачи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0" y="2420640"/>
            <a:ext cx="4176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=36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= 144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5" name="Object 5"/>
          <p:cNvGraphicFramePr/>
          <p:nvPr/>
        </p:nvGraphicFramePr>
        <p:xfrm>
          <a:off x="395280" y="2349360"/>
          <a:ext cx="4176720" cy="30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349360"/>
                    <a:ext cx="417672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042920" y="1267920"/>
            <a:ext cx="71294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опросы и задачи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292720" y="2637000"/>
            <a:ext cx="3672000" cy="15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250920" y="2276640"/>
          <a:ext cx="4967280" cy="33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76640"/>
                    <a:ext cx="49672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042920" y="1267920"/>
            <a:ext cx="71294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опросы и задачи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Домашнее задание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61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.24, п.25, №206, №207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08:47:22Z</dcterms:created>
  <dc:creator>Home</dc:creator>
  <dc:description/>
  <dc:language>en-US</dc:language>
  <cp:lastModifiedBy>ольга</cp:lastModifiedBy>
  <dcterms:modified xsi:type="dcterms:W3CDTF">2010-04-01T15:46:22Z</dcterms:modified>
  <cp:revision>12</cp:revision>
  <dc:subject/>
  <dc:title>Параллельные прямые. Признаки параллельных прямых.</dc:title>
</cp:coreProperties>
</file>