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D98-3C36-41E3-B971-E26B98AF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D315-92E4-4E6F-9D29-1251714B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5E4C2-95FC-4082-8B89-FEB64455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8ECB8-B9D1-4E46-B594-12E472C1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611E3-83DE-4F1C-8C9B-AD711DDE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CA650-F50C-4FB7-933B-56E7FE1D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4F1F1-29F5-4B18-8D26-F52BB769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13B41-DA4E-4ED9-A9DD-AFFC996A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2BDDA-FE3C-4535-A125-09095971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D64EA-D37C-4780-9704-07294022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31254-4F6B-439A-A3A1-9222EF10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965277-4113-4AE6-B78C-62728E0C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455-AAC1-46F0-87F4-0726D439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3F568A-53DE-4669-AF56-16FA1AF6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C388DC-6F4E-471C-834D-F9978FA3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296FBD-7974-4FEA-A492-BC7214CE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00BE59-49B4-436D-BE1B-9ADD54C8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238D02-26C6-4708-806D-F218D3C2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6ED544-6D97-4B71-89BA-65FFD2AD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3D0C23-01B5-42DE-BD59-AA9B4E67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006DF3-7992-4963-8C11-3D9B9ECF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A4FB44-4BA2-4751-8DD5-605ABA15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180E2E-8083-4CDA-A5B4-9F9B4E9E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5CFD-DD69-4135-BDAE-669A58A3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2FCD5C-51D7-4AC2-A9CF-34737DF1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E3C0-4CDD-4704-B7B6-2BABCFEB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D83A-B158-4F01-B643-C722CEF1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CCF4-2931-4BF9-B915-2FDEC37C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C1C8-8742-4ABD-989C-F24E5701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A646-1D3F-44A8-808F-A2B3A710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2A3D-3BA8-4B9D-9427-D4642EA9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1791-B8A6-45F5-A215-302C0AA9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8E3-CD9A-45B4-B2AE-95A8A63C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34F8-0702-49E7-82CE-AEE4007B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A3F1-2D1C-49F2-A17A-FB819D24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F3DF-AD9C-4291-BB59-3BE9F124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B65D-F3FF-4AD5-8F48-AEE6BE82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FF27-B242-421E-88EE-C5934238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87C92-9694-4151-890A-9423F577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9C3E7-FF37-4D04-A501-1CB8D519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ADD19-CF8D-46E6-93CD-96F49F02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149BB-C875-41E0-B468-F818DC82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AF3B4-C06B-4EC4-853B-C24CC19A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43C-D57A-4C99-B9EB-D2E54670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47959-53AA-4972-879C-38723D7E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B237C-F17C-45F3-847C-CCE5851A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81BAE-5F7D-4C3D-AF7C-3928A4C3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5AF52-FEB3-412E-B51B-0590D2A8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5087C-D74C-4209-B6DA-35EA2A06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5B542-8701-4B33-B374-DA48647B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E9A2A-5ABE-44B4-9F3E-F39691DD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AD9EF-98E1-4362-B84C-E2F4DCA5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5C0B8-86C1-4800-9955-870E5BCE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8C856-105D-449F-9AC8-B02283A0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8670-5871-44B7-BD17-015CDB1A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5E98D-7238-4471-87FC-70CAA288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F66AE-ACB9-4A19-9412-BAA79D2D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BFE15-1581-41CD-BD12-1264CA21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309E5-454D-4953-ADE4-35E693AF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5B500-CFD6-4AD2-8357-F0B2B760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2FA07-FC9E-4ABA-91CB-788BE237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FCDEE-E716-4645-AD76-03DEDAF3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526DD-C371-4EE5-B055-BF165DEF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199C6-3D10-4EE6-9ED4-F974C9F3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340C4-096E-4315-A6B3-810DEA2C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CFAA-E825-43B3-9F3F-B542A542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F0D67-E4B9-4BB2-955C-35C6859D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4824E-0E02-4E22-8B94-4189C8D3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CA217-6CA8-4A5F-B4FF-30CCC230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915C0-B6F8-4322-A6E7-F44E511B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9F836-0008-43D9-B3CE-474031D0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ACCFF-B433-4CEA-AACD-2C5B1CBE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01F3A-08DF-4DE3-AD9C-DB1C2006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34C1E-C2F0-46E4-B51F-B9D04ECA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4F1F1-AAA6-4E8B-B879-9C6AB3F4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C27CB-0AFF-4381-8A58-BBB16EF1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77EE-0443-4466-AEC8-A816D414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67BC7-0688-4A3A-95B2-8C797D53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DE6D5-105D-4B6F-8D8E-ECA096AD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BFD3D-5E7E-4D05-A0AA-F1008198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33A80-7AB3-4D38-8034-BBE67BC9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C1CC1-69F2-4E93-965F-5BDC473A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0F8C4-46E2-4AAF-B76D-6A81D64D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94BC5-1FF2-4B36-9CEE-0628D61D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5F196-1DB3-4450-ABC2-A10D2B4E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134D9-7A09-482C-975E-B57C695F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2409A-6042-472A-A7A4-6441DFA7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E5B7-4522-4AD2-8493-C969E2CB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B6550-1850-49EC-B43A-9AFAE66D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C4527-20A5-45A6-A3C2-7F09E0D6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76DD4-9B2E-4FDC-9B15-AEB8E0F8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A027D-2BE5-4EEC-B0E3-7F9D42F4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F79A3-0020-47C7-8B2C-673AF48E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C22B0-0A9C-4454-A5D0-37E24671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E0AA6-74A1-4940-A0C2-5F24EDA6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72092-C4E3-499E-9F8F-3BE9693C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26A80-9A67-4F75-95E9-71D4408B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7E63B-DEFA-42ED-8F89-78E49A57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5246-AE84-474D-9D65-7CF94D92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A571F-AA53-407C-B1B1-F99A8655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E3518-C730-4FE9-BABB-622F6441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14AFA-8E8A-4B49-8AD4-3AFAD2F2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4F74D-206B-48E2-879F-8B64FA74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CDACC-4E20-42F4-A6F4-6C747020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CC1D2-C514-4D00-B3EA-D04216C9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FB06C-7F8A-4ECB-B948-E402EF21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D5FDC-52BA-49FD-8746-1F48D061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2A0AC-7B45-4947-8B43-8876F4EA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A4124-7EAC-4FD4-B1B7-4CCA3E18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23E-B045-4D0B-98EF-6A86A141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AD7E8-FB57-4100-9AD7-54B3E986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4206E-EAD9-4DB3-AB87-C8E848A7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707E4-4E71-49B4-8994-B4B2C571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159D2-ADB2-4B16-9E19-8B1409EA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9558A-7D4D-4F54-90C6-2A28CCBF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3675C-0C4E-4431-A7CB-4CA1257D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0597D-9426-419E-B34F-9F13F4F1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93BE6-9095-4938-BB2A-21B72675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7D65E-0DD0-4475-BDA6-CD07B4FD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57E11-94E9-4530-8E88-CAB67EC7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335C-429C-4F29-A16F-BEC14A0CA15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EDE6-549B-4485-9F24-AD0532873D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8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89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FE84-4E12-4A6A-A0CE-1160D21E187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62A2-BE0F-4EB4-87D6-CAB8CE2307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3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0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0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1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6BEA-9BB7-4B5B-96AC-0E131C5743C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FE36-9211-4B7A-8FDA-D8C25E760A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9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9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0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0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0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1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1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D9D7-B99A-4B22-B471-E556D7C44C8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BBA5-04DB-4674-8F3F-15B90FABFDB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1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402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3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F15C-5E52-4E17-955B-A841C49A0EB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7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7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3C4A-AD10-47B5-81F7-9CD20DC0775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964080" y="971640"/>
            <a:ext cx="7215840" cy="88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з опыта работы классного руководителя 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1834920" y="2636640"/>
            <a:ext cx="6181560" cy="22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</a:t>
            </a:r>
            <a:r>
              <a:rPr b="0" lang="ru-RU" sz="8800" spc="-1" strike="noStrike">
                <a:solidFill>
                  <a:srgbClr val="003366"/>
                </a:solidFill>
                <a:latin typeface="Arial"/>
              </a:rPr>
              <a:t>КТД</a:t>
            </a:r>
            <a:endParaRPr b="0" lang="en-US" sz="8800" spc="-1" strike="noStrike">
              <a:solidFill>
                <a:srgbClr val="003366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Коллективное творческое дел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71280" y="291960"/>
            <a:ext cx="725796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50021"/>
                </a:solidFill>
                <a:latin typeface="Tahoma"/>
              </a:rPr>
              <a:t>КТД познавательные.</a:t>
            </a:r>
            <a:endParaRPr b="0" lang="en-US" sz="5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кольные олимпиа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одские олимпиа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ВН по предмет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тематическая иг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курс знатоков русского язы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лассные ча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тный журна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кторины «Достопримечательности город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3255840" y="6396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9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Формы КТД</a:t>
            </a: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. КТД общественные.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азведка интересных дел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ы планирования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«Расскажи мне о…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часы анализа и самоанализа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Конкурс проектов «Школа будущего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Мисс школы, мистер шко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освящение в первоклассники, пятиклассн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ресс-конференция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Расскажи нам об армии» (с участием воин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курс военной пес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Устный журна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«Песни Побед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Акц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«С днем рождения, любимый город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Классный час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«Что знаем мы о Конституции?» «Символы Росси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7221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Times New Roman"/>
              </a:rPr>
              <a:t>КТД эстетически-         развлекательные</a:t>
            </a:r>
            <a:endParaRPr b="0" lang="en-US" sz="4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едставление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Давайте познакомимс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Дни именин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Новогодний КВ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Загадочный»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новогодний сюрпри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для учеников шко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Есть такая профессия – Родину защищать»(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литературно-музыкальная компози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ЧВ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«Рыцарь класс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Школьный фольклорный празд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День музыки в шко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Акц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Весенний сюрприз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кция «Мендарин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Comic Sans MS"/>
              </a:rPr>
              <a:t>Механизм анализа КТД</a:t>
            </a:r>
            <a:r>
              <a:rPr b="0" i="1" lang="ru-RU" sz="2800" spc="-1" strike="noStrike">
                <a:solidFill>
                  <a:srgbClr val="ff6600"/>
                </a:solidFill>
                <a:latin typeface="Comic Sans MS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ffb800"/>
                </a:solidFill>
                <a:latin typeface="Comic Sans MS"/>
              </a:rPr>
              <a:t>(акцент на рефлексию воспитанником собственной деятельности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440" y="2276640"/>
            <a:ext cx="377676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omic Sans MS"/>
              </a:rPr>
              <a:t>Последовательность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spcBef>
                <a:spcPts val="601"/>
              </a:spcBef>
              <a:buClr>
                <a:srgbClr val="00b05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omic Sans MS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spcBef>
                <a:spcPts val="601"/>
              </a:spcBef>
              <a:buClr>
                <a:srgbClr val="00b05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omic Sans MS"/>
              </a:rPr>
              <a:t>Затем – участники групп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spcBef>
                <a:spcPts val="601"/>
              </a:spcBef>
              <a:buClr>
                <a:srgbClr val="00b05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omic Sans MS"/>
              </a:rPr>
              <a:t>Завершают анализ педагог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Примерные вопросы анализа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Что хорошего удало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Как это меня лично продвинуло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Что мне следует изменит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Пожелания все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Что делать дальш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964440" y="875160"/>
            <a:ext cx="737568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684360" y="2492280"/>
            <a:ext cx="7772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лан рабо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Text Box 5">
            <a:hlinkClick r:id="" action="ppaction://hlinkshowjump?jump=nextslide"/>
          </p:cNvPr>
          <p:cNvSpPr/>
          <p:nvPr/>
        </p:nvSpPr>
        <p:spPr>
          <a:xfrm>
            <a:off x="1127880" y="265104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ллективное творческое дел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1908000" y="32130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уктура КТ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3763800" y="429264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иды КТ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4494960" y="479736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ханизм анализа КТД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2408040" y="3789360"/>
            <a:ext cx="64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ханизм разработки коллективного творческого де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5469120" y="538812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тог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824040" y="824040"/>
            <a:ext cx="7800120" cy="85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826560" y="249228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826920" y="2781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0066"/>
                </a:solidFill>
                <a:latin typeface="Times New Roman"/>
              </a:rPr>
              <a:t>Сравнительная таблица: </a:t>
            </a:r>
            <a:br>
              <a:rPr sz="1700"/>
            </a:br>
            <a:r>
              <a:rPr b="1" lang="ru-RU" sz="26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1" lang="ru-RU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457200" y="1905120"/>
          <a:ext cx="8507520" cy="47210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780000" y="228600"/>
            <a:ext cx="496872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Times New Roman"/>
              </a:rPr>
              <a:t>Система классного самоуправления.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580" name="Схема 5" descr=""/>
          <p:cNvPicPr/>
          <p:nvPr/>
        </p:nvPicPr>
        <p:blipFill>
          <a:blip r:embed="rId1"/>
          <a:stretch/>
        </p:blipFill>
        <p:spPr>
          <a:xfrm>
            <a:off x="2481120" y="1981080"/>
            <a:ext cx="6126480" cy="426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8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013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ение цели. Мобилизация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ение д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64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Метод «Мозгового штурма</a:t>
            </a: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»( «мозговой атаки», коллективной генерации идей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зработан А. Осборном в 1953 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330066"/>
                </a:solidFill>
                <a:uFillTx/>
                <a:latin typeface="Arial"/>
              </a:rPr>
              <a:t>Правила проведения</a:t>
            </a:r>
            <a:r>
              <a:rPr b="0" lang="ru-RU" sz="1900" spc="-1" strike="noStrike">
                <a:solidFill>
                  <a:srgbClr val="330066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42560" y="291600"/>
            <a:ext cx="764388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50021"/>
                </a:solidFill>
                <a:latin typeface="Tahoma"/>
              </a:rPr>
              <a:t>КТД спортивные.</a:t>
            </a:r>
            <a:endParaRPr b="0" lang="en-US" sz="5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Шахматный турни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урнир по теннис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омическая эстафе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урнир Дедов Морозов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ень защиты дет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0:39:44Z</dcterms:created>
  <dc:creator>Shapoval</dc:creator>
  <dc:description/>
  <dc:language>en-US</dc:language>
  <cp:lastModifiedBy>Лариса</cp:lastModifiedBy>
  <dcterms:modified xsi:type="dcterms:W3CDTF">2010-12-03T20:18:32Z</dcterms:modified>
  <cp:revision>14</cp:revision>
  <dc:subject/>
  <dc:title>Коллективное творческое дел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