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9F4-12DC-4FDE-92D8-FF539F1C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9B7-7326-4497-8181-199A1216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FE5AE-44F1-43E9-942D-43006B1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A5625-040C-49B3-9671-5D9AD1CB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4E785-C44F-47E7-AD87-58C6736A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71294-E428-49FB-AD85-029CCC7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B64E6-D568-4E87-BEA8-DE70751B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82C6E-39EA-4BF3-BCA4-5D6883C9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176C3-A192-4F9F-A9D8-E65E521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B2BF2-47A4-4EB8-9265-DB7202F6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FF51E-529F-42D8-A8CB-08970C29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6CD3A-2B03-49D8-8927-DC1B0D78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B09-1A93-4A5E-9F6B-15730B59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15BA98-D924-40F9-BA13-45A0CF68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4E068D-311F-408E-883C-526A1462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4B9504-40C4-4461-B390-E444150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5D9EC4-775C-4ECC-9EE3-DA65F6C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AFABE-BEAE-48F7-B1A2-E020963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CFF63-34C4-4A7C-97E2-0243E37A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D422D-7112-4568-949E-4426662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FFD9F-1DF9-4D9D-8C06-16EC7DD5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99BAE6-1EFA-4CAC-9EF3-0296A99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1595E-2397-40BD-93B1-2C52FFBE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31F-74C2-4E8F-8426-55242851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2129E2-29A3-4D18-B43B-515A1597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CC7-BC5E-4DE7-88C2-54991D52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0E04-FE76-457B-B7B2-C2C9853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ACF4-D121-4959-AC30-05A2B4C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7BF-A880-433F-99AF-1F68357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9905-3889-40D2-9043-00DCD19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27CD-8048-4890-987D-51AD8719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9DB-097E-42BF-B5C3-02B4BCD7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41E-9328-443B-AF03-03D8AF2E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3C29-CEB1-41EB-A4B7-FB7B0AF9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0654-8124-4AF1-844F-A035713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0C9-CA43-4E74-A85F-EFEB123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041-1865-418C-A855-83D1B61A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901-7499-4B7A-AF31-D299F6E1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DD10-169F-4879-8D8E-99413D7A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26C2-C9E6-45DA-A519-CA2840AB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882E-96E0-4B61-9263-375F404B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6E4E-54B3-47D2-87BC-4F125223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D617-E08A-4BF5-929C-1B1633D8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CB3-C3E2-4EE5-B91D-CA25687F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7B4C-50F8-4700-9501-552AD25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475A4-644E-4BC8-BCD9-BB8CD03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3E35-781F-43A3-BFB3-044D64E2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5468-F81F-4E97-ADC8-5F1F74D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EAD3-1BD6-4B33-A642-4CAF6C5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5056-4F6D-46B5-A618-36118450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E9B9-5854-4D85-B58C-88571FE0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AC0F-54C8-4032-B371-5F2CF2DC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F615-8006-4ECB-993D-9A64453C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0CD3-4073-437B-BF6D-F73B8783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6F2-D4BF-4939-9509-FF2EBD0F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03D7-309F-4678-9244-0DEDB4A3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99B5-8E96-4594-B6DE-EF96A1B7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E03F-A2AE-4D5F-A9F9-9A8C617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ED18-991B-4899-B72B-A7C0FC6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1464-53C3-4DE9-A040-AE3B40B2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F164-AA2E-4B1D-99F7-E1DAC9F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C9C5-DCE1-4697-9FDC-682DFCB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4B2E-5D4F-40B5-91C1-E23627A5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C90E6-94EB-4902-A565-AD3BDF4B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71904-7168-4B62-B08C-BAF0FADE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758-7C8A-4E9B-A737-C6F0102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5451D-4069-4664-94A4-35A9D421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8F127-90C2-459B-B8BC-68B1430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1C6D2-71B3-477E-AD00-591155E5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CCB4-40DF-4C14-8604-A437BECE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E70B-9B49-412F-B4DA-1328E6B6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14A4-94DF-47DA-9FD2-303DD67A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C445-0362-4F67-9212-BD6127D7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6BB8-4660-4382-9526-BD26FF4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0F1F-503A-44BD-9029-864FB47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64F1-F10F-4404-B922-49511E40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17E-26E5-40C1-A975-8BDBAFF0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05CE-FB35-4136-BD81-FEE3F0E7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71052-D62F-4A2D-A8BA-862362A9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BE353-E008-4957-9B23-04A4A5F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9476-6CBC-47DB-8289-6A090D23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A453C-EA07-4269-A1C2-477C049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9661-1388-49F0-A9F3-853AE5D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C77E-0EA2-40B8-ACE8-DC68E84A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6FF4-E7F9-416D-8DED-58A2DF9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1931-7435-433E-9D9A-2A50B5F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5927-480E-4BEA-A061-CEA929E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700-7F40-4567-B4D5-98E35E3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5310-1013-493E-87AC-CFACA57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2A74-9721-470B-A8D1-24C9BB1B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48B59-C43D-4D87-96E2-5D9533A7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0B5F2-0BF4-4FC9-9D08-3EFF41EB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BB336-F6CE-43FB-BC71-CAB8B2F8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5AFD6-4E48-4B12-906E-4065776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2BB2-C54B-42AE-B67F-E2C93E76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3932-C7C4-431D-8F40-4DA14596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067AD-E1BA-417B-90B8-D7DCF199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9C89-8344-4ABA-9135-C6AFC97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67C-DD02-48C3-AC39-442DDE26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BFED6-D786-45CC-B520-23F86B9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F48C-5F08-42C6-B7CB-B9EF278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23B81-A3F2-447A-BE91-9F8ECC2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8980-B31D-49F9-B1B0-3CDE46FB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508C6-EE8A-4F5D-83D2-F785D65E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93FA2-A248-4AB7-A726-807E045F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10A1-CD0B-4AF1-B42F-924F2CA0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543B3-FBA4-4345-B930-311AB899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A08B8-4BB1-44EE-A27E-E3B4B35F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1A54-60F6-4935-A1BD-7426EF4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A71-E5D5-4D18-A5F7-86A1943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A364C-B796-4F6E-9B37-2088C1DF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F9F96-452F-4A26-85D8-64AD955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B33EC-69C7-46D2-8B5C-23AF30B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10E9E-3D92-4DBB-8426-5A15DE7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0DC52-8EC1-48D5-9CAA-633F6E1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14B7-CBCA-4E6A-8112-19FFD4FD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6106F-7ADE-49B7-9CC1-802D109B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DB137-06E9-4B95-A9F2-F52B2FF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000D5-02DA-40FB-B257-2351B0AF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2580-16DB-4505-BAE2-0A776364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FEA-D9BF-4160-A38E-719F3A8AE0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D17-1D4D-4DD6-99ED-36C384B0E4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E6CD-01B2-485D-BDFB-8FF3B42BD5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7D98-C5FC-418D-A6FF-82D6017377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3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0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1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1A8D-0EAC-48F8-A7FA-9BC15B32544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7575-A1E0-4A5F-B8F0-823F0392A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9273-5F9E-4CC4-94F0-7A7975BC20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F2F-9FB8-41D1-8409-A3C432D01F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0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81F8-7154-46F5-A3E3-F3757C3481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A2E-5A80-4257-9A1A-1033238D13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964080" y="971640"/>
            <a:ext cx="7215840" cy="88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опыта работы классного руководителя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834920" y="2636640"/>
            <a:ext cx="618156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8800" spc="-1" strike="noStrike">
                <a:solidFill>
                  <a:srgbClr val="003366"/>
                </a:solidFill>
                <a:latin typeface="Arial"/>
              </a:rPr>
              <a:t>КТД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оллективное творческое дел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71280" y="291960"/>
            <a:ext cx="725796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Tahoma"/>
              </a:rPr>
              <a:t>КТД познавательные.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е олимпи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ие олимпи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ВН по предме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ческая иг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урс знатоков русского язы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ные ч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ный журн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кторины «Достопримечательности горо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3255840" y="6396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Формы КТД</a:t>
            </a: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. КТД общественные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зведка интересных дел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ы планировани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«Расскажи мне о…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часы анализа и самоанализ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нкурс проектов «Школа будуще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сс школы, мистер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вящение в первоклассники, пятикласс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есс-конференц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Расскажи нам об армии» (с участием воин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курс военной пес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стный журн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Песни Побе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к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С днем рождения, любимый горо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лассный ча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«Что знаем мы о Конституции?» «Символы Росс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221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Times New Roman"/>
              </a:rPr>
              <a:t>КТД эстетически-         развлекательные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едставлен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авайте познакомимс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ни имени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овогодний КВ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Загадочный»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овогодний сюрпр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для учеников шк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Есть такая профессия – Родину защищать»(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тературно-музыкальная компози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В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«Рыцарь класс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кольный фольклорный празд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ень музыки в шк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Акц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есенний сюрприз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ция «Мендари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Comic Sans MS"/>
              </a:rPr>
              <a:t>Механизм анализа КТД</a:t>
            </a:r>
            <a:r>
              <a:rPr b="0" i="1" lang="ru-RU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b800"/>
                </a:solidFill>
                <a:latin typeface="Comic Sans MS"/>
              </a:rPr>
              <a:t>(акцент на рефлексию воспитанником собственной деятельнос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377676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Последовательность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Затем – участники групп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spcBef>
                <a:spcPts val="601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Завершают анализ педагог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Примерные вопросы анализ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хорошего удало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Как это меня лично продвинул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мне следует изменит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Пожелания вс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делать дальш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64440" y="875160"/>
            <a:ext cx="73756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4360" y="249228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Text Box 5">
            <a:hlinkClick r:id="" action="ppaction://hlinkshowjump?jump=nextslide"/>
          </p:cNvPr>
          <p:cNvSpPr/>
          <p:nvPr/>
        </p:nvSpPr>
        <p:spPr>
          <a:xfrm>
            <a:off x="1127880" y="26510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лективное творческое де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908000" y="3213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а КТ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3763800" y="4292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ды КТ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4494960" y="479736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ханизм анализа КТД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408040" y="3789360"/>
            <a:ext cx="64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ханизм разработки коллективного творческого д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5469120" y="53881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тог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824040" y="824040"/>
            <a:ext cx="7800120" cy="8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26560" y="249228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Times New Roman"/>
              </a:rPr>
              <a:t>Сравнительная таблица: </a:t>
            </a:r>
            <a:br>
              <a:rPr sz="1700"/>
            </a:br>
            <a:r>
              <a:rPr b="1" lang="ru-RU" sz="26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1" lang="ru-RU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457200" y="1905120"/>
          <a:ext cx="8507520" cy="47210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780000" y="228600"/>
            <a:ext cx="496872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Система классного самоуправления.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580" name="Схема 5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6126480" cy="426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8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013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цели. Мобилизация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0066"/>
                </a:solidFill>
                <a:latin typeface="Arial"/>
              </a:rPr>
              <a:t>Метод «Мозгового штурма</a:t>
            </a: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»( «мозговой атаки», коллективной генерации идей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зработан А. Осборном в 1953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330066"/>
                </a:solidFill>
                <a:uFillTx/>
                <a:latin typeface="Arial"/>
              </a:rPr>
              <a:t>Правила проведения</a:t>
            </a:r>
            <a:r>
              <a:rPr b="0" lang="ru-RU" sz="1900" spc="-1" strike="noStrike">
                <a:solidFill>
                  <a:srgbClr val="330066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2560" y="291600"/>
            <a:ext cx="764388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Tahoma"/>
              </a:rPr>
              <a:t>КТД спортивные.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ахматный турни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урнир по теннис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мическая эстаф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урнир Дедов Мороз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ень защиты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0:39:44Z</dcterms:created>
  <dc:creator>Shapoval</dc:creator>
  <dc:description/>
  <dc:language>en-US</dc:language>
  <cp:lastModifiedBy>Лариса</cp:lastModifiedBy>
  <dcterms:modified xsi:type="dcterms:W3CDTF">2010-12-03T20:18:32Z</dcterms:modified>
  <cp:revision>14</cp:revision>
  <dc:subject/>
  <dc:title>Коллективное творческое дел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