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80B-7DD3-4165-B2E6-AB86EEFA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6A2-2D38-468C-8DEE-8B6C9B0B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5B2D-DE10-467F-A90F-A3F7B235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9600-46B5-4BDE-B52E-A4D606C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D385-4C4F-4D73-89E9-D843B14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A7455-BBFB-4871-9544-B832419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13861-6EAF-4354-8492-7F9E87D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DAA1-7EDB-421B-9783-F5FB5A3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F3F3-4F21-4355-80AB-F00AFE59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48ECE-D0A2-4861-9F55-BC46B02F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25E7-4529-43B3-B6C8-AC0F5A8C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480B-970B-4C0F-ABA4-9EB2985C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4E6-4683-4280-B98A-F51B22BD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1AC9-F1B2-40A1-B0F5-73A97E5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04255-3FCD-42D7-88DC-88D89F8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83FE-1306-4A62-ADFD-A8E6CF6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7B977-E635-4AFE-B704-891E35E4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5161-5D88-4E9D-A537-5D89547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4F94C-AEC9-4A9A-84A9-78B89C1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E216-4D32-4C0B-87A4-23235D6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1628-8CA5-4D1C-A5C2-6E56B8B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A66A-5DFE-4A72-B1E3-318A35B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BFBEF-0395-486F-AD74-214E117F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FA5-89C7-48B5-BA17-5463753E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3B8E-5A32-4FD1-A841-F8FFCD1B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F6D5-B87D-4581-A991-0E3641EF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0A53D-411F-4409-8AD8-99EA086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A2B02-C928-485B-B4BD-F71342BC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A252F-B7BD-42C5-AC21-EB1594DB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F7B2-9894-4750-B104-E829100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D8C42-2AD9-4BA3-898F-EF238A9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C5800-15BC-41CB-AB59-521F6A6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B36A4-1C52-4C79-BBF9-E495C98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BFE9-C274-4DDB-917B-1A3F662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B2B0-A64F-4DF8-B11B-5CAA73B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CED5-C77A-46FE-8464-AAB9EBE2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8AC6A-9706-4ABE-90D6-C2BADB6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8D7BB-3D0F-48EA-85C1-D6D53FBC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FEB8F-5009-48AE-A904-62929955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82F54-C295-4633-ACC8-B403ADD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DA1F-5F59-4B17-BF71-C380C3C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1D5E-BA34-4F38-B1C0-4E10020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DCBC-015B-40BF-AB9C-379F9B90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5F0E-EADA-492B-94D0-16A2069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7341E-79C4-46A6-8B29-D216890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74B9E-C226-4121-B2AE-483DBFF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9B13A-83CC-4AC5-9D7D-56D6E71A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E7AE9-382A-4C3D-970E-D5C84715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8B8AA-F7FF-4B8C-B125-99F30FBE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82443-4245-49EA-AEF8-AEB15FA4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B010D-BFD0-43D4-B49E-2061D1D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19BD8-16C0-4ECF-9621-CDDB1DC2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AF07C-261B-4A6D-8FB7-914C7AE5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B35CE-70ED-4B1F-A313-5A1F994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5787C-A3B8-4EEB-AA47-902E288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E6F50-76EA-4D8E-A905-A129CC9E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15AD3-3846-412F-A266-0591243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034EF-39D5-4B90-99C4-9AA2036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14F8B-12C1-43EC-A0F6-A6B9E83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F6A2D-A852-4E8B-9FC1-602926CA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A0162-6E7A-49B4-9563-D8E4FF04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FECB-ED99-42AA-B662-71125387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AFF8C-A30F-4E1C-B888-C95F481C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89205-198C-4D79-88DF-900EA9D1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65292-D74B-48B5-8C99-C24F739C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F3F88-928D-464C-8A43-029EA1A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A2A9A-AFDE-4D45-A137-D763384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89D9-A79E-479A-913C-41C3800D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850BB-EFC4-4BE6-9086-F9ACD35F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02218-F0D2-4395-A084-9B82786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A962-EE0C-48BB-B4A2-867B7E4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0F8AF-99E0-4EE7-BFBE-9272A212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0607-8F18-48D8-B9DE-5930FA64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CE563-C009-44C5-AC0A-58A162A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8B34E-344B-409B-B3E4-66D44990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1497F-3BE7-4471-AFF0-0F3AF5B2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F67FD-48CE-4337-BCB4-952CB2F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C08C1-32C4-421B-AC20-52672AC7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0E0C4-E51C-4ACF-9FD6-FE0BBED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6FBC4-908D-4F9B-934C-E582BCE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42B13-9F78-4CE7-9877-C7B8876A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39314-A416-41E7-AA3C-DDFA315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16258-E6F0-4AF2-A60B-3C60C35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51132-C601-4762-B41B-7AE75A1E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616F2-05C6-4EBF-8E4C-4149E46C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2C66E-063B-4352-876C-1B3E29F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538F0-3311-4ACC-9E7A-7409820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329F2-2552-4632-B309-6E7D192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97308-E1ED-4442-97A6-1126A8E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D9572-389A-4357-8828-6A1ADF2C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81C2-5BD7-4B5B-BBAA-B1B8D036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2CA92-7B88-4FB9-9461-FF40D8E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9485F-AD00-4317-BBC3-6BFA4CF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FF859-00CF-4F90-A47D-9F8A5910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E25BF-7118-4E39-A16C-A5A56D4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CF3CE-748F-4CAA-9CF4-9A05B92D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482B0-DCE1-462D-9905-6F891FA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70E-C826-4BDC-BED9-D0573902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145-02B9-4663-9FC6-A1427F2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263-7E73-4531-9B85-88EA6F2E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ACE-4833-42F5-8220-4BC2E5F7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A92-4A3C-4140-86D4-2E38A901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6524-DFC2-48F6-BA4B-8534A84F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D31-75B5-42E4-8A6B-4C5B3B3B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31C-5206-4806-AF26-03DD0F37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FC6-7E90-4702-825E-7FA25949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ACF8-7700-4CCD-9C69-163A534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3210-A9EF-436D-BFDF-244A118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396-35D0-4323-9E7D-90B7893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575-959F-4259-BD19-8EA65BC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08AB-213B-495A-B5BA-E4794D49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DE4-3EC6-477D-80FB-5FAB04E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2FC-B82F-401A-A4E8-F9C09861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A875-5844-45DF-AE36-FB0ACAB8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3178-A15F-4552-BCAD-1E3190F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D380-2192-4D8C-876E-0C189FB5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19DE-1EDC-4257-A4EA-69B2F78F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9A10-FA07-4216-BDE8-7DECCEE7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591A-E886-45CF-82AA-44D5E015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1AD3-036C-4FFB-B2B5-9C4CBF2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4CE6-500C-4EE4-8B5E-B6457B1B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2141-579F-47B6-8757-0F502490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19BE-DBE1-4E1D-B971-6EEE8B1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25C-4EC0-4D71-B23D-75FA622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E9A9-EC36-416E-ABB2-2724AE5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896A-55E9-4E28-9969-E3029438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7791-34EA-432F-9BB4-34FFB0E7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0CF10-84A4-4D7F-B1E3-86E1DF90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F022-7CCA-4384-8A40-30D39BE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5CFD-C623-4CD6-A904-D8B44B6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9C620-9673-4EC6-81E0-662175F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A44A-F9A1-447B-BCB1-2E9BC513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D33E-7D90-49EB-AA8D-464190D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AB3D-3ED3-422A-92C6-C2D068B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77F-9AFF-4A74-A9F7-64B8381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5855-52A3-48A4-9CCC-F955C3AD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3EAC-6837-47D6-9C72-1524093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BC1D-2E98-4CEC-898E-E2E7FEBF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F562-4A26-47AD-84CB-57ED17F9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DD37-79FF-4CBB-8632-1D3896C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A9C4-23D5-4CF8-89A0-91A65B1B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A8E6-0BB3-4162-96D6-19FE3448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830D-AC90-4C49-AD27-2E72E5D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26775-4EAE-4255-A405-9AB067D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6F36-59B5-4FC2-AC8F-012BE0A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51F-4AB2-447D-A449-973D5CE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B0B68-4593-4C37-B092-E41F33D7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0F9E-40F0-494D-AD99-A5E8E3D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2C60-7653-4B87-B2C6-0758E23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CC2D-2544-4EA2-AF33-D7C5D669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5067E-1754-49D5-AF64-2985F769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97118-6F55-472E-9C7F-B4094EC5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D8BD-7F1D-480F-8608-D2BD46A1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C869-AED3-4ABE-81E0-94F00C89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1ED0-29CB-436E-AC42-A414080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A1548-22D8-416D-98EC-B4F8D307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F208BF-9298-4635-971B-504F12352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6A1DED-806E-4974-AB15-1A2C117E53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C3A385-1217-4300-9A71-54F85869BE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0B9EA4-F603-4A8F-AFB3-AC859EDB00E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81F1F5-48BD-45AB-8FC3-D392EE67EF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FB056C-1742-499F-B9D1-CCD836415A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6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06785C-6693-47A6-AAA7-83ED41A884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1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1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3BAE7E-2599-4D7B-8C6B-C83112A6AA7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6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48CF4-8BEA-411D-92DF-97E6B28ED0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C46557-B9AC-4E1A-855B-65CBEBB90FC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523E84-95EF-4AF6-B74B-1A1AC78F3D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2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2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2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B57BDE-01DE-4344-BFEE-F8630F7469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7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7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7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6A33A5-D561-4E98-A36A-1CF8EE04BF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087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cc0000"/>
                </a:solidFill>
                <a:latin typeface="Calibri"/>
              </a:rPr>
              <a:t>                               </a:t>
            </a:r>
            <a:r>
              <a:rPr b="1" i="1" lang="ru-RU" sz="2900" spc="-1" strike="noStrike">
                <a:solidFill>
                  <a:srgbClr val="cc0000"/>
                </a:solidFill>
                <a:latin typeface="Calibri"/>
              </a:rPr>
              <a:t>Министерство образования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 РМ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cc0000"/>
                </a:solidFill>
                <a:latin typeface="Calibri"/>
              </a:rPr>
              <a:t>                                                 </a:t>
            </a:r>
            <a:r>
              <a:rPr b="1" i="1" lang="ru-RU" sz="3600" spc="-1" strike="noStrike">
                <a:solidFill>
                  <a:srgbClr val="cc0000"/>
                </a:solidFill>
                <a:latin typeface="Calibri"/>
              </a:rPr>
              <a:t>Портфолио</a:t>
            </a:r>
            <a:r>
              <a:rPr b="1" i="1" lang="ru-RU" sz="29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     Желавской Ольги Васильевны,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учителя МБОУ «Самаевская СОШ» </a:t>
            </a:r>
            <a:br>
              <a:rPr sz="2500"/>
            </a:br>
            <a:r>
              <a:rPr b="1" i="1" lang="ru-RU" sz="25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 Ковылкинского района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4360" y="3600360"/>
            <a:ext cx="83167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Дата рождения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14.01.196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Профессиональное образование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учитель начальных классов, МГПИ им.М. В. Евсевьева № диплома-346258, дата выдачи-14 июля 1993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 (по специальности):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24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Общий трудовой стаж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24 го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перв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0047"/>
                </a:solidFill>
                <a:latin typeface="Times New Roman"/>
              </a:rPr>
              <a:t>Дата последней аттестации: </a:t>
            </a:r>
            <a:r>
              <a:rPr b="1" i="1" lang="ru-RU" sz="2400" spc="-1" strike="noStrike">
                <a:solidFill>
                  <a:srgbClr val="0076a3"/>
                </a:solidFill>
                <a:latin typeface="Times New Roman"/>
              </a:rPr>
              <a:t>март 2007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1" name="Picture 5" descr="H:\1788.jpg"/>
          <p:cNvPicPr/>
          <p:nvPr/>
        </p:nvPicPr>
        <p:blipFill>
          <a:blip r:embed="rId1"/>
          <a:stretch/>
        </p:blipFill>
        <p:spPr>
          <a:xfrm>
            <a:off x="785880" y="571680"/>
            <a:ext cx="28573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Calibri"/>
              </a:rPr>
              <a:t>9. Наличие публикаций, включая интернет-публикац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42960" y="1857240"/>
            <a:ext cx="8143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Муниципальный уровень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айте образовательного учреждения (samaevka2007.narod.ru), (samaevka2007.narod.ru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n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нспекты открытых уроков, открытых мероприятий по предметам, доклады и материалы классных ча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Российский уровень: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0-2011 учебном году разместила на  сайте «Учительский портал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нспекты открытых уроков, внеклассное мероприятие с использованием ИКТ. И получила подтверждение публикации методических материалов на  сайте «Учительский портал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№0178 от 6 июня 2011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0-2011 учебном году разместила  в социальной сети работников образования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ё электронное портфоли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рес портфолио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zhelavskay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ga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ilevna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учила сертификат подтвержд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3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Рисунок 1" descr="C:\Users\оля\Desktop\аттестация\001.jpg"/>
          <p:cNvPicPr/>
          <p:nvPr/>
        </p:nvPicPr>
        <p:blipFill>
          <a:blip r:embed="rId1"/>
          <a:stretch/>
        </p:blipFill>
        <p:spPr>
          <a:xfrm>
            <a:off x="1714680" y="1357200"/>
            <a:ext cx="2357280" cy="35719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C:\Users\оля\Desktop\004.jpg"/>
          <p:cNvPicPr/>
          <p:nvPr/>
        </p:nvPicPr>
        <p:blipFill>
          <a:blip r:embed="rId2"/>
          <a:stretch/>
        </p:blipFill>
        <p:spPr>
          <a:xfrm>
            <a:off x="5214960" y="1428840"/>
            <a:ext cx="2286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9760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Calibri"/>
              </a:rPr>
              <a:t>11.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42960" y="2143080"/>
            <a:ext cx="82152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spcBef>
                <a:spcPts val="700"/>
              </a:spcBef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Constantia"/>
              </a:rPr>
              <a:t>            </a:t>
            </a:r>
            <a:r>
              <a:rPr b="1" i="1" lang="ru-RU" sz="2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Муниципальный уровень: </a:t>
            </a:r>
            <a:r>
              <a:rPr b="1" i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августовском секционном совещании  23.08.2007 г. на базе МОУ «Ковылкинская средняя общеобразовательная школа №2» с докладом на тему: «Самостоятельная работа на уроке»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а открытый урок  по трудовому обучению с использованием ИКТ 21.03 2007 г. на базе МБОУ «Самаевская средняя общеобразовательная школа» по теме «Техника кручения из бумажных полос. Композиция к Пасхе «Веточки вербы и пасхальное яйцо»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357120" y="129600"/>
            <a:ext cx="807264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ка дана Желавской Ольге Васильевне, учителю начальных классов МБОУ «Самаевская средняя общеобразовательная школа» в том, что она выступала на августовском секционном совещании  23.08.2007 г. на базе МОУ «Ковылкинская средняя общеобразовательная школа №2» с докладом на тем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амостоятельная работа на уроке»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ка  дана Желавской  Ольге Васильевне, учителю начальных классов МОУ «Самаевская средняя общеобразовательная школа» в том, что она провела открытый урок  по трудовому обучению с использованием ИКТ 21.03 2007 г. на базе МБОУ «Самаевская средняя общеобразовательная   школа » по теме «Техника кручения из бумажных полос. Композиция к Пасхе «Веточки вербы и пасхальное яйцо»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 МУ «Центр информацион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технического обеспечения учрежд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ылкинского муниципального района                           Н. П. Кукл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Прямоугольник 2"/>
          <p:cNvSpPr/>
          <p:nvPr/>
        </p:nvSpPr>
        <p:spPr>
          <a:xfrm>
            <a:off x="642960" y="7142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99284c"/>
                </a:solidFill>
                <a:latin typeface="Arial"/>
              </a:rPr>
              <a:t>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alibri"/>
              </a:rPr>
              <a:t>12. Общественная актив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71040" y="1428840"/>
            <a:ext cx="779796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26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Муниципальный </a:t>
            </a:r>
            <a:r>
              <a:rPr b="1" i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уровен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являюсь председателем  методического объединения учителей начальных классов МБОУ «Самаевская средняя общеобразовательная школа» с  2003 года и по настоящее врем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90000"/>
              </a:lnSpc>
              <a:spcBef>
                <a:spcPts val="700"/>
              </a:spcBef>
              <a:buClr>
                <a:srgbClr val="b80047"/>
              </a:buClr>
              <a:buSzPct val="95000"/>
              <a:buFont typeface="Wingdings 2" charset="2"/>
              <a:buChar char="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26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Российский уровень: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-2010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-2011 учебных годах являлась организатором Всероссийского конкурса по естествознанию «Человек и природа» в  МБОУ « Самаевская СОШ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1"/>
          <p:cNvSpPr/>
          <p:nvPr/>
        </p:nvSpPr>
        <p:spPr>
          <a:xfrm>
            <a:off x="500040" y="1227600"/>
            <a:ext cx="7429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ка - подтвер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а Желавской Ольге Васильевне, учителю начальных классов в том, что она  является  председателем  методического объединения учителей начальных классов МБОУ «Самаевская средня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образовательная школа» с  2003 года и по настоящее врем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МБОУ «Самаевская СОШ»-Власова А. 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ка – подтвер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на администрацией МБОУ «Самаевская средняя общеобразовательная школа» в том, что учитель начальных классов Желавская Ольга Васильевна действительно   в 209-2010, 2010-2011 учебных годах являлась организатором Всероссийского конкурса по естествознанию «Человек и природа» в  МБОУ « Самаевская СОШ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ректор МБОУ «Самаевская СОШ»-Власова А.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020"/>
          <p:cNvPicPr/>
          <p:nvPr/>
        </p:nvPicPr>
        <p:blipFill>
          <a:blip r:embed="rId1"/>
          <a:stretch/>
        </p:blipFill>
        <p:spPr>
          <a:xfrm>
            <a:off x="2000160" y="1214280"/>
            <a:ext cx="2143080" cy="3429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" descr="016"/>
          <p:cNvPicPr/>
          <p:nvPr/>
        </p:nvPicPr>
        <p:blipFill>
          <a:blip r:embed="rId2"/>
          <a:stretch/>
        </p:blipFill>
        <p:spPr>
          <a:xfrm>
            <a:off x="5786280" y="1214280"/>
            <a:ext cx="2357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040" y="184320"/>
            <a:ext cx="779796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Calibri"/>
              </a:rPr>
              <a:t>13. Позитивные результаты работы в качестве классного руководител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71400" y="1571400"/>
            <a:ext cx="80438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Реализуются </a:t>
            </a:r>
            <a:r>
              <a:rPr b="1" lang="ru-RU" sz="19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12 показателей</a:t>
            </a:r>
            <a:r>
              <a:rPr b="1" lang="ru-RU" sz="19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: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личие системы воспитательной работы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ичие системы самоуправления в класс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ий уровень воспитанности обучающихс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намику межличностных отношен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окий уровень групповой сплочен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 учащихся нет пропусков занятий без уважительных причин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ьшилось количество правонарушений  общественного порядка учащимися класс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лажена система взаимодействия с родителями,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алоб и обращений родителей на неправомерные действия классного руководителя не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ализует  здоровье-сберегающие технологии в воспитательном процесс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  духовно – нравственное воспитание и народные традиц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имают участия в  различных мероприятиях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2007 -2008 уч. году  являлась победителем  школьного  конкурса  «Лучший классный руководитель»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71040" y="184320"/>
            <a:ext cx="779796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Calibri"/>
              </a:rPr>
              <a:t>15. Награды и поощр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671040" y="1906200"/>
            <a:ext cx="77979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-677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Республиканский уровен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грамота Министра образования РМ, 2008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77880" indent="-677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Благодарственное письм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ектората мордовского республиканского института  повышения квалификации работников образов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Рисунок 5" descr="C:\Users\оля\Desktop\аттестация\020.jpg"/>
          <p:cNvPicPr/>
          <p:nvPr/>
        </p:nvPicPr>
        <p:blipFill>
          <a:blip r:embed="rId1"/>
          <a:stretch/>
        </p:blipFill>
        <p:spPr>
          <a:xfrm>
            <a:off x="5214960" y="1285920"/>
            <a:ext cx="2428920" cy="400032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2" descr="C:\Users\оля\Desktop\аттестация\017.jpg"/>
          <p:cNvPicPr/>
          <p:nvPr/>
        </p:nvPicPr>
        <p:blipFill>
          <a:blip r:embed="rId2"/>
          <a:stretch/>
        </p:blipFill>
        <p:spPr>
          <a:xfrm>
            <a:off x="1571760" y="1357200"/>
            <a:ext cx="3000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2"/>
          <p:cNvSpPr/>
          <p:nvPr/>
        </p:nvSpPr>
        <p:spPr>
          <a:xfrm>
            <a:off x="0" y="285840"/>
            <a:ext cx="31575240" cy="9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рактеристика-предст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я начальных клас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«Самаевская средняя общеобразовательная шк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вылкинского района Республики Мордов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авской Ольги Васильев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авская Ольга Васильевна 1968 года рождения. В 1987 году закончи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убово –Полянское педагогическое училище, а в  1993 году окончила МГ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м. М.Е. Евсевьева по специальности «Педагогика и методика нача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разования». В 1987 году была принята на работу в Самаевскую средню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колу, учителем начальных классов, где и работает по настоящее время. Общ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дагогический стаж в должности учителя начальных классов - 24 года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аттестована  на 1 квалификационную категорию (13 разряд) в 2007 году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 24 года педагогической деятельности стала опытным, творческим, перспектив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ем. В совершенстве владеет базовым образовательным компонентом начальной шко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ятельность учащихся и качество усвоения учебного материала находится под постоян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нтролем учителя. Дети на уроках активны, практически все постоянно включены в работу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 как на уроках хороший психологический климат. Ее уроки отличаются высокой мотиваци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учебному процессу, плотностью материала, работоспособностью, самостоятельность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араясь держать на пике активности весь класс, педагог учитывает индивидуа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енка, его природные способности и возможности, возрастные и психологические особенност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важает мир его интересов, опирается на личный опыт учащихся, учит мыслить, рассуждать, оцени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бя и других, уважать чужое м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находится в постоянном творческом и профессиональном поиске. Работ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традиционной системе, педагог использует элементы различных педагогических технолог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лемного обучения,  дифференцированного, личностно-ориентированного, опережающе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71040" y="571320"/>
            <a:ext cx="77979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80047"/>
                </a:solidFill>
                <a:latin typeface="Calibri"/>
              </a:rPr>
              <a:t>16.Повышение квалифик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42960" y="1428480"/>
            <a:ext cx="77976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30 октября по 11 ноября  2006 г в ГОУ «Мордовский республиканский институт образования» по программе  «Основы использования персонального компьютера в профессиональной деятельности» в объеме 78 час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танционные курсы  с 17 декабря 2007 г по14 марта  2008  г.  В ГОУ ДПО (ПК)С «Мордовский республиканский институт образования» по программе  «Совершенствование профессионального мастерства учителя» в объеме 164 часа. Итоговая работа на тему «Использование логических задач на уроках математики в начальной школе».2008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2011 г. дистанционное обучение на портале  социальной сети 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а тестирование и получила свидетельство по курсу « Практическая педагогика  в начальной школе: теория и технология дифференцированного обучения в начальной школ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Рисунок 3" descr="018"/>
          <p:cNvPicPr/>
          <p:nvPr/>
        </p:nvPicPr>
        <p:blipFill>
          <a:blip r:embed="rId1"/>
          <a:stretch/>
        </p:blipFill>
        <p:spPr>
          <a:xfrm>
            <a:off x="642960" y="1071720"/>
            <a:ext cx="4286160" cy="220968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3"/>
          <p:cNvSpPr/>
          <p:nvPr/>
        </p:nvSpPr>
        <p:spPr>
          <a:xfrm>
            <a:off x="0" y="26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Рисунок 4" descr="C:\Users\оля\Desktop\аттестация\035.jpg"/>
          <p:cNvPicPr/>
          <p:nvPr/>
        </p:nvPicPr>
        <p:blipFill>
          <a:blip r:embed="rId2"/>
          <a:stretch/>
        </p:blipFill>
        <p:spPr>
          <a:xfrm>
            <a:off x="857160" y="3357720"/>
            <a:ext cx="4000680" cy="3214440"/>
          </a:xfrm>
          <a:prstGeom prst="rect">
            <a:avLst/>
          </a:prstGeom>
          <a:ln w="0">
            <a:noFill/>
          </a:ln>
        </p:spPr>
      </p:pic>
      <p:pic>
        <p:nvPicPr>
          <p:cNvPr id="860" name="Рисунок 6" descr="C:\Users\оля\Desktop\аттестация\026.jpg"/>
          <p:cNvPicPr/>
          <p:nvPr/>
        </p:nvPicPr>
        <p:blipFill>
          <a:blip r:embed="rId3"/>
          <a:stretch/>
        </p:blipFill>
        <p:spPr>
          <a:xfrm>
            <a:off x="5786280" y="1714680"/>
            <a:ext cx="2571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142920" y="214200"/>
            <a:ext cx="78143040" cy="10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итель поддерживает тесный контакт с родителями своих учеников, организу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щие и индивидуальные педагогические консультации, постоянно показыв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дителям открытые уроки, факультативные занятия, классные часы. Учитель владе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ми и методами активного обучения, что позволяет получать более высокие результат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 усвоении знаний, умело использует групповую и индивидуальную работу с учащимися 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и познавательной деятельности, применяет индивидуальную шкалу для самостоятель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ценивания, взаимное рецензирование, часто использует задания исследовательского, 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знавательного характе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создает условия для самостоятельной познавательной деятельности учащих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уроках чтения, природоведения. Учащиеся работают с дополнительными источниками: справоч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иками, энциклопедиями,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является  председателем мо учителей начальных классов, активно работает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кольных МО и РМО, показывает прекрасные открытые уроки и внеклассные мероприятия, дел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ытом работы, своими находкам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классный руководитель Ольга Васильевна проводит много мероприятий, способствующ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равственно-эстетическому и интеллектуальному развитию учащихс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льга Васильевна постоянно повышает свое профессиональное мастерство. В 2006 году прош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урсы «Основы использования персонального компьютера в профессиональной деятельности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2007-2008 г дистанционные курсы «Совершенствование профессионального мастерства учителя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 в 2011 г- дистанционное обучение на портале  социальной сети ns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rtal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ru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и получила свидетель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во по курсу  « Практическая педагогика  в начальной школе: теория и технология дифференцирова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го обучения в начальной школе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на активный участник проводимых мероприятий школы, также занимается обществен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ятельностью в поселке, Ольга Васильевна рекомендуется к аттестации на первую квалификацио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ую категор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ректор школы:            Власова А. 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6760" y="139680"/>
            <a:ext cx="85726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Calibri"/>
              </a:rPr>
              <a:t>1. Представление собственного инновационного педагогического опы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Прямоугольник 2"/>
          <p:cNvSpPr/>
          <p:nvPr/>
        </p:nvSpPr>
        <p:spPr>
          <a:xfrm>
            <a:off x="571680" y="310500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00000"/>
              </a:lnSpc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рес сайта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zhelavskaya-olga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ilev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Рисунок 7" descr="C:\Users\оля\Desktop\аттестация\027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28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09928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b80047"/>
                </a:solidFill>
                <a:latin typeface="Calibri"/>
              </a:rPr>
              <a:t>6. Качество знаний обучающихся по итогам внешнего мониторинга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39280" y="2518920"/>
            <a:ext cx="810108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9320" indent="-67932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1" i="1" lang="ru-RU" sz="36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Процент качества знаний обучающихся по итогам муниципального  мониторинга за межаттестационный период - </a:t>
            </a:r>
            <a:r>
              <a:rPr b="1" i="1" lang="ru-RU" sz="3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50 </a:t>
            </a:r>
            <a:r>
              <a:rPr b="1" i="1" lang="ru-RU" sz="36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313560" y="28584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авка - под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качества знаний обучающихся по итог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нешнего  мониторин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ыдана администрацией МБОУ «Самаевская средняя общеобразов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школа»  учителю начальных классов Желавской Ольге Васильевне в т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что учащиеся 3 класса в 2006 – 2007 уч. году прошли  аттестацию с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следующими результат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дмет              % успеваемости           % качества знаний        Средний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Русский язык                66,6                                   33,3                             3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Математика                    100                                  66, 6                             4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1953000" y="42148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Директор школы -Власова Анн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79707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a50021"/>
                </a:solidFill>
                <a:latin typeface="Calibri"/>
              </a:rPr>
              <a:t>8. Позитивные результаты внеурочной деятельности обучающихся по учебным предметам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13880" y="1928520"/>
            <a:ext cx="77994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жу различные внеурочные занятия по предметам, результатом чего является участие ребят во всероссийских конкурсах: «Кенгуру», «Русский медвежонок», «ЧИП» , за что участники получили  сертификаты, а лучшие были награждены подарками и дипломами.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847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800" spc="-1" strike="noStrike">
                <a:solidFill>
                  <a:srgbClr val="b84700"/>
                </a:solidFill>
                <a:latin typeface="Times New Roman"/>
                <a:ea typeface="Times New Roman"/>
              </a:rPr>
              <a:t>Муниципальный уровен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0099"/>
                </a:solidFill>
                <a:latin typeface="Times New Roman"/>
                <a:ea typeface="Times New Roman"/>
              </a:rPr>
              <a:t>Победы и призовые места —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019"/>
          <p:cNvPicPr/>
          <p:nvPr/>
        </p:nvPicPr>
        <p:blipFill>
          <a:blip r:embed="rId1"/>
          <a:stretch/>
        </p:blipFill>
        <p:spPr>
          <a:xfrm>
            <a:off x="1214280" y="1285920"/>
            <a:ext cx="2357640" cy="3143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" descr="017"/>
          <p:cNvPicPr/>
          <p:nvPr/>
        </p:nvPicPr>
        <p:blipFill>
          <a:blip r:embed="rId2"/>
          <a:stretch/>
        </p:blipFill>
        <p:spPr>
          <a:xfrm>
            <a:off x="5214960" y="1285920"/>
            <a:ext cx="2214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оля</cp:lastModifiedBy>
  <dcterms:modified xsi:type="dcterms:W3CDTF">2011-12-04T08:23:39Z</dcterms:modified>
  <cp:revision>68</cp:revision>
  <dc:subject/>
  <dc:title>Роль ПНПО в развитии (модернизации) образования страны</dc:title>
</cp:coreProperties>
</file>