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41960" cy="33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59576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069-04AE-449E-ADEF-9F13B94D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605-A3CE-4806-AB76-2319CCEB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CD4E4-AE55-4244-8FF2-91347EBC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9F50C-19E7-486F-A8CF-6D9710E8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1C6F3-2580-4142-8F85-DA1D9460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FBCA6-2326-4F52-ABFD-E1112B4D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E2371-1D41-4712-854B-CB05F345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10E8A-A638-4AE9-B654-AB5E4C9C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A1527-612A-4A73-B47E-88AA29C8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7DDE7-48EC-4320-B208-7671A40D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A04AB-83FA-4A8D-8F92-3D2672D1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B0F8B-0D86-4632-9315-E336AC5E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CCD-4149-439E-8B9E-F0A96CD1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8DF10-CC62-4A2C-83A9-9B0C7A2C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FEB04-B282-4785-9875-DDD8E123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CDBE7-B8EA-4C83-BB47-C40EF495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CEBBD-041F-4793-814E-24EE4BBA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6FD0F-55FC-4437-ADA3-A271C6A5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A518D-6EB7-4BCA-B077-85E11EDB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22837-DD49-4F02-92BF-60A8446C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A3AA3-EA64-4244-9519-C7D0F7DB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414AE-3058-4885-9793-36E844A1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1491D-97BE-45EF-AC6A-D0398078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879-D0A3-4341-8F72-ED3C0EAA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88EAD-2DB4-46D7-A825-CA25E527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4D4CA-EA76-4850-8E22-033AA37E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F2C7B-72B1-4542-B016-A8A94A2A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FDA24-89D9-45B6-AF21-453C3FF9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FE1F2-6B57-4F7F-BA64-0A235465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9F332-E757-4BF4-8E63-ACE17D93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68190-6126-4DE1-B2C5-991B69D4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1A418-2AA8-4DC3-B95B-45D6793C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D73B1-0355-4E2F-89F8-0D48494C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C9003-0994-4ACC-A13E-3B67D6C2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7359B-7EB5-491D-BF8B-A9D27165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15692-A35E-4750-A20E-F82C90E8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C5CD7-D1F6-4AE6-A14B-D5C49384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8A058-BE3B-426C-9117-52460DBC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C9A45-2752-4CB9-9284-7D292F0F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33486-3AF8-41C7-9B94-E1A2E0CA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BE82C-B3B3-4DFA-8171-56ED3C09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F9B72-0623-48BF-A039-957F50F1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785C7-AD62-469D-9E13-C0C6DC23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9191B-5897-4D48-AA56-3E8F465C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EBAD4-81EF-4CC1-BD86-6D6095FE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4D941-CEAA-4B26-B042-AF51C01D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DF563-77FC-4044-8CAA-54CC5528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854CC-E270-480C-920D-32750EB8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142C6-9CC5-4347-B007-39122EFA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77EEF-4202-4DCA-BE96-E6152483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BAC16-D00F-4105-87AC-9CA0BA5B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0D6F8-7885-4E37-B053-AB1E722B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D348C-43C4-4FD7-A74C-017797E6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B0F7B-1F6A-44DD-972D-9DE9CB37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D64BC-DC67-4E0C-AA26-C8CA2675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E17DB-C53F-4A93-B76F-805170D3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AE6E8-7FB2-4348-B3E8-3A7FE380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FCBF1-1A0A-4E70-A400-FC2F4763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D0360-637E-4D35-9196-BD558733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838F3-961C-459D-9277-02433552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0355B-2EE5-44CF-9EEE-A384D3FD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01F39-5E55-4F0A-AB8A-8BF3ACEA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AE272-C861-42F1-876A-2E7E825B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84D66-709D-4448-B433-EC1E17D8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BEF50-3958-4246-8384-649B4355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A5C25-2830-47FF-8E79-F26758C3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90223-50AE-4399-BA09-EF50582B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3B5FD-623F-41B1-A6CB-18FFA3B3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20AB5-AC90-41EA-B386-397B2F05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A12B1-8068-490E-BC12-A314552B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23196-AB8C-44B8-ABBE-A28DD5D2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15C35-9048-415C-95B6-19D9FA51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36A21-CD21-4022-87FF-621092A3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F498D-A700-43E7-A98B-A5D5BB54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CD006-5040-4149-ABD8-EB96D97F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86950-9B62-4D65-A7ED-6C306331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3E541-619A-4A6E-8C37-5D1D0719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FE807-F67A-4382-9F57-1C308525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B09D0-04F7-4FA4-B0E1-E58A95F0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AF5EB-7864-4780-A646-F46DEA45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A54EC-5152-4EE8-A124-7E759782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4C4F8-9025-414F-8D60-5F01C5A5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5BE29-23F4-461A-AB3C-BDAF07A1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6E31B-DC19-4E60-B2C4-5D7E0043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40D9C-FF0B-4297-A29E-B8499347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124DE-9382-4C7D-8621-73F0B3F8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0CC9C-B6F0-4E09-8D77-91369459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03BDC-D29C-42C1-975B-DCC02F15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A22F0-ADE5-428A-A1DA-89400CC7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6B130-F469-4C8B-9890-8E797D48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A43E3-140A-431D-BB52-55FCB4A0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DC89E-EE0E-4155-BF71-6B622018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B6B8F-47BE-4538-8E5E-B444BABE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837DD-8523-43E4-A569-DE83DFBE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46013-8FBA-4303-B4EF-F442384A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45A57-4C80-4285-81E1-CB139211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6D4C4-A1CB-4C12-8B0E-A2D3FA81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B56-6E0E-4EC1-96B8-F2EB33DE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42F-C062-4F52-8AF4-04D661A2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4E0-DAE3-4B2D-9481-8FBC9830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6240-8144-46FC-970B-6C20B226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EF6-1008-4C32-AA4F-7B59D753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6739-F183-4432-8626-E2452222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1907-AB22-4A1A-9401-E27812D7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849C-7118-4473-844A-CC999F1B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6B96-2328-40FB-9994-CD6022FA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B723-E343-4FF8-A5F1-D67F6BA7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43CA-7215-40FB-93D6-E8EE0C98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DE64-D19E-4A2F-84E4-08C00BC1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6824-4275-460B-8F97-808D8949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D756-53F1-4139-BDDD-09CBA8AC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0394-3BEA-4637-9BA9-19F23E81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772-470B-4DE3-AE58-FC355BB1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CCCA-0C44-4F2B-856E-CE3ADB03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698CC-9C17-4E1C-95B7-4EBDEED6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4412F-4AE3-4B3A-BA4E-35C6551D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FE94-2820-4C2F-A923-B69A4FE1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D7AD0-FE6B-46DC-B3DD-07092B6A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5E00A-4DD2-49A7-9350-5DCEEEDB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9249D-2F3F-4DD0-A9F2-DA69F10F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FAF30-5C93-42F3-8F77-8C61BFA5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98E59-A159-42C7-915E-536D9C53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6FBC4-C17E-4E60-A045-6915C39C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5C5-407F-4806-8BC3-9620EDCD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BF129-FBD2-4E41-AB8D-1FEB7B05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DC17E-70AD-4471-B278-F771089D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2D0C1-FCA5-4166-B5AA-6B416057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F10A1-31A2-417C-B848-28FA9CBB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FE10B-3697-423E-9302-A7093583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97048-CEE5-42DB-9E3F-105D4950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D60F1-2744-46F9-A95A-395A199A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06088-B619-4537-AFC8-001F8670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EAC5A-A565-42D1-AF33-8C598B81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78CA0-9E45-4D20-8547-C6A6FD8E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50A-93C4-4847-B17A-6E9F19BE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344D2-32D1-4DEC-8531-962F6FDC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304AA-962A-4281-99BC-D501E6B8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4AABE-E986-4F9D-8AEA-CAA1B40B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DC475-C3DB-47A3-A4DF-7EB7B4C4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2EA69-11E8-42FB-8053-027FE864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06B84-9AD5-4DDE-9076-5B4FC4DF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3B9B6-D726-44BE-939F-E33B9449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A5FD7-3E0A-47F1-9C7E-D99822B9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A1166-72B6-4584-BFD3-8F0155F6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8A62C-A6D2-4E46-9998-F9726F7A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8C7-E670-402F-A22D-4D8E8DE6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E6DEB-8668-4826-B2C9-25D9D981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7D8C2-955F-4F6F-BD4D-D7CE8E88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E4AC2-4D20-4ABD-A386-6747A287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53A32-E7CE-4122-99EB-91B7857F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A816B-E4D7-4A2D-AB3B-38BAD6A4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BAABD-7556-4155-886F-8F172AC3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19B3D-290B-4EDD-8784-053B7A4F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42F6C-BAC1-4E22-B25B-8B6E4D96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EDA8C-38D8-4F37-A3D7-67137880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B7E25-3934-4973-874E-5408B5CD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FEC7CF-91DC-4BB8-AF5E-3A64AB73DA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2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2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2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20F624-F85B-4D21-94E3-D5DBEDD6F26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7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7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7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7EF18F-DCB6-465B-A7E9-34FCEAF380E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2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2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9F9B4A-336D-485A-9C12-A85A9E48B17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7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7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40CE97-64ED-4EA8-AC8B-E9E15018A68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645CB5-9E13-4E34-ABC0-FB1D78E03AE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6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6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6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6BE682-1EF8-4C65-8AC0-09D90B7B01E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1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1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1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E40A1B-19B2-4BD6-B2C0-EC05B985C2F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6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6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6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8F76EA-9E72-43EC-A8C1-79043C1256A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7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2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2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D1E093-145A-4E76-9813-7E0C231CDD1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7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7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7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070CC6-EBEA-4B88-BA2E-938235C46A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2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2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2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829781-81EB-4A7E-AC36-E648428BA32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7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7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7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3ECAB9-EFD2-4E70-A381-805887E62E7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087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cc0000"/>
                </a:solidFill>
                <a:latin typeface="Calibri"/>
              </a:rPr>
              <a:t>                               </a:t>
            </a:r>
            <a:r>
              <a:rPr b="1" i="1" lang="ru-RU" sz="2900" spc="-1" strike="noStrike">
                <a:solidFill>
                  <a:srgbClr val="cc0000"/>
                </a:solidFill>
                <a:latin typeface="Calibri"/>
              </a:rPr>
              <a:t>Министерство образования</a:t>
            </a:r>
            <a:r>
              <a:rPr b="1" i="1" lang="ru-RU" sz="3600" spc="-1" strike="noStrike">
                <a:solidFill>
                  <a:srgbClr val="cc0000"/>
                </a:solidFill>
                <a:latin typeface="Calibri"/>
              </a:rPr>
              <a:t> РМ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cc0000"/>
                </a:solidFill>
                <a:latin typeface="Calibri"/>
              </a:rPr>
              <a:t>                                                 </a:t>
            </a:r>
            <a:r>
              <a:rPr b="1" i="1" lang="ru-RU" sz="3600" spc="-1" strike="noStrike">
                <a:solidFill>
                  <a:srgbClr val="cc0000"/>
                </a:solidFill>
                <a:latin typeface="Calibri"/>
              </a:rPr>
              <a:t>Портфолио</a:t>
            </a:r>
            <a:r>
              <a:rPr b="1" i="1" lang="ru-RU" sz="2900" spc="-1" strike="noStrike">
                <a:solidFill>
                  <a:srgbClr val="000099"/>
                </a:solidFill>
                <a:latin typeface="Calibri"/>
              </a:rPr>
              <a:t> </a:t>
            </a:r>
            <a:br>
              <a:rPr sz="2500"/>
            </a:br>
            <a:r>
              <a:rPr b="1" i="1" lang="ru-RU" sz="2500" spc="-1" strike="noStrike">
                <a:solidFill>
                  <a:srgbClr val="000099"/>
                </a:solidFill>
                <a:latin typeface="Calibri"/>
              </a:rPr>
              <a:t>                                                Желавской Ольги Васильевны, </a:t>
            </a:r>
            <a:br>
              <a:rPr sz="2500"/>
            </a:br>
            <a:r>
              <a:rPr b="1" i="1" lang="ru-RU" sz="2500" spc="-1" strike="noStrike">
                <a:solidFill>
                  <a:srgbClr val="000099"/>
                </a:solidFill>
                <a:latin typeface="Calibri"/>
              </a:rPr>
              <a:t>                                           учителя МБОУ «Самаевская СОШ» </a:t>
            </a:r>
            <a:br>
              <a:rPr sz="2500"/>
            </a:br>
            <a:r>
              <a:rPr b="1" i="1" lang="ru-RU" sz="2500" spc="-1" strike="noStrike">
                <a:solidFill>
                  <a:srgbClr val="000099"/>
                </a:solidFill>
                <a:latin typeface="Calibri"/>
              </a:rPr>
              <a:t>                                                                 Ковылкинского района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84360" y="3600360"/>
            <a:ext cx="831672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0047"/>
                </a:solidFill>
                <a:latin typeface="Times New Roman"/>
              </a:rPr>
              <a:t>Дата рождения: </a:t>
            </a:r>
            <a:r>
              <a:rPr b="1" i="1" lang="ru-RU" sz="2400" spc="-1" strike="noStrike">
                <a:solidFill>
                  <a:srgbClr val="0076a3"/>
                </a:solidFill>
                <a:latin typeface="Times New Roman"/>
              </a:rPr>
              <a:t>14.01.196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0047"/>
                </a:solidFill>
                <a:latin typeface="Times New Roman"/>
              </a:rPr>
              <a:t>Профессиональное образование: </a:t>
            </a:r>
            <a:r>
              <a:rPr b="1" i="1" lang="ru-RU" sz="2400" spc="-1" strike="noStrike">
                <a:solidFill>
                  <a:srgbClr val="0076a3"/>
                </a:solidFill>
                <a:latin typeface="Times New Roman"/>
              </a:rPr>
              <a:t>учитель начальных классов, МГПИ им.М. В. Евсевьева № диплома-346258, дата выдачи-14 июля 1993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0047"/>
                </a:solidFill>
                <a:latin typeface="Times New Roman"/>
              </a:rPr>
              <a:t>Стаж педагогической работы (по специальности):</a:t>
            </a:r>
            <a:r>
              <a:rPr b="1" i="1" lang="ru-RU" sz="2400" spc="-1" strike="noStrike">
                <a:solidFill>
                  <a:srgbClr val="0076a3"/>
                </a:solidFill>
                <a:latin typeface="Times New Roman"/>
              </a:rPr>
              <a:t>24 го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0047"/>
                </a:solidFill>
                <a:latin typeface="Times New Roman"/>
              </a:rPr>
              <a:t>Общий трудовой стаж: </a:t>
            </a:r>
            <a:r>
              <a:rPr b="1" i="1" lang="ru-RU" sz="2400" spc="-1" strike="noStrike">
                <a:solidFill>
                  <a:srgbClr val="0076a3"/>
                </a:solidFill>
                <a:latin typeface="Times New Roman"/>
              </a:rPr>
              <a:t>24 го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0047"/>
                </a:solidFill>
                <a:latin typeface="Times New Roman"/>
              </a:rPr>
              <a:t>Наличие квалификационной категории: </a:t>
            </a:r>
            <a:r>
              <a:rPr b="1" i="1" lang="ru-RU" sz="2400" spc="-1" strike="noStrike">
                <a:solidFill>
                  <a:srgbClr val="0076a3"/>
                </a:solidFill>
                <a:latin typeface="Times New Roman"/>
              </a:rPr>
              <a:t>перв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0047"/>
                </a:solidFill>
                <a:latin typeface="Times New Roman"/>
              </a:rPr>
              <a:t>Дата последней аттестации: </a:t>
            </a:r>
            <a:r>
              <a:rPr b="1" i="1" lang="ru-RU" sz="2400" spc="-1" strike="noStrike">
                <a:solidFill>
                  <a:srgbClr val="0076a3"/>
                </a:solidFill>
                <a:latin typeface="Times New Roman"/>
              </a:rPr>
              <a:t>март 2007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1" name="Picture 5" descr="H:\1788.jpg"/>
          <p:cNvPicPr/>
          <p:nvPr/>
        </p:nvPicPr>
        <p:blipFill>
          <a:blip r:embed="rId1"/>
          <a:stretch/>
        </p:blipFill>
        <p:spPr>
          <a:xfrm>
            <a:off x="785880" y="571680"/>
            <a:ext cx="285732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20720" y="139680"/>
            <a:ext cx="7750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libri"/>
              </a:rPr>
              <a:t>9. Наличие публикаций, включая интернет-публикац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42960" y="1857240"/>
            <a:ext cx="81439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3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Муниципальный уровень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сайте образовательного учреждения (samaevka2007.narod.ru), (samaevka2007.narod.ru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n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нспекты открытых уроков, открытых мероприятий по предметам, доклады и материалы классных час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3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Российский уровень: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0-2011 учебном году разместила на  сайте «Учительский портал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chport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нспекты открытых уроков, внеклассное мероприятие с использованием ИКТ. И получила подтверждение публикации методических материалов на  сайте «Учительский портал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chport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№0178 от 6 июня 2011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0-2011 учебном году разместила  в социальной сети работников образования 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ё электронное портфоли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b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дрес портфолио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zhelavskay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a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ilevna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лучила сертификат подтвержден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3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Рисунок 1" descr="C:\Users\оля\Desktop\аттестация\001.jpg"/>
          <p:cNvPicPr/>
          <p:nvPr/>
        </p:nvPicPr>
        <p:blipFill>
          <a:blip r:embed="rId1"/>
          <a:stretch/>
        </p:blipFill>
        <p:spPr>
          <a:xfrm>
            <a:off x="1714680" y="1357200"/>
            <a:ext cx="2357280" cy="35719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" descr="C:\Users\оля\Desktop\004.jpg"/>
          <p:cNvPicPr/>
          <p:nvPr/>
        </p:nvPicPr>
        <p:blipFill>
          <a:blip r:embed="rId2"/>
          <a:stretch/>
        </p:blipFill>
        <p:spPr>
          <a:xfrm>
            <a:off x="5214960" y="1428840"/>
            <a:ext cx="2286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9760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Calibri"/>
              </a:rPr>
              <a:t>11. Выступления на научно-практических конференциях, семинарах, проведение открытых уроков, мастер-классов, мероприяти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642960" y="2143080"/>
            <a:ext cx="82152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7880" indent="-677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77880" indent="-677880">
              <a:spcBef>
                <a:spcPts val="700"/>
              </a:spcBef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i="1" lang="ru-RU" sz="2800" spc="-1" strike="noStrike">
                <a:solidFill>
                  <a:srgbClr val="280099"/>
                </a:solidFill>
                <a:latin typeface="Constantia"/>
              </a:rPr>
              <a:t>            </a:t>
            </a:r>
            <a:r>
              <a:rPr b="1" i="1" lang="ru-RU" sz="28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Муниципальный уровень: </a:t>
            </a:r>
            <a:r>
              <a:rPr b="1" i="1" lang="ru-RU" sz="28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77880" indent="-677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на августовском секционном совещании  23.08.2007 г. на базе МОУ «Ковылкинская средняя общеобразовательная школа №2» с докладом на тему: «Самостоятельная работа на уроке»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77880" indent="-677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а открытый урок  по трудовому обучению с использованием ИКТ 21.03 2007 г. на базе МБОУ «Самаевская средняя общеобразовательная школа» по теме «Техника кручения из бумажных полос. Композиция к Пасхе «Веточки вербы и пасхальное яйцо»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1"/>
          <p:cNvSpPr/>
          <p:nvPr/>
        </p:nvSpPr>
        <p:spPr>
          <a:xfrm>
            <a:off x="357120" y="129600"/>
            <a:ext cx="807264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авка дана Желавской Ольге Васильевне, учителю начальных классов МБОУ «Самаевская средняя общеобразовательная школа» в том, что она выступала на августовском секционном совещании  23.08.2007 г. на базе МОУ «Ковылкинская средняя общеобразовательная школа №2» с докладом на тему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Самостоятельная работа на уроке»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авка  дана Желавской  Ольге Васильевне, учителю начальных классов МОУ «Самаевская средняя общеобразовательная школа» в том, что она провела открытый урок  по трудовому обучению с использованием ИКТ 21.03 2007 г. на базе МБОУ «Самаевская средняя общеобразовательная   школа » по теме «Техника кручения из бумажных полос. Композиция к Пасхе «Веточки вербы и пасхальное яйцо»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ректор  МУ «Центр информацион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технического обеспечения учрежд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вылкинского муниципального района                           Н. П. Кукл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Прямоугольник 2"/>
          <p:cNvSpPr/>
          <p:nvPr/>
        </p:nvSpPr>
        <p:spPr>
          <a:xfrm>
            <a:off x="642960" y="71424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Выступления на научно-практических конференциях, семинарах, проведение открытых уроков, мастер-классов, мероприя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20720" y="184320"/>
            <a:ext cx="77486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alibri"/>
              </a:rPr>
              <a:t>12. Общественная актив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71040" y="1428840"/>
            <a:ext cx="779796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7880" indent="-677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77880" indent="-677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i="1" lang="ru-RU" sz="26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Муниципальный </a:t>
            </a:r>
            <a:r>
              <a:rPr b="1" i="1" lang="ru-RU" sz="28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уров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являюсь председателем  методического объединения учителей начальных классов МБОУ «Самаевская средняя общеобразовательная школа» с  2003 года и по настоящее врем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77880" indent="-677880">
              <a:lnSpc>
                <a:spcPct val="90000"/>
              </a:lnSpc>
              <a:spcBef>
                <a:spcPts val="700"/>
              </a:spcBef>
              <a:buClr>
                <a:srgbClr val="b80047"/>
              </a:buClr>
              <a:buSzPct val="95000"/>
              <a:buFont typeface="Wingdings 2" charset="2"/>
              <a:buChar char="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i="1" lang="ru-RU" sz="26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Российский уровень: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-2010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-2011 учебных годах являлась организатором Всероссийского конкурса по естествознанию «Человек и природа» в  МБОУ « Самаевская СОШ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1"/>
          <p:cNvSpPr/>
          <p:nvPr/>
        </p:nvSpPr>
        <p:spPr>
          <a:xfrm>
            <a:off x="500040" y="1227600"/>
            <a:ext cx="74296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ка - подтвер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а Желавской Ольге Васильевне, учителю начальных классов в том, что она  является  председателем  методического объединения учителей начальных классов МБОУ «Самаевская средня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еобразовательная школа» с  2003 года и по настоящее врем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ректор МБОУ «Самаевская СОШ»-Власова А. 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ка – подтвер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на администрацией МБОУ «Самаевская средняя общеобразовательная школа» в том, что учитель начальных классов Желавская Ольга Васильевна действительно   в 209-2010, 2010-2011 учебных годах являлась организатором Всероссийского конкурса по естествознанию «Человек и природа» в  МБОУ « Самаевская СОШ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ректор МБОУ «Самаевская СОШ»-Власова А.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" descr="020"/>
          <p:cNvPicPr/>
          <p:nvPr/>
        </p:nvPicPr>
        <p:blipFill>
          <a:blip r:embed="rId1"/>
          <a:stretch/>
        </p:blipFill>
        <p:spPr>
          <a:xfrm>
            <a:off x="2000160" y="1214280"/>
            <a:ext cx="2143080" cy="3429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3" descr="016"/>
          <p:cNvPicPr/>
          <p:nvPr/>
        </p:nvPicPr>
        <p:blipFill>
          <a:blip r:embed="rId2"/>
          <a:stretch/>
        </p:blipFill>
        <p:spPr>
          <a:xfrm>
            <a:off x="5786280" y="1214280"/>
            <a:ext cx="2357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71040" y="184320"/>
            <a:ext cx="779796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Calibri"/>
              </a:rPr>
              <a:t>13. Позитивные результаты работы в качестве классного руководител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671400" y="1571400"/>
            <a:ext cx="80438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19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Реализуются </a:t>
            </a:r>
            <a:r>
              <a:rPr b="1" lang="ru-RU" sz="19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12 показателей</a:t>
            </a:r>
            <a:r>
              <a:rPr b="1" lang="ru-RU" sz="19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: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аличие системы воспитательной работы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личие системы самоуправления в класс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окий уровень воспитанности обучающихс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намику межличностных отношени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окий уровень групповой сплочен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 учащихся нет пропусков занятий без уважительных причин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меньшилось количество правонарушений  общественного порядка учащимися класс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лажена система взаимодействия с родителями,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жалоб и обращений родителей на неправомерные действия классного руководителя не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ализует  здоровье-сберегающие технологии в воспитательном процесс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ует  духовно – нравственное воспитание и народные традици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имают участия в  различных мероприятиях 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2007 -2008 уч. году  являлась победителем  школьного  конкурса  «Лучший классный руководитель»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71040" y="184320"/>
            <a:ext cx="779796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alibri"/>
              </a:rPr>
              <a:t>15. Награды и поощре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671040" y="1906200"/>
            <a:ext cx="77979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7880" indent="-677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Республиканский уровен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32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грамота Министра образования РМ, 2008г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77880" indent="-677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Благодарственное письм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ректората мордовского республиканского института  повышения квалификации работников образова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Рисунок 5" descr="C:\Users\оля\Desktop\аттестация\020.jpg"/>
          <p:cNvPicPr/>
          <p:nvPr/>
        </p:nvPicPr>
        <p:blipFill>
          <a:blip r:embed="rId1"/>
          <a:stretch/>
        </p:blipFill>
        <p:spPr>
          <a:xfrm>
            <a:off x="5214960" y="1285920"/>
            <a:ext cx="2428920" cy="400032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2" descr="C:\Users\оля\Desktop\аттестация\017.jpg"/>
          <p:cNvPicPr/>
          <p:nvPr/>
        </p:nvPicPr>
        <p:blipFill>
          <a:blip r:embed="rId2"/>
          <a:stretch/>
        </p:blipFill>
        <p:spPr>
          <a:xfrm>
            <a:off x="1571760" y="1357200"/>
            <a:ext cx="3000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Box 2"/>
          <p:cNvSpPr/>
          <p:nvPr/>
        </p:nvSpPr>
        <p:spPr>
          <a:xfrm>
            <a:off x="0" y="285840"/>
            <a:ext cx="31575240" cy="9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арактеристика-представ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чителя начальных клас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БОУ «Самаевская средняя общеобразовательная школ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вылкинского района Республики Мордов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Желавской Ольги Васильев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Желавская Ольга Васильевна 1968 года рождения. В 1987 году закончи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убово –Полянское педагогическое училище, а в  1993 году окончила МГП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м. М.Е. Евсевьева по специальности «Педагогика и методика началь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разования». В 1987 году была принята на работу в Самаевскую средню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школу, учителем начальных классов, где и работает по настоящее время. Общ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едагогический стаж в должности учителя начальных классов - 24 года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льга Васильевна аттестована  на 1 квалификационную категорию (13 разряд) в 2007 году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 24 года педагогической деятельности стала опытным, творческим, перспективны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чителем. В совершенстве владеет базовым образовательным компонентом начальной школ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ятельность учащихся и качество усвоения учебного материала находится под постоянны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нтролем учителя. Дети на уроках активны, практически все постоянно включены в работу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к как на уроках хороший психологический климат. Ее уроки отличаются высокой мотиваци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 учебному процессу, плотностью материала, работоспособностью, самостоятельность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араясь держать на пике активности весь класс, педагог учитывает индивидуаль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бенка, его природные способности и возможности, возрастные и психологические особенност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важает мир его интересов, опирается на личный опыт учащихся, учит мыслить, рассуждать, оцени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бя и других, уважать чужое мне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льга Васильевна находится в постоянном творческом и профессиональном поиске. Работ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традиционной системе, педагог использует элементы различных педагогических технологи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блемного обучения,  дифференцированного, личностно-ориентированного, опережающег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71040" y="571320"/>
            <a:ext cx="77979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80047"/>
                </a:solidFill>
                <a:latin typeface="Calibri"/>
              </a:rPr>
              <a:t>16.Повышение квалификац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642960" y="1428480"/>
            <a:ext cx="77976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30 октября по 11 ноября  2006 г в ГОУ «Мордовский республиканский институт образования» по программе  «Основы использования персонального компьютера в профессиональной деятельности» в объеме 78 час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станционные курсы  с 17 декабря 2007 г по14 марта  2008  г.  В ГОУ ДПО (ПК)С «Мордовский республиканский институт образования» по программе  «Совершенствование профессионального мастерства учителя» в объеме 164 часа. Итоговая работа на тему «Использование логических задач на уроках математики в начальной школе».2008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2011 г. дистанционное обучение на портале  социальной сети 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шла тестирование и получила свидетельство по курсу « Практическая педагогика  в начальной школе: теория и технология дифференцированного обучения в начальной школ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Рисунок 3" descr="018"/>
          <p:cNvPicPr/>
          <p:nvPr/>
        </p:nvPicPr>
        <p:blipFill>
          <a:blip r:embed="rId1"/>
          <a:stretch/>
        </p:blipFill>
        <p:spPr>
          <a:xfrm>
            <a:off x="642960" y="1071720"/>
            <a:ext cx="4286160" cy="220968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3"/>
          <p:cNvSpPr/>
          <p:nvPr/>
        </p:nvSpPr>
        <p:spPr>
          <a:xfrm>
            <a:off x="0" y="26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Рисунок 4" descr="C:\Users\оля\Desktop\аттестация\035.jpg"/>
          <p:cNvPicPr/>
          <p:nvPr/>
        </p:nvPicPr>
        <p:blipFill>
          <a:blip r:embed="rId2"/>
          <a:stretch/>
        </p:blipFill>
        <p:spPr>
          <a:xfrm>
            <a:off x="857160" y="3357720"/>
            <a:ext cx="4000680" cy="3214440"/>
          </a:xfrm>
          <a:prstGeom prst="rect">
            <a:avLst/>
          </a:prstGeom>
          <a:ln w="0">
            <a:noFill/>
          </a:ln>
        </p:spPr>
      </p:pic>
      <p:pic>
        <p:nvPicPr>
          <p:cNvPr id="860" name="Рисунок 6" descr="C:\Users\оля\Desktop\аттестация\026.jpg"/>
          <p:cNvPicPr/>
          <p:nvPr/>
        </p:nvPicPr>
        <p:blipFill>
          <a:blip r:embed="rId3"/>
          <a:stretch/>
        </p:blipFill>
        <p:spPr>
          <a:xfrm>
            <a:off x="5786280" y="1714680"/>
            <a:ext cx="25718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Box 1"/>
          <p:cNvSpPr/>
          <p:nvPr/>
        </p:nvSpPr>
        <p:spPr>
          <a:xfrm>
            <a:off x="142920" y="214200"/>
            <a:ext cx="78143040" cy="10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читель поддерживает тесный контакт с родителями своих учеников, организу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щие и индивидуальные педагогические консультации, постоянно показыва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одителям открытые уроки, факультативные занятия, классные часы. Учитель владе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ами и методами активного обучения, что позволяет получать более высокие результат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 усвоении знаний, умело использует групповую и индивидуальную работу с учащимися п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и познавательной деятельности, применяет индивидуальную шкалу для самостоятель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ценивания, взаимное рецензирование, часто использует задания исследовательского, проблемн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знавательного характе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льга Васильевна создает условия для самостоятельной познавательной деятельности учащих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уроках чтения, природоведения. Учащиеся работают с дополнительными источниками: справоч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иками, энциклопедиями,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льга Васильевна является  председателем мо учителей начальных классов, активно работает 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школьных МО и РМО, показывает прекрасные открытые уроки и внеклассные мероприятия, дели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пытом работы, своими находкам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к классный руководитель Ольга Васильевна проводит много мероприятий, способствующ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равственно-эстетическому и интеллектуальному развитию учащихс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льга Васильевна постоянно повышает свое профессиональное мастерство. В 2006 году прош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урсы «Основы использования персонального компьютера в профессиональной деятельности»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2007-2008 г дистанционные курсы «Совершенствование профессионального мастерства учителя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 в 2011 г- дистанционное обучение на портале  социальной сети ns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rtal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ru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и получила свидетель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во по курсу  « Практическая педагогика  в начальной школе: теория и технология дифференцирован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ого обучения в начальной школе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на активный участник проводимых мероприятий школы, также занимается обществен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ятельностью в поселке, Ольга Васильевна рекомендуется к аттестации на первую квалификацион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ую категор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иректор школы:            Власова А. 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56760" y="139680"/>
            <a:ext cx="85726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Calibri"/>
              </a:rPr>
              <a:t>1. Представление собственного инновационного педагогического опы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Прямоугольник 2"/>
          <p:cNvSpPr/>
          <p:nvPr/>
        </p:nvSpPr>
        <p:spPr>
          <a:xfrm>
            <a:off x="571680" y="310500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00000"/>
              </a:lnSpc>
              <a:tabLst>
                <a:tab algn="l" pos="0"/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дрес сайта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zhelavskaya-olga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ilev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Рисунок 7" descr="C:\Users\оля\Desktop\аттестация\027.jpg"/>
          <p:cNvPicPr/>
          <p:nvPr/>
        </p:nvPicPr>
        <p:blipFill>
          <a:blip r:embed="rId1"/>
          <a:stretch/>
        </p:blipFill>
        <p:spPr>
          <a:xfrm>
            <a:off x="3071880" y="1714680"/>
            <a:ext cx="2928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09928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b80047"/>
                </a:solidFill>
                <a:latin typeface="Calibri"/>
              </a:rPr>
              <a:t>6. Качество знаний обучающихся по итогам внешнего мониторинга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539280" y="2518920"/>
            <a:ext cx="810108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9320" indent="-6793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1" i="1" lang="ru-RU" sz="36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Процент качества знаний обучающихся по итогам муниципального  мониторинга за межаттестационный период - </a:t>
            </a:r>
            <a:r>
              <a:rPr b="1" i="1" lang="ru-RU" sz="3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50 </a:t>
            </a:r>
            <a:r>
              <a:rPr b="1" i="1" lang="ru-RU" sz="36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Box 1"/>
          <p:cNvSpPr/>
          <p:nvPr/>
        </p:nvSpPr>
        <p:spPr>
          <a:xfrm>
            <a:off x="313560" y="285840"/>
            <a:ext cx="87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равка - подтвер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                                    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качества знаний обучающихся по итог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                                    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внешнего  мониторин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Выдана администрацией МБОУ «Самаевская средняя общеобразова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школа»  учителю начальных классов Желавской Ольге Васильевне в то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что учащиеся 3 класса в 2006 – 2007 уч. году прошли  аттестацию с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следующими результат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редмет              % успеваемости           % качества знаний        Средний б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Русский язык                66,6                                   33,3                             3,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Математика                    100                                  66, 6                             4,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Box 2"/>
          <p:cNvSpPr/>
          <p:nvPr/>
        </p:nvSpPr>
        <p:spPr>
          <a:xfrm>
            <a:off x="1953000" y="421488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Директор школы -Власова Анна Ива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79707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a50021"/>
                </a:solidFill>
                <a:latin typeface="Calibri"/>
              </a:rPr>
              <a:t>8. Позитивные результаты внеурочной деятельности обучающихся по учебным предметам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713880" y="1928520"/>
            <a:ext cx="779940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вожу различные внеурочные занятия по предметам, результатом чего является участие ребят во всероссийских конкурсах: «Кенгуру», «Русский медвежонок», «ЧИП» , за что участники получили  сертификаты, а лучшие были награждены подарками и дипломами.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847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b84700"/>
                </a:solidFill>
                <a:latin typeface="Times New Roman"/>
                <a:ea typeface="Times New Roman"/>
              </a:rPr>
              <a:t>Муниципальный уровень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Победы и призовые места —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2" descr="019"/>
          <p:cNvPicPr/>
          <p:nvPr/>
        </p:nvPicPr>
        <p:blipFill>
          <a:blip r:embed="rId1"/>
          <a:stretch/>
        </p:blipFill>
        <p:spPr>
          <a:xfrm>
            <a:off x="1214280" y="1285920"/>
            <a:ext cx="2357640" cy="31431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" descr="017"/>
          <p:cNvPicPr/>
          <p:nvPr/>
        </p:nvPicPr>
        <p:blipFill>
          <a:blip r:embed="rId2"/>
          <a:stretch/>
        </p:blipFill>
        <p:spPr>
          <a:xfrm>
            <a:off x="5214960" y="1285920"/>
            <a:ext cx="2214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оля</cp:lastModifiedBy>
  <dcterms:modified xsi:type="dcterms:W3CDTF">2011-12-04T08:23:39Z</dcterms:modified>
  <cp:revision>68</cp:revision>
  <dc:subject/>
  <dc:title>Роль ПНПО в развитии (модернизации) образования страны</dc:title>
</cp:coreProperties>
</file>