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10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1B-DDBA-4B47-94D1-CB6818DA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F46-D85A-405D-ACC5-6F3EE949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571-5946-4928-8C33-C486B89B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E97-E72E-4C03-829D-9A3DC334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6756-847B-42D3-B474-D1121DDD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900D-C86D-45AB-B6D6-4F38D73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F32-3A8C-4B62-97DC-D3572AC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B4D0-F0E8-416C-A2A2-8F36D6A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B59-596D-4EB2-8FEC-714938C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057F-EE54-42F9-A864-EE186A0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CCCF-6B9E-4B39-9F37-1D6F9F2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CE9-EEC0-4D7E-8172-CD496D1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8C6-62F9-44F7-B9C0-F4195F7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E068-19FB-43C7-A4F4-057D1E9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A19-227F-4DE2-9E14-8E08360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196-BBEB-4FBF-A6BB-BE57557B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1F3-CAF4-4DEC-A073-A8B7D8AA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BA8-9D53-44A5-8FBD-1B0B89A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6CB-A25B-4F9E-A8F7-B92A1687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3AA-C90C-474F-ACC5-D9214C8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101-81C8-422B-935A-DE292946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173-4594-4247-8257-CF8B76FB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02B-A472-4B79-9C64-4D7B1FB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DBE-9E71-4840-8E20-7E51EC6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95D-F1D4-401A-B0E8-4E50EC6C579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03A-D575-422C-BC25-67E76CF071A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c-tour.ru/media/upload/podmoskovie2.jpe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00281-flower_meadow_366x2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5092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Вкус пищи узнают солью, вкус мира – глазами».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Турецкая пословица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7993080" cy="25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Цель урока:</a:t>
            </a: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совершенствование имеющихся и формирование новых знаний об особенностях зрительного восприятия  человека;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обоснование  необходимости соблюдения правил гигиены зрения.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, нужно сделать, для того чтобы сохранить способность воспринимать красоту окружающего мир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j0411500[1]"/>
          <p:cNvPicPr/>
          <p:nvPr/>
        </p:nvPicPr>
        <p:blipFill>
          <a:blip r:embed="rId2"/>
          <a:stretch/>
        </p:blipFill>
        <p:spPr>
          <a:xfrm>
            <a:off x="6443640" y="3860640"/>
            <a:ext cx="1809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Arial"/>
              </a:rPr>
              <a:t>Коньюктивит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конъюнктивит"/>
          <p:cNvPicPr/>
          <p:nvPr/>
        </p:nvPicPr>
        <p:blipFill>
          <a:blip r:embed="rId2"/>
          <a:stretch/>
        </p:blipFill>
        <p:spPr>
          <a:xfrm>
            <a:off x="900000" y="836640"/>
            <a:ext cx="79948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мутнение роговицы – бельмо</a:t>
            </a:r>
            <a:br>
              <a:rPr sz="3200"/>
            </a:b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бельмо"/>
          <p:cNvPicPr/>
          <p:nvPr/>
        </p:nvPicPr>
        <p:blipFill>
          <a:blip r:embed="rId2"/>
          <a:stretch/>
        </p:blipFill>
        <p:spPr>
          <a:xfrm>
            <a:off x="900000" y="765000"/>
            <a:ext cx="799308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Катаракта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катаракта"/>
          <p:cNvPicPr/>
          <p:nvPr/>
        </p:nvPicPr>
        <p:blipFill>
          <a:blip r:embed="rId2"/>
          <a:stretch/>
        </p:blipFill>
        <p:spPr>
          <a:xfrm>
            <a:off x="684360" y="981000"/>
            <a:ext cx="8208720" cy="5877000"/>
          </a:xfrm>
          <a:prstGeom prst="rect">
            <a:avLst/>
          </a:prstGeom>
          <a:ln w="0">
            <a:noFill/>
          </a:ln>
        </p:spPr>
      </p:pic>
      <p:sp>
        <p:nvSpPr>
          <p:cNvPr id="189" name="Стрелка вправо с вырезом 4"/>
          <p:cNvSpPr/>
          <p:nvPr/>
        </p:nvSpPr>
        <p:spPr>
          <a:xfrm>
            <a:off x="7380360" y="6165720"/>
            <a:ext cx="1295280" cy="358920"/>
          </a:xfrm>
          <a:custGeom>
            <a:avLst/>
            <a:gdLst>
              <a:gd name="textAreaLeft" fmla="*/ 89640 w 1295280"/>
              <a:gd name="textAreaRight" fmla="*/ 1205640 w 129528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00" y="5400"/>
                </a:ln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18600" y="16200"/>
                </a:lnTo>
                <a:lnTo>
                  <a:pt x="0" y="16200"/>
                </a:lnTo>
                <a:lnTo>
                  <a:pt x="15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6c3"/>
          </a:solidFill>
          <a:ln w="25560">
            <a:solidFill>
              <a:srgbClr val="a49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9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альнозоркость (гиперметропия)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ДАЛЬНО"/>
          <p:cNvPicPr/>
          <p:nvPr/>
        </p:nvPicPr>
        <p:blipFill>
          <a:blip r:embed="rId2"/>
          <a:stretch/>
        </p:blipFill>
        <p:spPr>
          <a:xfrm>
            <a:off x="1692360" y="1700280"/>
            <a:ext cx="5975280" cy="3241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116000" y="524988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товые лучи, идущие от предмета,  фокусируются как бы за сетчаткой. Окружающие предметы видятся расплывчатыми, не контрастны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Близорукость (миопия)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5" name="Picture 4" descr="myopic"/>
          <p:cNvPicPr/>
          <p:nvPr/>
        </p:nvPicPr>
        <p:blipFill>
          <a:blip r:embed="rId2"/>
          <a:stretch/>
        </p:blipFill>
        <p:spPr>
          <a:xfrm>
            <a:off x="1979640" y="1413000"/>
            <a:ext cx="5832360" cy="352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900000" y="517860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ые лучи от предмета фокусируются  перед сетчаткой. Хорошая острота зрения возможна  только вблизи, а удаленные предметы видятся нечетко. </a:t>
            </a:r>
            <a:endParaRPr b="0" i="1" lang="en-US" sz="24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Д (диоптрии)  – единицы измерения </a:t>
            </a:r>
            <a:br>
              <a:rPr sz="2800"/>
            </a:b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преломляющей силы линзы.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цепт очков 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изоруког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 – 5 Д, 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4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1513587-fec4a210de761c57"/>
          <p:cNvPicPr/>
          <p:nvPr/>
        </p:nvPicPr>
        <p:blipFill>
          <a:blip r:embed="rId2"/>
          <a:stretch/>
        </p:blipFill>
        <p:spPr>
          <a:xfrm>
            <a:off x="1077840" y="175248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Определите, какая картина нарисована дальтоником</a:t>
            </a:r>
            <a:r>
              <a:rPr b="1" i="1" lang="en-US" sz="2800" spc="-1" strike="noStrike">
                <a:solidFill>
                  <a:srgbClr val="4824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Явление дапьтонизма"/>
          <p:cNvPicPr/>
          <p:nvPr/>
        </p:nvPicPr>
        <p:blipFill>
          <a:blip r:embed="rId2"/>
          <a:stretch/>
        </p:blipFill>
        <p:spPr>
          <a:xfrm>
            <a:off x="684360" y="1268280"/>
            <a:ext cx="8208720" cy="460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1884960" y="582624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1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425640" y="582624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2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таблица Браиля"/>
          <p:cNvPicPr/>
          <p:nvPr/>
        </p:nvPicPr>
        <p:blipFill>
          <a:blip r:embed="rId2"/>
          <a:stretch/>
        </p:blipFill>
        <p:spPr>
          <a:xfrm>
            <a:off x="900000" y="907920"/>
            <a:ext cx="7993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троение зрительного анализатора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Зрительные рецеп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Зрительные нер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Зрительная зона к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х полуша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Зрительный анализатор"/>
          <p:cNvPicPr/>
          <p:nvPr/>
        </p:nvPicPr>
        <p:blipFill>
          <a:blip r:embed="rId2"/>
          <a:stretch/>
        </p:blipFill>
        <p:spPr>
          <a:xfrm>
            <a:off x="900000" y="1700280"/>
            <a:ext cx="4156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Зрительные иллюзии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0_500c6_e4d494fc_XL"/>
          <p:cNvPicPr/>
          <p:nvPr/>
        </p:nvPicPr>
        <p:blipFill>
          <a:blip r:embed="rId2"/>
          <a:stretch/>
        </p:blipFill>
        <p:spPr>
          <a:xfrm>
            <a:off x="900000" y="1268280"/>
            <a:ext cx="7993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ИЛ 1"/>
          <p:cNvPicPr/>
          <p:nvPr/>
        </p:nvPicPr>
        <p:blipFill>
          <a:blip r:embed="rId2"/>
          <a:stretch/>
        </p:blipFill>
        <p:spPr>
          <a:xfrm>
            <a:off x="684360" y="260280"/>
            <a:ext cx="3743280" cy="619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ИЛ2"/>
          <p:cNvPicPr/>
          <p:nvPr/>
        </p:nvPicPr>
        <p:blipFill>
          <a:blip r:embed="rId3"/>
          <a:stretch/>
        </p:blipFill>
        <p:spPr>
          <a:xfrm>
            <a:off x="4500720" y="260280"/>
            <a:ext cx="446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МУЗЫК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Картинка 102 из 401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14200"/>
            <a:ext cx="799308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Задание для группы №1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0" name="Picture 4" descr="Eyeglasses"/>
          <p:cNvPicPr/>
          <p:nvPr/>
        </p:nvPicPr>
        <p:blipFill>
          <a:blip r:embed="rId2"/>
          <a:stretch/>
        </p:blipFill>
        <p:spPr>
          <a:xfrm>
            <a:off x="1403280" y="112536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G00208_"/>
          <p:cNvPicPr/>
          <p:nvPr/>
        </p:nvPicPr>
        <p:blipFill>
          <a:blip r:embed="rId3"/>
          <a:stretch/>
        </p:blipFill>
        <p:spPr>
          <a:xfrm flipH="1">
            <a:off x="3850920" y="4508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Eyeglasses"/>
          <p:cNvPicPr/>
          <p:nvPr/>
        </p:nvPicPr>
        <p:blipFill>
          <a:blip r:embed="rId4"/>
          <a:stretch/>
        </p:blipFill>
        <p:spPr>
          <a:xfrm>
            <a:off x="6372360" y="1125360"/>
            <a:ext cx="2136600" cy="1152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3867120" y="2298600"/>
            <a:ext cx="192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цепт очков: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1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,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045080" y="1803240"/>
            <a:ext cx="263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ки с двояковогнутой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з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86880" y="2420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ки с двояковыпуклой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з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435640" y="4221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3924360" y="4292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717800" y="4076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Задание  для группы № 2</a:t>
            </a:r>
            <a:br>
              <a:rPr sz="2800"/>
            </a:b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Радужный кросс – опрос.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71640" y="1397160"/>
          <a:ext cx="7921440" cy="50972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лаз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стройство, корректирующее недостатки зрения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льнозоркость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при этом дефекте зрения  фокус лежит перед сетчаткой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инз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тическое тело, имеющее сферическую поверхн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инз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расположен за зрачком, похож на собирающую линзу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чки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при этом дефекте зрения фокус лежит за сетчаткой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лизорукость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ногда называют “живым” фотоаппарато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тчатк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нутренняя оболочка глаза, содержащая зрительные рецепторы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Задание для группы №3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читайте текст «Гигиена зр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йдите в нем ошибки  и вычеркните их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кста, используя марк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Сформулируйте и озвучьте прав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гиены зр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Дайте им обосн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9" descr="j0424166[1]"/>
          <p:cNvPicPr/>
          <p:nvPr/>
        </p:nvPicPr>
        <p:blipFill>
          <a:blip r:embed="rId2"/>
          <a:stretch/>
        </p:blipFill>
        <p:spPr>
          <a:xfrm>
            <a:off x="7380360" y="4581360"/>
            <a:ext cx="94284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Проверь себя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7.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8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ание мини – проектов по теме: «Зрительное восприятие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валеологического  самоанализа «Я и мое зрени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кроссворда по теме: «Зрительный анализатор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11339"/>
          <p:cNvPicPr/>
          <p:nvPr/>
        </p:nvPicPr>
        <p:blipFill>
          <a:blip r:embed="rId5"/>
          <a:stretch/>
        </p:blipFill>
        <p:spPr>
          <a:xfrm>
            <a:off x="6732720" y="404640"/>
            <a:ext cx="1871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aa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240" name="07 Дорожка 7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sc043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Внутреннее строение глаза человека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4126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3059280" y="2349360"/>
            <a:ext cx="4053960" cy="3306600"/>
            <a:chOff x="3059280" y="2349360"/>
            <a:chExt cx="4053960" cy="3306600"/>
          </a:xfrm>
        </p:grpSpPr>
        <p:sp>
          <p:nvSpPr>
            <p:cNvPr id="99" name="Freeform 5"/>
            <p:cNvSpPr/>
            <p:nvPr/>
          </p:nvSpPr>
          <p:spPr>
            <a:xfrm>
              <a:off x="3574800" y="2349360"/>
              <a:ext cx="3241440" cy="330660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306600"/>
                <a:gd name="textAreaBottom" fmla="*/ 3306960 h 3306600"/>
              </a:gdLst>
              <a:ahLst/>
              <a:rect l="textAreaLeft" t="textAreaTop" r="textAreaRight" b="textAreaBottom"/>
              <a:pathLst>
                <a:path w="3443" h="3823">
                  <a:moveTo>
                    <a:pt x="3322" y="1625"/>
                  </a:moveTo>
                  <a:cubicBezTo>
                    <a:pt x="3314" y="1540"/>
                    <a:pt x="3315" y="1462"/>
                    <a:pt x="3303" y="1393"/>
                  </a:cubicBezTo>
                  <a:cubicBezTo>
                    <a:pt x="3291" y="1324"/>
                    <a:pt x="3278" y="1283"/>
                    <a:pt x="3251" y="1209"/>
                  </a:cubicBezTo>
                  <a:cubicBezTo>
                    <a:pt x="3224" y="1135"/>
                    <a:pt x="3203" y="1051"/>
                    <a:pt x="3142" y="946"/>
                  </a:cubicBezTo>
                  <a:cubicBezTo>
                    <a:pt x="3081" y="841"/>
                    <a:pt x="2982" y="691"/>
                    <a:pt x="2883" y="579"/>
                  </a:cubicBezTo>
                  <a:cubicBezTo>
                    <a:pt x="2784" y="467"/>
                    <a:pt x="2639" y="344"/>
                    <a:pt x="2546" y="275"/>
                  </a:cubicBezTo>
                  <a:cubicBezTo>
                    <a:pt x="2453" y="206"/>
                    <a:pt x="2411" y="200"/>
                    <a:pt x="2325" y="166"/>
                  </a:cubicBezTo>
                  <a:cubicBezTo>
                    <a:pt x="2239" y="132"/>
                    <a:pt x="2156" y="100"/>
                    <a:pt x="2032" y="73"/>
                  </a:cubicBezTo>
                  <a:cubicBezTo>
                    <a:pt x="1908" y="46"/>
                    <a:pt x="1730" y="10"/>
                    <a:pt x="1582" y="5"/>
                  </a:cubicBezTo>
                  <a:cubicBezTo>
                    <a:pt x="1434" y="0"/>
                    <a:pt x="1272" y="24"/>
                    <a:pt x="1143" y="43"/>
                  </a:cubicBezTo>
                  <a:cubicBezTo>
                    <a:pt x="1014" y="62"/>
                    <a:pt x="913" y="82"/>
                    <a:pt x="806" y="121"/>
                  </a:cubicBezTo>
                  <a:cubicBezTo>
                    <a:pt x="699" y="160"/>
                    <a:pt x="571" y="233"/>
                    <a:pt x="503" y="275"/>
                  </a:cubicBezTo>
                  <a:lnTo>
                    <a:pt x="397" y="373"/>
                  </a:lnTo>
                  <a:cubicBezTo>
                    <a:pt x="368" y="397"/>
                    <a:pt x="322" y="437"/>
                    <a:pt x="326" y="421"/>
                  </a:cubicBezTo>
                  <a:cubicBezTo>
                    <a:pt x="330" y="405"/>
                    <a:pt x="392" y="313"/>
                    <a:pt x="423" y="275"/>
                  </a:cubicBezTo>
                  <a:cubicBezTo>
                    <a:pt x="454" y="237"/>
                    <a:pt x="511" y="218"/>
                    <a:pt x="513" y="196"/>
                  </a:cubicBezTo>
                  <a:lnTo>
                    <a:pt x="435" y="140"/>
                  </a:lnTo>
                  <a:cubicBezTo>
                    <a:pt x="384" y="177"/>
                    <a:pt x="265" y="342"/>
                    <a:pt x="206" y="418"/>
                  </a:cubicBezTo>
                  <a:cubicBezTo>
                    <a:pt x="147" y="494"/>
                    <a:pt x="112" y="538"/>
                    <a:pt x="78" y="594"/>
                  </a:cubicBezTo>
                  <a:lnTo>
                    <a:pt x="0" y="755"/>
                  </a:lnTo>
                  <a:cubicBezTo>
                    <a:pt x="7" y="1167"/>
                    <a:pt x="74" y="2643"/>
                    <a:pt x="121" y="3065"/>
                  </a:cubicBezTo>
                  <a:lnTo>
                    <a:pt x="285" y="3290"/>
                  </a:lnTo>
                  <a:cubicBezTo>
                    <a:pt x="332" y="3359"/>
                    <a:pt x="355" y="3412"/>
                    <a:pt x="405" y="3481"/>
                  </a:cubicBezTo>
                  <a:cubicBezTo>
                    <a:pt x="455" y="3550"/>
                    <a:pt x="539" y="3673"/>
                    <a:pt x="585" y="3706"/>
                  </a:cubicBezTo>
                  <a:lnTo>
                    <a:pt x="682" y="3680"/>
                  </a:lnTo>
                  <a:cubicBezTo>
                    <a:pt x="676" y="3654"/>
                    <a:pt x="583" y="3595"/>
                    <a:pt x="547" y="3549"/>
                  </a:cubicBezTo>
                  <a:cubicBezTo>
                    <a:pt x="511" y="3503"/>
                    <a:pt x="469" y="3422"/>
                    <a:pt x="468" y="3403"/>
                  </a:cubicBezTo>
                  <a:cubicBezTo>
                    <a:pt x="467" y="3384"/>
                    <a:pt x="507" y="3409"/>
                    <a:pt x="543" y="3433"/>
                  </a:cubicBezTo>
                  <a:cubicBezTo>
                    <a:pt x="579" y="3457"/>
                    <a:pt x="605" y="3498"/>
                    <a:pt x="686" y="3549"/>
                  </a:cubicBezTo>
                  <a:cubicBezTo>
                    <a:pt x="767" y="3600"/>
                    <a:pt x="929" y="3698"/>
                    <a:pt x="1031" y="3740"/>
                  </a:cubicBezTo>
                  <a:cubicBezTo>
                    <a:pt x="1133" y="3782"/>
                    <a:pt x="1220" y="3790"/>
                    <a:pt x="1297" y="3804"/>
                  </a:cubicBezTo>
                  <a:cubicBezTo>
                    <a:pt x="1374" y="3818"/>
                    <a:pt x="1414" y="3823"/>
                    <a:pt x="1496" y="3823"/>
                  </a:cubicBezTo>
                  <a:cubicBezTo>
                    <a:pt x="1578" y="3823"/>
                    <a:pt x="1690" y="3821"/>
                    <a:pt x="1792" y="3804"/>
                  </a:cubicBezTo>
                  <a:cubicBezTo>
                    <a:pt x="1894" y="3787"/>
                    <a:pt x="1995" y="3765"/>
                    <a:pt x="2107" y="3718"/>
                  </a:cubicBezTo>
                  <a:cubicBezTo>
                    <a:pt x="2219" y="3671"/>
                    <a:pt x="2346" y="3597"/>
                    <a:pt x="2467" y="3519"/>
                  </a:cubicBezTo>
                  <a:cubicBezTo>
                    <a:pt x="2588" y="3441"/>
                    <a:pt x="2732" y="3343"/>
                    <a:pt x="2831" y="3253"/>
                  </a:cubicBezTo>
                  <a:cubicBezTo>
                    <a:pt x="2930" y="3163"/>
                    <a:pt x="3006" y="3055"/>
                    <a:pt x="3063" y="2979"/>
                  </a:cubicBezTo>
                  <a:cubicBezTo>
                    <a:pt x="3120" y="2903"/>
                    <a:pt x="3141" y="2844"/>
                    <a:pt x="3172" y="2795"/>
                  </a:cubicBezTo>
                  <a:cubicBezTo>
                    <a:pt x="3203" y="2746"/>
                    <a:pt x="3210" y="2764"/>
                    <a:pt x="3251" y="2686"/>
                  </a:cubicBezTo>
                  <a:cubicBezTo>
                    <a:pt x="3292" y="2608"/>
                    <a:pt x="3397" y="2430"/>
                    <a:pt x="3420" y="2326"/>
                  </a:cubicBezTo>
                  <a:cubicBezTo>
                    <a:pt x="3443" y="2222"/>
                    <a:pt x="3401" y="2134"/>
                    <a:pt x="3390" y="2064"/>
                  </a:cubicBezTo>
                  <a:cubicBezTo>
                    <a:pt x="3379" y="1994"/>
                    <a:pt x="3363" y="1976"/>
                    <a:pt x="3352" y="1903"/>
                  </a:cubicBezTo>
                  <a:cubicBezTo>
                    <a:pt x="3341" y="1830"/>
                    <a:pt x="3330" y="1710"/>
                    <a:pt x="3322" y="1625"/>
                  </a:cubicBezTo>
                  <a:close/>
                </a:path>
              </a:pathLst>
            </a:custGeom>
            <a:solidFill>
              <a:srgbClr val="ffff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157560" y="2995200"/>
              <a:ext cx="639360" cy="20098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679" h="2322">
                  <a:moveTo>
                    <a:pt x="607" y="39"/>
                  </a:moveTo>
                  <a:lnTo>
                    <a:pt x="451" y="0"/>
                  </a:lnTo>
                  <a:cubicBezTo>
                    <a:pt x="394" y="53"/>
                    <a:pt x="326" y="227"/>
                    <a:pt x="262" y="360"/>
                  </a:cubicBezTo>
                  <a:cubicBezTo>
                    <a:pt x="198" y="493"/>
                    <a:pt x="108" y="667"/>
                    <a:pt x="64" y="801"/>
                  </a:cubicBezTo>
                  <a:cubicBezTo>
                    <a:pt x="20" y="935"/>
                    <a:pt x="0" y="1030"/>
                    <a:pt x="1" y="1161"/>
                  </a:cubicBezTo>
                  <a:cubicBezTo>
                    <a:pt x="2" y="1292"/>
                    <a:pt x="42" y="1475"/>
                    <a:pt x="70" y="1587"/>
                  </a:cubicBezTo>
                  <a:cubicBezTo>
                    <a:pt x="98" y="1699"/>
                    <a:pt x="121" y="1750"/>
                    <a:pt x="169" y="1836"/>
                  </a:cubicBezTo>
                  <a:cubicBezTo>
                    <a:pt x="217" y="1922"/>
                    <a:pt x="304" y="2040"/>
                    <a:pt x="357" y="2105"/>
                  </a:cubicBezTo>
                  <a:cubicBezTo>
                    <a:pt x="410" y="2170"/>
                    <a:pt x="449" y="2193"/>
                    <a:pt x="487" y="2229"/>
                  </a:cubicBezTo>
                  <a:cubicBezTo>
                    <a:pt x="525" y="2265"/>
                    <a:pt x="554" y="2318"/>
                    <a:pt x="586" y="2322"/>
                  </a:cubicBezTo>
                  <a:lnTo>
                    <a:pt x="679" y="2255"/>
                  </a:lnTo>
                  <a:lnTo>
                    <a:pt x="607" y="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741480" y="2444400"/>
              <a:ext cx="2933280" cy="3098880"/>
            </a:xfrm>
            <a:custGeom>
              <a:avLst/>
              <a:gdLst>
                <a:gd name="textAreaLeft" fmla="*/ 0 w 2933280"/>
                <a:gd name="textAreaRight" fmla="*/ 2933640 w 2933280"/>
                <a:gd name="textAreaTop" fmla="*/ 0 h 3098880"/>
                <a:gd name="textAreaBottom" fmla="*/ 3099240 h 3098880"/>
              </a:gdLst>
              <a:ahLst/>
              <a:rect l="textAreaLeft" t="textAreaTop" r="textAreaRight" b="textAreaBottom"/>
              <a:pathLst>
                <a:path w="3117" h="3583">
                  <a:moveTo>
                    <a:pt x="135" y="550"/>
                  </a:moveTo>
                  <a:cubicBezTo>
                    <a:pt x="168" y="503"/>
                    <a:pt x="251" y="408"/>
                    <a:pt x="306" y="355"/>
                  </a:cubicBezTo>
                  <a:cubicBezTo>
                    <a:pt x="361" y="302"/>
                    <a:pt x="403" y="271"/>
                    <a:pt x="468" y="232"/>
                  </a:cubicBezTo>
                  <a:cubicBezTo>
                    <a:pt x="533" y="193"/>
                    <a:pt x="600" y="157"/>
                    <a:pt x="696" y="124"/>
                  </a:cubicBezTo>
                  <a:cubicBezTo>
                    <a:pt x="792" y="91"/>
                    <a:pt x="931" y="51"/>
                    <a:pt x="1047" y="31"/>
                  </a:cubicBezTo>
                  <a:cubicBezTo>
                    <a:pt x="1163" y="11"/>
                    <a:pt x="1313" y="8"/>
                    <a:pt x="1395" y="4"/>
                  </a:cubicBezTo>
                  <a:cubicBezTo>
                    <a:pt x="1477" y="0"/>
                    <a:pt x="1488" y="0"/>
                    <a:pt x="1542" y="4"/>
                  </a:cubicBezTo>
                  <a:cubicBezTo>
                    <a:pt x="1596" y="8"/>
                    <a:pt x="1655" y="18"/>
                    <a:pt x="1719" y="28"/>
                  </a:cubicBezTo>
                  <a:cubicBezTo>
                    <a:pt x="1783" y="38"/>
                    <a:pt x="1850" y="45"/>
                    <a:pt x="1926" y="67"/>
                  </a:cubicBezTo>
                  <a:cubicBezTo>
                    <a:pt x="2002" y="89"/>
                    <a:pt x="2103" y="130"/>
                    <a:pt x="2174" y="163"/>
                  </a:cubicBezTo>
                  <a:cubicBezTo>
                    <a:pt x="2245" y="196"/>
                    <a:pt x="2286" y="220"/>
                    <a:pt x="2352" y="265"/>
                  </a:cubicBezTo>
                  <a:cubicBezTo>
                    <a:pt x="2418" y="310"/>
                    <a:pt x="2508" y="374"/>
                    <a:pt x="2571" y="433"/>
                  </a:cubicBezTo>
                  <a:cubicBezTo>
                    <a:pt x="2634" y="492"/>
                    <a:pt x="2689" y="560"/>
                    <a:pt x="2733" y="619"/>
                  </a:cubicBezTo>
                  <a:cubicBezTo>
                    <a:pt x="2777" y="678"/>
                    <a:pt x="2802" y="727"/>
                    <a:pt x="2835" y="787"/>
                  </a:cubicBezTo>
                  <a:cubicBezTo>
                    <a:pt x="2868" y="847"/>
                    <a:pt x="2906" y="915"/>
                    <a:pt x="2934" y="982"/>
                  </a:cubicBezTo>
                  <a:cubicBezTo>
                    <a:pt x="2962" y="1049"/>
                    <a:pt x="2980" y="1096"/>
                    <a:pt x="3006" y="1191"/>
                  </a:cubicBezTo>
                  <a:cubicBezTo>
                    <a:pt x="3032" y="1286"/>
                    <a:pt x="3070" y="1429"/>
                    <a:pt x="3089" y="1551"/>
                  </a:cubicBezTo>
                  <a:cubicBezTo>
                    <a:pt x="3108" y="1673"/>
                    <a:pt x="3114" y="1852"/>
                    <a:pt x="3117" y="1921"/>
                  </a:cubicBezTo>
                  <a:lnTo>
                    <a:pt x="3108" y="1963"/>
                  </a:lnTo>
                  <a:cubicBezTo>
                    <a:pt x="3106" y="1982"/>
                    <a:pt x="3104" y="2013"/>
                    <a:pt x="3105" y="2038"/>
                  </a:cubicBezTo>
                  <a:cubicBezTo>
                    <a:pt x="3106" y="2063"/>
                    <a:pt x="3115" y="2051"/>
                    <a:pt x="3111" y="2113"/>
                  </a:cubicBezTo>
                  <a:cubicBezTo>
                    <a:pt x="3107" y="2175"/>
                    <a:pt x="3096" y="2357"/>
                    <a:pt x="3081" y="2413"/>
                  </a:cubicBezTo>
                  <a:cubicBezTo>
                    <a:pt x="3066" y="2469"/>
                    <a:pt x="3055" y="2399"/>
                    <a:pt x="3018" y="2452"/>
                  </a:cubicBezTo>
                  <a:cubicBezTo>
                    <a:pt x="2981" y="2505"/>
                    <a:pt x="2938" y="2623"/>
                    <a:pt x="2859" y="2731"/>
                  </a:cubicBezTo>
                  <a:cubicBezTo>
                    <a:pt x="2780" y="2839"/>
                    <a:pt x="2640" y="3008"/>
                    <a:pt x="2544" y="3103"/>
                  </a:cubicBezTo>
                  <a:cubicBezTo>
                    <a:pt x="2448" y="3198"/>
                    <a:pt x="2374" y="3244"/>
                    <a:pt x="2286" y="3301"/>
                  </a:cubicBezTo>
                  <a:cubicBezTo>
                    <a:pt x="2198" y="3358"/>
                    <a:pt x="2115" y="3403"/>
                    <a:pt x="2016" y="3445"/>
                  </a:cubicBezTo>
                  <a:cubicBezTo>
                    <a:pt x="1917" y="3487"/>
                    <a:pt x="1790" y="3530"/>
                    <a:pt x="1689" y="3553"/>
                  </a:cubicBezTo>
                  <a:cubicBezTo>
                    <a:pt x="1588" y="3576"/>
                    <a:pt x="1512" y="3583"/>
                    <a:pt x="1410" y="3583"/>
                  </a:cubicBezTo>
                  <a:cubicBezTo>
                    <a:pt x="1308" y="3583"/>
                    <a:pt x="1175" y="3573"/>
                    <a:pt x="1077" y="3556"/>
                  </a:cubicBezTo>
                  <a:cubicBezTo>
                    <a:pt x="979" y="3539"/>
                    <a:pt x="910" y="3517"/>
                    <a:pt x="824" y="3478"/>
                  </a:cubicBezTo>
                  <a:cubicBezTo>
                    <a:pt x="738" y="3439"/>
                    <a:pt x="629" y="3370"/>
                    <a:pt x="558" y="3319"/>
                  </a:cubicBezTo>
                  <a:cubicBezTo>
                    <a:pt x="487" y="3268"/>
                    <a:pt x="440" y="3213"/>
                    <a:pt x="396" y="3172"/>
                  </a:cubicBezTo>
                  <a:lnTo>
                    <a:pt x="291" y="3073"/>
                  </a:lnTo>
                  <a:cubicBezTo>
                    <a:pt x="235" y="2991"/>
                    <a:pt x="106" y="2833"/>
                    <a:pt x="59" y="2683"/>
                  </a:cubicBezTo>
                  <a:cubicBezTo>
                    <a:pt x="12" y="2533"/>
                    <a:pt x="12" y="2355"/>
                    <a:pt x="6" y="2173"/>
                  </a:cubicBezTo>
                  <a:cubicBezTo>
                    <a:pt x="0" y="1991"/>
                    <a:pt x="16" y="1765"/>
                    <a:pt x="21" y="1588"/>
                  </a:cubicBezTo>
                  <a:cubicBezTo>
                    <a:pt x="26" y="1411"/>
                    <a:pt x="23" y="1248"/>
                    <a:pt x="33" y="1111"/>
                  </a:cubicBezTo>
                  <a:cubicBezTo>
                    <a:pt x="43" y="974"/>
                    <a:pt x="72" y="842"/>
                    <a:pt x="84" y="763"/>
                  </a:cubicBezTo>
                  <a:cubicBezTo>
                    <a:pt x="96" y="684"/>
                    <a:pt x="100" y="669"/>
                    <a:pt x="108" y="634"/>
                  </a:cubicBezTo>
                  <a:cubicBezTo>
                    <a:pt x="116" y="599"/>
                    <a:pt x="98" y="597"/>
                    <a:pt x="135" y="550"/>
                  </a:cubicBezTo>
                  <a:close/>
                </a:path>
              </a:pathLst>
            </a:custGeom>
            <a:solidFill>
              <a:srgbClr val="ffc4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6503760" y="4227120"/>
              <a:ext cx="609480" cy="525240"/>
              <a:chOff x="6503760" y="4227120"/>
              <a:chExt cx="609480" cy="525240"/>
            </a:xfrm>
          </p:grpSpPr>
          <p:sp>
            <p:nvSpPr>
              <p:cNvPr id="103" name="Freeform 9"/>
              <p:cNvSpPr/>
              <p:nvPr/>
            </p:nvSpPr>
            <p:spPr>
              <a:xfrm>
                <a:off x="6503760" y="4228560"/>
                <a:ext cx="609480" cy="5238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48" h="606">
                    <a:moveTo>
                      <a:pt x="165" y="0"/>
                    </a:moveTo>
                    <a:lnTo>
                      <a:pt x="189" y="63"/>
                    </a:lnTo>
                    <a:lnTo>
                      <a:pt x="62" y="10"/>
                    </a:lnTo>
                    <a:lnTo>
                      <a:pt x="65" y="85"/>
                    </a:lnTo>
                    <a:lnTo>
                      <a:pt x="89" y="157"/>
                    </a:lnTo>
                    <a:lnTo>
                      <a:pt x="83" y="205"/>
                    </a:lnTo>
                    <a:lnTo>
                      <a:pt x="0" y="249"/>
                    </a:lnTo>
                    <a:lnTo>
                      <a:pt x="108" y="306"/>
                    </a:lnTo>
                    <a:lnTo>
                      <a:pt x="159" y="330"/>
                    </a:lnTo>
                    <a:lnTo>
                      <a:pt x="96" y="378"/>
                    </a:lnTo>
                    <a:lnTo>
                      <a:pt x="57" y="432"/>
                    </a:lnTo>
                    <a:lnTo>
                      <a:pt x="249" y="483"/>
                    </a:lnTo>
                    <a:lnTo>
                      <a:pt x="366" y="507"/>
                    </a:lnTo>
                    <a:lnTo>
                      <a:pt x="546" y="606"/>
                    </a:lnTo>
                    <a:lnTo>
                      <a:pt x="606" y="471"/>
                    </a:lnTo>
                    <a:lnTo>
                      <a:pt x="627" y="363"/>
                    </a:lnTo>
                    <a:lnTo>
                      <a:pt x="648" y="228"/>
                    </a:lnTo>
                    <a:lnTo>
                      <a:pt x="642" y="96"/>
                    </a:lnTo>
                    <a:lnTo>
                      <a:pt x="636" y="30"/>
                    </a:lnTo>
                    <a:lnTo>
                      <a:pt x="462" y="15"/>
                    </a:lnTo>
                    <a:lnTo>
                      <a:pt x="237" y="3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6563880" y="4528800"/>
                <a:ext cx="398520" cy="993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0957"/>
                    </a:moveTo>
                    <a:lnTo>
                      <a:pt x="1792" y="2957"/>
                    </a:lnTo>
                    <a:lnTo>
                      <a:pt x="2877" y="696"/>
                    </a:lnTo>
                    <a:lnTo>
                      <a:pt x="4057" y="0"/>
                    </a:lnTo>
                    <a:lnTo>
                      <a:pt x="6792" y="2261"/>
                    </a:lnTo>
                    <a:lnTo>
                      <a:pt x="9623" y="6783"/>
                    </a:lnTo>
                    <a:lnTo>
                      <a:pt x="14953" y="14261"/>
                    </a:lnTo>
                    <a:lnTo>
                      <a:pt x="19953" y="198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6583680" y="4559760"/>
                <a:ext cx="442080" cy="15948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0213" y="8216"/>
                    </a:lnTo>
                    <a:lnTo>
                      <a:pt x="15149" y="13622"/>
                    </a:lnTo>
                    <a:lnTo>
                      <a:pt x="19915" y="19892"/>
                    </a:lnTo>
                    <a:lnTo>
                      <a:pt x="19957" y="198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6556320" y="4605480"/>
                <a:ext cx="457920" cy="14688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487" h="170">
                    <a:moveTo>
                      <a:pt x="0" y="0"/>
                    </a:moveTo>
                    <a:lnTo>
                      <a:pt x="123" y="31"/>
                    </a:lnTo>
                    <a:lnTo>
                      <a:pt x="251" y="57"/>
                    </a:lnTo>
                    <a:lnTo>
                      <a:pt x="371" y="106"/>
                    </a:lnTo>
                    <a:lnTo>
                      <a:pt x="487" y="1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6596640" y="4546080"/>
                <a:ext cx="438120" cy="1580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0172" y="8087"/>
                    </a:lnTo>
                    <a:lnTo>
                      <a:pt x="19914" y="19891"/>
                    </a:lnTo>
                    <a:lnTo>
                      <a:pt x="19957" y="198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6570720" y="4584960"/>
                <a:ext cx="444600" cy="14760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73" h="171">
                    <a:moveTo>
                      <a:pt x="0" y="0"/>
                    </a:moveTo>
                    <a:lnTo>
                      <a:pt x="111" y="35"/>
                    </a:lnTo>
                    <a:lnTo>
                      <a:pt x="237" y="60"/>
                    </a:lnTo>
                    <a:lnTo>
                      <a:pt x="359" y="109"/>
                    </a:lnTo>
                    <a:lnTo>
                      <a:pt x="473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6505560" y="4444200"/>
                <a:ext cx="564120" cy="19188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33" y="3694"/>
                    </a:lnTo>
                    <a:lnTo>
                      <a:pt x="4833" y="6126"/>
                    </a:lnTo>
                    <a:lnTo>
                      <a:pt x="10100" y="8739"/>
                    </a:lnTo>
                    <a:lnTo>
                      <a:pt x="14967" y="14775"/>
                    </a:lnTo>
                    <a:lnTo>
                      <a:pt x="19967" y="199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6523560" y="4431960"/>
                <a:ext cx="557640" cy="174600"/>
              </a:xfrm>
              <a:custGeom>
                <a:avLst/>
                <a:gdLst>
                  <a:gd name="textAreaLeft" fmla="*/ 0 w 557640"/>
                  <a:gd name="textAreaRight" fmla="*/ 558000 w 557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61" y="3267"/>
                    </a:lnTo>
                    <a:lnTo>
                      <a:pt x="4890" y="5446"/>
                    </a:lnTo>
                    <a:lnTo>
                      <a:pt x="10051" y="9109"/>
                    </a:lnTo>
                    <a:lnTo>
                      <a:pt x="19933" y="19901"/>
                    </a:lnTo>
                    <a:lnTo>
                      <a:pt x="19966" y="1990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6541200" y="4424040"/>
                <a:ext cx="546480" cy="15912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4991" y="4674"/>
                    </a:lnTo>
                    <a:lnTo>
                      <a:pt x="10120" y="8478"/>
                    </a:lnTo>
                    <a:lnTo>
                      <a:pt x="15077" y="13913"/>
                    </a:lnTo>
                    <a:lnTo>
                      <a:pt x="19966" y="198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6564960" y="4413600"/>
                <a:ext cx="533160" cy="12276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9" y="2817"/>
                    </a:lnTo>
                    <a:lnTo>
                      <a:pt x="5044" y="3944"/>
                    </a:lnTo>
                    <a:lnTo>
                      <a:pt x="7584" y="5352"/>
                    </a:lnTo>
                    <a:lnTo>
                      <a:pt x="10088" y="8310"/>
                    </a:lnTo>
                    <a:lnTo>
                      <a:pt x="14956" y="14930"/>
                    </a:lnTo>
                    <a:lnTo>
                      <a:pt x="19965" y="198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6591240" y="4374000"/>
                <a:ext cx="514440" cy="9936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5119" y="2087"/>
                    </a:lnTo>
                    <a:lnTo>
                      <a:pt x="7642" y="4000"/>
                    </a:lnTo>
                    <a:lnTo>
                      <a:pt x="10091" y="7478"/>
                    </a:lnTo>
                    <a:lnTo>
                      <a:pt x="14918" y="15826"/>
                    </a:lnTo>
                    <a:lnTo>
                      <a:pt x="17404" y="18609"/>
                    </a:lnTo>
                    <a:lnTo>
                      <a:pt x="19927" y="19826"/>
                    </a:lnTo>
                    <a:lnTo>
                      <a:pt x="19963" y="198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6581520" y="4346280"/>
                <a:ext cx="524880" cy="8640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5090" y="1800"/>
                    </a:lnTo>
                    <a:lnTo>
                      <a:pt x="7563" y="4600"/>
                    </a:lnTo>
                    <a:lnTo>
                      <a:pt x="9964" y="9000"/>
                    </a:lnTo>
                    <a:lnTo>
                      <a:pt x="12401" y="13400"/>
                    </a:lnTo>
                    <a:lnTo>
                      <a:pt x="14910" y="16000"/>
                    </a:lnTo>
                    <a:lnTo>
                      <a:pt x="19964" y="19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6567480" y="4313520"/>
                <a:ext cx="537840" cy="8640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48" y="3400"/>
                    </a:lnTo>
                    <a:lnTo>
                      <a:pt x="5000" y="3600"/>
                    </a:lnTo>
                    <a:lnTo>
                      <a:pt x="7552" y="5000"/>
                    </a:lnTo>
                    <a:lnTo>
                      <a:pt x="10035" y="8200"/>
                    </a:lnTo>
                    <a:lnTo>
                      <a:pt x="14930" y="16000"/>
                    </a:lnTo>
                    <a:lnTo>
                      <a:pt x="19965" y="19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6566760" y="4268520"/>
                <a:ext cx="537840" cy="1036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4860" y="7167"/>
                    </a:lnTo>
                    <a:lnTo>
                      <a:pt x="9895" y="11333"/>
                    </a:lnTo>
                    <a:lnTo>
                      <a:pt x="19965" y="198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6572160" y="4239000"/>
                <a:ext cx="530280" cy="1018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05" y="5763"/>
                    </a:lnTo>
                    <a:lnTo>
                      <a:pt x="4681" y="10169"/>
                    </a:lnTo>
                    <a:lnTo>
                      <a:pt x="9752" y="13898"/>
                    </a:lnTo>
                    <a:lnTo>
                      <a:pt x="14823" y="17627"/>
                    </a:lnTo>
                    <a:lnTo>
                      <a:pt x="19929" y="19831"/>
                    </a:lnTo>
                    <a:lnTo>
                      <a:pt x="19965" y="1983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6672240" y="4245120"/>
                <a:ext cx="424080" cy="47160"/>
              </a:xfrm>
              <a:custGeom>
                <a:avLst/>
                <a:gdLst>
                  <a:gd name="textAreaLeft" fmla="*/ 0 w 424080"/>
                  <a:gd name="textAreaRight" fmla="*/ 424440 w 42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51" h="55">
                    <a:moveTo>
                      <a:pt x="0" y="0"/>
                    </a:moveTo>
                    <a:lnTo>
                      <a:pt x="43" y="18"/>
                    </a:lnTo>
                    <a:lnTo>
                      <a:pt x="101" y="27"/>
                    </a:lnTo>
                    <a:lnTo>
                      <a:pt x="219" y="28"/>
                    </a:lnTo>
                    <a:lnTo>
                      <a:pt x="335" y="34"/>
                    </a:lnTo>
                    <a:lnTo>
                      <a:pt x="451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6672240" y="4227120"/>
                <a:ext cx="421200" cy="385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48" h="45">
                    <a:moveTo>
                      <a:pt x="0" y="0"/>
                    </a:moveTo>
                    <a:lnTo>
                      <a:pt x="98" y="14"/>
                    </a:lnTo>
                    <a:lnTo>
                      <a:pt x="215" y="20"/>
                    </a:lnTo>
                    <a:lnTo>
                      <a:pt x="332" y="29"/>
                    </a:lnTo>
                    <a:lnTo>
                      <a:pt x="447" y="45"/>
                    </a:lnTo>
                    <a:lnTo>
                      <a:pt x="448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7007040" y="4311720"/>
                <a:ext cx="93960" cy="82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9600" y="18000"/>
                    </a:lnTo>
                    <a:lnTo>
                      <a:pt x="19800" y="18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6629760" y="439740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10" y="3810"/>
                    </a:lnTo>
                    <a:lnTo>
                      <a:pt x="7594" y="4921"/>
                    </a:lnTo>
                    <a:lnTo>
                      <a:pt x="10060" y="8571"/>
                    </a:lnTo>
                    <a:lnTo>
                      <a:pt x="14911" y="15238"/>
                    </a:lnTo>
                    <a:lnTo>
                      <a:pt x="19920" y="19841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626880" y="4403160"/>
                <a:ext cx="474840" cy="10980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35" y="2835"/>
                    </a:lnTo>
                    <a:lnTo>
                      <a:pt x="5109" y="3937"/>
                    </a:lnTo>
                    <a:lnTo>
                      <a:pt x="7604" y="5039"/>
                    </a:lnTo>
                    <a:lnTo>
                      <a:pt x="10020" y="8504"/>
                    </a:lnTo>
                    <a:lnTo>
                      <a:pt x="14931" y="15276"/>
                    </a:lnTo>
                    <a:lnTo>
                      <a:pt x="19921" y="19843"/>
                    </a:lnTo>
                    <a:lnTo>
                      <a:pt x="19960" y="198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6628680" y="43988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05" y="2698"/>
                    </a:lnTo>
                    <a:lnTo>
                      <a:pt x="5050" y="3810"/>
                    </a:lnTo>
                    <a:lnTo>
                      <a:pt x="7634" y="4921"/>
                    </a:lnTo>
                    <a:lnTo>
                      <a:pt x="10060" y="8413"/>
                    </a:lnTo>
                    <a:lnTo>
                      <a:pt x="14950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6961680" y="4627440"/>
                <a:ext cx="91800" cy="428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9796" y="196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6628680" y="44006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50" y="3810"/>
                    </a:lnTo>
                    <a:lnTo>
                      <a:pt x="7594" y="4921"/>
                    </a:lnTo>
                    <a:lnTo>
                      <a:pt x="10020" y="8413"/>
                    </a:lnTo>
                    <a:lnTo>
                      <a:pt x="14911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6628680" y="43988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05" y="2698"/>
                    </a:lnTo>
                    <a:lnTo>
                      <a:pt x="5050" y="3810"/>
                    </a:lnTo>
                    <a:lnTo>
                      <a:pt x="7634" y="4921"/>
                    </a:lnTo>
                    <a:lnTo>
                      <a:pt x="10060" y="8413"/>
                    </a:lnTo>
                    <a:lnTo>
                      <a:pt x="14950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6628680" y="44006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50" y="3810"/>
                    </a:lnTo>
                    <a:lnTo>
                      <a:pt x="7594" y="4921"/>
                    </a:lnTo>
                    <a:lnTo>
                      <a:pt x="10020" y="8413"/>
                    </a:lnTo>
                    <a:lnTo>
                      <a:pt x="14911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34"/>
            <p:cNvSpPr/>
            <p:nvPr/>
          </p:nvSpPr>
          <p:spPr>
            <a:xfrm>
              <a:off x="3282840" y="2506320"/>
              <a:ext cx="3317400" cy="2981520"/>
            </a:xfrm>
            <a:custGeom>
              <a:avLst/>
              <a:gdLst>
                <a:gd name="textAreaLeft" fmla="*/ 0 w 3317400"/>
                <a:gd name="textAreaRight" fmla="*/ 3317760 w 3317400"/>
                <a:gd name="textAreaTop" fmla="*/ 0 h 2981520"/>
                <a:gd name="textAreaBottom" fmla="*/ 2981880 h 2981520"/>
              </a:gdLst>
              <a:ahLst/>
              <a:rect l="textAreaLeft" t="textAreaTop" r="textAreaRight" b="textAreaBottom"/>
              <a:pathLst>
                <a:path w="3523" h="3446">
                  <a:moveTo>
                    <a:pt x="2024" y="3441"/>
                  </a:moveTo>
                  <a:cubicBezTo>
                    <a:pt x="2151" y="3415"/>
                    <a:pt x="2392" y="3335"/>
                    <a:pt x="2544" y="3261"/>
                  </a:cubicBezTo>
                  <a:cubicBezTo>
                    <a:pt x="2696" y="3187"/>
                    <a:pt x="2828" y="3089"/>
                    <a:pt x="2938" y="2996"/>
                  </a:cubicBezTo>
                  <a:cubicBezTo>
                    <a:pt x="3048" y="2903"/>
                    <a:pt x="3138" y="2788"/>
                    <a:pt x="3204" y="2701"/>
                  </a:cubicBezTo>
                  <a:cubicBezTo>
                    <a:pt x="3270" y="2614"/>
                    <a:pt x="3307" y="2532"/>
                    <a:pt x="3336" y="2473"/>
                  </a:cubicBezTo>
                  <a:cubicBezTo>
                    <a:pt x="3365" y="2414"/>
                    <a:pt x="3365" y="2386"/>
                    <a:pt x="3377" y="2349"/>
                  </a:cubicBezTo>
                  <a:cubicBezTo>
                    <a:pt x="3389" y="2312"/>
                    <a:pt x="3392" y="2272"/>
                    <a:pt x="3406" y="2250"/>
                  </a:cubicBezTo>
                  <a:cubicBezTo>
                    <a:pt x="3420" y="2228"/>
                    <a:pt x="3447" y="2228"/>
                    <a:pt x="3464" y="2214"/>
                  </a:cubicBezTo>
                  <a:cubicBezTo>
                    <a:pt x="3481" y="2200"/>
                    <a:pt x="3508" y="2185"/>
                    <a:pt x="3512" y="2166"/>
                  </a:cubicBezTo>
                  <a:lnTo>
                    <a:pt x="3486" y="2097"/>
                  </a:lnTo>
                  <a:lnTo>
                    <a:pt x="3479" y="2027"/>
                  </a:lnTo>
                  <a:cubicBezTo>
                    <a:pt x="3481" y="1983"/>
                    <a:pt x="3496" y="1888"/>
                    <a:pt x="3501" y="1830"/>
                  </a:cubicBezTo>
                  <a:cubicBezTo>
                    <a:pt x="3506" y="1772"/>
                    <a:pt x="3509" y="1721"/>
                    <a:pt x="3508" y="1676"/>
                  </a:cubicBezTo>
                  <a:cubicBezTo>
                    <a:pt x="3507" y="1631"/>
                    <a:pt x="3496" y="1597"/>
                    <a:pt x="3497" y="1560"/>
                  </a:cubicBezTo>
                  <a:cubicBezTo>
                    <a:pt x="3498" y="1523"/>
                    <a:pt x="3523" y="1484"/>
                    <a:pt x="3515" y="1454"/>
                  </a:cubicBezTo>
                  <a:cubicBezTo>
                    <a:pt x="3507" y="1424"/>
                    <a:pt x="3465" y="1414"/>
                    <a:pt x="3450" y="1377"/>
                  </a:cubicBezTo>
                  <a:cubicBezTo>
                    <a:pt x="3435" y="1340"/>
                    <a:pt x="3436" y="1286"/>
                    <a:pt x="3424" y="1231"/>
                  </a:cubicBezTo>
                  <a:cubicBezTo>
                    <a:pt x="3412" y="1176"/>
                    <a:pt x="3418" y="1136"/>
                    <a:pt x="3377" y="1044"/>
                  </a:cubicBezTo>
                  <a:cubicBezTo>
                    <a:pt x="3336" y="952"/>
                    <a:pt x="3256" y="796"/>
                    <a:pt x="3176" y="679"/>
                  </a:cubicBezTo>
                  <a:cubicBezTo>
                    <a:pt x="3096" y="562"/>
                    <a:pt x="3023" y="441"/>
                    <a:pt x="2894" y="341"/>
                  </a:cubicBezTo>
                  <a:cubicBezTo>
                    <a:pt x="2765" y="241"/>
                    <a:pt x="2548" y="136"/>
                    <a:pt x="2404" y="81"/>
                  </a:cubicBezTo>
                  <a:cubicBezTo>
                    <a:pt x="2260" y="26"/>
                    <a:pt x="2181" y="20"/>
                    <a:pt x="2028" y="10"/>
                  </a:cubicBezTo>
                  <a:cubicBezTo>
                    <a:pt x="1875" y="0"/>
                    <a:pt x="1625" y="5"/>
                    <a:pt x="1484" y="21"/>
                  </a:cubicBezTo>
                  <a:cubicBezTo>
                    <a:pt x="1343" y="37"/>
                    <a:pt x="1281" y="64"/>
                    <a:pt x="1180" y="105"/>
                  </a:cubicBezTo>
                  <a:cubicBezTo>
                    <a:pt x="1079" y="146"/>
                    <a:pt x="948" y="223"/>
                    <a:pt x="880" y="266"/>
                  </a:cubicBezTo>
                  <a:lnTo>
                    <a:pt x="774" y="364"/>
                  </a:lnTo>
                  <a:cubicBezTo>
                    <a:pt x="739" y="405"/>
                    <a:pt x="697" y="467"/>
                    <a:pt x="668" y="511"/>
                  </a:cubicBezTo>
                  <a:cubicBezTo>
                    <a:pt x="639" y="555"/>
                    <a:pt x="613" y="592"/>
                    <a:pt x="599" y="628"/>
                  </a:cubicBezTo>
                  <a:cubicBezTo>
                    <a:pt x="585" y="664"/>
                    <a:pt x="600" y="661"/>
                    <a:pt x="584" y="726"/>
                  </a:cubicBezTo>
                  <a:cubicBezTo>
                    <a:pt x="568" y="791"/>
                    <a:pt x="556" y="985"/>
                    <a:pt x="504" y="1021"/>
                  </a:cubicBezTo>
                  <a:cubicBezTo>
                    <a:pt x="452" y="1057"/>
                    <a:pt x="313" y="945"/>
                    <a:pt x="269" y="941"/>
                  </a:cubicBezTo>
                  <a:lnTo>
                    <a:pt x="237" y="997"/>
                  </a:lnTo>
                  <a:cubicBezTo>
                    <a:pt x="223" y="1032"/>
                    <a:pt x="208" y="1093"/>
                    <a:pt x="184" y="1151"/>
                  </a:cubicBezTo>
                  <a:cubicBezTo>
                    <a:pt x="160" y="1209"/>
                    <a:pt x="119" y="1289"/>
                    <a:pt x="95" y="1348"/>
                  </a:cubicBezTo>
                  <a:cubicBezTo>
                    <a:pt x="71" y="1407"/>
                    <a:pt x="55" y="1436"/>
                    <a:pt x="40" y="1508"/>
                  </a:cubicBezTo>
                  <a:cubicBezTo>
                    <a:pt x="25" y="1580"/>
                    <a:pt x="8" y="1704"/>
                    <a:pt x="4" y="1781"/>
                  </a:cubicBezTo>
                  <a:cubicBezTo>
                    <a:pt x="0" y="1858"/>
                    <a:pt x="6" y="1902"/>
                    <a:pt x="18" y="1969"/>
                  </a:cubicBezTo>
                  <a:cubicBezTo>
                    <a:pt x="30" y="2036"/>
                    <a:pt x="54" y="2119"/>
                    <a:pt x="76" y="2184"/>
                  </a:cubicBezTo>
                  <a:cubicBezTo>
                    <a:pt x="98" y="2249"/>
                    <a:pt x="119" y="2306"/>
                    <a:pt x="149" y="2360"/>
                  </a:cubicBezTo>
                  <a:cubicBezTo>
                    <a:pt x="179" y="2414"/>
                    <a:pt x="231" y="2480"/>
                    <a:pt x="257" y="2510"/>
                  </a:cubicBezTo>
                  <a:cubicBezTo>
                    <a:pt x="283" y="2540"/>
                    <a:pt x="293" y="2527"/>
                    <a:pt x="305" y="2537"/>
                  </a:cubicBezTo>
                  <a:cubicBezTo>
                    <a:pt x="317" y="2547"/>
                    <a:pt x="297" y="2571"/>
                    <a:pt x="328" y="2572"/>
                  </a:cubicBezTo>
                  <a:cubicBezTo>
                    <a:pt x="359" y="2573"/>
                    <a:pt x="450" y="2530"/>
                    <a:pt x="491" y="2540"/>
                  </a:cubicBezTo>
                  <a:cubicBezTo>
                    <a:pt x="532" y="2550"/>
                    <a:pt x="549" y="2597"/>
                    <a:pt x="573" y="2634"/>
                  </a:cubicBezTo>
                  <a:cubicBezTo>
                    <a:pt x="597" y="2671"/>
                    <a:pt x="605" y="2717"/>
                    <a:pt x="635" y="2762"/>
                  </a:cubicBezTo>
                  <a:cubicBezTo>
                    <a:pt x="665" y="2807"/>
                    <a:pt x="706" y="2858"/>
                    <a:pt x="752" y="2904"/>
                  </a:cubicBezTo>
                  <a:cubicBezTo>
                    <a:pt x="798" y="2950"/>
                    <a:pt x="852" y="2985"/>
                    <a:pt x="910" y="3036"/>
                  </a:cubicBezTo>
                  <a:cubicBezTo>
                    <a:pt x="968" y="3087"/>
                    <a:pt x="1029" y="3159"/>
                    <a:pt x="1100" y="3211"/>
                  </a:cubicBezTo>
                  <a:cubicBezTo>
                    <a:pt x="1171" y="3263"/>
                    <a:pt x="1220" y="3313"/>
                    <a:pt x="1334" y="3350"/>
                  </a:cubicBezTo>
                  <a:cubicBezTo>
                    <a:pt x="1448" y="3387"/>
                    <a:pt x="1668" y="3416"/>
                    <a:pt x="1783" y="3431"/>
                  </a:cubicBezTo>
                  <a:cubicBezTo>
                    <a:pt x="1898" y="3446"/>
                    <a:pt x="1974" y="3439"/>
                    <a:pt x="2024" y="3441"/>
                  </a:cubicBezTo>
                  <a:close/>
                </a:path>
              </a:pathLst>
            </a:custGeom>
            <a:solidFill>
              <a:srgbClr val="f6fe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3590640" y="4331880"/>
              <a:ext cx="466560" cy="8096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495" h="934">
                  <a:moveTo>
                    <a:pt x="495" y="918"/>
                  </a:moveTo>
                  <a:cubicBezTo>
                    <a:pt x="495" y="934"/>
                    <a:pt x="353" y="823"/>
                    <a:pt x="294" y="774"/>
                  </a:cubicBezTo>
                  <a:cubicBezTo>
                    <a:pt x="235" y="725"/>
                    <a:pt x="174" y="661"/>
                    <a:pt x="138" y="624"/>
                  </a:cubicBezTo>
                  <a:cubicBezTo>
                    <a:pt x="102" y="587"/>
                    <a:pt x="91" y="575"/>
                    <a:pt x="78" y="555"/>
                  </a:cubicBezTo>
                  <a:cubicBezTo>
                    <a:pt x="65" y="535"/>
                    <a:pt x="63" y="533"/>
                    <a:pt x="57" y="504"/>
                  </a:cubicBezTo>
                  <a:lnTo>
                    <a:pt x="39" y="378"/>
                  </a:lnTo>
                  <a:lnTo>
                    <a:pt x="0" y="192"/>
                  </a:lnTo>
                  <a:lnTo>
                    <a:pt x="24" y="0"/>
                  </a:lnTo>
                  <a:lnTo>
                    <a:pt x="156" y="30"/>
                  </a:lnTo>
                  <a:lnTo>
                    <a:pt x="225" y="522"/>
                  </a:lnTo>
                  <a:lnTo>
                    <a:pt x="291" y="675"/>
                  </a:lnTo>
                  <a:lnTo>
                    <a:pt x="495" y="9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3605040" y="2798640"/>
              <a:ext cx="366480" cy="98712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390" h="1140">
                  <a:moveTo>
                    <a:pt x="390" y="0"/>
                  </a:moveTo>
                  <a:cubicBezTo>
                    <a:pt x="355" y="26"/>
                    <a:pt x="216" y="127"/>
                    <a:pt x="162" y="180"/>
                  </a:cubicBezTo>
                  <a:cubicBezTo>
                    <a:pt x="108" y="233"/>
                    <a:pt x="88" y="276"/>
                    <a:pt x="63" y="321"/>
                  </a:cubicBezTo>
                  <a:cubicBezTo>
                    <a:pt x="38" y="366"/>
                    <a:pt x="21" y="415"/>
                    <a:pt x="12" y="450"/>
                  </a:cubicBezTo>
                  <a:cubicBezTo>
                    <a:pt x="3" y="485"/>
                    <a:pt x="11" y="491"/>
                    <a:pt x="9" y="534"/>
                  </a:cubicBezTo>
                  <a:lnTo>
                    <a:pt x="0" y="708"/>
                  </a:lnTo>
                  <a:lnTo>
                    <a:pt x="6" y="1140"/>
                  </a:lnTo>
                  <a:lnTo>
                    <a:pt x="123" y="1134"/>
                  </a:lnTo>
                  <a:lnTo>
                    <a:pt x="186" y="558"/>
                  </a:lnTo>
                  <a:lnTo>
                    <a:pt x="189" y="285"/>
                  </a:lnTo>
                  <a:lnTo>
                    <a:pt x="309" y="102"/>
                  </a:lnTo>
                  <a:lnTo>
                    <a:pt x="372" y="2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grpSp>
          <p:nvGrpSpPr>
            <p:cNvPr id="131" name="Group 37"/>
            <p:cNvGrpSpPr/>
            <p:nvPr/>
          </p:nvGrpSpPr>
          <p:grpSpPr>
            <a:xfrm>
              <a:off x="3546360" y="4242960"/>
              <a:ext cx="531360" cy="882720"/>
              <a:chOff x="3546360" y="4242960"/>
              <a:chExt cx="531360" cy="882720"/>
            </a:xfrm>
          </p:grpSpPr>
          <p:sp>
            <p:nvSpPr>
              <p:cNvPr id="132" name="Freeform 38"/>
              <p:cNvSpPr/>
              <p:nvPr/>
            </p:nvSpPr>
            <p:spPr>
              <a:xfrm>
                <a:off x="3546360" y="4242960"/>
                <a:ext cx="531360" cy="882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564" h="1020">
                    <a:moveTo>
                      <a:pt x="564" y="978"/>
                    </a:moveTo>
                    <a:cubicBezTo>
                      <a:pt x="549" y="948"/>
                      <a:pt x="463" y="886"/>
                      <a:pt x="426" y="843"/>
                    </a:cubicBezTo>
                    <a:cubicBezTo>
                      <a:pt x="389" y="800"/>
                      <a:pt x="361" y="753"/>
                      <a:pt x="342" y="717"/>
                    </a:cubicBezTo>
                    <a:cubicBezTo>
                      <a:pt x="323" y="681"/>
                      <a:pt x="314" y="654"/>
                      <a:pt x="309" y="624"/>
                    </a:cubicBezTo>
                    <a:cubicBezTo>
                      <a:pt x="304" y="594"/>
                      <a:pt x="315" y="558"/>
                      <a:pt x="312" y="534"/>
                    </a:cubicBezTo>
                    <a:cubicBezTo>
                      <a:pt x="309" y="510"/>
                      <a:pt x="308" y="497"/>
                      <a:pt x="293" y="479"/>
                    </a:cubicBezTo>
                    <a:cubicBezTo>
                      <a:pt x="278" y="461"/>
                      <a:pt x="245" y="432"/>
                      <a:pt x="224" y="428"/>
                    </a:cubicBezTo>
                    <a:cubicBezTo>
                      <a:pt x="203" y="424"/>
                      <a:pt x="184" y="439"/>
                      <a:pt x="167" y="452"/>
                    </a:cubicBezTo>
                    <a:cubicBezTo>
                      <a:pt x="150" y="465"/>
                      <a:pt x="133" y="513"/>
                      <a:pt x="125" y="506"/>
                    </a:cubicBezTo>
                    <a:cubicBezTo>
                      <a:pt x="117" y="499"/>
                      <a:pt x="122" y="448"/>
                      <a:pt x="116" y="410"/>
                    </a:cubicBezTo>
                    <a:cubicBezTo>
                      <a:pt x="110" y="372"/>
                      <a:pt x="89" y="327"/>
                      <a:pt x="87" y="280"/>
                    </a:cubicBezTo>
                    <a:cubicBezTo>
                      <a:pt x="85" y="233"/>
                      <a:pt x="106" y="175"/>
                      <a:pt x="107" y="130"/>
                    </a:cubicBezTo>
                    <a:cubicBezTo>
                      <a:pt x="108" y="85"/>
                      <a:pt x="107" y="0"/>
                      <a:pt x="92" y="8"/>
                    </a:cubicBezTo>
                    <a:cubicBezTo>
                      <a:pt x="77" y="16"/>
                      <a:pt x="34" y="115"/>
                      <a:pt x="20" y="176"/>
                    </a:cubicBezTo>
                    <a:cubicBezTo>
                      <a:pt x="6" y="237"/>
                      <a:pt x="0" y="320"/>
                      <a:pt x="5" y="377"/>
                    </a:cubicBezTo>
                    <a:cubicBezTo>
                      <a:pt x="10" y="434"/>
                      <a:pt x="48" y="493"/>
                      <a:pt x="48" y="519"/>
                    </a:cubicBezTo>
                    <a:lnTo>
                      <a:pt x="3" y="531"/>
                    </a:lnTo>
                    <a:cubicBezTo>
                      <a:pt x="13" y="550"/>
                      <a:pt x="74" y="627"/>
                      <a:pt x="108" y="630"/>
                    </a:cubicBezTo>
                    <a:cubicBezTo>
                      <a:pt x="142" y="633"/>
                      <a:pt x="183" y="533"/>
                      <a:pt x="210" y="549"/>
                    </a:cubicBezTo>
                    <a:cubicBezTo>
                      <a:pt x="237" y="565"/>
                      <a:pt x="250" y="683"/>
                      <a:pt x="270" y="729"/>
                    </a:cubicBezTo>
                    <a:cubicBezTo>
                      <a:pt x="290" y="775"/>
                      <a:pt x="290" y="780"/>
                      <a:pt x="333" y="828"/>
                    </a:cubicBezTo>
                    <a:cubicBezTo>
                      <a:pt x="376" y="876"/>
                      <a:pt x="490" y="995"/>
                      <a:pt x="528" y="1020"/>
                    </a:cubicBezTo>
                    <a:lnTo>
                      <a:pt x="564" y="978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 flipV="1">
                <a:off x="3681720" y="4460040"/>
                <a:ext cx="139320" cy="1746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-36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48" h="202">
                    <a:moveTo>
                      <a:pt x="122" y="17"/>
                    </a:moveTo>
                    <a:cubicBezTo>
                      <a:pt x="133" y="28"/>
                      <a:pt x="140" y="71"/>
                      <a:pt x="143" y="98"/>
                    </a:cubicBezTo>
                    <a:cubicBezTo>
                      <a:pt x="146" y="125"/>
                      <a:pt x="148" y="175"/>
                      <a:pt x="140" y="182"/>
                    </a:cubicBezTo>
                    <a:cubicBezTo>
                      <a:pt x="132" y="189"/>
                      <a:pt x="110" y="147"/>
                      <a:pt x="95" y="140"/>
                    </a:cubicBezTo>
                    <a:cubicBezTo>
                      <a:pt x="80" y="133"/>
                      <a:pt x="65" y="131"/>
                      <a:pt x="50" y="140"/>
                    </a:cubicBezTo>
                    <a:cubicBezTo>
                      <a:pt x="35" y="149"/>
                      <a:pt x="10" y="202"/>
                      <a:pt x="5" y="194"/>
                    </a:cubicBezTo>
                    <a:cubicBezTo>
                      <a:pt x="0" y="186"/>
                      <a:pt x="12" y="120"/>
                      <a:pt x="17" y="92"/>
                    </a:cubicBezTo>
                    <a:cubicBezTo>
                      <a:pt x="22" y="64"/>
                      <a:pt x="28" y="37"/>
                      <a:pt x="38" y="26"/>
                    </a:cubicBezTo>
                    <a:cubicBezTo>
                      <a:pt x="48" y="15"/>
                      <a:pt x="63" y="30"/>
                      <a:pt x="77" y="29"/>
                    </a:cubicBezTo>
                    <a:cubicBezTo>
                      <a:pt x="91" y="28"/>
                      <a:pt x="111" y="0"/>
                      <a:pt x="122" y="1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 flipV="1">
                <a:off x="3594240" y="4678920"/>
                <a:ext cx="676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1"/>
            <p:cNvGrpSpPr/>
            <p:nvPr/>
          </p:nvGrpSpPr>
          <p:grpSpPr>
            <a:xfrm>
              <a:off x="3533760" y="2862000"/>
              <a:ext cx="387000" cy="1014480"/>
              <a:chOff x="3533760" y="2862000"/>
              <a:chExt cx="387000" cy="1014480"/>
            </a:xfrm>
          </p:grpSpPr>
          <p:sp>
            <p:nvSpPr>
              <p:cNvPr id="136" name="Freeform 42"/>
              <p:cNvSpPr/>
              <p:nvPr/>
            </p:nvSpPr>
            <p:spPr>
              <a:xfrm>
                <a:off x="3533760" y="2862000"/>
                <a:ext cx="387000" cy="101448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w="410" h="1171">
                    <a:moveTo>
                      <a:pt x="400" y="5"/>
                    </a:moveTo>
                    <a:cubicBezTo>
                      <a:pt x="410" y="10"/>
                      <a:pt x="343" y="153"/>
                      <a:pt x="328" y="225"/>
                    </a:cubicBezTo>
                    <a:cubicBezTo>
                      <a:pt x="313" y="297"/>
                      <a:pt x="311" y="377"/>
                      <a:pt x="310" y="435"/>
                    </a:cubicBezTo>
                    <a:cubicBezTo>
                      <a:pt x="309" y="493"/>
                      <a:pt x="323" y="530"/>
                      <a:pt x="322" y="573"/>
                    </a:cubicBezTo>
                    <a:cubicBezTo>
                      <a:pt x="321" y="616"/>
                      <a:pt x="318" y="665"/>
                      <a:pt x="304" y="693"/>
                    </a:cubicBezTo>
                    <a:cubicBezTo>
                      <a:pt x="290" y="721"/>
                      <a:pt x="256" y="740"/>
                      <a:pt x="235" y="744"/>
                    </a:cubicBezTo>
                    <a:cubicBezTo>
                      <a:pt x="214" y="748"/>
                      <a:pt x="195" y="733"/>
                      <a:pt x="178" y="720"/>
                    </a:cubicBezTo>
                    <a:cubicBezTo>
                      <a:pt x="161" y="707"/>
                      <a:pt x="144" y="659"/>
                      <a:pt x="136" y="666"/>
                    </a:cubicBezTo>
                    <a:cubicBezTo>
                      <a:pt x="128" y="673"/>
                      <a:pt x="133" y="724"/>
                      <a:pt x="127" y="762"/>
                    </a:cubicBezTo>
                    <a:cubicBezTo>
                      <a:pt x="121" y="800"/>
                      <a:pt x="99" y="846"/>
                      <a:pt x="98" y="892"/>
                    </a:cubicBezTo>
                    <a:cubicBezTo>
                      <a:pt x="97" y="938"/>
                      <a:pt x="123" y="995"/>
                      <a:pt x="124" y="1040"/>
                    </a:cubicBezTo>
                    <a:cubicBezTo>
                      <a:pt x="125" y="1085"/>
                      <a:pt x="119" y="1171"/>
                      <a:pt x="103" y="1164"/>
                    </a:cubicBezTo>
                    <a:cubicBezTo>
                      <a:pt x="87" y="1157"/>
                      <a:pt x="45" y="1057"/>
                      <a:pt x="31" y="996"/>
                    </a:cubicBezTo>
                    <a:cubicBezTo>
                      <a:pt x="17" y="935"/>
                      <a:pt x="13" y="849"/>
                      <a:pt x="16" y="795"/>
                    </a:cubicBezTo>
                    <a:cubicBezTo>
                      <a:pt x="19" y="741"/>
                      <a:pt x="54" y="713"/>
                      <a:pt x="52" y="669"/>
                    </a:cubicBezTo>
                    <a:cubicBezTo>
                      <a:pt x="50" y="625"/>
                      <a:pt x="0" y="571"/>
                      <a:pt x="4" y="533"/>
                    </a:cubicBezTo>
                    <a:cubicBezTo>
                      <a:pt x="8" y="495"/>
                      <a:pt x="60" y="446"/>
                      <a:pt x="79" y="443"/>
                    </a:cubicBezTo>
                    <a:cubicBezTo>
                      <a:pt x="98" y="440"/>
                      <a:pt x="99" y="491"/>
                      <a:pt x="118" y="512"/>
                    </a:cubicBezTo>
                    <a:cubicBezTo>
                      <a:pt x="137" y="533"/>
                      <a:pt x="179" y="590"/>
                      <a:pt x="196" y="567"/>
                    </a:cubicBezTo>
                    <a:cubicBezTo>
                      <a:pt x="213" y="544"/>
                      <a:pt x="211" y="437"/>
                      <a:pt x="223" y="375"/>
                    </a:cubicBezTo>
                    <a:cubicBezTo>
                      <a:pt x="235" y="313"/>
                      <a:pt x="239" y="254"/>
                      <a:pt x="268" y="192"/>
                    </a:cubicBezTo>
                    <a:cubicBezTo>
                      <a:pt x="297" y="130"/>
                      <a:pt x="390" y="0"/>
                      <a:pt x="40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7" name="Freeform 43"/>
              <p:cNvSpPr/>
              <p:nvPr/>
            </p:nvSpPr>
            <p:spPr>
              <a:xfrm>
                <a:off x="3679920" y="3483720"/>
                <a:ext cx="139680" cy="174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48" h="202">
                    <a:moveTo>
                      <a:pt x="122" y="17"/>
                    </a:moveTo>
                    <a:cubicBezTo>
                      <a:pt x="133" y="28"/>
                      <a:pt x="140" y="71"/>
                      <a:pt x="143" y="98"/>
                    </a:cubicBezTo>
                    <a:cubicBezTo>
                      <a:pt x="146" y="125"/>
                      <a:pt x="148" y="175"/>
                      <a:pt x="140" y="182"/>
                    </a:cubicBezTo>
                    <a:cubicBezTo>
                      <a:pt x="132" y="189"/>
                      <a:pt x="110" y="147"/>
                      <a:pt x="95" y="140"/>
                    </a:cubicBezTo>
                    <a:cubicBezTo>
                      <a:pt x="80" y="133"/>
                      <a:pt x="65" y="131"/>
                      <a:pt x="50" y="140"/>
                    </a:cubicBezTo>
                    <a:cubicBezTo>
                      <a:pt x="35" y="149"/>
                      <a:pt x="10" y="202"/>
                      <a:pt x="5" y="194"/>
                    </a:cubicBezTo>
                    <a:cubicBezTo>
                      <a:pt x="0" y="186"/>
                      <a:pt x="12" y="120"/>
                      <a:pt x="17" y="92"/>
                    </a:cubicBezTo>
                    <a:cubicBezTo>
                      <a:pt x="22" y="64"/>
                      <a:pt x="28" y="37"/>
                      <a:pt x="38" y="26"/>
                    </a:cubicBezTo>
                    <a:cubicBezTo>
                      <a:pt x="48" y="15"/>
                      <a:pt x="63" y="30"/>
                      <a:pt x="77" y="29"/>
                    </a:cubicBezTo>
                    <a:cubicBezTo>
                      <a:pt x="91" y="28"/>
                      <a:pt x="111" y="0"/>
                      <a:pt x="122" y="1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sp>
          <p:nvSpPr>
            <p:cNvPr id="138" name="Freeform 44"/>
            <p:cNvSpPr/>
            <p:nvPr/>
          </p:nvSpPr>
          <p:spPr>
            <a:xfrm>
              <a:off x="3620880" y="3595320"/>
              <a:ext cx="266400" cy="9190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0000" h="20000">
                  <a:moveTo>
                    <a:pt x="9964" y="0"/>
                  </a:moveTo>
                  <a:lnTo>
                    <a:pt x="8043" y="189"/>
                  </a:lnTo>
                  <a:lnTo>
                    <a:pt x="6192" y="716"/>
                  </a:lnTo>
                  <a:lnTo>
                    <a:pt x="4555" y="1583"/>
                  </a:lnTo>
                  <a:lnTo>
                    <a:pt x="3060" y="2771"/>
                  </a:lnTo>
                  <a:lnTo>
                    <a:pt x="1851" y="4204"/>
                  </a:lnTo>
                  <a:lnTo>
                    <a:pt x="854" y="5862"/>
                  </a:lnTo>
                  <a:lnTo>
                    <a:pt x="214" y="7653"/>
                  </a:lnTo>
                  <a:lnTo>
                    <a:pt x="0" y="9538"/>
                  </a:lnTo>
                  <a:lnTo>
                    <a:pt x="71" y="11442"/>
                  </a:lnTo>
                  <a:lnTo>
                    <a:pt x="498" y="13289"/>
                  </a:lnTo>
                  <a:lnTo>
                    <a:pt x="1281" y="15024"/>
                  </a:lnTo>
                  <a:lnTo>
                    <a:pt x="2420" y="16588"/>
                  </a:lnTo>
                  <a:lnTo>
                    <a:pt x="3772" y="17889"/>
                  </a:lnTo>
                  <a:lnTo>
                    <a:pt x="5409" y="18926"/>
                  </a:lnTo>
                  <a:lnTo>
                    <a:pt x="7117" y="19623"/>
                  </a:lnTo>
                  <a:lnTo>
                    <a:pt x="8968" y="19981"/>
                  </a:lnTo>
                  <a:lnTo>
                    <a:pt x="10890" y="19981"/>
                  </a:lnTo>
                  <a:lnTo>
                    <a:pt x="12740" y="19623"/>
                  </a:lnTo>
                  <a:lnTo>
                    <a:pt x="14520" y="18926"/>
                  </a:lnTo>
                  <a:lnTo>
                    <a:pt x="16085" y="17889"/>
                  </a:lnTo>
                  <a:lnTo>
                    <a:pt x="17438" y="16588"/>
                  </a:lnTo>
                  <a:lnTo>
                    <a:pt x="18577" y="15024"/>
                  </a:lnTo>
                  <a:lnTo>
                    <a:pt x="19359" y="13289"/>
                  </a:lnTo>
                  <a:lnTo>
                    <a:pt x="19786" y="11442"/>
                  </a:lnTo>
                  <a:lnTo>
                    <a:pt x="19929" y="9538"/>
                  </a:lnTo>
                  <a:lnTo>
                    <a:pt x="19644" y="7653"/>
                  </a:lnTo>
                  <a:lnTo>
                    <a:pt x="19004" y="5862"/>
                  </a:lnTo>
                  <a:lnTo>
                    <a:pt x="18078" y="4204"/>
                  </a:lnTo>
                  <a:lnTo>
                    <a:pt x="16797" y="2771"/>
                  </a:lnTo>
                  <a:lnTo>
                    <a:pt x="15302" y="1583"/>
                  </a:lnTo>
                  <a:lnTo>
                    <a:pt x="13665" y="716"/>
                  </a:lnTo>
                  <a:lnTo>
                    <a:pt x="11815" y="189"/>
                  </a:lnTo>
                  <a:lnTo>
                    <a:pt x="9964" y="0"/>
                  </a:lnTo>
                </a:path>
              </a:pathLst>
            </a:custGeom>
            <a:solidFill>
              <a:srgbClr val="ddf8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39" name="Freeform 45"/>
            <p:cNvSpPr/>
            <p:nvPr/>
          </p:nvSpPr>
          <p:spPr>
            <a:xfrm>
              <a:off x="3862080" y="2498400"/>
              <a:ext cx="2742840" cy="300024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3000240"/>
                <a:gd name="textAreaBottom" fmla="*/ 3000600 h 3000240"/>
              </a:gdLst>
              <a:ahLst/>
              <a:rect l="textAreaLeft" t="textAreaTop" r="textAreaRight" b="textAreaBottom"/>
              <a:pathLst>
                <a:path w="2911" h="3468">
                  <a:moveTo>
                    <a:pt x="240" y="3002"/>
                  </a:moveTo>
                  <a:cubicBezTo>
                    <a:pt x="282" y="3039"/>
                    <a:pt x="421" y="3169"/>
                    <a:pt x="490" y="3224"/>
                  </a:cubicBezTo>
                  <a:cubicBezTo>
                    <a:pt x="559" y="3279"/>
                    <a:pt x="589" y="3303"/>
                    <a:pt x="655" y="3332"/>
                  </a:cubicBezTo>
                  <a:cubicBezTo>
                    <a:pt x="721" y="3361"/>
                    <a:pt x="762" y="3379"/>
                    <a:pt x="886" y="3398"/>
                  </a:cubicBezTo>
                  <a:cubicBezTo>
                    <a:pt x="1010" y="3417"/>
                    <a:pt x="1228" y="3468"/>
                    <a:pt x="1402" y="3445"/>
                  </a:cubicBezTo>
                  <a:cubicBezTo>
                    <a:pt x="1576" y="3422"/>
                    <a:pt x="1778" y="3336"/>
                    <a:pt x="1932" y="3261"/>
                  </a:cubicBezTo>
                  <a:cubicBezTo>
                    <a:pt x="2086" y="3186"/>
                    <a:pt x="2216" y="3089"/>
                    <a:pt x="2326" y="2996"/>
                  </a:cubicBezTo>
                  <a:cubicBezTo>
                    <a:pt x="2436" y="2903"/>
                    <a:pt x="2526" y="2788"/>
                    <a:pt x="2592" y="2701"/>
                  </a:cubicBezTo>
                  <a:cubicBezTo>
                    <a:pt x="2658" y="2614"/>
                    <a:pt x="2695" y="2532"/>
                    <a:pt x="2724" y="2473"/>
                  </a:cubicBezTo>
                  <a:cubicBezTo>
                    <a:pt x="2753" y="2414"/>
                    <a:pt x="2753" y="2386"/>
                    <a:pt x="2765" y="2349"/>
                  </a:cubicBezTo>
                  <a:cubicBezTo>
                    <a:pt x="2777" y="2312"/>
                    <a:pt x="2780" y="2272"/>
                    <a:pt x="2794" y="2250"/>
                  </a:cubicBezTo>
                  <a:cubicBezTo>
                    <a:pt x="2808" y="2228"/>
                    <a:pt x="2835" y="2228"/>
                    <a:pt x="2852" y="2214"/>
                  </a:cubicBezTo>
                  <a:cubicBezTo>
                    <a:pt x="2869" y="2200"/>
                    <a:pt x="2896" y="2185"/>
                    <a:pt x="2900" y="2166"/>
                  </a:cubicBezTo>
                  <a:lnTo>
                    <a:pt x="2874" y="2097"/>
                  </a:lnTo>
                  <a:lnTo>
                    <a:pt x="2867" y="2027"/>
                  </a:lnTo>
                  <a:cubicBezTo>
                    <a:pt x="2869" y="1983"/>
                    <a:pt x="2884" y="1888"/>
                    <a:pt x="2889" y="1830"/>
                  </a:cubicBezTo>
                  <a:cubicBezTo>
                    <a:pt x="2894" y="1772"/>
                    <a:pt x="2897" y="1721"/>
                    <a:pt x="2896" y="1676"/>
                  </a:cubicBezTo>
                  <a:cubicBezTo>
                    <a:pt x="2895" y="1631"/>
                    <a:pt x="2884" y="1597"/>
                    <a:pt x="2885" y="1560"/>
                  </a:cubicBezTo>
                  <a:cubicBezTo>
                    <a:pt x="2886" y="1523"/>
                    <a:pt x="2911" y="1484"/>
                    <a:pt x="2903" y="1454"/>
                  </a:cubicBezTo>
                  <a:cubicBezTo>
                    <a:pt x="2895" y="1424"/>
                    <a:pt x="2853" y="1414"/>
                    <a:pt x="2838" y="1377"/>
                  </a:cubicBezTo>
                  <a:cubicBezTo>
                    <a:pt x="2823" y="1340"/>
                    <a:pt x="2824" y="1286"/>
                    <a:pt x="2812" y="1231"/>
                  </a:cubicBezTo>
                  <a:cubicBezTo>
                    <a:pt x="2800" y="1176"/>
                    <a:pt x="2806" y="1136"/>
                    <a:pt x="2765" y="1044"/>
                  </a:cubicBezTo>
                  <a:cubicBezTo>
                    <a:pt x="2724" y="952"/>
                    <a:pt x="2644" y="796"/>
                    <a:pt x="2564" y="679"/>
                  </a:cubicBezTo>
                  <a:cubicBezTo>
                    <a:pt x="2484" y="562"/>
                    <a:pt x="2411" y="441"/>
                    <a:pt x="2282" y="341"/>
                  </a:cubicBezTo>
                  <a:cubicBezTo>
                    <a:pt x="2153" y="241"/>
                    <a:pt x="1936" y="136"/>
                    <a:pt x="1792" y="81"/>
                  </a:cubicBezTo>
                  <a:cubicBezTo>
                    <a:pt x="1648" y="26"/>
                    <a:pt x="1569" y="20"/>
                    <a:pt x="1416" y="10"/>
                  </a:cubicBezTo>
                  <a:cubicBezTo>
                    <a:pt x="1263" y="0"/>
                    <a:pt x="1013" y="5"/>
                    <a:pt x="872" y="21"/>
                  </a:cubicBezTo>
                  <a:cubicBezTo>
                    <a:pt x="731" y="37"/>
                    <a:pt x="669" y="64"/>
                    <a:pt x="568" y="105"/>
                  </a:cubicBezTo>
                  <a:cubicBezTo>
                    <a:pt x="467" y="146"/>
                    <a:pt x="336" y="223"/>
                    <a:pt x="268" y="266"/>
                  </a:cubicBezTo>
                  <a:lnTo>
                    <a:pt x="162" y="364"/>
                  </a:lnTo>
                  <a:cubicBezTo>
                    <a:pt x="117" y="422"/>
                    <a:pt x="34" y="564"/>
                    <a:pt x="0" y="617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40" name="Text Box 46"/>
            <p:cNvSpPr/>
            <p:nvPr/>
          </p:nvSpPr>
          <p:spPr>
            <a:xfrm>
              <a:off x="4402800" y="39924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птическая ось</a:t>
              </a:r>
              <a:endParaRPr b="0" i="1" lang="en-US" sz="16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41" name="Line 47"/>
            <p:cNvSpPr/>
            <p:nvPr/>
          </p:nvSpPr>
          <p:spPr>
            <a:xfrm>
              <a:off x="3059280" y="4032000"/>
              <a:ext cx="3881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</p:grpSp>
      <p:sp>
        <p:nvSpPr>
          <p:cNvPr id="142" name="Text Box 49"/>
          <p:cNvSpPr/>
          <p:nvPr/>
        </p:nvSpPr>
        <p:spPr>
          <a:xfrm>
            <a:off x="1407960" y="263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ер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2411280" y="29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1477080" y="30686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говиц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277164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6" name="Text Box 54"/>
          <p:cNvSpPr/>
          <p:nvPr/>
        </p:nvSpPr>
        <p:spPr>
          <a:xfrm>
            <a:off x="1477800" y="3500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уж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7" name="Line 55"/>
          <p:cNvSpPr/>
          <p:nvPr/>
        </p:nvSpPr>
        <p:spPr>
          <a:xfrm>
            <a:off x="28432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8" name="Text Box 56"/>
          <p:cNvSpPr/>
          <p:nvPr/>
        </p:nvSpPr>
        <p:spPr>
          <a:xfrm>
            <a:off x="188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9" name="Text Box 57"/>
          <p:cNvSpPr/>
          <p:nvPr/>
        </p:nvSpPr>
        <p:spPr>
          <a:xfrm>
            <a:off x="1463400" y="39546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русталик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0" name="Line 58"/>
          <p:cNvSpPr/>
          <p:nvPr/>
        </p:nvSpPr>
        <p:spPr>
          <a:xfrm>
            <a:off x="262728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002720" y="33782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чат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2" name="Line 61"/>
          <p:cNvSpPr/>
          <p:nvPr/>
        </p:nvSpPr>
        <p:spPr>
          <a:xfrm flipH="1">
            <a:off x="6516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3" name="Text Box 62"/>
          <p:cNvSpPr/>
          <p:nvPr/>
        </p:nvSpPr>
        <p:spPr>
          <a:xfrm>
            <a:off x="6648840" y="5106960"/>
            <a:ext cx="15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кловидное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4" name="Line 63"/>
          <p:cNvSpPr/>
          <p:nvPr/>
        </p:nvSpPr>
        <p:spPr>
          <a:xfrm flipH="1" flipV="1">
            <a:off x="5796000" y="4653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1478160" y="479736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удистая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лоч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6" name="Line 65"/>
          <p:cNvSpPr/>
          <p:nvPr/>
        </p:nvSpPr>
        <p:spPr>
          <a:xfrm>
            <a:off x="2771640" y="51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dsc08195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mvc1oct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«Глаза – зеркало души».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547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0" y="260280"/>
            <a:ext cx="4114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ы помниш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из тьмы былог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ва закутана в атла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портрета Рокотова 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отрела Струйская на на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глаза – как два тум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улыбка, полуплач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глаза – как два обм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рытых мглою неуда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единенье двух загад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восторг, полуиспу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зумной нежности припад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осхищенье смертных м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потемки наступ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ближается гро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дна души моей мерц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прекрасные гл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. Заболоц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тетя"/>
          <p:cNvPicPr/>
          <p:nvPr/>
        </p:nvPicPr>
        <p:blipFill>
          <a:blip r:embed="rId2"/>
          <a:stretch/>
        </p:blipFill>
        <p:spPr>
          <a:xfrm>
            <a:off x="971640" y="260280"/>
            <a:ext cx="396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Цветовосприятие в мире животных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Цветовосприятие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Картинка 4 из 401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Picture 4" descr="Картинка 4 из 401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0"/>
            <a:ext cx="7596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596360" y="1413000"/>
            <a:ext cx="154764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7596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ы со зрением есть у 30% жителей нашей плане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и у каждого второго жителя России есть какое – либо нарушение зр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нвалидов по зрению в России достигает 500 тыс. челове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4% первоклассников наблюдается нарушение зр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еди выпускников школ нарушение зрения имеется уже у 40% подрост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095480" y="228600"/>
            <a:ext cx="779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Статистика нарушений в работе 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органов зрения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25:29Z</dcterms:created>
  <dc:creator>школа</dc:creator>
  <dc:description/>
  <cp:keywords/>
  <dc:language>en-US</dc:language>
  <cp:lastModifiedBy>user</cp:lastModifiedBy>
  <dcterms:modified xsi:type="dcterms:W3CDTF">2011-12-04T12:53:33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