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4.png" ContentType="image/png"/>
  <Override PartName="/ppt/media/image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3E14-31F5-4646-A4E2-B16A9838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B4FB-7DE2-4D00-8F28-D758C331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7230-C96F-443B-8641-E9531CFB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E673-F158-4C32-99AA-08A147C4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CA0F-200C-404B-846E-678FAA4E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4A38-8924-4227-997D-1E6F7BE2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464D-F8BF-4A49-B165-CDDAE249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3F35-A735-4D23-BFC6-1301E758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9DB9-B7DD-463B-BCD7-313B2742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1A37-9CA7-4838-A71B-5365B45C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1FF3-D1A6-4DC0-91FF-17A8C2E9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EA05-E930-427C-9A91-E1A79926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15C4-5344-40A6-9B01-DFEB8E04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EE92-14EA-45E8-AACB-20D669D0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159F-C23C-4432-BA55-DE8D428D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219B-A0AA-4840-98DF-7ADE7827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D553-707E-4781-B532-9C588B3F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B909A-C845-4CC3-8716-1A43326F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F8B4D-B905-4580-9A22-D9C264AF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3049E-10F5-4CA6-962D-C373D26A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4B1E3-05E6-4224-B0E8-69BFEF6C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B90A2-BD5F-4C0B-BFA4-91FEB8E6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F8BF-4825-4A13-A88C-50BDE011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AB5A6-362B-4231-93DC-1E0DD44B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5F6C5-F201-4980-ACB0-2DFFB0F4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46E9D-BD64-4AB0-AC66-2EE93B46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76C40-968D-4B20-BDA5-EDCF2A6E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4409D-9C28-4EFE-9216-EFCE38C3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E1A23-A485-4CC5-976C-CFE2551D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AFD6E-8E1C-42EC-8D22-D16792D9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CE1AD-4450-4B56-966F-C666F6EC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8994C-1FE5-4043-A8BF-886FCA00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0316B-A1D4-4F8C-BE52-6AC09997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10A3-CE6E-4672-A8B2-E4AB709D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5E89D-17CD-437E-96A2-FDCD2DBA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0487F-40EC-43B8-A9F6-8A5112E9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64373-FBA7-4EE8-9E6A-03BDBA68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41E4F-6F2C-4C53-B48F-6641E17E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C54D9-62F6-4804-95BF-045C0FAE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F5A0E-E5A4-4030-814C-5445B1BE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AF2B8-6ED2-4BF5-B58B-AAF58554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F89F1-751F-412F-8101-F93F2CA7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73641-E257-41F9-AA92-85E4918A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2E058-0E2D-46D2-9A74-29EA2C3E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2667-CF52-4260-8421-A1F4A516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24158-8913-44FD-9407-865B6E15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66875-541F-4571-BF22-86B6AAFB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0DCF9-5E9F-433D-9393-AC9D0E03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BF671-3D47-43EE-BC43-B88AF9DB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170AC-7A4B-444D-9856-AFACC846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CC4AE-6869-493C-B34D-AB106B3C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EC27B-ABC3-4372-81D8-8C220FC2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9EA4A-F693-4452-83E1-F2F25241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E8494-653D-41EE-BB3D-142B48A6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02439-D6FD-4E15-99BB-8F904D61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7256-FBE6-4250-B7BC-B62CE356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6E89F-5B23-4BFC-821D-77727261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0965-C5A2-4509-9625-0124E881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1569-F1F3-4591-A0D8-87E95C64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E718-BDF2-498D-BE53-6B5B8C7C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2173-5437-4DA6-AF1B-79B0ECE7DD7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1FF8-662C-4FA0-B006-787493AC47E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EFC9-E04B-4F72-9C64-2F24BB3EE54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B1F1-8D43-422D-9A0C-EDB565AA7FE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8EA1-C9F4-4AF5-881D-93DFB8E0735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deti-66.ru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deti-66.ru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deti-66.ru/" TargetMode="Externa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www.deti-66.ru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www.deti-66.ru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deti-66.ru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Verdana"/>
              </a:rPr>
              <a:t>Искусство Жостова.                   Истоки и современное развитие промысла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250920" y="476280"/>
            <a:ext cx="37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E707-1B83-40B2-B8A0-FBE2D189ED47}" type="datetime">
              <a:rPr b="0" lang="en-US" sz="2200" spc="-1" strike="noStrike">
                <a:solidFill>
                  <a:srgbClr val="000000"/>
                </a:solidFill>
                <a:latin typeface="Arial"/>
              </a:rPr>
              <a:t>07/29/26</a:t>
            </a:fld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fld id="{22C30CFB-AB3C-42A2-8BED-BC758658BA3E}" type="datetime10">
              <a:rPr b="0" lang="en-US" sz="2200" spc="-1" strike="noStrike">
                <a:solidFill>
                  <a:srgbClr val="000000"/>
                </a:solidFill>
                <a:latin typeface="Arial"/>
              </a:rPr>
              <a:t>07:42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3141720"/>
            <a:ext cx="45352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434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Цели и задачи  урока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434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Познакомить с особенностями художественного промысла России – Жосто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80" indent="434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Познакомиться с принципом построения композиции, используя элементы роспис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3614760" cy="2793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11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b9f25"/>
                </a:solidFill>
                <a:uFillTx/>
                <a:latin typeface="Arial"/>
                <a:hlinkClick r:id="rId2"/>
              </a:rPr>
              <a:t>http://www.deti-66.ru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156000" y="475920"/>
            <a:ext cx="2987640" cy="610884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аборе садовых и полевых цветов центральное место занимала «царица садов и оранжерей» – роза.  Вокруг нее располагались георгины, маки, анютины глазки, колокольчики, ландыши и незабуд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3" descr="D:\документы\папка Гали\рисунки\жостово\22[1].jpg"/>
          <p:cNvPicPr/>
          <p:nvPr/>
        </p:nvPicPr>
        <p:blipFill>
          <a:blip r:embed="rId1"/>
          <a:stretch/>
        </p:blipFill>
        <p:spPr>
          <a:xfrm>
            <a:off x="1835280" y="620640"/>
            <a:ext cx="2573280" cy="3167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D:\документы\папка Гали\рисунки\жостово\4845--1[1].jpg"/>
          <p:cNvPicPr/>
          <p:nvPr/>
        </p:nvPicPr>
        <p:blipFill>
          <a:blip r:embed="rId2"/>
          <a:stretch/>
        </p:blipFill>
        <p:spPr>
          <a:xfrm>
            <a:off x="395280" y="3860640"/>
            <a:ext cx="5689440" cy="24656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11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eti-66.ru/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06200" y="1384200"/>
            <a:ext cx="4321440" cy="33721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491000" y="1403280"/>
            <a:ext cx="4473720" cy="33530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763640" y="4046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Роспись подн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1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eti-66.ru/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911760" y="476280"/>
            <a:ext cx="523224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В музее народных промыслов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4" name="Picture 2" descr="D:\документы\папка Гали\рисунки\жостово\img3[1].jpg"/>
          <p:cNvPicPr/>
          <p:nvPr/>
        </p:nvPicPr>
        <p:blipFill>
          <a:blip r:embed="rId1"/>
          <a:stretch/>
        </p:blipFill>
        <p:spPr>
          <a:xfrm>
            <a:off x="3851280" y="1125360"/>
            <a:ext cx="4941720" cy="441180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3"/>
          <p:cNvSpPr/>
          <p:nvPr/>
        </p:nvSpPr>
        <p:spPr>
          <a:xfrm>
            <a:off x="179280" y="735120"/>
            <a:ext cx="3565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 кистью жостовских мастеров поднос приобретает качества художественного произведения, радующего глаз яркими букетами цветов и спелыми фруктами, экзотическими птицами и бабочками, виртуозно написанными на блестящем черном или цветном фо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eti-66.ru/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308120"/>
            <a:ext cx="818352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остовский поднос жив и по сей день. Процесс изготовления несколько изменился – металл теперь не куют, а прессуют, используют другие краски. Но ощущение праздника и радости жостовский поднос сохранил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979640" y="476280"/>
            <a:ext cx="5400720" cy="40561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11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eti-66.ru/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571640" y="764640"/>
            <a:ext cx="422604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98280" indent="3603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 нового появляется в колорите современного жостовского поднос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98280" indent="3603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яду с традиционным многоцветием можно встретить немало интересных тональных разработок (букеты в синей, голубой, зеленой гамме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7680" y="4857840"/>
            <a:ext cx="106200" cy="79200"/>
          </a:xfrm>
          <a:prstGeom prst="rect">
            <a:avLst/>
          </a:prstGeom>
          <a:noFill/>
          <a:ln w="0">
            <a:noFill/>
          </a:ln>
        </p:spPr>
        <p:txBody>
          <a:bodyPr lIns="182880" tIns="33480" bIns="-122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971640" y="3213000"/>
            <a:ext cx="3024000" cy="30178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3924000" cy="28544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11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eti-66.ru/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00720" y="404280"/>
            <a:ext cx="4356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Этапы росписи подноса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43280" y="658800"/>
            <a:ext cx="4500720" cy="48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Замалёв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збавленной краской художник наносит силуэты цветов и листье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Тенёж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Художник наносит цветные тени, появляется объё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Блик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ложение бликов выявляет свет и объём, букет кажется освещённы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Чертёж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и помощи тонкой кисти художник рисует прожилки на листочках, «семенца» в центре цве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ривяз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и помощи стебельков и травинок букет оформляется в единое цело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Picture 2" descr="F:\жостовский поднос\1замалевок.bmp"/>
          <p:cNvPicPr/>
          <p:nvPr/>
        </p:nvPicPr>
        <p:blipFill>
          <a:blip r:embed="rId1"/>
          <a:stretch/>
        </p:blipFill>
        <p:spPr>
          <a:xfrm>
            <a:off x="1476360" y="404640"/>
            <a:ext cx="1548000" cy="1917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F:\жостовский поднос\2тенежка.bmp"/>
          <p:cNvPicPr/>
          <p:nvPr/>
        </p:nvPicPr>
        <p:blipFill>
          <a:blip r:embed="rId2"/>
          <a:stretch/>
        </p:blipFill>
        <p:spPr>
          <a:xfrm>
            <a:off x="395280" y="2349360"/>
            <a:ext cx="1563840" cy="1943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F:\жостовский поднос\3бликовка.bmp"/>
          <p:cNvPicPr/>
          <p:nvPr/>
        </p:nvPicPr>
        <p:blipFill>
          <a:blip r:embed="rId3"/>
          <a:stretch/>
        </p:blipFill>
        <p:spPr>
          <a:xfrm>
            <a:off x="2195640" y="2349360"/>
            <a:ext cx="1554120" cy="19256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F:\жостовский поднос\4чертежка.bmp"/>
          <p:cNvPicPr/>
          <p:nvPr/>
        </p:nvPicPr>
        <p:blipFill>
          <a:blip r:embed="rId4"/>
          <a:stretch/>
        </p:blipFill>
        <p:spPr>
          <a:xfrm>
            <a:off x="468360" y="4365720"/>
            <a:ext cx="1500120" cy="1871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F:\жостовский поднос\5привязка.bmp"/>
          <p:cNvPicPr/>
          <p:nvPr/>
        </p:nvPicPr>
        <p:blipFill>
          <a:blip r:embed="rId5"/>
          <a:stretch/>
        </p:blipFill>
        <p:spPr>
          <a:xfrm>
            <a:off x="2195640" y="4365720"/>
            <a:ext cx="1577880" cy="19429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5435640" y="5373720"/>
            <a:ext cx="2665440" cy="720720"/>
          </a:xfrm>
          <a:custGeom>
            <a:avLst/>
            <a:gdLst>
              <a:gd name="textAreaLeft" fmla="*/ 46440 w 2665440"/>
              <a:gd name="textAreaRight" fmla="*/ 2619000 w 2665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9854" h="21600">
                <a:moveTo>
                  <a:pt x="0" y="0"/>
                </a:moveTo>
                <a:lnTo>
                  <a:pt x="79854" y="0"/>
                </a:lnTo>
                <a:lnTo>
                  <a:pt x="79854" y="21600"/>
                </a:lnTo>
                <a:lnTo>
                  <a:pt x="0" y="21600"/>
                </a:lnTo>
                <a:close/>
              </a:path>
              <a:path fill="lightenLess" w="79854" h="21600">
                <a:moveTo>
                  <a:pt x="0" y="0"/>
                </a:moveTo>
                <a:lnTo>
                  <a:pt x="79854" y="0"/>
                </a:lnTo>
                <a:lnTo>
                  <a:pt x="78454" y="1400"/>
                </a:lnTo>
                <a:lnTo>
                  <a:pt x="1400" y="1400"/>
                </a:lnTo>
                <a:close/>
              </a:path>
              <a:path fill="darken" w="79854" h="21600">
                <a:moveTo>
                  <a:pt x="79854" y="0"/>
                </a:moveTo>
                <a:lnTo>
                  <a:pt x="79854" y="21600"/>
                </a:lnTo>
                <a:lnTo>
                  <a:pt x="78454" y="20200"/>
                </a:lnTo>
                <a:lnTo>
                  <a:pt x="78454" y="1400"/>
                </a:lnTo>
                <a:close/>
              </a:path>
              <a:path fill="darkenLess" w="79854" h="21600">
                <a:moveTo>
                  <a:pt x="79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454" y="20200"/>
                </a:lnTo>
                <a:close/>
              </a:path>
              <a:path fill="lighten" w="79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854" h="21600">
                <a:moveTo>
                  <a:pt x="32921" y="7301"/>
                </a:moveTo>
                <a:lnTo>
                  <a:pt x="33835" y="7301"/>
                </a:lnTo>
                <a:lnTo>
                  <a:pt x="34217" y="7667"/>
                </a:lnTo>
                <a:lnTo>
                  <a:pt x="43426" y="7667"/>
                </a:lnTo>
                <a:lnTo>
                  <a:pt x="43983" y="8224"/>
                </a:lnTo>
                <a:lnTo>
                  <a:pt x="43983" y="8772"/>
                </a:lnTo>
                <a:lnTo>
                  <a:pt x="45828" y="8772"/>
                </a:lnTo>
                <a:lnTo>
                  <a:pt x="46194" y="8224"/>
                </a:lnTo>
                <a:lnTo>
                  <a:pt x="46934" y="8224"/>
                </a:lnTo>
                <a:lnTo>
                  <a:pt x="46934" y="13376"/>
                </a:lnTo>
                <a:lnTo>
                  <a:pt x="46194" y="13376"/>
                </a:lnTo>
                <a:lnTo>
                  <a:pt x="45828" y="12828"/>
                </a:lnTo>
                <a:lnTo>
                  <a:pt x="43983" y="12828"/>
                </a:lnTo>
                <a:lnTo>
                  <a:pt x="43983" y="14107"/>
                </a:lnTo>
                <a:lnTo>
                  <a:pt x="34400" y="14107"/>
                </a:lnTo>
                <a:lnTo>
                  <a:pt x="34400" y="9877"/>
                </a:lnTo>
                <a:lnTo>
                  <a:pt x="34217" y="9877"/>
                </a:lnTo>
                <a:lnTo>
                  <a:pt x="33835" y="10243"/>
                </a:lnTo>
                <a:lnTo>
                  <a:pt x="32921" y="10243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6021360"/>
            <a:ext cx="33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остовский подно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181080" y="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eti-66.ru/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79280" y="333360"/>
            <a:ext cx="87138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думайте интересную форму подноса и распишите его травным узором орнаментом с цвет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D:\документы\папка Гали\рисунки\жостово\03290006[1].jpg"/>
          <p:cNvPicPr/>
          <p:nvPr/>
        </p:nvPicPr>
        <p:blipFill>
          <a:blip r:embed="rId1"/>
          <a:stretch/>
        </p:blipFill>
        <p:spPr>
          <a:xfrm>
            <a:off x="2050920" y="1773360"/>
            <a:ext cx="5042160" cy="4510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11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eti-66.ru/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95280" y="69228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сурсы Интерн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1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b9f25"/>
                </a:solidFill>
                <a:uFillTx/>
                <a:latin typeface="Arial"/>
                <a:hlinkClick r:id="rId1"/>
              </a:rPr>
              <a:t>http://www.deti-66.ru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79280" y="1773360"/>
            <a:ext cx="77774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5400" indent="-5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cc"/>
                </a:solidFill>
                <a:latin typeface="Verdana"/>
              </a:rPr>
              <a:t>План урок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00" indent="-5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Просмотр слайд-шоу «Глаза России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00" indent="-5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Беседа «Жостовский поднос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00" indent="-5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Просмотр слайд-шоу «Жостовский поднос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00" indent="-5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Творческая работа уча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00" indent="-5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Выставка работ уча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00" indent="-5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. Итог уро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350040" y="981000"/>
            <a:ext cx="2759040" cy="4751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11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b9f25"/>
                </a:solidFill>
                <a:uFillTx/>
                <a:latin typeface="Arial"/>
                <a:hlinkClick r:id="rId2"/>
              </a:rPr>
              <a:t>http://www.deti-66.ru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464000" cy="3517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716360" y="457200"/>
            <a:ext cx="4103640" cy="31179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219640" y="4653000"/>
            <a:ext cx="2879640" cy="863640"/>
          </a:xfrm>
          <a:custGeom>
            <a:avLst/>
            <a:gdLst>
              <a:gd name="textAreaLeft" fmla="*/ 55800 w 2879640"/>
              <a:gd name="textAreaRight" fmla="*/ 2823840 w 2879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72000" h="21600">
                <a:moveTo>
                  <a:pt x="0" y="0"/>
                </a:moveTo>
                <a:lnTo>
                  <a:pt x="72000" y="0"/>
                </a:lnTo>
                <a:lnTo>
                  <a:pt x="72000" y="21600"/>
                </a:lnTo>
                <a:lnTo>
                  <a:pt x="0" y="21600"/>
                </a:lnTo>
                <a:close/>
              </a:path>
              <a:path fill="lightenLess" w="72000" h="21600">
                <a:moveTo>
                  <a:pt x="0" y="0"/>
                </a:moveTo>
                <a:lnTo>
                  <a:pt x="72000" y="0"/>
                </a:lnTo>
                <a:lnTo>
                  <a:pt x="70600" y="1400"/>
                </a:lnTo>
                <a:lnTo>
                  <a:pt x="1400" y="1400"/>
                </a:lnTo>
                <a:close/>
              </a:path>
              <a:path fill="darken" w="72000" h="21600">
                <a:moveTo>
                  <a:pt x="72000" y="0"/>
                </a:moveTo>
                <a:lnTo>
                  <a:pt x="72000" y="21600"/>
                </a:lnTo>
                <a:lnTo>
                  <a:pt x="70600" y="20200"/>
                </a:lnTo>
                <a:lnTo>
                  <a:pt x="70600" y="1400"/>
                </a:lnTo>
                <a:close/>
              </a:path>
              <a:path fill="darkenLess" w="72000" h="21600">
                <a:moveTo>
                  <a:pt x="72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00" y="20200"/>
                </a:lnTo>
                <a:close/>
              </a:path>
              <a:path fill="lighten" w="72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2000" h="21600">
                <a:moveTo>
                  <a:pt x="28994" y="7301"/>
                </a:moveTo>
                <a:lnTo>
                  <a:pt x="29907" y="7301"/>
                </a:lnTo>
                <a:lnTo>
                  <a:pt x="30290" y="7667"/>
                </a:lnTo>
                <a:lnTo>
                  <a:pt x="39499" y="7667"/>
                </a:lnTo>
                <a:lnTo>
                  <a:pt x="40056" y="8224"/>
                </a:lnTo>
                <a:lnTo>
                  <a:pt x="40056" y="8772"/>
                </a:lnTo>
                <a:lnTo>
                  <a:pt x="41901" y="8772"/>
                </a:lnTo>
                <a:lnTo>
                  <a:pt x="42267" y="8224"/>
                </a:lnTo>
                <a:lnTo>
                  <a:pt x="43006" y="8224"/>
                </a:lnTo>
                <a:lnTo>
                  <a:pt x="43006" y="13376"/>
                </a:lnTo>
                <a:lnTo>
                  <a:pt x="42267" y="13376"/>
                </a:lnTo>
                <a:lnTo>
                  <a:pt x="41901" y="12828"/>
                </a:lnTo>
                <a:lnTo>
                  <a:pt x="40056" y="12828"/>
                </a:lnTo>
                <a:lnTo>
                  <a:pt x="40056" y="14107"/>
                </a:lnTo>
                <a:lnTo>
                  <a:pt x="30473" y="14107"/>
                </a:lnTo>
                <a:lnTo>
                  <a:pt x="30473" y="9877"/>
                </a:lnTo>
                <a:lnTo>
                  <a:pt x="30290" y="9877"/>
                </a:lnTo>
                <a:lnTo>
                  <a:pt x="29907" y="10243"/>
                </a:lnTo>
                <a:lnTo>
                  <a:pt x="28994" y="10243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64000" y="5589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за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b9f25"/>
                </a:solidFill>
                <a:uFillTx/>
                <a:latin typeface="Arial"/>
                <a:hlinkClick r:id="rId3"/>
              </a:rPr>
              <a:t>http://www.deti-66.ru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59280" y="364500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удожник Вячеслав Палач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211640" y="999720"/>
            <a:ext cx="4299120" cy="46544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алеко от Москвы в живописном месте находится село Жостово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6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ло прославилось не только в нашей стране, но и за рубежо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6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знаменито оно тем, что никто лучше жостовских умельцев не может рисовать цветы на железных подносах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71640" y="682560"/>
            <a:ext cx="2533680" cy="24591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3601800" cy="27003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11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b9f25"/>
                </a:solidFill>
                <a:uFillTx/>
                <a:latin typeface="Arial"/>
                <a:hlinkClick r:id="rId3"/>
              </a:rPr>
              <a:t>http://www.deti-66.ru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179280" y="475920"/>
            <a:ext cx="450072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6000"/>
          </a:bodyPr>
          <a:p>
            <a:pPr marL="88200" indent="4233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XIX веке на Руси широкое распространение получает заморский напиток – чай. Он вытеснил русский сбитень, медовуху и различные травяные настои. Возникла целая церемония чаепития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88200" indent="4233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88200" indent="4233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ульские мастера принялись за изготовление самоваров. Вместе с самоваром на стол ставился и поднос, который также стал участником русского чаепит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88200" indent="4233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148360" y="765000"/>
            <a:ext cx="3786120" cy="48974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11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b9f25"/>
                </a:solidFill>
                <a:uFillTx/>
                <a:latin typeface="Arial"/>
                <a:hlinkClick r:id="rId2"/>
              </a:rPr>
              <a:t>http://www.deti-66.ru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-360" y="1916280"/>
            <a:ext cx="4714920" cy="223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189000" indent="36036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1825 году местный крестьянин Филипп Вишняков с сыном открыл мастерскую по изготовлению металлических расписных поднос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859280" y="692280"/>
            <a:ext cx="4211640" cy="41241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11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eti-66.ru/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5364000" y="404280"/>
            <a:ext cx="3384720" cy="43117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5000"/>
          </a:bodyPr>
          <a:p>
            <a:pPr marL="165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остовские подносы изготавливались различных размеров и форм. Трактирные подносы достигали размеров стола, маленькие «закусочные» - не больше тарелки; шести и восьмиугольные, овальные, прямоугольные, круглые и даже треугольные для угловых столик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165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1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2" descr="D:\документы\папка Гали\рисунки\жостово\picture75[1].jpg"/>
          <p:cNvPicPr/>
          <p:nvPr/>
        </p:nvPicPr>
        <p:blipFill>
          <a:blip r:embed="rId1"/>
          <a:stretch/>
        </p:blipFill>
        <p:spPr>
          <a:xfrm>
            <a:off x="250920" y="907920"/>
            <a:ext cx="5040360" cy="4599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11280" y="381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eti-66.ru/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292720" y="907920"/>
            <a:ext cx="3384720" cy="3888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м распространенным видом жостовской росписи подносов является букет, расположенный в центре подноса и обрамленный по борту мелким золотистым узор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3" descr="D:\документы\папка Гали\рисунки\жостово\zhostovo-350[1].jpg"/>
          <p:cNvPicPr/>
          <p:nvPr/>
        </p:nvPicPr>
        <p:blipFill>
          <a:blip r:embed="rId1"/>
          <a:stretch/>
        </p:blipFill>
        <p:spPr>
          <a:xfrm>
            <a:off x="241200" y="547560"/>
            <a:ext cx="4835520" cy="5473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11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eti-66.ru/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9640" y="3806640"/>
            <a:ext cx="803592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4000"/>
          </a:bodyPr>
          <a:p>
            <a:pPr marL="5760" indent="2520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укет превращается в нарядную группу цветов, свободно положенную на блестящий лаковый фон. Три-четыре крупных цветка (роза, тюльпан, георгин и более скромные - анютины глазки, вьюнки) окружались россыпью более мелких цветочков и бутонов, связанных между собой гибкими стебельками и легкой «травкой» - небольшими веточками и листочк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2" descr="D:\документы\папка Гали\рисунки\жостово\654[1].jpg"/>
          <p:cNvPicPr/>
          <p:nvPr/>
        </p:nvPicPr>
        <p:blipFill>
          <a:blip r:embed="rId1"/>
          <a:stretch/>
        </p:blipFill>
        <p:spPr>
          <a:xfrm>
            <a:off x="4716360" y="320760"/>
            <a:ext cx="4248360" cy="34131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95280" y="493560"/>
            <a:ext cx="4284720" cy="32338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11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eti-66.ru/ Портал «Дети-66.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0360" y="6453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Всероссийский интернет-конкурс «Моя педагогическая инициатива –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1:47:43Z</dcterms:created>
  <dc:creator>Антон</dc:creator>
  <dc:description/>
  <dc:language>en-US</dc:language>
  <cp:lastModifiedBy>Admin</cp:lastModifiedBy>
  <dcterms:modified xsi:type="dcterms:W3CDTF">2010-12-04T21:40:04Z</dcterms:modified>
  <cp:revision>163</cp:revision>
  <dc:subject/>
  <dc:title>Жостовские подносы</dc:title>
</cp:coreProperties>
</file>