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29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24.png" ContentType="image/png"/>
  <Override PartName="/ppt/media/image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6A48-E0FF-450E-9753-1BC43E639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D8DD-3699-4427-8A23-88288DB72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9DC9-B21E-495A-93FA-50992C00C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CE37-B124-437C-AFD4-7C9A6214A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09948-C88C-41CB-9E5C-406873D68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B7EF2-E1EB-4909-A9B9-519C6BBBC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515BD-42B8-4BB9-BC6B-23FF1BB3E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109DB-FBB4-43FE-B957-A9C1C16C2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E64BF-2AC1-4523-AE06-2DC953D9F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F3D8A-A3DC-403F-AD6D-4F8DF2D26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0F265-0C22-49D9-BCAB-A3AAFFC62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B9D8-1546-4F44-B6AA-546775AB0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77DB6-3679-41DE-B736-5CA4D47B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274EF-51AD-49E2-A3C3-B9CA5A5B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41526-C6BD-4CA5-86F6-61FE55667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BD573-0D9A-43AD-9207-F917F1726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DBFE2-3E6B-44B7-8863-A1A8E840D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E801B-1833-40B6-A878-D377CCBE0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AD7CA-F608-40EC-99D6-DC501B479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54A30-60FA-4112-89E0-2D9019AC9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F4AAA-F583-4E45-B250-89EFB6E04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6C4B4-D5A4-48E5-9A0E-8FFA0AF52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78FB-F51E-45C5-B744-AF92EEE2F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27A9D-CF43-488C-85D3-B30C86658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9959F-42CB-454C-B768-76568FD2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CD717-13C8-469C-AC9A-462D49D77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8619E-64DD-4E26-9926-0C284FE5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520DC-22B5-44A9-B4A8-57A51DEE7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7DDBA-CE6F-4ACA-B19E-F54C05C54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74FE5-5D75-40ED-A3CF-7A92A2EDA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27766-CEC5-4356-9F20-94339E565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5C025-8871-4BAC-B337-3BA2F0ACD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3DD3F-3CBB-441D-9915-627BE2758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2CA2-1E4A-4330-9F69-EB6B4CBC4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B4A3A-24E8-4D19-9069-E7BACEE93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27A7B-2123-46EB-A512-38BA466DA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CB33F-EF0D-478C-B3F1-A63D183DF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82677-2141-4FC4-8199-7ED81E454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623E5-3D7C-495D-A6F1-6AEF23611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68129-3C96-4835-AD6A-BF47115E3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61453-A025-481F-9A39-B1330E58D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ACB07-798C-4FAA-ADE6-1F3894561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E7EA6-F713-4374-A1E7-07CB4C230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E94DE-67F1-4102-870E-F06DF6858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E601-02FB-476E-BCE6-AA666BC1E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B2498C-1878-487F-8338-042924053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098E4-DD6A-4A0D-83B5-7695784D0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8F64D-38B5-4A2B-8AEC-896E5176D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3EF55-596C-4B06-A10C-45CA32C56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F5534-8958-4D3A-8178-E6E6F9F63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52C3D6-F688-4FB9-A5F8-C105C260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22B1C3-43DF-46B2-8152-8D2792F8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48F2D-535D-4E3C-A09E-114ECE9D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9F6281-D63C-4F19-AFD4-9EC5CD450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D70B2C-2744-4897-9F1D-7A42FF93F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3ECD-A341-4434-B855-FEC76D382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B4A4FC-C444-413A-88FF-D220A7215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4CBF-6BDF-4AD5-BDB7-D43B5DA0B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3EF2-FE52-4251-8F5C-43AE9DEB3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267F-6654-4742-B4B6-77D65D4F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06689-478A-4E25-B887-AD5F985AB9F1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E2D84-68FB-4FDD-935A-013A9B2E0228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CD6F8-FC0E-4D66-8606-C1B03A8133AE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D321B-C2FD-4C9E-83A9-9EC84B7DC623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5B961-5D42-48A5-ACB2-F16A01B95845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deti-66.ru/" TargetMode="Externa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deti-66.ru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deti-66.ru/" TargetMode="External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hyperlink" Target="http://www.deti-66.ru/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hyperlink" Target="http://www.deti-66.ru/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deti-66.ru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Verdana"/>
              </a:rPr>
              <a:t>Искусство Жостова.                   Истоки и современное развитие промысла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"/>
          <p:cNvSpPr/>
          <p:nvPr/>
        </p:nvSpPr>
        <p:spPr>
          <a:xfrm>
            <a:off x="250920" y="476280"/>
            <a:ext cx="374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D7D3C-6252-4984-8DAF-C01F8968CE6B}" type="datetime">
              <a:rPr b="0" lang="en-US" sz="2200" spc="-1" strike="noStrike">
                <a:solidFill>
                  <a:srgbClr val="000000"/>
                </a:solidFill>
                <a:latin typeface="Arial"/>
              </a:rPr>
              <a:t>07/30/26</a:t>
            </a:fld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fld id="{899BDC27-0CF0-4220-8F14-8899ADB5151E}" type="datetime10">
              <a:rPr b="0" lang="en-US" sz="2200" spc="-1" strike="noStrike">
                <a:solidFill>
                  <a:srgbClr val="000000"/>
                </a:solidFill>
                <a:latin typeface="Arial"/>
              </a:rPr>
              <a:t>13:34</a:t>
            </a:fld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4000" y="3141720"/>
            <a:ext cx="453528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480" indent="434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Цели и задачи  урока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434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Познакомить с особенностями художественного промысла России – Жосто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434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Познакомиться с принципом построения композиции, используя элементы роспис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5364000" y="2924280"/>
            <a:ext cx="3614760" cy="27939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611280" y="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b9f25"/>
                </a:solidFill>
                <a:uFillTx/>
                <a:latin typeface="Arial"/>
                <a:hlinkClick r:id="rId2"/>
              </a:rPr>
              <a:t>http://www.deti-66.ru/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Портал «Дети-66.р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60360" y="6453360"/>
            <a:ext cx="87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II Всероссийский интернет-конкурс «Моя педагогическая инициатива – 2011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6156000" y="475920"/>
            <a:ext cx="2987640" cy="6108840"/>
          </a:xfrm>
          <a:prstGeom prst="rect">
            <a:avLst/>
          </a:prstGeom>
          <a:noFill/>
          <a:ln w="0">
            <a:noFill/>
          </a:ln>
        </p:spPr>
        <p:txBody>
          <a:bodyPr lIns="118800" t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наборе садовых и полевых цветов центральное место занимала «царица садов и оранжерей» – роза.  Вокруг нее располагались георгины, маки, анютины глазки, колокольчики, ландыши и незабудк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4" name="Picture 3" descr="D:\документы\папка Гали\рисунки\жостово\22[1].jpg"/>
          <p:cNvPicPr/>
          <p:nvPr/>
        </p:nvPicPr>
        <p:blipFill>
          <a:blip r:embed="rId1"/>
          <a:stretch/>
        </p:blipFill>
        <p:spPr>
          <a:xfrm>
            <a:off x="1835280" y="620640"/>
            <a:ext cx="2573280" cy="31672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D:\документы\папка Гали\рисунки\жостово\4845--1[1].jpg"/>
          <p:cNvPicPr/>
          <p:nvPr/>
        </p:nvPicPr>
        <p:blipFill>
          <a:blip r:embed="rId2"/>
          <a:stretch/>
        </p:blipFill>
        <p:spPr>
          <a:xfrm>
            <a:off x="395280" y="3860640"/>
            <a:ext cx="5689440" cy="246564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611280" y="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deti-66.ru/ Портал «Дети-66.р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60360" y="6453360"/>
            <a:ext cx="87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II Всероссийский интернет-конкурс «Моя педагогическая инициатива – 2011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106200" y="1384200"/>
            <a:ext cx="4321440" cy="337212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4491000" y="1403280"/>
            <a:ext cx="4473720" cy="335304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1763640" y="404640"/>
            <a:ext cx="56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Роспись подно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1280" y="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deti-66.ru/ Портал «Дети-66.р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60360" y="6453360"/>
            <a:ext cx="87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II Всероссийский интернет-конкурс «Моя педагогическая инициатива – 2011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911760" y="476280"/>
            <a:ext cx="5232240" cy="5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В музее народных промыслов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74" name="Picture 2" descr="D:\документы\папка Гали\рисунки\жостово\img3[1].jpg"/>
          <p:cNvPicPr/>
          <p:nvPr/>
        </p:nvPicPr>
        <p:blipFill>
          <a:blip r:embed="rId1"/>
          <a:stretch/>
        </p:blipFill>
        <p:spPr>
          <a:xfrm>
            <a:off x="3851280" y="1125360"/>
            <a:ext cx="4941720" cy="4411800"/>
          </a:xfrm>
          <a:prstGeom prst="rect">
            <a:avLst/>
          </a:prstGeom>
          <a:ln w="0">
            <a:noFill/>
          </a:ln>
        </p:spPr>
      </p:pic>
      <p:sp>
        <p:nvSpPr>
          <p:cNvPr id="275" name="Прямоугольник 3"/>
          <p:cNvSpPr/>
          <p:nvPr/>
        </p:nvSpPr>
        <p:spPr>
          <a:xfrm>
            <a:off x="179280" y="735120"/>
            <a:ext cx="35658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д кистью жостовских мастеров поднос приобретает качества художественного произведения, радующего глаз яркими букетами цветов и спелыми фруктами, экзотическими птицами и бабочками, виртуозно написанными на блестящем черном или цветном фон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deti-66.ru/ Портал «Дети-66.р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60360" y="6453360"/>
            <a:ext cx="87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II Всероссийский интернет-конкурс «Моя педагогическая инициатива – 2011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3280" y="4308120"/>
            <a:ext cx="818352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Жостовский поднос жив и по сей день. Процесс изготовления несколько изменился – металл теперь не куют, а прессуют, используют другие краски. Но ощущение праздника и радости жостовский поднос сохранил.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1979640" y="476280"/>
            <a:ext cx="5400720" cy="405612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611280" y="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deti-66.ru/ Портал «Дети-66.р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60360" y="6453360"/>
            <a:ext cx="87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II Всероссийский интернет-конкурс «Моя педагогическая инициатива – 2011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4571640" y="764640"/>
            <a:ext cx="4226040" cy="4714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98280" indent="360360"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о нового появляется в колорите современного жостовского поднос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98280" indent="360360"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ряду с традиционным многоцветием можно встретить немало интересных тональных разработок (букеты в синей, голубой, зеленой гамме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607680" y="4857840"/>
            <a:ext cx="106200" cy="79200"/>
          </a:xfrm>
          <a:prstGeom prst="rect">
            <a:avLst/>
          </a:prstGeom>
          <a:noFill/>
          <a:ln w="0">
            <a:noFill/>
          </a:ln>
        </p:spPr>
        <p:txBody>
          <a:bodyPr lIns="182880" tIns="33480" bIns="-122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971640" y="3213000"/>
            <a:ext cx="3024000" cy="301788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3924000" cy="285444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611280" y="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deti-66.ru/ Портал «Дети-66.р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60360" y="6453360"/>
            <a:ext cx="87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II Всероссийский интернет-конкурс «Моя педагогическая инициатива – 2011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00720" y="404280"/>
            <a:ext cx="4356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Этапы росписи подноса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643280" y="658800"/>
            <a:ext cx="4500720" cy="48578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Замалёво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разбавленной краской художник наносит силуэты цветов и листье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Тенёж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Художник наносит цветные тени, появляется объё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Бликов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Наложение бликов выявляет свет и объём, букет кажется освещённы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Чертёж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при помощи тонкой кисти художник рисует прожилки на листочках, «семенца» в центре цвет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Привяз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при помощи стебельков и травинок букет оформляется в единое цело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0" name="Picture 2" descr="F:\жостовский поднос\1замалевок.bmp"/>
          <p:cNvPicPr/>
          <p:nvPr/>
        </p:nvPicPr>
        <p:blipFill>
          <a:blip r:embed="rId1"/>
          <a:stretch/>
        </p:blipFill>
        <p:spPr>
          <a:xfrm>
            <a:off x="1476360" y="404640"/>
            <a:ext cx="1548000" cy="19177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3" descr="F:\жостовский поднос\2тенежка.bmp"/>
          <p:cNvPicPr/>
          <p:nvPr/>
        </p:nvPicPr>
        <p:blipFill>
          <a:blip r:embed="rId2"/>
          <a:stretch/>
        </p:blipFill>
        <p:spPr>
          <a:xfrm>
            <a:off x="395280" y="2349360"/>
            <a:ext cx="1563840" cy="19432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4" descr="F:\жостовский поднос\3бликовка.bmp"/>
          <p:cNvPicPr/>
          <p:nvPr/>
        </p:nvPicPr>
        <p:blipFill>
          <a:blip r:embed="rId3"/>
          <a:stretch/>
        </p:blipFill>
        <p:spPr>
          <a:xfrm>
            <a:off x="2195640" y="2349360"/>
            <a:ext cx="1554120" cy="19256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5" descr="F:\жостовский поднос\4чертежка.bmp"/>
          <p:cNvPicPr/>
          <p:nvPr/>
        </p:nvPicPr>
        <p:blipFill>
          <a:blip r:embed="rId4"/>
          <a:stretch/>
        </p:blipFill>
        <p:spPr>
          <a:xfrm>
            <a:off x="468360" y="4365720"/>
            <a:ext cx="1500120" cy="1871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6" descr="F:\жостовский поднос\5привязка.bmp"/>
          <p:cNvPicPr/>
          <p:nvPr/>
        </p:nvPicPr>
        <p:blipFill>
          <a:blip r:embed="rId5"/>
          <a:stretch/>
        </p:blipFill>
        <p:spPr>
          <a:xfrm>
            <a:off x="2195640" y="4365720"/>
            <a:ext cx="1577880" cy="194292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5435640" y="5373720"/>
            <a:ext cx="2665440" cy="720720"/>
          </a:xfrm>
          <a:custGeom>
            <a:avLst/>
            <a:gdLst>
              <a:gd name="textAreaLeft" fmla="*/ 46440 w 2665440"/>
              <a:gd name="textAreaRight" fmla="*/ 2619000 w 26654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9854" h="21600">
                <a:moveTo>
                  <a:pt x="0" y="0"/>
                </a:moveTo>
                <a:lnTo>
                  <a:pt x="79854" y="0"/>
                </a:lnTo>
                <a:lnTo>
                  <a:pt x="79854" y="21600"/>
                </a:lnTo>
                <a:lnTo>
                  <a:pt x="0" y="21600"/>
                </a:lnTo>
                <a:close/>
              </a:path>
              <a:path fill="lightenLess" w="79854" h="21600">
                <a:moveTo>
                  <a:pt x="0" y="0"/>
                </a:moveTo>
                <a:lnTo>
                  <a:pt x="79854" y="0"/>
                </a:lnTo>
                <a:lnTo>
                  <a:pt x="78454" y="1400"/>
                </a:lnTo>
                <a:lnTo>
                  <a:pt x="1400" y="1400"/>
                </a:lnTo>
                <a:close/>
              </a:path>
              <a:path fill="darken" w="79854" h="21600">
                <a:moveTo>
                  <a:pt x="79854" y="0"/>
                </a:moveTo>
                <a:lnTo>
                  <a:pt x="79854" y="21600"/>
                </a:lnTo>
                <a:lnTo>
                  <a:pt x="78454" y="20200"/>
                </a:lnTo>
                <a:lnTo>
                  <a:pt x="78454" y="1400"/>
                </a:lnTo>
                <a:close/>
              </a:path>
              <a:path fill="darkenLess" w="79854" h="21600">
                <a:moveTo>
                  <a:pt x="798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8454" y="20200"/>
                </a:lnTo>
                <a:close/>
              </a:path>
              <a:path fill="lighten" w="798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9854" h="21600">
                <a:moveTo>
                  <a:pt x="32921" y="7301"/>
                </a:moveTo>
                <a:lnTo>
                  <a:pt x="33835" y="7301"/>
                </a:lnTo>
                <a:lnTo>
                  <a:pt x="34217" y="7667"/>
                </a:lnTo>
                <a:lnTo>
                  <a:pt x="43426" y="7667"/>
                </a:lnTo>
                <a:lnTo>
                  <a:pt x="43983" y="8224"/>
                </a:lnTo>
                <a:lnTo>
                  <a:pt x="43983" y="8772"/>
                </a:lnTo>
                <a:lnTo>
                  <a:pt x="45828" y="8772"/>
                </a:lnTo>
                <a:lnTo>
                  <a:pt x="46194" y="8224"/>
                </a:lnTo>
                <a:lnTo>
                  <a:pt x="46934" y="8224"/>
                </a:lnTo>
                <a:lnTo>
                  <a:pt x="46934" y="13376"/>
                </a:lnTo>
                <a:lnTo>
                  <a:pt x="46194" y="13376"/>
                </a:lnTo>
                <a:lnTo>
                  <a:pt x="45828" y="12828"/>
                </a:lnTo>
                <a:lnTo>
                  <a:pt x="43983" y="12828"/>
                </a:lnTo>
                <a:lnTo>
                  <a:pt x="43983" y="14107"/>
                </a:lnTo>
                <a:lnTo>
                  <a:pt x="34400" y="14107"/>
                </a:lnTo>
                <a:lnTo>
                  <a:pt x="34400" y="9877"/>
                </a:lnTo>
                <a:lnTo>
                  <a:pt x="34217" y="9877"/>
                </a:lnTo>
                <a:lnTo>
                  <a:pt x="33835" y="10243"/>
                </a:lnTo>
                <a:lnTo>
                  <a:pt x="32921" y="10243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148360" y="6021360"/>
            <a:ext cx="338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Жостовский подно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-181080" y="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deti-66.ru/ Портал «Дети-66.р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60360" y="6453360"/>
            <a:ext cx="87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II Всероссийский интернет-конкурс «Моя педагогическая инициатива – 2011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179280" y="333360"/>
            <a:ext cx="871380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Задани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идумайте интересную форму подноса и распишите его травным узором орнаментом с цвета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2" descr="D:\документы\папка Гали\рисунки\жостово\03290006[1].jpg"/>
          <p:cNvPicPr/>
          <p:nvPr/>
        </p:nvPicPr>
        <p:blipFill>
          <a:blip r:embed="rId1"/>
          <a:stretch/>
        </p:blipFill>
        <p:spPr>
          <a:xfrm>
            <a:off x="2050920" y="1773360"/>
            <a:ext cx="5042160" cy="451008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611280" y="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deti-66.ru/ Портал «Дети-66.р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60360" y="6453360"/>
            <a:ext cx="87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II Всероссийский интернет-конкурс «Моя педагогическая инициатива – 2011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395280" y="692280"/>
            <a:ext cx="842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точн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сурсы Интерн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11280" y="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b9f25"/>
                </a:solidFill>
                <a:uFillTx/>
                <a:latin typeface="Arial"/>
                <a:hlinkClick r:id="rId1"/>
              </a:rPr>
              <a:t>http://www.deti-66.ru/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Портал «Дети-66.р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60360" y="6453360"/>
            <a:ext cx="87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II Всероссийский интернет-конкурс «Моя педагогическая инициатива – 2011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79280" y="1773360"/>
            <a:ext cx="777744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5400" indent="-5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cc"/>
                </a:solidFill>
                <a:latin typeface="Verdana"/>
              </a:rPr>
              <a:t>План урока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400" indent="-5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. Просмотр слайд-шоу «Глаза России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400" indent="-5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 Беседа «Жостовский поднос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400" indent="-5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. Просмотр слайд-шоу «Жостовский поднос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400" indent="-5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. Творческая работа учащих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400" indent="-5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5. Выставка работ учащих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400" indent="-5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6. Итог уро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6350040" y="981000"/>
            <a:ext cx="2759040" cy="475164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611280" y="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b9f25"/>
                </a:solidFill>
                <a:uFillTx/>
                <a:latin typeface="Arial"/>
                <a:hlinkClick r:id="rId2"/>
              </a:rPr>
              <a:t>http://www.deti-66.ru/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Портал «Дети-66.р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60360" y="6453360"/>
            <a:ext cx="87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II Всероссийский интернет-конкурс «Моя педагогическая инициатива – 2011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79280" y="2060640"/>
            <a:ext cx="4464000" cy="35179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4716360" y="457200"/>
            <a:ext cx="4103640" cy="311796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5219640" y="4653000"/>
            <a:ext cx="2879640" cy="863640"/>
          </a:xfrm>
          <a:custGeom>
            <a:avLst/>
            <a:gdLst>
              <a:gd name="textAreaLeft" fmla="*/ 55800 w 2879640"/>
              <a:gd name="textAreaRight" fmla="*/ 2823840 w 287964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72000" h="21600">
                <a:moveTo>
                  <a:pt x="0" y="0"/>
                </a:moveTo>
                <a:lnTo>
                  <a:pt x="72000" y="0"/>
                </a:lnTo>
                <a:lnTo>
                  <a:pt x="72000" y="21600"/>
                </a:lnTo>
                <a:lnTo>
                  <a:pt x="0" y="21600"/>
                </a:lnTo>
                <a:close/>
              </a:path>
              <a:path fill="lightenLess" w="72000" h="21600">
                <a:moveTo>
                  <a:pt x="0" y="0"/>
                </a:moveTo>
                <a:lnTo>
                  <a:pt x="72000" y="0"/>
                </a:lnTo>
                <a:lnTo>
                  <a:pt x="70600" y="1400"/>
                </a:lnTo>
                <a:lnTo>
                  <a:pt x="1400" y="1400"/>
                </a:lnTo>
                <a:close/>
              </a:path>
              <a:path fill="darken" w="72000" h="21600">
                <a:moveTo>
                  <a:pt x="72000" y="0"/>
                </a:moveTo>
                <a:lnTo>
                  <a:pt x="72000" y="21600"/>
                </a:lnTo>
                <a:lnTo>
                  <a:pt x="70600" y="20200"/>
                </a:lnTo>
                <a:lnTo>
                  <a:pt x="70600" y="1400"/>
                </a:lnTo>
                <a:close/>
              </a:path>
              <a:path fill="darkenLess" w="72000" h="21600">
                <a:moveTo>
                  <a:pt x="72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600" y="20200"/>
                </a:lnTo>
                <a:close/>
              </a:path>
              <a:path fill="lighten" w="72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2000" h="21600">
                <a:moveTo>
                  <a:pt x="28994" y="7301"/>
                </a:moveTo>
                <a:lnTo>
                  <a:pt x="29907" y="7301"/>
                </a:lnTo>
                <a:lnTo>
                  <a:pt x="30290" y="7667"/>
                </a:lnTo>
                <a:lnTo>
                  <a:pt x="39499" y="7667"/>
                </a:lnTo>
                <a:lnTo>
                  <a:pt x="40056" y="8224"/>
                </a:lnTo>
                <a:lnTo>
                  <a:pt x="40056" y="8772"/>
                </a:lnTo>
                <a:lnTo>
                  <a:pt x="41901" y="8772"/>
                </a:lnTo>
                <a:lnTo>
                  <a:pt x="42267" y="8224"/>
                </a:lnTo>
                <a:lnTo>
                  <a:pt x="43006" y="8224"/>
                </a:lnTo>
                <a:lnTo>
                  <a:pt x="43006" y="13376"/>
                </a:lnTo>
                <a:lnTo>
                  <a:pt x="42267" y="13376"/>
                </a:lnTo>
                <a:lnTo>
                  <a:pt x="41901" y="12828"/>
                </a:lnTo>
                <a:lnTo>
                  <a:pt x="40056" y="12828"/>
                </a:lnTo>
                <a:lnTo>
                  <a:pt x="40056" y="14107"/>
                </a:lnTo>
                <a:lnTo>
                  <a:pt x="30473" y="14107"/>
                </a:lnTo>
                <a:lnTo>
                  <a:pt x="30473" y="9877"/>
                </a:lnTo>
                <a:lnTo>
                  <a:pt x="30290" y="9877"/>
                </a:lnTo>
                <a:lnTo>
                  <a:pt x="29907" y="10243"/>
                </a:lnTo>
                <a:lnTo>
                  <a:pt x="28994" y="10243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364000" y="558972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лаза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11280" y="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b9f25"/>
                </a:solidFill>
                <a:uFillTx/>
                <a:latin typeface="Arial"/>
                <a:hlinkClick r:id="rId3"/>
              </a:rPr>
              <a:t>http://www.deti-66.ru/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Портал «Дети-66.р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859280" y="364500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удожник Вячеслав Палач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60360" y="6453360"/>
            <a:ext cx="87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II Всероссийский интернет-конкурс «Моя педагогическая инициатива – 2011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211640" y="999720"/>
            <a:ext cx="4299120" cy="46544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1764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далеко от Москвы в живописном месте находится село Жостово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764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ло прославилось не только в нашей стране, но и за рубежом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764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знаменито оно тем, что никто лучше жостовских умельцев не может рисовать цветы на железных подносах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971640" y="682560"/>
            <a:ext cx="2533680" cy="24591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250920" y="3284640"/>
            <a:ext cx="3601800" cy="270036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611280" y="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b9f25"/>
                </a:solidFill>
                <a:uFillTx/>
                <a:latin typeface="Arial"/>
                <a:hlinkClick r:id="rId3"/>
              </a:rPr>
              <a:t>http://www.deti-66.ru/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Портал «Дети-66.р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60360" y="6453360"/>
            <a:ext cx="87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II Всероссийский интернет-конкурс «Моя педагогическая инициатива – 2011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179280" y="475920"/>
            <a:ext cx="4500720" cy="4724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6000"/>
          </a:bodyPr>
          <a:p>
            <a:pPr marL="88200" indent="42336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 XIX веке на Руси широкое распространение получает заморский напиток – чай. Он вытеснил русский сбитень, медовуху и различные травяные настои. Возникла целая церемония чаепития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88200" indent="42336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88200" indent="42336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ульские мастера принялись за изготовление самоваров. Вместе с самоваром на стол ставился и поднос, который также стал участником русского чаепити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88200" indent="42336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148360" y="765000"/>
            <a:ext cx="3786120" cy="489744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611280" y="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b9f25"/>
                </a:solidFill>
                <a:uFillTx/>
                <a:latin typeface="Arial"/>
                <a:hlinkClick r:id="rId2"/>
              </a:rPr>
              <a:t>http://www.deti-66.ru/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Портал «Дети-66.р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60360" y="6453360"/>
            <a:ext cx="87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II Всероссийский интернет-конкурс «Моя педагогическая инициатива – 2011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-360" y="1916280"/>
            <a:ext cx="4714920" cy="2232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189000" indent="36036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 1825 году местный крестьянин Филипп Вишняков с сыном открыл мастерскую по изготовлению металлических расписных подносов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4859280" y="692280"/>
            <a:ext cx="4211640" cy="412416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611280" y="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deti-66.ru/ Портал «Дети-66.р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60360" y="6453360"/>
            <a:ext cx="87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II Всероссийский интернет-конкурс «Моя педагогическая инициатива – 2011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5364000" y="404280"/>
            <a:ext cx="3384720" cy="431172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 fontScale="95000"/>
          </a:bodyPr>
          <a:p>
            <a:pPr marL="1656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Жостовские подносы изготавливались различных размеров и форм. Трактирные подносы достигали размеров стола, маленькие «закусочные» - не больше тарелки; шести и восьмиугольные, овальные, прямоугольные, круглые и даже треугольные для угловых столиков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1656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165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1" name="Picture 2" descr="D:\документы\папка Гали\рисунки\жостово\picture75[1].jpg"/>
          <p:cNvPicPr/>
          <p:nvPr/>
        </p:nvPicPr>
        <p:blipFill>
          <a:blip r:embed="rId1"/>
          <a:stretch/>
        </p:blipFill>
        <p:spPr>
          <a:xfrm>
            <a:off x="250920" y="907920"/>
            <a:ext cx="5040360" cy="45990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611280" y="3816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deti-66.ru/ Портал «Дети-66.р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60360" y="6453360"/>
            <a:ext cx="87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II Всероссийский интернет-конкурс «Моя педагогическая инициатива – 2011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292720" y="907920"/>
            <a:ext cx="3384720" cy="3888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ым распространенным видом жостовской росписи подносов является букет, расположенный в центре подноса и обрамленный по борту мелким золотистым узоро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5" name="Picture 3" descr="D:\документы\папка Гали\рисунки\жостово\zhostovo-350[1].jpg"/>
          <p:cNvPicPr/>
          <p:nvPr/>
        </p:nvPicPr>
        <p:blipFill>
          <a:blip r:embed="rId1"/>
          <a:stretch/>
        </p:blipFill>
        <p:spPr>
          <a:xfrm>
            <a:off x="241200" y="547560"/>
            <a:ext cx="4835520" cy="54738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611280" y="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deti-66.ru/ Портал «Дети-66.р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0360" y="6453360"/>
            <a:ext cx="87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II Всероссийский интернет-конкурс «Моя педагогическая инициатива – 2011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9640" y="3806640"/>
            <a:ext cx="8035920" cy="2143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4000"/>
          </a:bodyPr>
          <a:p>
            <a:pPr marL="5760" indent="25200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Букет превращается в нарядную группу цветов, свободно положенную на блестящий лаковый фон. Три-четыре крупных цветка (роза, тюльпан, георгин и более скромные - анютины глазки, вьюнки) окружались россыпью более мелких цветочков и бутонов, связанных между собой гибкими стебельками и легкой «травкой» - небольшими веточками и листочкам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Picture 2" descr="D:\документы\папка Гали\рисунки\жостово\654[1].jpg"/>
          <p:cNvPicPr/>
          <p:nvPr/>
        </p:nvPicPr>
        <p:blipFill>
          <a:blip r:embed="rId1"/>
          <a:stretch/>
        </p:blipFill>
        <p:spPr>
          <a:xfrm>
            <a:off x="4716360" y="320760"/>
            <a:ext cx="4248360" cy="341316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395280" y="493560"/>
            <a:ext cx="4284720" cy="323388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611280" y="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deti-66.ru/ Портал «Дети-66.р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60360" y="6453360"/>
            <a:ext cx="87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II Всероссийский интернет-конкурс «Моя педагогическая инициатива – 2011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6T11:47:43Z</dcterms:created>
  <dc:creator>Антон</dc:creator>
  <dc:description/>
  <dc:language>en-US</dc:language>
  <cp:lastModifiedBy>Admin</cp:lastModifiedBy>
  <dcterms:modified xsi:type="dcterms:W3CDTF">2010-12-04T21:40:04Z</dcterms:modified>
  <cp:revision>163</cp:revision>
  <dc:subject/>
  <dc:title>Жостовские подносы</dc:title>
</cp:coreProperties>
</file>