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CAB8-5246-48FE-B475-181E7C870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0DBE-2B0B-4C0A-A976-628ACD7C3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A18B-8707-475F-99E4-935BF1B29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9711-6890-4D57-A9DD-F3460308F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A3F475-E346-46A4-85EC-D04BD8A0C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2A2927-F24A-41FD-A580-1198D9BCF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947538-63A2-4D5E-B692-D544D2468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DE0EF3-E90F-4CE8-B81C-35C4BC0DD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F8547E-CA8C-432D-B997-2E707A4EE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D1420D-163A-40A9-B0B6-4328EB2D6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186AAD-CD03-413D-BCAF-AF899F05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B256-7A87-4CA7-ACE2-A44C0C3E5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D5CFE0-7AAC-487B-8283-56903B995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5FA948-25EA-4F79-8779-56EC40E02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79F51B-B40F-4D4A-A8E8-E98C49788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54C9AF-08F2-4391-BBF8-4B354E690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8B59AC-1058-4F82-82AA-A154A93D1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C992-A9AC-4A6A-B587-4CAC5B400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CBEC-2A58-4FEC-831C-337024615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DD64-3221-4C6B-9973-2E95A3C90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585D-82E5-43EA-8A5B-7FC620628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31F0-F6AF-4D77-83C4-09EABF83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FB69-BD2D-47C3-9494-28A4BC4E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AAF8-3B24-4994-8425-0403E8A80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CBAA7-2492-4806-B5AC-F54F0310658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0B834-53C6-4F2A-AF7C-217CF238662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34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619280" y="1413000"/>
            <a:ext cx="5853240" cy="18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жизнь в архейскую эр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24" name=""/>
          <p:cNvSpPr/>
          <p:nvPr/>
        </p:nvSpPr>
        <p:spPr>
          <a:xfrm>
            <a:off x="1692360" y="1890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139840" y="39384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692360" y="0"/>
            <a:ext cx="575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У «Покшеньгская основная школа №21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40600" y="4430880"/>
            <a:ext cx="3233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ыполнил: Амосов Анто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читель: Богданова Л. 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Мезоархей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зоархей длился с 3,2 до 2,8 млрд. лет назад. Здесь интересен период расколом Ваальбары и широким распространением окаменелостей древних форм жизн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317080" y="6237360"/>
            <a:ext cx="826920" cy="620640"/>
          </a:xfrm>
          <a:custGeom>
            <a:avLst/>
            <a:gdLst>
              <a:gd name="textAreaLeft" fmla="*/ 39960 w 826920"/>
              <a:gd name="textAreaRight" fmla="*/ 786960 w 8269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8775" h="21600">
                <a:moveTo>
                  <a:pt x="0" y="0"/>
                </a:moveTo>
                <a:lnTo>
                  <a:pt x="28775" y="0"/>
                </a:lnTo>
                <a:lnTo>
                  <a:pt x="28775" y="21600"/>
                </a:lnTo>
                <a:lnTo>
                  <a:pt x="0" y="21600"/>
                </a:lnTo>
                <a:close/>
              </a:path>
              <a:path fill="lightenLess" w="28775" h="21600">
                <a:moveTo>
                  <a:pt x="0" y="0"/>
                </a:moveTo>
                <a:lnTo>
                  <a:pt x="28775" y="0"/>
                </a:lnTo>
                <a:lnTo>
                  <a:pt x="27375" y="1400"/>
                </a:lnTo>
                <a:lnTo>
                  <a:pt x="1400" y="1400"/>
                </a:lnTo>
                <a:close/>
              </a:path>
              <a:path fill="darken" w="28775" h="21600">
                <a:moveTo>
                  <a:pt x="28775" y="0"/>
                </a:moveTo>
                <a:lnTo>
                  <a:pt x="28775" y="21600"/>
                </a:lnTo>
                <a:lnTo>
                  <a:pt x="27375" y="20200"/>
                </a:lnTo>
                <a:lnTo>
                  <a:pt x="27375" y="1400"/>
                </a:lnTo>
                <a:close/>
              </a:path>
              <a:path fill="darkenLess" w="28775" h="21600">
                <a:moveTo>
                  <a:pt x="28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5" y="20200"/>
                </a:lnTo>
                <a:close/>
              </a:path>
              <a:path fill="lighten" w="28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75" h="21600">
                <a:moveTo>
                  <a:pt x="14387" y="3837"/>
                </a:moveTo>
                <a:lnTo>
                  <a:pt x="16964" y="6448"/>
                </a:lnTo>
                <a:lnTo>
                  <a:pt x="16964" y="4707"/>
                </a:lnTo>
                <a:lnTo>
                  <a:pt x="18739" y="4707"/>
                </a:lnTo>
                <a:lnTo>
                  <a:pt x="18739" y="8224"/>
                </a:lnTo>
                <a:lnTo>
                  <a:pt x="21350" y="10800"/>
                </a:lnTo>
                <a:lnTo>
                  <a:pt x="19697" y="10800"/>
                </a:lnTo>
                <a:lnTo>
                  <a:pt x="19697" y="17989"/>
                </a:lnTo>
                <a:lnTo>
                  <a:pt x="9078" y="17989"/>
                </a:lnTo>
                <a:lnTo>
                  <a:pt x="9078" y="10800"/>
                </a:lnTo>
                <a:lnTo>
                  <a:pt x="7425" y="10800"/>
                </a:lnTo>
                <a:close/>
              </a:path>
              <a:path fill="darkenLess" w="28775" h="21600">
                <a:moveTo>
                  <a:pt x="16964" y="6448"/>
                </a:moveTo>
                <a:lnTo>
                  <a:pt x="16964" y="4707"/>
                </a:lnTo>
                <a:lnTo>
                  <a:pt x="18739" y="4707"/>
                </a:lnTo>
                <a:lnTo>
                  <a:pt x="18739" y="8224"/>
                </a:lnTo>
                <a:close/>
              </a:path>
              <a:path fill="darkenLess" w="28775" h="21600">
                <a:moveTo>
                  <a:pt x="13465" y="14299"/>
                </a:moveTo>
                <a:lnTo>
                  <a:pt x="15310" y="14299"/>
                </a:lnTo>
                <a:lnTo>
                  <a:pt x="15310" y="17989"/>
                </a:lnTo>
                <a:lnTo>
                  <a:pt x="19697" y="17989"/>
                </a:lnTo>
                <a:lnTo>
                  <a:pt x="19697" y="10800"/>
                </a:lnTo>
                <a:lnTo>
                  <a:pt x="9078" y="10800"/>
                </a:lnTo>
                <a:lnTo>
                  <a:pt x="9078" y="17989"/>
                </a:lnTo>
                <a:lnTo>
                  <a:pt x="13465" y="1798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Неоархей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оархей - последний период архейской эры , закончившийся 2,5 млрд. лет назад, является временем формирования основной массы континентальной земной коры, что свидетельствует об исключительной древности континентов Земл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должительность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рхей, архейская эра – геологический эон. За верхний рубеж архея принято время около 2,5 млрд. лет назад (±100 млн. лет). За нижний рубеж, приблизительно – 3,8-4 млрд. лет назад. Продолжительность архея примерно 1,5 млрд. лет</a:t>
            </a: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Периоды Архейской эры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Эоархе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алеоархе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Мезоархе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еоархей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Климат и среда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ктивная вулканическая деятельность. Анаэробные (бескислородные) условия жизни в мелководном древнем море. Развитие кислородосодержащей атмосфер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Развитие органического мир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архейской эре возникли первые живые организмы. Они были гетеротрофами и в качестве пищи использовали органические соединения «первичного «бульона». Первыми жителями нашей планеты были анаэробные бактерии. Важнейший этап эволюции жизни на Земле связан с возникновением фотосинтеза, что обуславливает разделение органического мира на растительный и животный. Первыми фотосинтезирующими организмами были прокариотические (доядерные) цианобактерии и синезеленые водоросли. Появившиеся затем эукариотические зеленые водоросли выделяли в атмосферу из океана свободный кислород, что способствовало возникновению бактерий, способных жить в кислородной сред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Флора и фаун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архейских отложениях отсутствует скелетная фауна, которая служит основой для построения стратиграфической шкалы фанерозоя, тем не менее разнообразных следов органической жизни здесь довольно много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Животный мир архея значительно беднее, чем растительный. Отдельные указания на нахождение в породах архея остатков животных относятся к объектам, которые, по- видимому, имеют неорганическое происхождение или являются продуктами выщелачивания строматоли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Вывод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     Жизнь возникла на Земле из синтезированных абиогенным путем органических молеку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    В архейскую эру, на границе с протерозоем, возникновением первых клеток было положено начало биологической эволю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Эоархей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оархей – нижний период архейской эры, охватывающий временной интервал от 4 до 3,6 миллиарда лет назад. Примечателен эоархей тем, что является временем образования гидросферы и обнаружения предполагаемых остатков первых прокариот, строматолитов и древнейших горных пород. В самом начале архейской эры воды на Земле было мало, вместо единого океана существовали лишь разрозненные мелководные бассейны. Температура воды достигала 70-90° C, что могло наблюдаться лишь в случае существования у Земли того времени плотной углекислотной атмосфе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388360" y="6237360"/>
            <a:ext cx="755640" cy="620640"/>
          </a:xfrm>
          <a:custGeom>
            <a:avLst/>
            <a:gdLst>
              <a:gd name="textAreaLeft" fmla="*/ 39960 w 755640"/>
              <a:gd name="textAreaRight" fmla="*/ 715680 w 755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6296" h="21600">
                <a:moveTo>
                  <a:pt x="0" y="0"/>
                </a:moveTo>
                <a:lnTo>
                  <a:pt x="26296" y="0"/>
                </a:lnTo>
                <a:lnTo>
                  <a:pt x="26296" y="21600"/>
                </a:lnTo>
                <a:lnTo>
                  <a:pt x="0" y="21600"/>
                </a:lnTo>
                <a:close/>
              </a:path>
              <a:path fill="lightenLess" w="26296" h="21600">
                <a:moveTo>
                  <a:pt x="0" y="0"/>
                </a:moveTo>
                <a:lnTo>
                  <a:pt x="26296" y="0"/>
                </a:lnTo>
                <a:lnTo>
                  <a:pt x="24896" y="1400"/>
                </a:lnTo>
                <a:lnTo>
                  <a:pt x="1400" y="1400"/>
                </a:lnTo>
                <a:close/>
              </a:path>
              <a:path fill="darken" w="26296" h="21600">
                <a:moveTo>
                  <a:pt x="26296" y="0"/>
                </a:moveTo>
                <a:lnTo>
                  <a:pt x="26296" y="21600"/>
                </a:lnTo>
                <a:lnTo>
                  <a:pt x="24896" y="20200"/>
                </a:lnTo>
                <a:lnTo>
                  <a:pt x="24896" y="1400"/>
                </a:lnTo>
                <a:close/>
              </a:path>
              <a:path fill="darkenLess" w="26296" h="21600">
                <a:moveTo>
                  <a:pt x="262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96" y="20200"/>
                </a:lnTo>
                <a:close/>
              </a:path>
              <a:path fill="lighten" w="262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96" h="21600">
                <a:moveTo>
                  <a:pt x="13148" y="3837"/>
                </a:moveTo>
                <a:lnTo>
                  <a:pt x="15724" y="6448"/>
                </a:lnTo>
                <a:lnTo>
                  <a:pt x="15724" y="4707"/>
                </a:lnTo>
                <a:lnTo>
                  <a:pt x="17500" y="4707"/>
                </a:lnTo>
                <a:lnTo>
                  <a:pt x="17500" y="8224"/>
                </a:lnTo>
                <a:lnTo>
                  <a:pt x="20111" y="10800"/>
                </a:lnTo>
                <a:lnTo>
                  <a:pt x="18457" y="10800"/>
                </a:lnTo>
                <a:lnTo>
                  <a:pt x="18457" y="17989"/>
                </a:lnTo>
                <a:lnTo>
                  <a:pt x="7839" y="17989"/>
                </a:lnTo>
                <a:lnTo>
                  <a:pt x="7839" y="10800"/>
                </a:lnTo>
                <a:lnTo>
                  <a:pt x="6185" y="10800"/>
                </a:lnTo>
                <a:close/>
              </a:path>
              <a:path fill="darkenLess" w="26296" h="21600">
                <a:moveTo>
                  <a:pt x="15724" y="6448"/>
                </a:moveTo>
                <a:lnTo>
                  <a:pt x="15724" y="4707"/>
                </a:lnTo>
                <a:lnTo>
                  <a:pt x="17500" y="4707"/>
                </a:lnTo>
                <a:lnTo>
                  <a:pt x="17500" y="8224"/>
                </a:lnTo>
                <a:close/>
              </a:path>
              <a:path fill="darkenLess" w="26296" h="21600">
                <a:moveTo>
                  <a:pt x="12225" y="14299"/>
                </a:moveTo>
                <a:lnTo>
                  <a:pt x="14070" y="14299"/>
                </a:lnTo>
                <a:lnTo>
                  <a:pt x="14070" y="17989"/>
                </a:lnTo>
                <a:lnTo>
                  <a:pt x="18457" y="17989"/>
                </a:lnTo>
                <a:lnTo>
                  <a:pt x="18457" y="10800"/>
                </a:lnTo>
                <a:lnTo>
                  <a:pt x="7839" y="10800"/>
                </a:lnTo>
                <a:lnTo>
                  <a:pt x="7839" y="17989"/>
                </a:lnTo>
                <a:lnTo>
                  <a:pt x="12225" y="1798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Палеоархей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алеоархей - следующий за эорхеем период, является временем образования первого суперконтинента в истории Земли – Ваальбары и единого Мирового океана, перекрывший гребни срединно-океанических хребтов. В результате заметно усилилась гидратация базальтовой океанической коры, а скорость роста парциального давления СО2 в позднеархейской атмосфере несколько снизилась. К этому времени относятся и первые достоверные остатки живых организмов (бактерий) и следов их жизнедеятельности. Длительность палеоархея 400 млн. л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532720" y="6381720"/>
            <a:ext cx="611280" cy="476280"/>
          </a:xfrm>
          <a:custGeom>
            <a:avLst/>
            <a:gdLst>
              <a:gd name="textAreaLeft" fmla="*/ 30600 w 611280"/>
              <a:gd name="textAreaRight" fmla="*/ 580680 w 611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7718" h="21600">
                <a:moveTo>
                  <a:pt x="0" y="0"/>
                </a:moveTo>
                <a:lnTo>
                  <a:pt x="27718" y="0"/>
                </a:lnTo>
                <a:lnTo>
                  <a:pt x="27718" y="21600"/>
                </a:lnTo>
                <a:lnTo>
                  <a:pt x="0" y="21600"/>
                </a:lnTo>
                <a:close/>
              </a:path>
              <a:path fill="lightenLess" w="27718" h="21600">
                <a:moveTo>
                  <a:pt x="0" y="0"/>
                </a:moveTo>
                <a:lnTo>
                  <a:pt x="27718" y="0"/>
                </a:lnTo>
                <a:lnTo>
                  <a:pt x="26318" y="1400"/>
                </a:lnTo>
                <a:lnTo>
                  <a:pt x="1400" y="1400"/>
                </a:lnTo>
                <a:close/>
              </a:path>
              <a:path fill="darken" w="27718" h="21600">
                <a:moveTo>
                  <a:pt x="27718" y="0"/>
                </a:moveTo>
                <a:lnTo>
                  <a:pt x="27718" y="21600"/>
                </a:lnTo>
                <a:lnTo>
                  <a:pt x="26318" y="20200"/>
                </a:lnTo>
                <a:lnTo>
                  <a:pt x="26318" y="1400"/>
                </a:lnTo>
                <a:close/>
              </a:path>
              <a:path fill="darkenLess" w="27718" h="21600">
                <a:moveTo>
                  <a:pt x="27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8" y="20200"/>
                </a:lnTo>
                <a:close/>
              </a:path>
              <a:path fill="lighten" w="27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8" h="21600">
                <a:moveTo>
                  <a:pt x="13859" y="3837"/>
                </a:moveTo>
                <a:lnTo>
                  <a:pt x="16435" y="6448"/>
                </a:lnTo>
                <a:lnTo>
                  <a:pt x="16435" y="4707"/>
                </a:lnTo>
                <a:lnTo>
                  <a:pt x="18211" y="4707"/>
                </a:lnTo>
                <a:lnTo>
                  <a:pt x="18211" y="8224"/>
                </a:lnTo>
                <a:lnTo>
                  <a:pt x="20822" y="10800"/>
                </a:lnTo>
                <a:lnTo>
                  <a:pt x="19168" y="10800"/>
                </a:lnTo>
                <a:lnTo>
                  <a:pt x="19168" y="17989"/>
                </a:lnTo>
                <a:lnTo>
                  <a:pt x="8550" y="17989"/>
                </a:lnTo>
                <a:lnTo>
                  <a:pt x="8550" y="10800"/>
                </a:lnTo>
                <a:lnTo>
                  <a:pt x="6896" y="10800"/>
                </a:lnTo>
                <a:close/>
              </a:path>
              <a:path fill="darkenLess" w="27718" h="21600">
                <a:moveTo>
                  <a:pt x="16435" y="6448"/>
                </a:moveTo>
                <a:lnTo>
                  <a:pt x="16435" y="4707"/>
                </a:lnTo>
                <a:lnTo>
                  <a:pt x="18211" y="4707"/>
                </a:lnTo>
                <a:lnTo>
                  <a:pt x="18211" y="8224"/>
                </a:lnTo>
                <a:close/>
              </a:path>
              <a:path fill="darkenLess" w="27718" h="21600">
                <a:moveTo>
                  <a:pt x="12936" y="14299"/>
                </a:moveTo>
                <a:lnTo>
                  <a:pt x="14782" y="14299"/>
                </a:lnTo>
                <a:lnTo>
                  <a:pt x="14782" y="17989"/>
                </a:lnTo>
                <a:lnTo>
                  <a:pt x="19168" y="17989"/>
                </a:lnTo>
                <a:lnTo>
                  <a:pt x="19168" y="10800"/>
                </a:lnTo>
                <a:lnTo>
                  <a:pt x="8550" y="10800"/>
                </a:lnTo>
                <a:lnTo>
                  <a:pt x="8550" y="17989"/>
                </a:lnTo>
                <a:lnTo>
                  <a:pt x="12936" y="1798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0:46:04Z</dcterms:created>
  <dc:creator>1</dc:creator>
  <dc:description/>
  <dc:language>en-US</dc:language>
  <cp:lastModifiedBy>1</cp:lastModifiedBy>
  <dcterms:modified xsi:type="dcterms:W3CDTF">2010-11-29T07:14:02Z</dcterms:modified>
  <cp:revision>5</cp:revision>
  <dc:subject/>
  <dc:title>Слайд 1</dc:title>
</cp:coreProperties>
</file>