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3D2-5F16-46C7-B088-8C87599D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9BA-CBFA-40CF-B60A-1C2B8D9D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FCE-0287-4453-97D4-363471EA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1F3-F086-477C-A835-F8D1D305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1BB2A-F212-48B2-A472-FF6BBB4D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9BF9B-3A1F-4A18-B649-22FC2BAE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267F7-14BC-4717-A257-289909E6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38A1C-EE1F-4E69-86A5-05E0432E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A30C2-177A-4F1B-A57B-C915255D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E9CE9-677C-47CD-9693-BEEE81CC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1ED69-00E1-4272-B265-BB343CA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55E-0517-4E41-A3E1-D7E44BA2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B0AA5-C321-4B5E-A546-10F17F1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37BCD-2BC3-4F9E-8515-332171B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19EB6-3291-4C1F-B04A-780E328B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72EF3-4BB7-440C-B782-4F04B725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762FC-49CC-42B3-8E3A-18DC8F06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C56-0588-445F-A315-B064343E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816-A51C-4CC9-9399-7BDA0DB1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F20-A765-44FD-BF90-565865CC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DCE-5ABA-4183-8134-2ED93313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39D-0384-4243-90B6-0D01101D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98F-DB39-4E01-B11F-F59AF1EA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93C-4384-4257-9DC4-059A33E5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7EFB-9366-47B1-A3DC-3551D1B151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BFA5-E95D-43D0-A269-BF89CB5BD5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19280" y="1413000"/>
            <a:ext cx="5853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жизнь в архейскую э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189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393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Покшеньгская основная школа №21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40600" y="4430880"/>
            <a:ext cx="323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: Амосов Ант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: Богданова Л. 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зоарх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зоархей длился с 3,2 до 2,8 млрд. лет назад. Здесь интересен период расколом Ваальбары и широким распространением окаменелостей древних форм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7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lnTo>
                  <a:pt x="21350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еоарх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архей - последний период архейской эры , закончившийся 2,5 млрд. лет назад, является временем формирования основной массы континентальной земной коры, что свидетельствует об исключительной древности континентов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тельность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ей, архейская эра – геологический эон. За верхний рубеж архея принято время около 2,5 млрд. лет назад (±100 млн. лет). За нижний рубеж, приблизительно – 3,8-4 млрд. лет назад. Продолжительность архея примерно 1,5 млрд. лет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риоды Архейской эр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Эоарх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леоарх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зоарх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оарх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лимат и сред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ивная вулканическая деятельность. Анаэробные (бескислородные) условия жизни в мелководном древнем море. Развитие кислородосодержащей атмосф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азвитие органического ми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рхейской эре возникли первые живые организмы. Они были гетеротрофами и в качестве пищи использовали органические соединения «первичного «бульона». Первыми жителями нашей планеты были анаэробные бактерии. Важнейший этап эволюции жизни на Земле связан с возникновением фотосинтеза, что обуславливает разделение органического мира на растительный и животный. Первыми фотосинтезирующими организмами были прокариотические (доядерные) цианобактерии и синезеленые водоросли. Появившиеся затем эукариотические зеленые водоросли выделяли в атмосферу из океана свободный кислород, что способствовало возникновению бактерий, способных жить в кислородной сред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лора и фау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рхейских отложениях отсутствует скелетная фауна, которая служит основой для построения стратиграфической шкалы фанерозоя, тем не менее разнообразных следов органической жизни здесь довольно м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вотный мир архея значительно беднее, чем растительный. Отдельные указания на нахождение в породах архея остатков животных относятся к объектам, которые, по- видимому, имеют неорганическое происхождение или являются продуктами выщелачивания строматоли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  Жизнь возникла на Земле из синтезированных абиогенным путем органических молеку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В архейскую эру, на границе с протерозоем, возникновением первых клеток было положено начало биологической эволю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Эоарх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архей – нижний период архейской эры, охватывающий временной интервал от 4 до 3,6 миллиарда лет назад. Примечателен эоархей тем, что является временем образования гидросферы и обнаружения предполагаемых остатков первых прокариот, строматолитов и древнейших горных пород. В самом начале архейской эры воды на Земле было мало, вместо единого океана существовали лишь разрозненные мелководные бассейны. Температура воды достигала 70-90° C, что могло наблюдаться лишь в случае существования у Земли того времени плотной углекислотной атмосф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алеоарх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леоархей - следующий за эорхеем период, является временем образования первого суперконтинента в истории Земли – Ваальбары и единого Мирового океана, перекрывший гребни срединно-океанических хребтов. В результате заметно усилилась гидратация базальтовой океанической коры, а скорость роста парциального давления СО2 в позднеархейской атмосфере несколько снизилась. К этому времени относятся и первые достоверные остатки живых организмов (бактерий) и следов их жизнедеятельности. Длительность палеоархея 400 млн.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3859" y="3837"/>
                </a:moveTo>
                <a:lnTo>
                  <a:pt x="16435" y="6448"/>
                </a:lnTo>
                <a:lnTo>
                  <a:pt x="16435" y="4707"/>
                </a:lnTo>
                <a:lnTo>
                  <a:pt x="18211" y="4707"/>
                </a:lnTo>
                <a:lnTo>
                  <a:pt x="18211" y="8224"/>
                </a:lnTo>
                <a:lnTo>
                  <a:pt x="20822" y="10800"/>
                </a:lnTo>
                <a:lnTo>
                  <a:pt x="19168" y="10800"/>
                </a:lnTo>
                <a:lnTo>
                  <a:pt x="19168" y="17989"/>
                </a:lnTo>
                <a:lnTo>
                  <a:pt x="8550" y="17989"/>
                </a:lnTo>
                <a:lnTo>
                  <a:pt x="8550" y="10800"/>
                </a:lnTo>
                <a:lnTo>
                  <a:pt x="6896" y="10800"/>
                </a:lnTo>
                <a:close/>
              </a:path>
              <a:path fill="darkenLess" w="27718" h="21600">
                <a:moveTo>
                  <a:pt x="16435" y="6448"/>
                </a:moveTo>
                <a:lnTo>
                  <a:pt x="16435" y="4707"/>
                </a:lnTo>
                <a:lnTo>
                  <a:pt x="18211" y="4707"/>
                </a:lnTo>
                <a:lnTo>
                  <a:pt x="18211" y="8224"/>
                </a:lnTo>
                <a:close/>
              </a:path>
              <a:path fill="darkenLess" w="27718" h="21600">
                <a:moveTo>
                  <a:pt x="12936" y="14299"/>
                </a:moveTo>
                <a:lnTo>
                  <a:pt x="14782" y="14299"/>
                </a:lnTo>
                <a:lnTo>
                  <a:pt x="14782" y="17989"/>
                </a:lnTo>
                <a:lnTo>
                  <a:pt x="19168" y="17989"/>
                </a:lnTo>
                <a:lnTo>
                  <a:pt x="19168" y="10800"/>
                </a:lnTo>
                <a:lnTo>
                  <a:pt x="8550" y="10800"/>
                </a:lnTo>
                <a:lnTo>
                  <a:pt x="8550" y="17989"/>
                </a:lnTo>
                <a:lnTo>
                  <a:pt x="12936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0:46:04Z</dcterms:created>
  <dc:creator>1</dc:creator>
  <dc:description/>
  <dc:language>en-US</dc:language>
  <cp:lastModifiedBy>1</cp:lastModifiedBy>
  <dcterms:modified xsi:type="dcterms:W3CDTF">2010-11-29T07:14:02Z</dcterms:modified>
  <cp:revision>5</cp:revision>
  <dc:subject/>
  <dc:title>Слайд 1</dc:title>
</cp:coreProperties>
</file>