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E09-CD34-48A6-8BE0-EC7459DC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A82-9729-46BA-828C-EB3D00C6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492-F18B-4CE8-AEE2-A1B81F5F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0BF-2EE6-478E-ADE8-1844384E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9AC2-9DD0-4F61-9539-E9266C20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A54C-6EF2-476B-AAEF-46B5635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49A2-73C6-4AFC-9414-4D7D42AB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1AD8-0E59-4CA1-BE85-CA53C1FE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9324-FA03-4A67-96ED-18FB5780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B439-5949-4410-97BB-CFD180BF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B9D1-8F1B-460C-AB0B-5DEB7FE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DE0-3EAB-4457-9666-AC8D25BE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83E0-F121-478B-B239-E6597F2E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35F6-8F77-4FA8-A653-1735B50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2CC6-C75B-4C1E-9F4C-467C8F03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5B77-13A8-4D79-994F-749363A6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4B6F-D6D0-41C2-9F66-D5AAE757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C83-607B-4355-B282-BA574B43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215-A6DD-49C0-AC1A-FE036FD2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FCC-18F0-49E0-BC04-FC681A3D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3F7-3CC3-4A0B-988B-65F6079F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A04-331E-4292-9F88-803AAD09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228-D357-425A-97AB-57289C33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0A7-5214-4756-BB70-B50044F6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2B50-7151-4852-B713-ADD4DACF37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07FD-21D6-481B-AF0F-935AFB41BF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Pegova Anast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Chripunow Vsevol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Saprykina M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Maximova Ks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539640" y="1125360"/>
            <a:ext cx="7777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Verdana"/>
              </a:rPr>
              <a:t>"I can and I can't"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Verdana"/>
              <a:ea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3564000" y="6165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e818"/>
                </a:solidFill>
                <a:latin typeface="Comic Sans MS"/>
              </a:rPr>
              <a:t>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867280" y="260280"/>
            <a:ext cx="2743200" cy="18385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nt"/>
          <p:cNvSpPr/>
          <p:nvPr/>
        </p:nvSpPr>
        <p:spPr>
          <a:xfrm>
            <a:off x="826920" y="3933720"/>
            <a:ext cx="1810080" cy="1809720"/>
          </a:xfrm>
          <a:custGeom>
            <a:avLst/>
            <a:gdLst>
              <a:gd name="textAreaLeft" fmla="*/ 595080 w 1810080"/>
              <a:gd name="textAreaRight" fmla="*/ 1218960 w 1810080"/>
              <a:gd name="textAreaTop" fmla="*/ 845640 h 1809720"/>
              <a:gd name="textAreaBottom" fmla="*/ 1137240 h 1809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948360" y="4508640"/>
            <a:ext cx="1816200" cy="2041200"/>
            <a:chOff x="6948360" y="4508640"/>
            <a:chExt cx="1816200" cy="2041200"/>
          </a:xfrm>
        </p:grpSpPr>
        <p:sp>
          <p:nvSpPr>
            <p:cNvPr id="217" name="Puzzle3"/>
            <p:cNvSpPr/>
            <p:nvPr/>
          </p:nvSpPr>
          <p:spPr>
            <a:xfrm>
              <a:off x="7832880" y="4508640"/>
              <a:ext cx="713880" cy="1085040"/>
            </a:xfrm>
            <a:custGeom>
              <a:avLst/>
              <a:gdLst>
                <a:gd name="textAreaLeft" fmla="*/ 74880 w 713880"/>
                <a:gd name="textAreaRight" fmla="*/ 633240 w 713880"/>
                <a:gd name="textAreaTop" fmla="*/ 387720 h 1085040"/>
                <a:gd name="textAreaBottom" fmla="*/ 1016280 h 10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Puzzle2"/>
            <p:cNvSpPr/>
            <p:nvPr/>
          </p:nvSpPr>
          <p:spPr>
            <a:xfrm>
              <a:off x="7625160" y="5298840"/>
              <a:ext cx="1139400" cy="988200"/>
            </a:xfrm>
            <a:custGeom>
              <a:avLst/>
              <a:gdLst>
                <a:gd name="textAreaLeft" fmla="*/ 284400 w 1139400"/>
                <a:gd name="textAreaRight" fmla="*/ 853560 w 1139400"/>
                <a:gd name="textAreaTop" fmla="*/ 308160 h 988200"/>
                <a:gd name="textAreaBottom" fmla="*/ 935280 h 98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Puzzle4"/>
            <p:cNvSpPr/>
            <p:nvPr/>
          </p:nvSpPr>
          <p:spPr>
            <a:xfrm>
              <a:off x="7184160" y="5286600"/>
              <a:ext cx="686880" cy="1263240"/>
            </a:xfrm>
            <a:custGeom>
              <a:avLst/>
              <a:gdLst>
                <a:gd name="textAreaLeft" fmla="*/ 65880 w 686880"/>
                <a:gd name="textAreaRight" fmla="*/ 642960 w 686880"/>
                <a:gd name="textAreaTop" fmla="*/ 330840 h 1263240"/>
                <a:gd name="textAreaBottom" fmla="*/ 93456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Puzzle1"/>
            <p:cNvSpPr/>
            <p:nvPr/>
          </p:nvSpPr>
          <p:spPr>
            <a:xfrm>
              <a:off x="6948360" y="4836600"/>
              <a:ext cx="1153440" cy="753120"/>
            </a:xfrm>
            <a:custGeom>
              <a:avLst/>
              <a:gdLst>
                <a:gd name="textAreaLeft" fmla="*/ 324720 w 1153440"/>
                <a:gd name="textAreaRight" fmla="*/ 861480 w 1153440"/>
                <a:gd name="textAreaTop" fmla="*/ 89280 h 753120"/>
                <a:gd name="textAreaBottom" fmla="*/ 681480 h 75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AutoShape 22"/>
          <p:cNvSpPr/>
          <p:nvPr/>
        </p:nvSpPr>
        <p:spPr>
          <a:xfrm>
            <a:off x="5292720" y="0"/>
            <a:ext cx="1511280" cy="129528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7"/>
          <p:cNvSpPr/>
          <p:nvPr/>
        </p:nvSpPr>
        <p:spPr>
          <a:xfrm>
            <a:off x="5867280" y="2349360"/>
            <a:ext cx="3097440" cy="3816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ally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i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ate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i,S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ate:How are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ally:I’m OK,thank you.And how are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ate: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’m fine. I want to go to the swimming p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ate:Can you swim,Sal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ally:Yes,I can,but not very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ally:Don’t worry,Kate!But you can play the piano very wel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Kate: And I can’t play the pi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5724360" y="333360"/>
            <a:ext cx="1511640" cy="129528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 rot="2444400">
            <a:off x="5508720" y="3213000"/>
            <a:ext cx="792000" cy="720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7"/>
          <p:cNvSpPr/>
          <p:nvPr/>
        </p:nvSpPr>
        <p:spPr>
          <a:xfrm rot="11475000">
            <a:off x="5219640" y="1773000"/>
            <a:ext cx="2160720" cy="1368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OK,see you, To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76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ally:Do you like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por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Kate:Yes,I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Kate:I play ping-pong,volleyball and tennis very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ally: And I like  ru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Kate:I like running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ally: As for me I like to ride a bike. Let’s meet  at 6:30 and ride a bike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0692"/>
                </a:solidFill>
                <a:latin typeface="Arial"/>
              </a:rPr>
              <a:t>Kate:OK,see you,Sall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Sally:Good-Bye,K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 rot="21256200">
            <a:off x="4642920" y="4581360"/>
            <a:ext cx="2448000" cy="1513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-Bye,K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1" name="chimes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18:04Z</dcterms:created>
  <dc:creator>123</dc:creator>
  <dc:description/>
  <dc:language>en-US</dc:language>
  <cp:lastModifiedBy>HP</cp:lastModifiedBy>
  <dcterms:modified xsi:type="dcterms:W3CDTF">2011-12-05T05:01:04Z</dcterms:modified>
  <cp:revision>16</cp:revision>
  <dc:subject/>
  <dc:title>Слайд 1</dc:title>
</cp:coreProperties>
</file>