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14CF-1165-4AD6-8887-490C5FD0C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92BB-CC7B-4183-9962-5894CEA7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4579-8A4F-44B8-AD79-D8077372E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E082-B9BF-4991-9C82-773A17250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50FB-D10B-48D7-97A4-F29808A63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D960-97D8-4E01-A8B7-1E129699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2275-4633-4E82-B0B6-31580460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DC28-BA21-4197-ACEA-69497E82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6CDC-E1D7-40C2-8232-2B1B684D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842C-3999-4FE9-96B4-841937D2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1360-EF04-4732-86E9-36F490D9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0E5B-B531-44ED-99FB-E88B72F3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28AF-ACF5-4C8F-A514-0F4A905C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2E8C-02B7-4AEB-A8DF-80D917A6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8116-7F19-48A5-BBBB-F5DE12A7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3022-248E-457A-A38D-9288A7ECB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69DC-7075-400F-9A88-5C1D392F2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89E1-C786-4996-9C31-5ED23536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0827-0E8D-46D7-A656-6B737553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FB96-E07E-45ED-954B-F9D2938F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07A1-9A53-449A-A35C-D3307272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AED5-3721-403D-A1AB-470ECD4D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1158-974C-4513-84C8-9F402BF3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BFE6-7A97-4484-907D-8879F93E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9658-5675-4E78-BCC6-4C9999D1DA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A2DF-5916-4DD7-AF33-ED45BF9A99E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549080" y="4051440"/>
            <a:ext cx="6032520" cy="24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a0692"/>
                </a:solidFill>
                <a:latin typeface="Arial"/>
              </a:rPr>
              <a:t>Pegova Anasta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a0692"/>
                </a:solidFill>
                <a:latin typeface="Arial"/>
              </a:rPr>
              <a:t>Chripunow Vsevol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a0692"/>
                </a:solidFill>
                <a:latin typeface="Arial"/>
              </a:rPr>
              <a:t>Saprykina M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a0692"/>
                </a:solidFill>
                <a:latin typeface="Arial"/>
              </a:rPr>
              <a:t>Maximova Ks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WordArt 6"/>
          <p:cNvSpPr txBox="1"/>
          <p:nvPr/>
        </p:nvSpPr>
        <p:spPr>
          <a:xfrm>
            <a:off x="539640" y="1125360"/>
            <a:ext cx="77774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80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Verdana"/>
              </a:rPr>
              <a:t>"I can and I can't"</a:t>
            </a:r>
            <a:endParaRPr b="0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Verdana"/>
              <a:ea typeface="Verdana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3564000" y="616572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e818"/>
                </a:solidFill>
                <a:latin typeface="Comic Sans MS"/>
              </a:rPr>
              <a:t>re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867280" y="260280"/>
            <a:ext cx="2743200" cy="1838520"/>
          </a:xfrm>
          <a:custGeom>
            <a:avLst/>
            <a:gdLst>
              <a:gd name="textAreaLeft" fmla="*/ 378000 w 2743200"/>
              <a:gd name="textAreaRight" fmla="*/ 2170080 w 2743200"/>
              <a:gd name="textAreaTop" fmla="*/ 277560 h 1838520"/>
              <a:gd name="textAreaBottom" fmla="*/ 1475640 h 18385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nt"/>
          <p:cNvSpPr/>
          <p:nvPr/>
        </p:nvSpPr>
        <p:spPr>
          <a:xfrm>
            <a:off x="826920" y="3933720"/>
            <a:ext cx="1810080" cy="1809720"/>
          </a:xfrm>
          <a:custGeom>
            <a:avLst/>
            <a:gdLst>
              <a:gd name="textAreaLeft" fmla="*/ 595080 w 1810080"/>
              <a:gd name="textAreaRight" fmla="*/ 1218960 w 1810080"/>
              <a:gd name="textAreaTop" fmla="*/ 845640 h 1809720"/>
              <a:gd name="textAreaBottom" fmla="*/ 1137240 h 180972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Group 17"/>
          <p:cNvGrpSpPr/>
          <p:nvPr/>
        </p:nvGrpSpPr>
        <p:grpSpPr>
          <a:xfrm>
            <a:off x="6948360" y="4508640"/>
            <a:ext cx="1816200" cy="2041200"/>
            <a:chOff x="6948360" y="4508640"/>
            <a:chExt cx="1816200" cy="2041200"/>
          </a:xfrm>
        </p:grpSpPr>
        <p:sp>
          <p:nvSpPr>
            <p:cNvPr id="217" name="Puzzle3"/>
            <p:cNvSpPr/>
            <p:nvPr/>
          </p:nvSpPr>
          <p:spPr>
            <a:xfrm>
              <a:off x="7832880" y="4508640"/>
              <a:ext cx="713880" cy="1085040"/>
            </a:xfrm>
            <a:custGeom>
              <a:avLst/>
              <a:gdLst>
                <a:gd name="textAreaLeft" fmla="*/ 74880 w 713880"/>
                <a:gd name="textAreaRight" fmla="*/ 633240 w 713880"/>
                <a:gd name="textAreaTop" fmla="*/ 387720 h 1085040"/>
                <a:gd name="textAreaBottom" fmla="*/ 1016280 h 108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Puzzle2"/>
            <p:cNvSpPr/>
            <p:nvPr/>
          </p:nvSpPr>
          <p:spPr>
            <a:xfrm>
              <a:off x="7625160" y="5298840"/>
              <a:ext cx="1139400" cy="988200"/>
            </a:xfrm>
            <a:custGeom>
              <a:avLst/>
              <a:gdLst>
                <a:gd name="textAreaLeft" fmla="*/ 284400 w 1139400"/>
                <a:gd name="textAreaRight" fmla="*/ 853560 w 1139400"/>
                <a:gd name="textAreaTop" fmla="*/ 308160 h 988200"/>
                <a:gd name="textAreaBottom" fmla="*/ 935280 h 98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Puzzle4"/>
            <p:cNvSpPr/>
            <p:nvPr/>
          </p:nvSpPr>
          <p:spPr>
            <a:xfrm>
              <a:off x="7184160" y="5286600"/>
              <a:ext cx="686880" cy="1263240"/>
            </a:xfrm>
            <a:custGeom>
              <a:avLst/>
              <a:gdLst>
                <a:gd name="textAreaLeft" fmla="*/ 65880 w 686880"/>
                <a:gd name="textAreaRight" fmla="*/ 642960 w 686880"/>
                <a:gd name="textAreaTop" fmla="*/ 330840 h 1263240"/>
                <a:gd name="textAreaBottom" fmla="*/ 934560 h 126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Puzzle1"/>
            <p:cNvSpPr/>
            <p:nvPr/>
          </p:nvSpPr>
          <p:spPr>
            <a:xfrm>
              <a:off x="6948360" y="4836600"/>
              <a:ext cx="1153440" cy="753120"/>
            </a:xfrm>
            <a:custGeom>
              <a:avLst/>
              <a:gdLst>
                <a:gd name="textAreaLeft" fmla="*/ 324720 w 1153440"/>
                <a:gd name="textAreaRight" fmla="*/ 861480 w 1153440"/>
                <a:gd name="textAreaTop" fmla="*/ 89280 h 753120"/>
                <a:gd name="textAreaBottom" fmla="*/ 681480 h 75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AutoShape 22"/>
          <p:cNvSpPr/>
          <p:nvPr/>
        </p:nvSpPr>
        <p:spPr>
          <a:xfrm>
            <a:off x="5292720" y="0"/>
            <a:ext cx="1511280" cy="129528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7"/>
          <p:cNvSpPr/>
          <p:nvPr/>
        </p:nvSpPr>
        <p:spPr>
          <a:xfrm>
            <a:off x="5867280" y="2349360"/>
            <a:ext cx="3097440" cy="38163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Sally</a:t>
            </a: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Hi</a:t>
            </a: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K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Kate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Hi,Sa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Kate:How are yo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Sally:I’m OK,thank you.And how are yo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Kate: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’m fine. I want to go to the swimming p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Kate:Can you swim,Sal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Sally:Yes,I can,but not very w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Sally:Don’t worry,Kate!But you can play the piano very well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Kate: And I can’t play the pia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5724360" y="333360"/>
            <a:ext cx="1511640" cy="129528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 rot="2444400">
            <a:off x="5508720" y="3213000"/>
            <a:ext cx="792000" cy="720720"/>
          </a:xfrm>
          <a:prstGeom prst="smileyFace">
            <a:avLst>
              <a:gd name="adj" fmla="val 9282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AutoShape 7"/>
          <p:cNvSpPr/>
          <p:nvPr/>
        </p:nvSpPr>
        <p:spPr>
          <a:xfrm rot="11475000">
            <a:off x="5219640" y="1773000"/>
            <a:ext cx="2160720" cy="13683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OK,see you, Tom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56764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Arial"/>
              </a:rPr>
              <a:t>Sally:Do you like</a:t>
            </a:r>
            <a:r>
              <a:rPr b="0" lang="ru-RU" sz="32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ccff"/>
                </a:solidFill>
                <a:latin typeface="Arial"/>
              </a:rPr>
              <a:t>spor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a0692"/>
                </a:solidFill>
                <a:latin typeface="Arial"/>
              </a:rPr>
              <a:t>Kate:Yes,I 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a0692"/>
                </a:solidFill>
                <a:latin typeface="Arial"/>
              </a:rPr>
              <a:t>Kate:I play ping-pong,volleyball and tennis very w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Arial"/>
              </a:rPr>
              <a:t>Sally: And I like  run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a0692"/>
                </a:solidFill>
                <a:latin typeface="Arial"/>
              </a:rPr>
              <a:t>Kate:I like running to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Arial"/>
              </a:rPr>
              <a:t>Sally: As for me I like to ride a bike. Let’s meet  at 6:30 and ride a bike toge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a0692"/>
                </a:solidFill>
                <a:latin typeface="Arial"/>
              </a:rPr>
              <a:t>Kate:OK,see you,Sall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Arial"/>
              </a:rPr>
              <a:t>Sally:Good-Bye,K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5"/>
          <p:cNvSpPr/>
          <p:nvPr/>
        </p:nvSpPr>
        <p:spPr>
          <a:xfrm rot="21256200">
            <a:off x="4642920" y="4581360"/>
            <a:ext cx="2448000" cy="1513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d-Bye,K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  <p:sndAc>
      <p:stSnd>
        <p:snd r:embed="rId1" name="chimes.wav"/>
      </p:stSnd>
    </p:sndAc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5:18:04Z</dcterms:created>
  <dc:creator>123</dc:creator>
  <dc:description/>
  <dc:language>en-US</dc:language>
  <cp:lastModifiedBy>HP</cp:lastModifiedBy>
  <dcterms:modified xsi:type="dcterms:W3CDTF">2011-12-05T05:01:04Z</dcterms:modified>
  <cp:revision>16</cp:revision>
  <dc:subject/>
  <dc:title>Слайд 1</dc:title>
</cp:coreProperties>
</file>