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2B3-DCEE-44EC-BF38-667275A4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C61-FECA-480B-B0A2-6B5495FA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863-5053-4F07-92F8-A529183E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720-7A24-4E8B-A1BC-14A0C781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5CA3-13CF-4C52-83C9-A8FA917E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03B7-4CF1-4E95-A869-A1837702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2CCC-01FA-4B74-B8B5-850B25B2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35D0-7B4D-413B-8391-C3B2F6DD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A650-3F98-4F71-8C13-867661F3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163A-230A-4FBE-A8AF-C2F74FEC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FDD7-F4F8-4707-B350-38859C69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968-0DE0-4CB9-AF95-4ED10A67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7783-1C73-4ACD-A689-9816071B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8B2F-C9A9-4296-BEE6-AE473553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51C8-E1D1-417F-A1EC-09B3068D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A4E2-F34C-4845-8700-8D0413A6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A910-D049-47F0-A400-674975FB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2C5-4EF3-47E4-9965-7FE51AE1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22E-C195-4BF6-A517-B2BDD78B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660-162A-47D7-8B7D-688CEAE0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B83-6692-41AB-9E3C-A5B30344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64E-50C3-4145-9C39-587993E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AD6-3FED-4A35-BD24-72AC38C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0F8-D3B5-4BFA-B5D8-F4CBC0B1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3489-EE10-42A5-AFA4-76944D088E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1761-0F2C-4211-911D-B76762049D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1337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Arial"/>
              </a:rPr>
              <a:t>Степени    сравнения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ffcc"/>
                </a:solidFill>
                <a:latin typeface="Arial"/>
              </a:rPr>
              <a:t> прилагательных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тепени сравнения имеют только качественные прилагательные, так как только они обозначают признаки, которые могут присутствовать в предмете в большей или меньшей степени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уществуют две степени сравнения: 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сравнительная и превосходная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91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 сравнительная, и превосходная степени имеют две формы: простую (состоит из одного слова) и сложную (состоит из двух слов)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3660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Простая сравнительная степень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бразуется при помощи суффиксов: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-ее (-ей): интересный – интереснее, белый – белее;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-е: высокий – выше; сладкий – слаще; 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-ше: старый – старш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00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Сложная сравнительная степень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образуется от полной формы прилагательного при помощи слов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 более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 менее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и изменяется по родам, числам и падежам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пример: 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лёгкое задание – белее лёгкое задание, менее лёгкое задание; звонкий голос – более звонкий голос – менее звонкий голос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5834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Простая превосходная степень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образуется при помощи суффиксов: 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-ейш (белый – белейший; светлый – светлейший, милый – милейший);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-айш: (крепкий – крепчайший, высокий – высочайший, тихий – тишайший)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93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Сложная превосходная степень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образуется от полной формы прилагательного при помощи частиц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  самый, наиболее, наименее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пример: 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удачный – самый удачный, наиболее удачный, наименее удачный; тяжёлый – самый тяжёлый, наиболее тяжёлый, наименее тяжёлы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89308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Из данного текста выпишите КАЧЕСТВЕННЫЕ  прилагательные, образуйте от них все возможные степени сравнения.</a:t>
            </a:r>
            <a:br>
              <a:rPr sz="2800"/>
            </a:b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Горностайка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 ноябре после обильного снегопада выдались тихие дни. Я шёл без лыж по берегу речки. Мой маршрут пересёк свежий след гороностая. Зверёк бежал короткими прыжками и глубоко проваливался. Я пошёл по следу. След привёл меня к устью ручья. Сюда из-подо льда на чистую воду выходили щурята. Как только они выплывали на мелкое место, горностай прыгал на одного из них, хватал острыми зубами около головы и снова возвращался к месту рыбалки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Обильного – простая сравнитель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обильнее;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сложная сравнитель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более обильного, менее обильного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простая превосход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обильнейшего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ложная превосход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самого обильного, наиболее обильного, наименее обильного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ихие – простая сравнитель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тише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ложная сравнитель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более тихие, менее тихие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простая превосход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тишайшие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ложная превосходная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самые тихие, наиболее тихие, наименее тихи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1:15:21Z</dcterms:created>
  <dc:creator>Романова Ю.Ю.</dc:creator>
  <dc:description/>
  <dc:language>en-US</dc:language>
  <cp:lastModifiedBy>rty56g79k</cp:lastModifiedBy>
  <dcterms:modified xsi:type="dcterms:W3CDTF">2010-11-21T14:32:19Z</dcterms:modified>
  <cp:revision>3</cp:revision>
  <dc:subject/>
  <dc:title>Степени сравнения прилагательных</dc:title>
</cp:coreProperties>
</file>