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ECD4-B162-4F67-B64C-09AE15FC8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6817-94A1-4D5B-BC36-FD0FE6872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A8E2-B812-4D20-99D9-212BE81AF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2C29-D511-4A79-821E-7D6B57761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986C9-1B7C-497D-B6A5-B282E7421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5F85E-4DDB-45A9-AAC2-7427935D5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4DB89-0687-4785-8EE5-E9F65993C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4356A-B26A-4C05-97AE-92B43837C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86453-A11C-4997-9FF8-CB75832CF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E3CB0-9600-4BAB-A6B7-797B5E3C9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AC907-F286-4021-B9A6-A8BD8345C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2CC0-3455-49C6-966A-95BB620A9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594E6-5C33-4E65-9554-A12F99779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E98C9-8BB2-448E-A42E-CE164424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0E9DB-C471-43AD-97B2-BAA512071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73B71-1043-4694-98D8-E234D5BA7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144AF-98AC-438D-956C-7A1C6F73F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791A-5407-4DDA-8A43-895EA71FC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B3A9-3E9D-40F4-8ACC-DF1CAEC50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4BBD-D39B-4B37-839A-B1451B17C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F8E2-31DA-42D9-92F2-45FA2ACAC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776D-3B29-4FAB-A5B0-C0F1025B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4A6F-59D7-47A9-BE55-D9B123D1B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0554-85CC-41E5-A9F3-CDC0D79B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0FD80-C9D3-497A-B016-84F5A6FD429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D3C58-3089-4873-A423-4EFC34B0583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213372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Arial"/>
              </a:rPr>
              <a:t>Степени    сравнения</a:t>
            </a:r>
            <a:br>
              <a:rPr sz="4800"/>
            </a:br>
            <a:br>
              <a:rPr sz="4800"/>
            </a:br>
            <a:r>
              <a:rPr b="1" i="1" lang="en-US" sz="4800" spc="-1" strike="noStrike">
                <a:solidFill>
                  <a:srgbClr val="ffffcc"/>
                </a:solidFill>
                <a:latin typeface="Arial"/>
              </a:rPr>
              <a:t> прилагательных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4000" y="270828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Степени сравнения имеют только качественные прилагательные, так как только они обозначают признаки, которые могут присутствовать в предмете в большей или меньшей степени.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Существуют две степени сравнения: </a:t>
            </a:r>
            <a:r>
              <a:rPr b="0" i="1" lang="en-US" sz="4000" spc="-1" strike="noStrike">
                <a:solidFill>
                  <a:srgbClr val="ffffcc"/>
                </a:solidFill>
                <a:latin typeface="Arial"/>
              </a:rPr>
              <a:t>сравнительная и превосходная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914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И сравнительная, и превосходная степени имеют две формы: простую (состоит из одного слова) и сложную (состоит из двух слов)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4920" y="1699920"/>
            <a:ext cx="836604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cc"/>
                </a:solidFill>
                <a:uFillTx/>
                <a:latin typeface="Arial"/>
              </a:rPr>
              <a:t>Простая сравнительная степень 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образуется при помощи суффиксов:</a:t>
            </a:r>
            <a:br>
              <a:rPr sz="4000"/>
            </a:br>
            <a:r>
              <a:rPr b="0" i="1" lang="en-US" sz="4000" spc="-1" strike="noStrike">
                <a:solidFill>
                  <a:srgbClr val="ffffcc"/>
                </a:solidFill>
                <a:latin typeface="Arial"/>
              </a:rPr>
              <a:t>-ее (-ей): интересный – интереснее, белый – белее;</a:t>
            </a:r>
            <a:br>
              <a:rPr sz="4000"/>
            </a:br>
            <a:r>
              <a:rPr b="0" i="1" lang="en-US" sz="4000" spc="-1" strike="noStrike">
                <a:solidFill>
                  <a:srgbClr val="ffffcc"/>
                </a:solidFill>
                <a:latin typeface="Arial"/>
              </a:rPr>
              <a:t>-е: высокий – выше; сладкий – слаще; </a:t>
            </a:r>
            <a:br>
              <a:rPr sz="4000"/>
            </a:br>
            <a:r>
              <a:rPr b="0" i="1" lang="en-US" sz="4000" spc="-1" strike="noStrike">
                <a:solidFill>
                  <a:srgbClr val="ffffcc"/>
                </a:solidFill>
                <a:latin typeface="Arial"/>
              </a:rPr>
              <a:t>-ше: старый – старше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1484280"/>
            <a:ext cx="82008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cc"/>
                </a:solidFill>
                <a:uFillTx/>
                <a:latin typeface="Arial"/>
              </a:rPr>
              <a:t>Сложная сравнительная степень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образуется от полной формы прилагательного при помощи слов</a:t>
            </a:r>
            <a:r>
              <a:rPr b="0" i="1" lang="en-US" sz="4000" spc="-1" strike="noStrike">
                <a:solidFill>
                  <a:srgbClr val="ffffcc"/>
                </a:solidFill>
                <a:latin typeface="Arial"/>
              </a:rPr>
              <a:t> более 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и</a:t>
            </a:r>
            <a:r>
              <a:rPr b="0" i="1" lang="en-US" sz="4000" spc="-1" strike="noStrike">
                <a:solidFill>
                  <a:srgbClr val="ffffcc"/>
                </a:solidFill>
                <a:latin typeface="Arial"/>
              </a:rPr>
              <a:t> менее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и изменяется по родам, числам и падежам.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Например: </a:t>
            </a:r>
            <a:r>
              <a:rPr b="0" i="1" lang="en-US" sz="4000" spc="-1" strike="noStrike">
                <a:solidFill>
                  <a:srgbClr val="ffffcc"/>
                </a:solidFill>
                <a:latin typeface="Arial"/>
              </a:rPr>
              <a:t>лёгкое задание – белее лёгкое задание, менее лёгкое задание; звонкий голос – более звонкий голос – менее звонкий голос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560" y="1844640"/>
            <a:ext cx="858348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cc"/>
                </a:solidFill>
                <a:uFillTx/>
                <a:latin typeface="Arial"/>
              </a:rPr>
              <a:t>Простая превосходная степень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образуется при помощи суффиксов: </a:t>
            </a:r>
            <a:r>
              <a:rPr b="0" i="1" lang="en-US" sz="4000" spc="-1" strike="noStrike">
                <a:solidFill>
                  <a:srgbClr val="ffffcc"/>
                </a:solidFill>
                <a:latin typeface="Arial"/>
              </a:rPr>
              <a:t>-ейш (белый – белейший; светлый – светлейший, милый – милейший);</a:t>
            </a:r>
            <a:br>
              <a:rPr sz="4000"/>
            </a:br>
            <a:r>
              <a:rPr b="0" i="1" lang="en-US" sz="4000" spc="-1" strike="noStrike">
                <a:solidFill>
                  <a:srgbClr val="ffffcc"/>
                </a:solidFill>
                <a:latin typeface="Arial"/>
              </a:rPr>
              <a:t>-айш: (крепкий – крепчайший, высокий – высочайший, тихий – тишайший)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60" y="980640"/>
            <a:ext cx="9396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cc"/>
                </a:solidFill>
                <a:uFillTx/>
                <a:latin typeface="Arial"/>
              </a:rPr>
              <a:t>Сложная превосходная степень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образуется от полной формы прилагательного при помощи частиц</a:t>
            </a:r>
            <a:r>
              <a:rPr b="0" i="1" lang="en-US" sz="4000" spc="-1" strike="noStrike">
                <a:solidFill>
                  <a:srgbClr val="ffffcc"/>
                </a:solidFill>
                <a:latin typeface="Arial"/>
              </a:rPr>
              <a:t>  самый, наиболее, наименее.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Например: </a:t>
            </a:r>
            <a:r>
              <a:rPr b="0" i="1" lang="en-US" sz="4000" spc="-1" strike="noStrike">
                <a:solidFill>
                  <a:srgbClr val="ffffcc"/>
                </a:solidFill>
                <a:latin typeface="Arial"/>
              </a:rPr>
              <a:t>удачный – самый удачный, наиболее удачный, наименее удачный; тяжёлый – самый тяжёлый, наиболее тяжёлый, наименее тяжёлый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893080" cy="564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Из данного текста выпишите КАЧЕСТВЕННЫЕ  прилагательные, образуйте от них все возможные степени сравнения.</a:t>
            </a:r>
            <a:br>
              <a:rPr sz="2800"/>
            </a:b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                             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Горностайка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В ноябре после обильного снегопада выдались тихие дни. Я шёл без лыж по берегу речки. Мой маршрут пересёк свежий след гороностая. Зверёк бежал короткими прыжками и глубоко проваливался. Я пошёл по следу. След привёл меня к устью ручья. Сюда из-подо льда на чистую воду выходили щурята. Как только они выплывали на мелкое место, горностай прыгал на одного из них, хватал острыми зубами около головы и снова возвращался к месту рыбалки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3640" y="980640"/>
            <a:ext cx="8569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Обильного – простая сравнительная: </a:t>
            </a: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обильнее;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сложная сравнительная: </a:t>
            </a: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более обильного, менее обильного;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простая превосходная: </a:t>
            </a: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обильнейшего;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сложная превосходная: </a:t>
            </a: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самого обильного, наиболее обильного, наименее обильного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Тихие – простая сравнительная: </a:t>
            </a: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тише;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сложная сравнительная: </a:t>
            </a: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более тихие, менее тихие;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простая превосходная: </a:t>
            </a: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тишайшие;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сложная превосходная: </a:t>
            </a: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самые тихие, наиболее тихие, наименее тихие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1T11:15:21Z</dcterms:created>
  <dc:creator>Романова Ю.Ю.</dc:creator>
  <dc:description/>
  <dc:language>en-US</dc:language>
  <cp:lastModifiedBy>rty56g79k</cp:lastModifiedBy>
  <dcterms:modified xsi:type="dcterms:W3CDTF">2010-11-21T14:32:19Z</dcterms:modified>
  <cp:revision>3</cp:revision>
  <dc:subject/>
  <dc:title>Степени сравнения прилагательных</dc:title>
</cp:coreProperties>
</file>