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8F9F-658B-4F6B-AF1F-986E122D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61A-0E11-464A-B882-7FB06A60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1AE-536F-4942-8BB8-7B5EB18E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A8A-BEBE-4E89-AA0B-BCCE5242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2CB0-D6C2-4BC1-8866-72F80B6B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E176-E232-48A4-8E06-924BA750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9791-6948-4A57-93F9-A05B6327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9A52-AE92-49A4-B4AD-C1F5C7D4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B01F-692E-4312-8220-13B5358A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15DA-4035-4954-BC7E-49027EE4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09C9-A3E7-412B-9A79-D7CFC80B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C35-03FF-4E59-BB16-47B61A84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79AD-EA9D-494C-AF8E-A3095D9C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B77C-7A27-4D72-8CB5-80B9D49D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9DA1-95A3-4A32-88EC-01116AD2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4472-E04A-4965-8A95-F5937EF1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D2ED-7935-451B-A955-8B9462C7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365-1BDE-4A4E-9F3C-63532F7A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485-0D23-4522-8EAE-57B941F8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224-79D2-4617-9F66-772E6CF6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7A7-652E-4F14-BC05-115CAC9A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EB4-12C9-4DFC-8DDE-F8AEAA21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BD7-074F-4DC5-AE58-921A8163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B53-6859-40F1-ADEB-63A055AD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4299-435A-4EAC-BFC1-44FBEA479BC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2F75-B745-4CDB-8BC9-5A895D8FAAA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b2b2b2"/>
                </a:solidFill>
                <a:latin typeface="Arial"/>
              </a:rPr>
              <a:t>Переработка нефти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ереработка нефти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- это её перегонк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 крекин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еф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фть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то маслянистая жидкость от бурого до чёрного цвета с характерным запахом. Она представляет собой смесь различных углеводородов. Нефть намного легче воды и практически в ней не растворя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фть является важнейшим источником энергии и ценным сырьём для синтеза многих органических соединений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зрывчатых веществ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антифризов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лекарственных мазей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парфюмерии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искусственных волокон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растворителей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синтетического каучука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др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2b2b2"/>
                </a:solidFill>
                <a:latin typeface="Arial"/>
              </a:rPr>
              <a:t>Все нефти при простой перегонке разделяются на следующие фракции</a:t>
            </a:r>
            <a:r>
              <a:rPr b="1" i="1" lang="en-US" sz="3200" spc="-1" strike="noStrike">
                <a:solidFill>
                  <a:srgbClr val="b2b2b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зовая фракция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(t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ип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до 40</a:t>
            </a:r>
            <a:r>
              <a:rPr b="1" i="1" lang="ru-RU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золиновая фракция бензинов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ип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40-180</a:t>
            </a:r>
            <a:r>
              <a:rPr b="1" i="1" lang="ru-RU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игроиновая фракция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ип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150-250</a:t>
            </a:r>
            <a:r>
              <a:rPr b="1" i="1" lang="ru-RU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еросиновая фракция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ип. 180-300</a:t>
            </a:r>
            <a:r>
              <a:rPr b="1" i="1" lang="ru-RU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зельное топливо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ип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0-330</a:t>
            </a:r>
            <a:r>
              <a:rPr b="1" i="1" lang="ru-RU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азут-остаток после перегонки нефти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торый разделяет на следующие фракции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оляровые мас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мазочные мас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азел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араф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удрон-остаток после отгонки мазу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2b2b2"/>
                </a:solidFill>
                <a:latin typeface="Arial"/>
              </a:rPr>
              <a:t>Прямая перегонка неф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276640"/>
            <a:ext cx="1873440" cy="295092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4437000"/>
            <a:ext cx="1152360" cy="72072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3213000"/>
            <a:ext cx="1224000" cy="86544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76280"/>
            <a:ext cx="2087280" cy="41050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5372280"/>
            <a:ext cx="28764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20000" y="5084640"/>
            <a:ext cx="287280" cy="287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32720" y="5084640"/>
            <a:ext cx="287280" cy="287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5084640"/>
            <a:ext cx="287280" cy="2876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9080" y="5084640"/>
            <a:ext cx="287280" cy="2876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96360" y="4795920"/>
            <a:ext cx="287280" cy="287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2720" y="479592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537228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96360" y="5084640"/>
            <a:ext cx="287280" cy="28764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5084640"/>
            <a:ext cx="28764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5372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5084640"/>
            <a:ext cx="28728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4795920"/>
            <a:ext cx="28728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08720" y="4795920"/>
            <a:ext cx="28764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3640" y="4795920"/>
            <a:ext cx="28728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3429000"/>
            <a:ext cx="2663640" cy="57636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4720" y="2708280"/>
            <a:ext cx="2663640" cy="64764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620640"/>
            <a:ext cx="2663640" cy="57492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1268280"/>
            <a:ext cx="2663640" cy="64800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1987560"/>
            <a:ext cx="2663640" cy="64944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9080" y="5372280"/>
            <a:ext cx="28728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4795920"/>
            <a:ext cx="28764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96360" y="5372280"/>
            <a:ext cx="28728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4795920"/>
            <a:ext cx="287280" cy="287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5372280"/>
            <a:ext cx="287280" cy="287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5084640"/>
            <a:ext cx="287280" cy="2876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479592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537228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479592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5084640"/>
            <a:ext cx="28728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5084640"/>
            <a:ext cx="28764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20000" y="5372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2720" y="5372280"/>
            <a:ext cx="28728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4795920"/>
            <a:ext cx="28728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5372280"/>
            <a:ext cx="28764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0.04102 C -0.16025 -0.02549 -0.3099 -0.0095 -0.37934 -0.02711 C -0.44879 -0.04472 -0.41823 -0.12537 -0.42691 -0.14669 E">
                                      <p:cBhvr>
                                        <p:cTn id="146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2989 C -0.17517 -0.02016 -0.35017 -0.01019 -0.41128 -0.02642 C -0.47239 -0.04264 -0.41996 -0.08482 -0.36718 -0.12676 E">
                                      <p:cBhvr>
                                        <p:cTn id="148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285 C -0.18577 -0.01946 -0.37153 -0.01019 -0.44167 -0.03036 C -0.51181 -0.05052 -0.46684 -0.09988 -0.42153 -0.14901 E">
                                      <p:cBhvr>
                                        <p:cTn id="150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69 -0.02526 C -0.21389 -0.01691 -0.4191 -0.00857 -0.48907 -0.03406 C -0.55903 -0.05956 -0.49375 -0.11912 -0.4283 -0.17844 E">
                                      <p:cBhvr>
                                        <p:cTn id="152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2317 C -0.22326 -0.01668 -0.44636 -0.01019 -0.5184 -0.02317 C -0.59045 -0.03592 -0.51163 -0.06836 -0.43264 -0.10058 E">
                                      <p:cBhvr>
                                        <p:cTn id="154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25145E-006 C -0.23281 0.00301 -0.46545 0.00603 -0.54583 -0.0285 C -0.62621 -0.06303 -0.55416 -0.13557 -0.48194 -0.20788 E">
                                      <p:cBhvr>
                                        <p:cTn id="156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2757 C -0.24965 -0.01367 -0.49861 0.000470000000000002 -0.58403 -0.02387 C -0.66927 -0.04797 -0.59115 -0.11054 -0.51302 -0.17288 E">
                                      <p:cBhvr>
                                        <p:cTn id="158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1506 C -0.22708 -0.00208 -0.45416 0.0109 -0.55416 -0.00069 C -0.65416 -0.01205 -0.62708 -0.04774 -0.6 -0.08319 E">
                                      <p:cBhvr>
                                        <p:cTn id="160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1993 C -0.25486 -0.01506 -0.50937 -0.01019 -0.60521 -0.01483 C -0.70087 -0.01923 -0.63837 -0.03267 -0.57569 -0.04588 E">
                                      <p:cBhvr>
                                        <p:cTn id="162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0.01668 C -0.27465 -0.00741 -0.54878 0.00209 -0.65625 -0.03198 C -0.76371 -0.06605 -0.70451 -0.14322 -0.64513 -0.22039 E">
                                      <p:cBhvr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0.03152 C -0.09393 -0.04588 -0.18282 -0.06025 -0.24913 -0.0686 C -0.31545 -0.07694 -0.38143 -0.05307 -0.4033 -0.08181 C -0.42518 -0.11054 -0.40278 -0.17613 -0.38021 -0.24148 E">
                                      <p:cBhvr>
                                        <p:cTn id="166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4171 C -0.06562 -0.05284 -0.13125 -0.06373 -0.18871 -0.0679 C -0.246 -0.07207 -0.30607 -0.04496 -0.34427 -0.0679 C -0.38246 -0.09084 -0.4 -0.14832 -0.41736 -0.20556 E">
                                      <p:cBhvr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2827 C -0.08993 -0.04635 -0.17986 -0.06396 -0.24948 -0.06999 C -0.3191 -0.07601 -0.38143 -0.03337 -0.41719 -0.06396 C -0.45295 -0.09432 -0.45886 -0.17335 -0.46441 -0.25214 E">
                                      <p:cBhvr>
                                        <p:cTn id="170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3407 C -0.10903 -0.05052 -0.21389 -0.06674 -0.28924 -0.07323 C -0.36459 -0.07972 -0.43247 -0.06442 -0.45643 -0.07323 C -0.48039 -0.08204 -0.45695 -0.10405 -0.43351 -0.12584 E">
                                      <p:cBhvr>
                                        <p:cTn id="172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102 C -0.0908 -0.02109 -0.18195 -0.03175 -0.26806 -0.03986 C -0.35434 -0.04797 -0.47552 -0.04959 -0.51736 -0.05933 C -0.55903 -0.06906 -0.53906 -0.08389 -0.51892 -0.09849 E">
                                      <p:cBhvr>
                                        <p:cTn id="174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8 -0.02109 C -0.11962 -0.03777 -0.23125 -0.05423 -0.32378 -0.06257 C -0.41632 -0.07115 -0.51927 -0.03777 -0.56284 -0.07115 C -0.60625 -0.10429 -0.59566 -0.18354 -0.58507 -0.26257 E">
                                      <p:cBhvr>
                                        <p:cTn id="176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79606E-006 C -0.12778 -0.019 -0.25538 -0.03777 -0.34948 -0.04588 C -0.44375 -0.054 -0.52378 -0.02665 -0.5651 -0.0482 C -0.60625 -0.06975 -0.60208 -0.12259 -0.59774 -0.1752 E">
                                      <p:cBhvr>
                                        <p:cTn id="178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04241 C -0.12882 -0.05701 -0.2552 -0.07138 -0.35798 -0.07717 C -0.46076 -0.08273 -0.57621 -0.07068 -0.61875 -0.07717 C -0.66128 -0.08343 -0.6375 -0.09942 -0.61371 -0.11541 E">
                                      <p:cBhvr>
                                        <p:cTn id="180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5237 C -0.12656 -0.0577 -0.2526 -0.06303 -0.35729 -0.0635 C -0.46215 -0.06419 -0.58733 -0.05515 -0.6283 -0.05631 C -0.66927 -0.05747 -0.63628 -0.06396 -0.6033 -0.06999 E">
                                      <p:cBhvr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0.03546 C -0.17447 -0.05353 -0.35 -0.07138 -0.46423 -0.07926 C -0.57847 -0.08714 -0.65156 -0.06327 -0.68402 -0.08343 C -0.71649 -0.10359 -0.66354 -0.18053 -0.65937 -0.19953 E">
                                      <p:cBhvr>
                                        <p:cTn id="184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6281 C -0.02709 -0.06999 -0.04184 -0.08552 -0.07535 -0.08598 C -0.12014 -0.08644 -0.16511 -0.08644 -0.2099 -0.08668 C -0.25712 -0.09108 -0.31389 -0.08459 -0.35729 -0.09015 C -0.36528 -0.09108 -0.35729 -0.09873 -0.35729 -0.10267 E">
                                      <p:cBhvr>
                                        <p:cTn id="186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343 C -0.01128 -0.04334 -0.02482 -0.05608 -0.02482 -0.05585 C -0.02881 -0.0642 -0.03368 -0.06814 -0.03958 -0.0737 C -0.0467 -0.08019 -0.05364 -0.08691 -0.06076 -0.0934 C -0.06562 -0.0978 -0.07534 -0.0985 -0.08055 -0.09989 C -0.10347 -0.10637 -0.10451 -0.10777 -0.13298 -0.10869 C -0.17013 -0.10985 -0.20729 -0.11008 -0.24444 -0.11078 C -0.28906 -0.11564 -0.33472 -0.11263 -0.37881 -0.12399 C -0.38489 -0.12816 -0.38784 -0.12885 -0.39201 -0.1372 C -0.39479 -0.14253 -0.39861 -0.15458 -0.39861 -0.15435 C -0.40156 -0.18818 -0.40017 -0.16617 -0.40017 -0.2204 E">
                                      <p:cBhvr>
                                        <p:cTn id="188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3592 C -0.01389 -0.03129 -0.02361 -0.03963 -0.03472 -0.04635 C -0.03941 -0.04913 -0.05886 -0.06049 -0.06285 -0.06327 C -0.07518 -0.07208 -0.08941 -0.08297 -0.10399 -0.08552 C -0.12257 -0.09525 -0.14306 -0.0978 -0.16337 -0.10104 C -0.2316 -0.10035 -0.29983 -0.09919 -0.36788 -0.09919 C -0.43143 -0.09919 -0.45608 -0.07532 -0.47674 -0.11796 C -0.47726 -0.12028 -0.47743 -0.1226 -0.4783 -0.12491 C -0.48021 -0.12955 -0.4849 -0.13859 -0.4849 -0.13836 C -0.48577 -0.14253 -0.4882 -0.14647 -0.4882 -0.15064 C -0.4882 -0.15504 -0.48646 -0.15968 -0.48646 -0.16408 E">
                                      <p:cBhvr>
                                        <p:cTn id="190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05215 C -0.00434 -0.05284 -0.00886 -0.05238 -0.01303 -0.05377 C -0.01511 -0.05469 -0.01598 -0.05701 -0.01789 -0.05817 C -0.02553 -0.06327 -0.04532 -0.07393 -0.054 -0.07578 C -0.14584 -0.11727 -0.29827 -0.09618 -0.37535 -0.09664 C -0.39306 -0.10035 -0.40938 -0.10406 -0.42778 -0.10545 C -0.43698 -0.10823 -0.44653 -0.10985 -0.45573 -0.11263 C -0.4632 -0.11727 -0.46806 -0.12607 -0.47205 -0.13349 C -0.47535 -0.14716 -0.47379 -0.13836 -0.47379 -0.15991 E">
                                      <p:cBhvr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55 -0.02642 C -0.0217 -0.0299 -0.02136 -0.03569 -0.0309 -0.04403 C -0.03386 -0.05608 -0.03004 -0.04635 -0.03733 -0.05284 C -0.03924 -0.05446 -0.04028 -0.05771 -0.04236 -0.05933 C -0.04531 -0.06165 -0.04896 -0.06188 -0.05208 -0.06373 C -0.06024 -0.0686 -0.06771 -0.0737 -0.07674 -0.07694 C -0.11875 -0.11031 -0.2099 -0.09618 -0.23733 -0.09664 C -0.31372 -0.11263 -0.41129 -0.10104 -0.49149 -0.10313 C -0.49531 -0.10383 -0.49948 -0.10313 -0.50295 -0.10522 C -0.50486 -0.10637 -0.50504 -0.10985 -0.50625 -0.11194 C -0.51007 -0.11796 -0.51285 -0.12028 -0.51771 -0.12491 C -0.52153 -0.13279 -0.5224 -0.13789 -0.52761 -0.14461 C -0.52865 -0.14763 -0.52951 -0.15064 -0.5309 -0.15342 C -0.53229 -0.15597 -0.53455 -0.15736 -0.53576 -0.15991 C -0.54601 -0.18193 -0.53229 -0.16199 -0.54392 -0.17752 C -0.54514 -0.18401 -0.55122 -0.19931 -0.54236 -0.19931 E">
                                      <p:cBhvr>
                                        <p:cTn id="194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6095 C -0.00382 -0.06165 -0.00781 -0.06095 -0.01146 -0.06281 C -0.02361 -0.06906 -0.03003 -0.08714 -0.04063 -0.09571 C -0.05191 -0.10475 -0.06094 -0.11472 -0.07465 -0.11866 C -0.0842 -0.12607 -0.10903 -0.12631 -0.10903 -0.12607 C -0.2099 -0.12561 -0.31094 -0.12538 -0.41198 -0.12445 C -0.55764 -0.12329 -0.50208 -0.11124 -0.5691 -0.12816 C -0.56979 -0.15666 -0.56597 -0.20695 -0.57899 -0.23754 C -0.58264 -0.25724 -0.58906 -0.27694 -0.6066 -0.28343 C -0.61424 -0.26443 -0.60781 -0.24403 -0.60486 -0.2241 C -0.60434 -0.21391 -0.60417 -0.20348 -0.6033 -0.19328 C -0.60313 -0.1912 -0.60156 -0.18772 -0.60156 -0.18749 E">
                                      <p:cBhvr>
                                        <p:cTn id="196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4172 C -0.00364 -0.0438 -0.00764 -0.04473 -0.01128 -0.04705 C -0.01458 -0.04913 -0.01718 -0.05284 -0.02083 -0.05423 C -0.02465 -0.05562 -0.02847 -0.05632 -0.03212 -0.05771 C -0.0342 -0.05863 -0.03611 -0.06095 -0.03854 -0.06142 C -0.046 -0.06257 -0.0533 -0.06257 -0.06076 -0.06304 C -0.09514 -0.07115 -0.13107 -0.07323 -0.16614 -0.07532 C -0.19653 -0.08158 -0.22656 -0.08343 -0.25729 -0.08598 C -0.28489 -0.09201 -0.31232 -0.09687 -0.34028 -0.10197 C -0.34618 -0.10313 -0.35191 -0.10568 -0.35798 -0.10568 C -0.41024 -0.10614 -0.46232 -0.10684 -0.51458 -0.1073 C -0.52396 -0.10869 -0.53264 -0.10939 -0.54166 -0.11263 C -0.55104 -0.15249 -0.54653 -0.15435 -0.54653 -0.21877 E">
                                      <p:cBhvr>
                                        <p:cTn id="198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02 -0.03059 C -0.01805 -0.03175 -0.02378 -0.03082 -0.02777 -0.035 C -0.02934 -0.03662 -0.02951 -0.04009 -0.03107 -0.04172 C -0.03298 -0.0438 -0.03541 -0.04473 -0.03767 -0.04612 C -0.03871 -0.04821 -0.03958 -0.05099 -0.04097 -0.05261 C -0.04392 -0.05608 -0.05069 -0.06142 -0.05069 -0.06118 C -0.05694 -0.0737 -0.05052 -0.06373 -0.05885 -0.06999 C -0.06701 -0.07602 -0.07309 -0.08389 -0.08194 -0.0876 C -0.09253 -0.0971 -0.10573 -0.09873 -0.11788 -0.1029 C -0.11961 -0.10359 -0.12118 -0.10522 -0.12291 -0.10522 C -0.17916 -0.10661 -0.23541 -0.10684 -0.29166 -0.1073 C -0.38507 -0.10823 -0.47864 -0.10869 -0.57205 -0.10939 C -0.58871 -0.15365 -0.59826 -0.22758 -0.57205 -0.26257 E">
                                      <p:cBhvr>
                                        <p:cTn id="200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1947 C -0.01667 -0.02364 -0.02205 -0.04334 -0.03611 -0.05446 C -0.05104 -0.06628 -0.06354 -0.07625 -0.08038 -0.08297 C -0.1118 -0.09548 -0.14965 -0.09548 -0.18194 -0.09618 C -0.25417 -0.09757 -0.32621 -0.09757 -0.39844 -0.09826 C -0.4776 -0.10939 -0.55521 -0.10383 -0.63611 -0.10475 C -0.64566 -0.13048 -0.64132 -0.15921 -0.61962 -0.16825 C -0.61094 -0.17706 -0.5934 -0.19351 -0.5934 -0.20997 E">
                                      <p:cBhvr>
                                        <p:cTn id="202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3476 C -0.00399 -0.03546 -0.00781 -0.03476 -0.01059 -0.03708 C -0.01163 -0.03801 -0.02882 -0.0642 -0.03194 -0.06559 C -0.04913 -0.073 -0.06788 -0.08899 -0.08593 -0.09177 C -0.10225 -0.09432 -0.11875 -0.09479 -0.13507 -0.09618 C -0.14288 -0.09687 -0.1585 -0.09826 -0.1585 -0.09803 C -0.18125 -0.10359 -0.20399 -0.10359 -0.22708 -0.10498 C -0.33784 -0.11773 -0.45086 -0.11263 -0.56145 -0.11356 C -0.58767 -0.11518 -0.6125 -0.11866 -0.63836 -0.12237 C -0.64427 -0.12491 -0.6493 -0.12746 -0.65486 -0.13117 C -0.65642 -0.13975 -0.65972 -0.14485 -0.66145 -0.15296 C -0.66371 -0.16315 -0.66562 -0.17335 -0.66788 -0.18355 C -0.67326 -0.20881 -0.67656 -0.23546 -0.68263 -0.26026 C -0.68402 -0.26582 -0.68732 -0.27926 -0.68923 -0.28436 C -0.69288 -0.29409 -0.69253 -0.28737 -0.69253 -0.29316 E">
                                      <p:cBhvr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2349360"/>
            <a:ext cx="1944720" cy="302292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4581360"/>
            <a:ext cx="1152720" cy="64800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2920" y="3213000"/>
            <a:ext cx="1368360" cy="93672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404640"/>
            <a:ext cx="2016000" cy="424836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3141720"/>
            <a:ext cx="2663640" cy="71892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2421000"/>
            <a:ext cx="2663640" cy="64764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33360"/>
            <a:ext cx="2663640" cy="57456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981000"/>
            <a:ext cx="2663640" cy="64764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700280"/>
            <a:ext cx="2663640" cy="64908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149720"/>
            <a:ext cx="28764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3645000"/>
            <a:ext cx="28728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4365720"/>
            <a:ext cx="28764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3357720"/>
            <a:ext cx="287640" cy="287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3933720"/>
            <a:ext cx="287280" cy="287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3645000"/>
            <a:ext cx="287280" cy="287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314172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328464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58920" y="443700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4221000"/>
            <a:ext cx="28764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79640" y="321300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63640" y="393372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3357720"/>
            <a:ext cx="28728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4221000"/>
            <a:ext cx="287280" cy="287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3645000"/>
            <a:ext cx="28764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0920" y="3573360"/>
            <a:ext cx="28764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3357720"/>
            <a:ext cx="28728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95640" y="4076640"/>
            <a:ext cx="28728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24000" y="3860640"/>
            <a:ext cx="287280" cy="2876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4076640"/>
            <a:ext cx="287640" cy="287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3429000"/>
            <a:ext cx="287280" cy="287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4365720"/>
            <a:ext cx="28764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63640" y="321300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3500280"/>
            <a:ext cx="287280" cy="28764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19280" y="3716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393372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221000"/>
            <a:ext cx="28728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3789360"/>
            <a:ext cx="28764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3933720"/>
            <a:ext cx="28764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3429000"/>
            <a:ext cx="28728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63640" y="4437000"/>
            <a:ext cx="287280" cy="287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76360" y="4724280"/>
            <a:ext cx="287280" cy="287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4653000"/>
            <a:ext cx="287280" cy="287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4508640"/>
            <a:ext cx="287280" cy="287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4653000"/>
            <a:ext cx="287280" cy="287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81640" y="4941720"/>
            <a:ext cx="4052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Arial"/>
              </a:rPr>
              <a:t>Газовая фракция</a:t>
            </a:r>
            <a:r>
              <a:rPr b="1" i="1" lang="en-US" sz="1800" spc="-1" strike="noStrike">
                <a:solidFill>
                  <a:srgbClr val="00ff00"/>
                </a:solidFill>
                <a:latin typeface="Arial"/>
              </a:rPr>
              <a:t> (t</a:t>
            </a:r>
            <a:r>
              <a:rPr b="1" i="1" lang="ru-RU" sz="1800" spc="-1" strike="noStrike">
                <a:solidFill>
                  <a:srgbClr val="00ff00"/>
                </a:solidFill>
                <a:latin typeface="Arial"/>
              </a:rPr>
              <a:t>кип. до 400С</a:t>
            </a:r>
            <a:r>
              <a:rPr b="1" i="1" lang="en-US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8440" y="4941720"/>
            <a:ext cx="580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Газолиновая фракция бензинов(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кип. 40-1800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41080" y="4941720"/>
            <a:ext cx="46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10199"/>
                </a:solidFill>
                <a:latin typeface="Arial"/>
              </a:rPr>
              <a:t>Лигроиновая фракция(</a:t>
            </a: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010199"/>
                </a:solidFill>
                <a:latin typeface="Arial"/>
              </a:rPr>
              <a:t>кип. 150-2500С</a:t>
            </a: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79440" y="4941720"/>
            <a:ext cx="4793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ff"/>
                </a:solidFill>
                <a:latin typeface="Arial"/>
              </a:rPr>
              <a:t>Керосиновая фракция(</a:t>
            </a:r>
            <a:r>
              <a:rPr b="1" i="1" lang="en-US" sz="1800" spc="-1" strike="noStrike">
                <a:solidFill>
                  <a:srgbClr val="ff66ff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ff66ff"/>
                </a:solidFill>
                <a:latin typeface="Arial"/>
              </a:rPr>
              <a:t>кип. 180-3000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9440" y="4941720"/>
            <a:ext cx="43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Дизельное топливо(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кип.200-3300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48360" y="4076640"/>
            <a:ext cx="435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b2b2"/>
                </a:solidFill>
                <a:latin typeface="Arial"/>
              </a:rPr>
              <a:t>Мазут-остаток после перегонки нефти</a:t>
            </a:r>
            <a:r>
              <a:rPr b="1" i="1" lang="en-US" sz="1800" spc="-1" strike="noStrike">
                <a:solidFill>
                  <a:srgbClr val="b2b2b2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b2b2b2"/>
                </a:solidFill>
                <a:latin typeface="Arial"/>
              </a:rPr>
              <a:t>который разделяют на следующие фракции</a:t>
            </a:r>
            <a:r>
              <a:rPr b="1" i="1" lang="en-US" sz="1800" spc="-1" strike="noStrike">
                <a:solidFill>
                  <a:srgbClr val="b2b2b2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b2b2"/>
                </a:solidFill>
                <a:latin typeface="Arial"/>
              </a:rPr>
              <a:t>Соляровые ма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b2b2"/>
                </a:solidFill>
                <a:latin typeface="Arial"/>
              </a:rPr>
              <a:t>Смазочные ма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b2b2"/>
                </a:solidFill>
                <a:latin typeface="Arial"/>
              </a:rPr>
              <a:t>Вазе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b2b2"/>
                </a:solidFill>
                <a:latin typeface="Arial"/>
              </a:rPr>
              <a:t>Параф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b2b2"/>
                </a:solidFill>
                <a:latin typeface="Arial"/>
              </a:rPr>
              <a:t>Гудрон-остаток после отгонки мазу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5373720"/>
            <a:ext cx="19429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1066 C 0.01041 0.02155 0.02101 0.05353 0.05399 0.05956 C 0.08698 0.06582 0.17778 0.09478 0.19826 0.02549 C 0.21875 -0.0438 0.13229 -0.2876 0.17708 -0.35643 C 0.22187 -0.42526 0.41614 -0.38239 0.46719 -0.38865 C 0.51823 -0.39467 0.50087 -0.39374 0.48351 -0.39282 E">
                                      <p:cBhvr>
                                        <p:cTn id="21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4.49594E-006 C 0.09722 0.00255 0.19444 0.0051 0.23784 -0.0241 C 0.28124 -0.0533 0.25798 -0.10892 0.26076 -0.17497 C 0.26354 -0.24102 0.2526 -0.37126 0.25416 -0.42016 C 0.25572 -0.46906 0.23298 -0.46118 0.27048 -0.46814 C 0.30798 -0.47509 0.3934 -0.46837 0.47881 -0.46165 E">
                                      <p:cBhvr>
                                        <p:cTn id="21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3.25608E-006 C 0.02326 -0.01877 0.04652 -0.03754 0.07378 -0.04774 C 0.10104 -0.0577 0.13993 -0.0292 0.16371 -0.06048 C 0.1875 -0.09177 0.20694 -0.16894 0.21614 -0.23545 C 0.22534 -0.30197 0.18576 -0.41552 0.21944 -0.46002 C 0.25312 -0.50452 0.33524 -0.50405 0.41771 -0.50336 E">
                                      <p:cBhvr>
                                        <p:cTn id="220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7362E-019 -3.99768E-006 C 0.00017 -0.038 0.00034 -0.07578 0.03941 -0.09849 C 0.07847 -0.1212 0.20677 -0.06674 0.23437 -0.13557 C 0.26198 -0.2044 0.18003 -0.44449 0.20486 -0.51193 C 0.22968 -0.57937 0.30659 -0.5599 0.38368 -0.54044 E">
                                      <p:cBhvr>
                                        <p:cTn id="22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93 C 0.04358 -0.03638 0.08715 -0.07161 0.13472 -0.09502 C 0.18229 -0.11842 0.26441 -0.07485 0.28542 -0.14113 C 0.30642 -0.20741 0.24201 -0.42966 0.26094 -0.49339 C 0.27986 -0.55713 0.33923 -0.54067 0.39861 -0.52398 E">
                                      <p:cBhvr>
                                        <p:cTn id="224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25608E-006 C 0.06962 -0.0234 0.13941 -0.04658 0.19271 -0.05886 C 0.24653 -0.07091 0.30746 -0.00301 0.321 -0.07253 C 0.33472 -0.14183 0.23437 -0.40533 0.27396 -0.47601 C 0.31371 -0.54646 0.5118 -0.49177 0.55937 -0.49617 E">
                                      <p:cBhvr>
                                        <p:cTn id="22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9594E-006 C 0.00191 -0.03175 0.00382 -0.0635 0.03281 -0.0788 C 0.0618 -0.09409 0.15312 -0.0394 0.17378 -0.09201 C 0.19444 -0.14462 0.14201 -0.34114 0.15729 -0.39398 C 0.17257 -0.44682 0.2191 -0.42805 0.26562 -0.40927 E">
                                      <p:cBhvr>
                                        <p:cTn id="26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4971E-006 C 0.08976 0.00509 0.17969 0.01042 0.20816 -0.04149 C 0.23663 -0.0934 0.12378 -0.26119 0.17048 -0.31078 C 0.21719 -0.36038 0.35278 -0.34972 0.48837 -0.33906 E">
                                      <p:cBhvr>
                                        <p:cTn id="27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209 C 0.08767 0.03383 0.17569 0.06999 0.20347 0.02711 C 0.23125 -0.01553 0.14583 -0.20255 0.16701 -0.25887 C 0.18819 -0.31518 0.25955 -0.3131 0.3309 -0.31078 E">
                                      <p:cBhvr>
                                        <p:cTn id="27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25145E-006 C 0.11354 0.0343 0.22725 0.06883 0.26389 0.0241 C 0.30052 -0.02063 0.17916 -0.21321 0.21961 -0.26906 C 0.26007 -0.32491 0.38333 -0.31796 0.50659 -0.31078 E">
                                      <p:cBhvr>
                                        <p:cTn id="27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93975E-006 C 0.11962 0.01807 0.23941 0.03638 0.27986 -0.01785 C 0.32031 -0.07161 0.21146 -0.26744 0.24219 -0.32237 C 0.27309 -0.37706 0.36892 -0.36223 0.46476 -0.34717 E">
                                      <p:cBhvr>
                                        <p:cTn id="27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49479E-006 C 0.04948 -0.04055 0.09896 -0.08088 0.14913 -0.10938 C 0.19931 -0.13789 0.28386 -0.11935 0.30157 -0.1708 C 0.31927 -0.22225 0.22292 -0.37242 0.25573 -0.41808 C 0.28854 -0.46373 0.39341 -0.454 0.49827 -0.44426 E">
                                      <p:cBhvr>
                                        <p:cTn id="27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1599E-007 C 0.08854 0.04542 0.17708 0.09108 0.2099 0.06558 C 0.24271 0.04009 0.14705 -0.11379 0.1967 -0.15319 C 0.24635 -0.19258 0.37726 -0.18169 0.50816 -0.1708 E">
                                      <p:cBhvr>
                                        <p:cTn id="320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88181E-006 C 0.11788 0.03986 0.23576 0.07996 0.2809 0.04913 C 0.32604 0.01854 0.22708 -0.14183 0.27083 -0.18354 C 0.31441 -0.22526 0.42882 -0.2139 0.5434 -0.20231 E">
                                      <p:cBhvr>
                                        <p:cTn id="32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095 C 0.0993 0.05353 0.19878 0.1168 0.23611 0.09224 C 0.27343 0.06767 0.19166 -0.11217 0.22326 -0.15597 C 0.25486 -0.19977 0.3401 -0.18517 0.42534 -0.17034 E">
                                      <p:cBhvr>
                                        <p:cTn id="32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-9.96524E-007 C 0.0184 -0.03847 0.0368 -0.07671 0.04913 -0.09849 C 0.06145 -0.12028 0.04999 -0.12445 0.07378 -0.1314 C 0.09756 -0.13835 0.16892 -0.10521 0.19183 -0.14021 C 0.21475 -0.1752 0.18472 -0.30452 0.21145 -0.34137 C 0.23819 -0.37822 0.29531 -0.36964 0.35242 -0.36107 E">
                                      <p:cBhvr>
                                        <p:cTn id="32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99305E-006 C 0.05521 -0.05354 0.11059 -0.10707 0.15729 -0.13117 C 0.20399 -0.15528 0.26458 -0.10869 0.28021 -0.14438 C 0.29583 -0.18007 0.23402 -0.31078 0.25069 -0.34577 C 0.26736 -0.38077 0.32378 -0.36779 0.38021 -0.35458 E">
                                      <p:cBhvr>
                                        <p:cTn id="328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024 C 0.08715 0.02479 0.17431 0.05005 0.20851 0.01297 C 0.24253 -0.02387 0.16892 -0.18077 0.20503 -0.22179 C 0.24115 -0.26258 0.33316 -0.24774 0.42535 -0.23268 E">
                                      <p:cBhvr>
                                        <p:cTn id="33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4.02086E-006 C 0.11494 0.0241 0.23004 0.04821 0.27379 0.0197 C 0.31754 -0.0088 0.22744 -0.13627 0.26233 -0.1708 C 0.29723 -0.20533 0.44688 -0.1854 0.48352 -0.18818 E">
                                      <p:cBhvr>
                                        <p:cTn id="33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971E-006 C 0.07795 -0.01367 0.15608 -0.02734 0.18524 -0.05469 C 0.21441 -0.08203 0.12639 -0.14322 0.17535 -0.16407 C 0.22431 -0.18493 0.35139 -0.18238 0.47865 -0.1796 E">
                                      <p:cBhvr>
                                        <p:cTn id="37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91 -0.03824 C 0.02691 -0.05261 0.02691 -0.06697 0.05642 -0.07764 C 0.08594 -0.0883 0.18264 -0.08134 0.20399 -0.10174 C 0.22535 -0.12213 0.14514 -0.18123 0.1842 -0.20023 C 0.22326 -0.21923 0.33073 -0.21738 0.43837 -0.21553 E">
                                      <p:cBhvr>
                                        <p:cTn id="376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9.00348E-006 C 0.12048 -0.00279 0.24097 -0.00532 0.2901 -0.02618 C 0.33923 -0.04704 0.26058 -0.10359 0.29496 -0.12468 C 0.32933 -0.14576 0.46301 -0.14831 0.49652 -0.15318 E">
                                      <p:cBhvr>
                                        <p:cTn id="37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51912E-006 C 0.09844 -0.02433 0.19705 -0.04844 0.24114 -0.08088 C 0.28524 -0.11333 0.23489 -0.17428 0.26406 -0.19467 C 0.29323 -0.21506 0.35486 -0.20927 0.41649 -0.20348 E">
                                      <p:cBhvr>
                                        <p:cTn id="380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6.76709E-006 C 0.09723 0.02224 0.19445 0.04449 0.23108 0.02618 C 0.26771 0.00787 0.20539 -0.08645 0.21962 -0.10939 C 0.23386 -0.13234 0.27501 -0.12214 0.31633 -0.11171 E">
                                      <p:cBhvr>
                                        <p:cTn id="38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1111E-006 -4.22943E-006 C 0.10781 0.0095 0.21562 0.01924 0.25572 -4.22943E-006 C 0.29583 -0.01923 0.22274 -0.09455 0.24097 -0.1161 C 0.2592 -0.13766 0.31232 -0.13349 0.36562 -0.12908 E">
                                      <p:cBhvr>
                                        <p:cTn id="384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8436E-006 C 0.24653 -0.00556 0.49323 -0.01112 0.59184 -0.01321 E">
                                      <p:cBhvr>
                                        <p:cTn id="42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1.50637E-006 C 0.15434 -0.01807 0.30868 -0.03615 0.3934 -0.0438 C 0.47812 -0.05145 0.49305 -0.04866 0.50815 -0.04588 E">
                                      <p:cBhvr>
                                        <p:cTn id="428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41599E-007 C 0.10416 -0.02989 0.20833 -0.05979 0.28697 -0.07439 C 0.36562 -0.08899 0.41892 -0.08829 0.47221 -0.0876 E">
                                      <p:cBhvr>
                                        <p:cTn id="43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08575E-006 C 0.01354 -0.04728 0.02726 -0.09432 0.08854 -0.12051 C 0.14983 -0.1467 0.25851 -0.15226 0.36736 -0.15759 E">
                                      <p:cBhvr>
                                        <p:cTn id="43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3.74276E-006 C 0.00208 -0.03244 0.00433 -0.06488 0.06058 -0.08528 C 0.11683 -0.10567 0.22725 -0.11425 0.33767 -0.12259 E">
                                      <p:cBhvr>
                                        <p:cTn id="434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98262E-007 C 0.07881 -0.02016 0.15763 -0.04009 0.22465 -0.05237 C 0.29166 -0.06465 0.3467 -0.06952 0.40173 -0.07439 E">
                                      <p:cBhvr>
                                        <p:cTn id="436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79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80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83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84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87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88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91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95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6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спользование составных фракций нефти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99"/>
                </a:solidFill>
                <a:latin typeface="Arial"/>
              </a:rPr>
              <a:t>Газовая фра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Газолиновая фракция. Из неё получают газолин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автомобильный и авиационный бензин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99"/>
                </a:solidFill>
                <a:latin typeface="Arial"/>
              </a:rPr>
              <a:t>Лигроиновая фракция</a:t>
            </a: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010199"/>
                </a:solidFill>
                <a:latin typeface="Arial"/>
              </a:rPr>
              <a:t> Лигроин используется как горючее для тракторов</a:t>
            </a: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ff"/>
                </a:solidFill>
                <a:latin typeface="Arial"/>
              </a:rPr>
              <a:t>Керосиновая фракция</a:t>
            </a:r>
            <a:r>
              <a:rPr b="1" i="1" lang="en-US" sz="2000" spc="-1" strike="noStrike">
                <a:solidFill>
                  <a:srgbClr val="ff66ff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ff66ff"/>
                </a:solidFill>
                <a:latin typeface="Arial"/>
              </a:rPr>
              <a:t> Керосин после очистки используется как горючее для тракторов</a:t>
            </a:r>
            <a:r>
              <a:rPr b="1" i="1" lang="en-US" sz="2000" spc="-1" strike="noStrike">
                <a:solidFill>
                  <a:srgbClr val="ff66ff"/>
                </a:solidFill>
                <a:latin typeface="Arial"/>
              </a:rPr>
              <a:t>,</a:t>
            </a:r>
            <a:r>
              <a:rPr b="1" i="1" lang="ru-RU" sz="2000" spc="-1" strike="noStrike">
                <a:solidFill>
                  <a:srgbClr val="ff66ff"/>
                </a:solidFill>
                <a:latin typeface="Arial"/>
              </a:rPr>
              <a:t>реактивных самолётов и ракет</a:t>
            </a:r>
            <a:r>
              <a:rPr b="1" i="1" lang="en-US" sz="2000" spc="-1" strike="noStrike">
                <a:solidFill>
                  <a:srgbClr val="ff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Дизельное топливо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4076640"/>
            <a:ext cx="45720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dddd"/>
                </a:solidFill>
                <a:latin typeface="Arial"/>
              </a:rPr>
              <a:t>Мазут-остаток после перегонки нефти</a:t>
            </a:r>
            <a:r>
              <a:rPr b="1" i="1" lang="en-US" sz="2000" spc="-1" strike="noStrike">
                <a:solidFill>
                  <a:srgbClr val="dddddd"/>
                </a:solidFill>
                <a:latin typeface="Arial"/>
              </a:rPr>
              <a:t>,</a:t>
            </a:r>
            <a:r>
              <a:rPr b="1" i="1" lang="ru-RU" sz="2000" spc="-1" strike="noStrike">
                <a:solidFill>
                  <a:srgbClr val="dddddd"/>
                </a:solidFill>
                <a:latin typeface="Arial"/>
              </a:rPr>
              <a:t>который разделяет на следующие фракции</a:t>
            </a:r>
            <a:r>
              <a:rPr b="1" i="1" lang="en-US" sz="2000" spc="-1" strike="noStrike">
                <a:solidFill>
                  <a:srgbClr val="ddddd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dddd"/>
                </a:solidFill>
                <a:latin typeface="Arial"/>
              </a:rPr>
              <a:t>Соляровые мас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dddd"/>
                </a:solidFill>
                <a:latin typeface="Arial"/>
              </a:rPr>
              <a:t>Смазочные мас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dddd"/>
                </a:solidFill>
                <a:latin typeface="Arial"/>
              </a:rPr>
              <a:t>Вазел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dddd"/>
                </a:solidFill>
                <a:latin typeface="Arial"/>
              </a:rPr>
              <a:t>Параф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dddd"/>
                </a:solidFill>
                <a:latin typeface="Arial"/>
              </a:rPr>
              <a:t>Гудрон-остаток после отгонки мазу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рекинг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рекинг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цесс расщепления углеводородов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содержащихся в нефти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в результате которого образуются углеводороды с меньшим числом атомов углерода в молекул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8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уществуют два вида крекинга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мически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щепление молекул углеводорода протекает при сравнительно низких температурах (470-550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)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Процесс протекает медленно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образуются углеводороды с неразветвлённой цепью атомов углерода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алитически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цесс протекает в присутствии катализаторов при более низкой температуре(450-500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)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Протекает быстрее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образуется много соединений с разветвлённой углеродной цепью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Бензин каталитического крекинга более высокого качества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рекинг углеводорода на примере гексана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3-C-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=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2781360"/>
            <a:ext cx="71640" cy="71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37000"/>
            <a:ext cx="71640" cy="71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8000" y="3284640"/>
            <a:ext cx="71640" cy="71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3284640"/>
            <a:ext cx="71640" cy="71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48000" y="3284640"/>
            <a:ext cx="71640" cy="71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3284640"/>
            <a:ext cx="503280" cy="144360"/>
          </a:xfrm>
          <a:custGeom>
            <a:avLst/>
            <a:gdLst/>
            <a:ahLst/>
            <a:rect l="l" t="t" r="r" b="b"/>
            <a:pathLst>
              <a:path w="181" h="45">
                <a:moveTo>
                  <a:pt x="0" y="45"/>
                </a:moveTo>
                <a:cubicBezTo>
                  <a:pt x="15" y="22"/>
                  <a:pt x="30" y="0"/>
                  <a:pt x="45" y="0"/>
                </a:cubicBezTo>
                <a:cubicBezTo>
                  <a:pt x="60" y="0"/>
                  <a:pt x="76" y="45"/>
                  <a:pt x="91" y="45"/>
                </a:cubicBezTo>
                <a:cubicBezTo>
                  <a:pt x="106" y="45"/>
                  <a:pt x="121" y="0"/>
                  <a:pt x="136" y="0"/>
                </a:cubicBezTo>
                <a:cubicBezTo>
                  <a:pt x="151" y="0"/>
                  <a:pt x="174" y="38"/>
                  <a:pt x="181" y="4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3281400"/>
            <a:ext cx="1233720" cy="434880"/>
          </a:xfrm>
          <a:custGeom>
            <a:avLst/>
            <a:gdLst/>
            <a:ahLst/>
            <a:rect l="l" t="t" r="r" b="b"/>
            <a:pathLst>
              <a:path w="777" h="274">
                <a:moveTo>
                  <a:pt x="0" y="274"/>
                </a:moveTo>
                <a:lnTo>
                  <a:pt x="185" y="269"/>
                </a:lnTo>
                <a:lnTo>
                  <a:pt x="469" y="221"/>
                </a:lnTo>
                <a:lnTo>
                  <a:pt x="666" y="119"/>
                </a:lnTo>
                <a:lnTo>
                  <a:pt x="777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3068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92360" y="3357720"/>
            <a:ext cx="431640" cy="581400"/>
            <a:chOff x="1692360" y="3357720"/>
            <a:chExt cx="431640" cy="581400"/>
          </a:xfrm>
        </p:grpSpPr>
        <p:sp>
          <p:nvSpPr>
            <p:cNvPr id="213" name=""/>
            <p:cNvSpPr/>
            <p:nvPr/>
          </p:nvSpPr>
          <p:spPr>
            <a:xfrm>
              <a:off x="1908000" y="3500280"/>
              <a:ext cx="71640" cy="716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63640" y="3429000"/>
              <a:ext cx="360360" cy="395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2360" y="3357720"/>
              <a:ext cx="28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979640" y="3284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C 0.02813 0.00046 0.05625 0.00139 0.07865 -0.00093 C 0.10105 -0.00324 0.12205 -0.01042 0.13525 -0.01343 C 0.14827 -0.01644 0.15278 -0.01806 0.15764 -0.01945 E">
                                      <p:cBhvr>
                                        <p:cTn id="86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22222E-006 L 0.05122 -0.00509 E">
                                      <p:cBhvr>
                                        <p:cTn id="879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5T10:40:21Z</dcterms:created>
  <dc:creator>10</dc:creator>
  <dc:description/>
  <dc:language>en-US</dc:language>
  <cp:lastModifiedBy>Admin</cp:lastModifiedBy>
  <dcterms:modified xsi:type="dcterms:W3CDTF">2010-12-20T13:40:10Z</dcterms:modified>
  <cp:revision>15</cp:revision>
  <dc:subject/>
  <dc:title>Переработка нефти.</dc:title>
</cp:coreProperties>
</file>