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C764-2B11-49A0-A769-A9703BA4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2556-1278-4771-9973-DB8DA893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48B7-D4F6-417E-8A43-EFD0C1C4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836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5080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3324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5420-1A84-4798-95B9-06AD2BFD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BC4E-028F-436B-8C10-9743F674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893A-2A23-44FD-A69F-85489AF9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2D10-F631-4530-8BFE-372F249D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1091-D276-4826-8C66-6AA2FD3F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905C-15F1-4B9A-A596-010D9EBA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8108-A705-4B85-974C-F5A08A6A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8757-5A6B-4512-905B-2AF33AE8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C7A4-2DFB-4FEB-9799-ADDED911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FFCB-C3C5-403A-B5AA-A439B4F6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6990-9906-4736-B229-17F4A00A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062D-DEFD-4067-97B6-F2D9FEC2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6DB4-ECF7-4EC4-B0B9-704FBCA6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36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5080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33240" y="39952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37CA-78C6-4023-BA55-7632CA76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7A92-E5DA-40C3-A2E7-F7777AEA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2E5B-8E13-46D7-B4FF-26FE2089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0D9E-BB51-46B8-BC4E-AA31C144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CE13-07E5-45F9-BF93-2C3E2C6E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3584-AA84-4FF8-A113-2680D354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5400" y="39952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198-787F-483A-9550-054BDB6D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8360" y="39952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9E1E-BCB8-4301-8B81-52BA8318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3200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8764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AD39-871D-4A15-9324-8FAD7ED8992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724F-8D37-42A9-8012-2014F5BE147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Александр Невский- герой наци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350040" cy="4190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1197000"/>
            <a:ext cx="854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Наступление крестоносцев на Русь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669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Для Александра это была религиозная война с целью защиты своей веры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7280" y="2060280"/>
            <a:ext cx="2454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16000" y="20602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Согласно преданию, шведский король самоуверенно заявил Александру через своего посланника: «Выходи против меня, если можешь сопротивляться! Я уже здесь и пленю твою землю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241920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Ледовое побоище. 5 апреля 1242г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292720" y="1699920"/>
            <a:ext cx="3672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ражение произошло на льду озера. « И была сеча жестокая, и стоял треск от ломающихся копий и звон от ударов мечей» Всё замёрзшее озеро покрылось кровью. Весенний лёд проломился, и тяжёлые рыцари пошли на дно. Многие пытались бежать, но русские преследовали их. Новгородцы копьями с крюками стаскивали немцев с сёдел, а упав с коня рыцари не могли самостоятельно поднятьс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7102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обеда на Чудском озере – имела огромное значение для дальнейшей истории Руси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1773000"/>
            <a:ext cx="58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372360" y="1628640"/>
            <a:ext cx="23032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Немцы отказались от всех претензий на русские земли. Героическая борьба русского народа, полководческий талант Александра Невского отстояли независимость родной земли. Натиск крестоносцев на восток был остановлен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58309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Александр Невский в Золотой Орде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1628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8360" y="3970080"/>
            <a:ext cx="4038480" cy="21891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64000" y="1699920"/>
            <a:ext cx="356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Александр отправился летом 1246 г. в золотую Орду. Существует легенда о свидании Александра с ханом. Будто, поговорив с князем, хан сказал своим вельможам: « Воистину мне известно, что нет подобного ему князя» В 1249г. Александр благополучно вернулся на Родину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4465440" cy="5373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0" y="1484280"/>
            <a:ext cx="53625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«Чада мои милые! Разумейте, как зашло солнце земли Русской!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Александр Невский ещё не раз ездил в Золотую Орду. После очередной поездки в Орду, где он пробыл почти год, на обратном пути 42-летний князь Александр разболелся и умер( 14 ноября 1263г. В Городце Волжском) Тело его перевезли 23 ноября во Владимир, где его встречал митрополит Кирилл с князьями, боярами, при скоплении народа. Здесь, в церкви Рождества Богородицы Александр был погребё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« Александр Невский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Автор: учитель истории Гордеева С.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8:57:13Z</dcterms:created>
  <dc:creator>Каролина</dc:creator>
  <dc:description/>
  <dc:language>en-US</dc:language>
  <cp:lastModifiedBy>Света</cp:lastModifiedBy>
  <dcterms:modified xsi:type="dcterms:W3CDTF">2011-12-05T13:06:31Z</dcterms:modified>
  <cp:revision>3</cp:revision>
  <dc:subject/>
  <dc:title>Слайд 1</dc:title>
</cp:coreProperties>
</file>