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54F-7D26-41E7-A536-80685FFC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613-F72A-492A-84BB-AC3DC40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3DF-9A0E-4A98-A613-30EA949A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CC1-94AC-4A16-9B21-8EBDA386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E02F-874A-467E-890C-A7AB8103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EEE4-155F-410D-9655-5F5F9019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EBDE-AFF6-4022-A660-55628E5B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567C-35FA-406F-BCBB-7EDEE9BF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91F9-FD1F-4E52-8AED-500E90CD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6A3A-117E-4198-966B-9F107F39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534F-E3C8-4F14-BE58-D060BD74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D71-A5D8-4102-8AE3-B2A2A31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10F4-99E5-48D2-844E-13F6CB02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53EB-2BF8-4F50-BC63-A893496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7294-1ADF-4F84-B352-F49FDD6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3BC8-5FA1-4E32-975E-B2C3EFC2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F900-0316-4D74-BB0E-9FCE7BF0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D3D-59BF-4CC4-A276-0B7D73D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183-0D6E-4D85-B1D4-28E3E2EA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563-EFE7-4C79-9057-D50B735B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C2E-BF2F-4FF6-8612-DCE05588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96A-D24E-404F-ABD9-E4F9AF4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52B-1126-4B32-8D7E-6BED20FD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0C7-FA46-402D-AF1C-D815414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2AC0-C292-4D5C-8C20-DC90A5FDB5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C0D6-3BCD-44E6-955A-6186AE75C0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лександр Невский- герой на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350040" cy="4190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197000"/>
            <a:ext cx="854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Наступление крестоносцев на Русь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669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ля Александра это была религиозная война с целью защиты своей веры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7280" y="2060280"/>
            <a:ext cx="245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16000" y="2060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гласно преданию, шведский король самоуверенно заявил Александру через своего посланника: «Выходи против меня, если можешь сопротивляться! Я уже здесь и пленю твою землю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24192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Ледовое побоище. 5 апреля 1242г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92720" y="1699920"/>
            <a:ext cx="36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ражение произошло на льду озера. « И была сеча жестокая, и стоял треск от ломающихся копий и звон от ударов мечей» Всё замёрзшее озеро покрылось кровью. Весенний лёд проломился, и тяжёлые рыцари пошли на дно. Многие пытались бежать, но русские преследовали их. Новгородцы копьями с крюками стаскивали немцев с сёдел, а упав с коня рыцари не могли самостоятельно подня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710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беда на Чудском озере – имела огромное значение для дальнейшей истории Рус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773000"/>
            <a:ext cx="58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72360" y="1628640"/>
            <a:ext cx="2303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Немцы отказались от всех претензий на русские земли. Героическая борьба русского народа, полководческий талант Александра Невского отстояли независимость родной земли. Натиск крестоносцев на восток был остановлен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5830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лександр Невский в Золотой Орд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628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360" y="397008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64000" y="1699920"/>
            <a:ext cx="35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Александр отправился летом 1246 г. в золотую Орду. Существует легенда о свидании Александра с ханом. Будто, поговорив с князем, хан сказал своим вельможам: « Воистину мне известно, что нет подобного ему князя» В 1249г. Александр благополучно вернулся на Родин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46544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1484280"/>
            <a:ext cx="53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Чада мои милые! Разумейте, как зашло солнце земли Русской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лександр Невский ещё не раз ездил в Золотую Орду. После очередной поездки в Орду, где он пробыл почти год, на обратном пути 42-летний князь Александр разболелся и умер( 14 ноября 1263г. В Городце Волжском) Тело его перевезли 23 ноября во Владимир, где его встречал митрополит Кирилл с князьями, боярами, при скоплении народа. Здесь, в церкви Рождества Богородицы Александр был погребё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 Александр Невск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Автор: учитель истории Гордеева С.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57:13Z</dcterms:created>
  <dc:creator>Каролина</dc:creator>
  <dc:description/>
  <dc:language>en-US</dc:language>
  <cp:lastModifiedBy>Света</cp:lastModifiedBy>
  <dcterms:modified xsi:type="dcterms:W3CDTF">2011-12-05T13:06:31Z</dcterms:modified>
  <cp:revision>3</cp:revision>
  <dc:subject/>
  <dc:title>Слайд 1</dc:title>
</cp:coreProperties>
</file>