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130-122E-4C4B-BDF8-A95BFF24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383-22E8-465B-8116-E31D5FC4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439-861D-44CE-B404-912665CD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7FB-C8DE-49B4-BD18-464BF506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5ADA-BC1D-44F7-AC1B-337559F7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F4CD-FD9B-4BAE-9038-6BDFB65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585-E673-4CD0-BD73-3934AB39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25F6-7D1F-4112-BCAA-2E63D314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D01E-71AE-4118-A3ED-98F81ABD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85E3-A1FD-40A1-909B-2C90C82F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582-CE9A-4B0B-A417-513E642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2B3-EAAD-4E37-B3E3-3C5B5CEA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E34E-C21E-43C3-B7D6-663E605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8FB6-04EB-41EA-98DB-D4948062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BB3-548D-4477-BF70-AE2997C7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001-88F3-45B8-A81C-A68C6154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987C-A0F5-473D-8B86-73D01980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45B-1776-4AF8-8278-9EA5E8ED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DCA-1D91-4DA4-90FB-01DB620A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3A8-92DE-4B89-9F14-247C5275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304-F779-4507-912A-1E80F19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3A9-0485-4353-8766-298254D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0AE-9398-4C64-931A-E0ACFE8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65A-370C-4E7F-BDF4-E623A61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AF9-088D-4800-B4B7-0F2686BCDC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75D5-4C11-4DB8-A402-0ADFB795E2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68360" y="1052640"/>
            <a:ext cx="482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Flag.jpg"/>
          <p:cNvPicPr/>
          <p:nvPr/>
        </p:nvPicPr>
        <p:blipFill>
          <a:blip r:embed="rId1"/>
          <a:stretch/>
        </p:blipFill>
        <p:spPr>
          <a:xfrm>
            <a:off x="468360" y="3284640"/>
            <a:ext cx="8280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tra tasks for team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ke up the sentences with these words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Queen, in, the, Buckingham ,lives, Pa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yde Park , in , the, London , largest, is, p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ue or Fals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The heart of London is the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London is the capital of Scot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The National Gallery of London is well – known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Many people live in the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the correct answ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London is the capital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cot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Great 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St. Paul ‘s Cathedral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 for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a mus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3" descr="StPaul Cafedral.jpg"/>
          <p:cNvPicPr/>
          <p:nvPr/>
        </p:nvPicPr>
        <p:blipFill>
          <a:blip r:embed="rId1"/>
          <a:stretch/>
        </p:blipFill>
        <p:spPr>
          <a:xfrm>
            <a:off x="450072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the correct answ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The coronation of Kings and Queens takes place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estminster Abb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Bloody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falgar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The country`s leaders speak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ig 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uckingham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Houses of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4" descr="Fonar.jpg"/>
          <p:cNvPicPr/>
          <p:nvPr/>
        </p:nvPicPr>
        <p:blipFill>
          <a:blip r:embed="rId1"/>
          <a:stretch/>
        </p:blipFill>
        <p:spPr>
          <a:xfrm>
            <a:off x="4427640" y="1700280"/>
            <a:ext cx="46767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e the corr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e queen lives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Buckingham 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Tower of 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estminster  A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London is situated  o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Vol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S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932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the correct answ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The Tower of  Lond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p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Z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The Heart of  London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estmi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West 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the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1793880"/>
            <a:ext cx="46800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e the corr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St.  Paul’s  Cathedral was built  in the 17th century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dmiral N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illiam the Conque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ir Christopher W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Big Ben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859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te the word combi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7800" y="1769040"/>
            <a:ext cx="2891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…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Squ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Gall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of Londo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Cathedr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Bridg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Abbey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Palac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he Ri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he Houses of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 task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the brackets using Present Simple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Continiou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I ( to do) my homework after school. Then I  go for a wal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I ( to do) my homework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Look! He (to play) football in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Nick (to play) tennis ever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 are you doing? I (to read ) an interesting boo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Be quiet! The baby (to slee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sks for captain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as many words  associating with London as you can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 these words to make up the sentenc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we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nument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l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0:07:52Z</dcterms:created>
  <dc:creator>Семилейский И.В.</dc:creator>
  <dc:description/>
  <dc:language>en-US</dc:language>
  <cp:lastModifiedBy>Венера</cp:lastModifiedBy>
  <dcterms:modified xsi:type="dcterms:W3CDTF">2011-09-13T16:22:00Z</dcterms:modified>
  <cp:revision>56</cp:revision>
  <dc:subject/>
  <dc:title>Слайд 1</dc:title>
</cp:coreProperties>
</file>