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ADD-D437-45B1-9724-6D3BBCF3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DD7-AA3C-481E-9A32-2D5E03DC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56A-1079-476D-913F-144440F7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126-158F-408E-A929-3A6546DF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53F4-C4E2-47AB-8E59-BEF817CB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2931-8514-4D66-804B-E3CF669D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00B0-CDF2-47A3-8D4D-0D7B7CBA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4573-3A19-45C8-867F-1900682F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3DB4-30F8-415C-94C6-8DDE81C7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D5A8-C04C-4B32-AE5E-B2CE2EEB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C0C1-8883-44CA-A8A1-4A632811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7C1-1648-4FAB-A85F-A26B016E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69A6-220F-4BCA-962E-FF66EF67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734B-6038-44B9-879E-F9006BCF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1884-4EB9-48FC-A1AB-C542A7B4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C2A5-52F7-45CC-A037-59977A89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39F0-E7BE-40E7-8C03-983ED19A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8BE0-FBE7-4F6D-827B-205E996F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D79-B235-4D87-848A-83D2D830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791-068F-4DDE-B234-30D4FE78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308-F46D-435E-8D94-577C340C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5BC-0632-4339-B3AA-62FAD1C9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12B-71D3-4983-B792-423A4646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0BC-7686-4261-94B2-C45027B5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2032-65DE-48BB-B641-465F1AB9EE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FE1A-70CF-46BF-998A-60A277853F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68360" y="1052640"/>
            <a:ext cx="482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Flag.jpg"/>
          <p:cNvPicPr/>
          <p:nvPr/>
        </p:nvPicPr>
        <p:blipFill>
          <a:blip r:embed="rId1"/>
          <a:stretch/>
        </p:blipFill>
        <p:spPr>
          <a:xfrm>
            <a:off x="468360" y="3284640"/>
            <a:ext cx="8280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tra tasks for team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ke up the sentences with these words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Queen, in, the, Buckingham ,lives, Pa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Hyde Park , in , the, London , largest, is, pa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ue or Fals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The heart of London is the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London is the capital of Scot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The National Gallery of London is well – known all over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Many people live in the C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the correct answer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London is the capital 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Scot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Great 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St. Paul ‘s Cathedral 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a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 for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a muse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3" descr="StPaul Cafedral.jpg"/>
          <p:cNvPicPr/>
          <p:nvPr/>
        </p:nvPicPr>
        <p:blipFill>
          <a:blip r:embed="rId1"/>
          <a:stretch/>
        </p:blipFill>
        <p:spPr>
          <a:xfrm>
            <a:off x="4500720" y="1773360"/>
            <a:ext cx="4643280" cy="50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the correct answer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The coronation of Kings and Queens takes place i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estminster Abb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Bloody T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rafalgar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The country`s leaders speak i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ig 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Buckingham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Houses of Parli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Рисунок 4" descr="Fonar.jpg"/>
          <p:cNvPicPr/>
          <p:nvPr/>
        </p:nvPicPr>
        <p:blipFill>
          <a:blip r:embed="rId1"/>
          <a:stretch/>
        </p:blipFill>
        <p:spPr>
          <a:xfrm>
            <a:off x="4427640" y="1700280"/>
            <a:ext cx="46767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oose the correc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The queen lives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Buckingham 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Tower of  Lon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Westminster  Ab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London is situated  o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Vol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S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4932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the correct answer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The Tower of  Lond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w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p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 mus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Z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The Heart of  London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estmin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West 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the 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1793880"/>
            <a:ext cx="46800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oose the correc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swer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St.  Paul’s  Cathedral was built  in the 17th century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dmiral Ne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William the Conque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ir Christopher W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Big Ben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 t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48592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ete the word combi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7800" y="1769040"/>
            <a:ext cx="289188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…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ar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 Squa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 Galle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 of Londo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 Cathedra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 Bridge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 Abbey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 Palace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The Riv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The Houses of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mmar tasks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n the brackets using Present Simple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nt Continious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I ( to do) my homework after school. Then I  go for a wal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I ( to do) my homework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Look! He (to play) football in the y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Nick (to play) tennis every eve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What are you doing? I (to read ) an interesting book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Be quiet! The baby (to slee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sks for captain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 as many words  associating with London as you can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 these words to make up the sentences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pital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wer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nument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ll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0:07:52Z</dcterms:created>
  <dc:creator>Семилейский И.В.</dc:creator>
  <dc:description/>
  <dc:language>en-US</dc:language>
  <cp:lastModifiedBy>Венера</cp:lastModifiedBy>
  <dcterms:modified xsi:type="dcterms:W3CDTF">2011-09-13T16:22:00Z</dcterms:modified>
  <cp:revision>56</cp:revision>
  <dc:subject/>
  <dc:title>Слайд 1</dc:title>
</cp:coreProperties>
</file>