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74B-D08E-47B2-BFAE-9A9AE134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1AA-93BA-454B-A11A-85BEC9FB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6BC-FF57-4060-9F68-3648EB9F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B97-86DE-4E46-BA8C-EFDD0462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1735-7B8C-4AA5-9846-0227815D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F9CA-0222-43CA-BB80-3EF41605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B017-8303-44E2-9ACF-F7BC4BD8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148F-52D8-45F6-916C-C96F4C45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C1A5-96F8-4827-AB6E-D943CC2B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4F27-5EFC-4DB9-8D5A-BED9FB19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2C17-10E3-4991-836C-92349A0D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888-420E-4198-A247-181D8A1E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9421-E830-45EC-9FA9-12E6C29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3E3B-06E0-4BE4-BE18-BC2A6143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C47-C495-451E-93C9-777302C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F97C-2A45-48C2-853E-DBD6D32C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9BF4-B68B-4BA8-B755-7ABB4B62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424-F521-4B8E-A912-10B3E4AB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F24-258A-481F-99C0-701138F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EA3-CF87-4D18-B162-7F750F99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58B-F2DD-41F8-83A0-997DEA74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0BE-31E5-4D22-AB31-919E803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85D-B3D9-46C6-B606-7C46A37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0E4-703B-4DF5-8D95-B3E99C1E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F94F-4D74-47B3-A9B6-A717331DEE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461A-0F22-4518-922B-A347DE75A4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lower.onego.ru/liana/aristo_p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3516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Пивоваров Никола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6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2 В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6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Животные и растения Красной книги Росс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6019560" cy="58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553080" y="380880"/>
            <a:ext cx="2590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есной листья ярко-пурпуровые, осенью приобретают бронзовую, золотисто-желтую или красную окраску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лкие невзрачные цветки в узких, продолговатых кист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5410440" cy="5334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9920" y="609480"/>
            <a:ext cx="297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лоды синевато-черные с сизым налетом, до 0,6 см в диаметре. Занесён в Красную книгу РФ. Часто выращивается как декоративное растение, используется для вертикального озеленения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Прикреплённо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520" y="57150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457200" y="457200"/>
            <a:ext cx="5715000" cy="5791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324480" y="274680"/>
            <a:ext cx="2819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пард (лат.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Panthera pardu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крупный представитель семейства кошачьих. Животное очень красиво. Шкура зверя представляет из себя золотистый фон, по которому хаотично разбросаны пятна чёрного ц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19920" y="39600"/>
            <a:ext cx="3124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еопарды обладают очень гибкой и грациозной фигурой. Небольшая круглая голова, стройные ноги, длинный хвост – леопард само воплощение изящества. А острейшие когти и клыки делают животное одним из самых опасных хищ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228600" y="533520"/>
            <a:ext cx="5715000" cy="5867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228600" y="685800"/>
            <a:ext cx="5029200" cy="4724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86400" y="457560"/>
            <a:ext cx="3505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России этот хищник встречается довольно редко, в основном в Закавказье, на юге Дальнего востока. Селятся леопарды в тропических и субтропических лесах. Предпочитают держаться в зарослях кустарников и между скал в го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1371600" y="380880"/>
            <a:ext cx="624852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4723200"/>
            <a:ext cx="891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отя леопард и уступает льву и тигру в размере, но в ловкости и скорости гораздо превосходит этих хищников. Леопард прекрасно чувствует себя как на земле, так и сидя на ветке высокого дерева. Реакция у зверя просто отменная, движения молниеносны. Многие считают, что именно леопарды самые совершенные охотники в семействе кошачь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228600" y="60948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38680" y="-6480"/>
            <a:ext cx="3505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амки приносят в помете до трёх детёнышей. В воспитании выводка самец почти не участвует, но держится неподалеку и периодически навещает самку с детёнышами. Первый год-полтора детёныши держатся с мамой. В это время самка очень ревниво и заботливо растит малыш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5880" y="680040"/>
            <a:ext cx="2819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щё недавно за необычной шкурой леопарда велась настоящая охота. Впрочем, ведётся она и сейчас, только уже нелегально. Почти везде охота на леопардов находится под запр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15000" y="762840"/>
            <a:ext cx="312408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вичий виноград триостренный, или виноград плющевидны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Parthenocissus tricuspi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дина Япония,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райний юго-запад Приморь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рейский полуостров, Китай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541008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15000" y="558720"/>
            <a:ext cx="327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иана с сильно ветвистыми усиками, с многочисленными присосками. Листья до 20 см в поперечнике, весьма разнообразны по форме на одном и том же растении: трехлопастные, треугольные, безлопастные, округлые, сердцевид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Прикреплённое изображение"/>
          <p:cNvPicPr/>
          <p:nvPr/>
        </p:nvPicPr>
        <p:blipFill>
          <a:blip r:embed="rId1"/>
          <a:stretch/>
        </p:blipFill>
        <p:spPr>
          <a:xfrm>
            <a:off x="609480" y="533520"/>
            <a:ext cx="4800600" cy="58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4T21:22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