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905-397C-4A0D-B85A-7EA4AE6A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416-396D-4FC9-83D0-669D95BA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4FE-C389-4EEC-9D9F-1E649401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598-7BCA-4A85-BFAB-ED88E570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86B6-C5D3-4C5C-9F60-2C9CC311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ABAC-5D00-405B-8F5C-4146B2C5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BA42-3617-4CBC-8CD9-54F30528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56F2-5935-45E2-A9EE-55E77114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953D-F980-453F-81F3-DA941336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9B41-111C-44CE-A1C7-59BB5A25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5624-7557-4091-A37B-3EBA32D3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D79-7117-4F00-9A0B-E94DAB74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EA90-35DF-443B-B0B0-14663994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D7EC-0899-46BF-987F-5A3C144C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ED8C-1D7B-4F5B-855C-2BA1A539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C859-23B4-485B-A439-7FE181C6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7ADF-3A6C-4084-AC94-C078D6DB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8B4-345C-476B-944F-7D15A89B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54C-9500-42AE-839B-FF66A37C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EC4F-535F-4595-BE41-1240C309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0695-C25B-4831-BE58-56482727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C8F-ECB8-4DD1-BC56-DA21A21B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692-590F-462E-8A8F-BA4CD844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B13-B7C5-42D5-8CC5-3C307D68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0DE4-3C6B-485F-9A4E-EC48FCB27B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F2F0-0DDD-4A82-9906-210982A63DC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lower.onego.ru/liana/aristo_p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33516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6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Пивоваров Никола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6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2 В 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6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Животные и растения Красной книги Росс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6019560" cy="586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553080" y="380880"/>
            <a:ext cx="2590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есной листья ярко-пурпуровые, осенью приобретают бронзовую, золотисто-желтую или красную окраску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елкие невзрачные цветки в узких, продолговатых кистя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5410440" cy="5334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19920" y="609480"/>
            <a:ext cx="297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лоды синевато-черные с сизым налетом, до 0,6 см в диаметре. Занесён в Красную книгу РФ. Часто выращивается как декоративное растение, используется для вертикального озеленения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Прикреплённо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3520" y="571500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Леопард, фото леопардов"/>
          <p:cNvPicPr/>
          <p:nvPr/>
        </p:nvPicPr>
        <p:blipFill>
          <a:blip r:embed="rId1"/>
          <a:stretch/>
        </p:blipFill>
        <p:spPr>
          <a:xfrm>
            <a:off x="457200" y="457200"/>
            <a:ext cx="5715000" cy="5791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324480" y="274680"/>
            <a:ext cx="2819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опард (лат.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Panthera pardus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 крупный представитель семейства кошачьих. Животное очень красиво. Шкура зверя представляет из себя золотистый фон, по которому хаотично разбросаны пятна чёрного цв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19920" y="39600"/>
            <a:ext cx="3124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еопарды обладают очень гибкой и грациозной фигурой. Небольшая круглая голова, стройные ноги, длинный хвост – леопард само воплощение изящества. А острейшие когти и клыки делают животное одним из самых опасных хищ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Леопард, фото леопардов"/>
          <p:cNvPicPr/>
          <p:nvPr/>
        </p:nvPicPr>
        <p:blipFill>
          <a:blip r:embed="rId1"/>
          <a:stretch/>
        </p:blipFill>
        <p:spPr>
          <a:xfrm>
            <a:off x="228600" y="533520"/>
            <a:ext cx="5715000" cy="5867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Леопард, фото леопардов"/>
          <p:cNvPicPr/>
          <p:nvPr/>
        </p:nvPicPr>
        <p:blipFill>
          <a:blip r:embed="rId1"/>
          <a:stretch/>
        </p:blipFill>
        <p:spPr>
          <a:xfrm>
            <a:off x="228600" y="685800"/>
            <a:ext cx="5029200" cy="4724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486400" y="457560"/>
            <a:ext cx="3505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России этот хищник встречается довольно редко, в основном в Закавказье, на юге Дальнего востока. Селятся леопарды в тропических и субтропических лесах. Предпочитают держаться в зарослях кустарников и между скал в гор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Леопард, фото леопардов"/>
          <p:cNvPicPr/>
          <p:nvPr/>
        </p:nvPicPr>
        <p:blipFill>
          <a:blip r:embed="rId1"/>
          <a:stretch/>
        </p:blipFill>
        <p:spPr>
          <a:xfrm>
            <a:off x="1371600" y="380880"/>
            <a:ext cx="624852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4723200"/>
            <a:ext cx="8915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Хотя леопард и уступает льву и тигру в размере, но в ловкости и скорости гораздо превосходит этих хищников. Леопард прекрасно чувствует себя как на земле, так и сидя на ветке высокого дерева. Реакция у зверя просто отменная, движения молниеносны. Многие считают, что именно леопарды самые совершенные охотники в семействе кошачь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Леопард, фото леопардов"/>
          <p:cNvPicPr/>
          <p:nvPr/>
        </p:nvPicPr>
        <p:blipFill>
          <a:blip r:embed="rId1"/>
          <a:stretch/>
        </p:blipFill>
        <p:spPr>
          <a:xfrm>
            <a:off x="228600" y="609480"/>
            <a:ext cx="5257800" cy="5715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638680" y="-6480"/>
            <a:ext cx="3505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амки приносят в помете до трёх детёнышей. В воспитании выводка самец почти не участвует, но держится неподалеку и периодически навещает самку с детёнышами. Первый год-полтора детёныши держатся с мамой. В это время самка очень ревниво и заботливо растит малыш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5880" y="680040"/>
            <a:ext cx="2819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щё недавно за необычной шкурой леопарда велась настоящая охота. Впрочем, ведётся она и сейчас, только уже нелегально. Почти везде охота на леопардов находится под запре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715000" y="762840"/>
            <a:ext cx="3124080" cy="52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евичий виноград триостренный, или виноград плющевидный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Parthenocissus tricuspi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одина Япония, 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райний юго-запад Приморья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, Корейский полуостров, Китай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5410080" cy="5715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15000" y="558720"/>
            <a:ext cx="327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иана с сильно ветвистыми усиками, с многочисленными присосками. Листья до 20 см в поперечнике, весьма разнообразны по форме на одном и том же растении: трехлопастные, треугольные, безлопастные, округлые, сердцевид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Прикреплённое изображение"/>
          <p:cNvPicPr/>
          <p:nvPr/>
        </p:nvPicPr>
        <p:blipFill>
          <a:blip r:embed="rId1"/>
          <a:stretch/>
        </p:blipFill>
        <p:spPr>
          <a:xfrm>
            <a:off x="609480" y="533520"/>
            <a:ext cx="4800600" cy="5810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24T21:22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