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720-2D69-4168-9DD0-A8BB2F96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EBB-2110-48C2-BD10-DE356FA2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965-4B04-4DA6-A570-C363BB8D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02B-C314-4645-A306-AAF1F05F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99F2-8E42-4EFB-B401-B21019A0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B071-969A-4E12-AE4B-2E5AEBB9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B01F-BC82-4B20-92E4-AFA606B0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23C2-4AC3-41C1-8CEF-057DF911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5B83-1BD0-4308-9C9E-7747E560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452-725C-4E56-BD85-E29758B4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5793-FDE1-4FF3-BFDA-5F25D4B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5F0-5BCD-4227-87C9-01277D91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AFE6-1889-43A0-961B-31523513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395F-3A70-479D-A518-E1287B3E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30A4-CDCF-427F-9499-E762FC29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4DFC-7CF9-4364-85FF-9CB4F679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0E50-88C2-4EB3-8791-4B417E7C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C99-27B7-4EFF-9B7A-3258E797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1C4-E5B2-4073-9FD8-A384619E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866-ABF5-4250-87EF-61764858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70A-65FF-43C1-B9AD-0DC3A7EE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269-F693-45CF-A102-397BDFC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6F4-C342-4318-BF84-1C172AB9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F14-8189-4CF0-AC51-C55AAEF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BEE6-EBD3-4F78-A8B2-67AE349B2DA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6D41-0145-4B40-B153-51F8AC93FBC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6;&#1083;&#1100;&#1082;&#1083;&#1086;&#1088;" TargetMode="External"/><Relationship Id="rId2" Type="http://schemas.openxmlformats.org/officeDocument/2006/relationships/hyperlink" Target="http://ru.wikipedia.org/wiki/&#1041;&#1086;&#1075;&#1072;&#1090;&#1099;&#1088;&#1080;" TargetMode="External"/><Relationship Id="rId3" Type="http://schemas.openxmlformats.org/officeDocument/2006/relationships/hyperlink" Target="http://ru.wikipedia.org/wiki/&#1041;&#1099;&#1083;&#1080;&#1085;&#1099;" TargetMode="External"/><Relationship Id="rId4" Type="http://schemas.openxmlformats.org/officeDocument/2006/relationships/hyperlink" Target="http://ru.wikipedia.org/wiki/&#1069;&#1087;&#1086;&#1089;" TargetMode="External"/><Relationship Id="rId5" Type="http://schemas.openxmlformats.org/officeDocument/2006/relationships/hyperlink" Target="http://ru.wikipedia.org/wiki/&#1058;&#1088;&#1080;_&#1073;&#1086;&#1075;&#1072;&#1090;&#1099;&#1088;&#1103;" TargetMode="External"/><Relationship Id="rId6" Type="http://schemas.openxmlformats.org/officeDocument/2006/relationships/hyperlink" Target="http://ru.wikipedia.org/wiki/&#1048;&#1083;&#1100;&#1103;_&#1052;&#1091;&#1088;&#1086;&#1084;&#1077;&#1094;" TargetMode="External"/><Relationship Id="rId7" Type="http://schemas.openxmlformats.org/officeDocument/2006/relationships/hyperlink" Target="http://ru.wikipedia.org/wiki/&#1044;&#1086;&#1073;&#1088;&#1099;&#1085;&#1103;_&#1053;&#1080;&#1082;&#1080;&#1090;&#1080;&#1095;" TargetMode="External"/><Relationship Id="rId8" Type="http://schemas.openxmlformats.org/officeDocument/2006/relationships/hyperlink" Target="http://ru.wikipedia.org/wiki/&#1059;&#1082;&#1088;&#1072;&#1080;&#1085;&#1089;&#1082;&#1080;&#1081;_&#1103;&#1079;&#1099;&#1082;" TargetMode="External"/><Relationship Id="rId9" Type="http://schemas.openxmlformats.org/officeDocument/2006/relationships/hyperlink" Target="http://ru.wikipedia.org/wiki/&#1044;&#1091;&#1084;&#1072;_(&#1101;&#1087;&#1086;&#1089;)" TargetMode="External"/><Relationship Id="rId10" Type="http://schemas.openxmlformats.org/officeDocument/2006/relationships/hyperlink" Target="http://ru.wikipedia.org/w/index.php?title=&#1054;&#1083;&#1077;&#1082;&#1089;&#1080;&#1081;_&#1055;&#1086;&#1087;&#1086;&#1074;&#1080;&#1095;&amp;action=edit&amp;redlink=1" TargetMode="External"/><Relationship Id="rId11" Type="http://schemas.openxmlformats.org/officeDocument/2006/relationships/hyperlink" Target="http://ru.wikipedia.org/wiki/&#1040;&#1083;&#1105;&#1096;&#1072;_&#1055;&#1086;&#1087;&#1086;&#1074;&#1080;&#1095;#cite_note-0" TargetMode="External"/><Relationship Id="rId12" Type="http://schemas.openxmlformats.org/officeDocument/2006/relationships/hyperlink" Target="http://ru.wikipedia.org/wiki/&#1058;&#1091;&#1075;&#1072;&#1088;&#1080;&#1085;" TargetMode="External"/><Relationship Id="rId13" Type="http://schemas.openxmlformats.org/officeDocument/2006/relationships/hyperlink" Target="http://ru.wikipedia.org/wiki/&#1044;&#1086;&#1073;&#1088;&#1099;&#1085;&#1103;_&#1053;&#1080;&#1082;&#1080;&#1090;&#1080;&#1095;" TargetMode="External"/><Relationship Id="rId14" Type="http://schemas.openxmlformats.org/officeDocument/2006/relationships/hyperlink" Target="http://ru.wikipedia.org/wiki/&#1044;&#1086;&#1073;&#1088;&#1099;&#1085;&#1103;_&#1053;&#1080;&#1082;&#1080;&#1090;&#1080;&#1095;" TargetMode="External"/><Relationship Id="rId15" Type="http://schemas.openxmlformats.org/officeDocument/2006/relationships/hyperlink" Target="http://ru.wikipedia.org/wiki/&#1044;&#1086;&#1073;&#1088;&#1099;&#1085;&#1103;_&#1053;&#1080;&#1082;&#1080;&#1090;&#1080;&#1095;" TargetMode="External"/><Relationship Id="rId16" Type="http://schemas.openxmlformats.org/officeDocument/2006/relationships/image" Target="../media/image3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9;&#1090;&#1086;&#1074;" TargetMode="External"/><Relationship Id="rId2" Type="http://schemas.openxmlformats.org/officeDocument/2006/relationships/hyperlink" Target="http://ru.wikipedia.org/wiki/&#1057;&#1074;&#1103;&#1097;&#1077;&#1085;&#1085;&#1080;&#1082;" TargetMode="External"/><Relationship Id="rId3" Type="http://schemas.openxmlformats.org/officeDocument/2006/relationships/hyperlink" Target="http://ru.wikipedia.org/wiki/&#1055;&#1080;&#1088;&#1103;&#1090;&#1080;&#1085;" TargetMode="External"/><Relationship Id="rId4" Type="http://schemas.openxmlformats.org/officeDocument/2006/relationships/hyperlink" Target="http://ru.wikipedia.org/wiki/&#1055;&#1086;&#1083;&#1090;&#1072;&#1074;&#1089;&#1082;&#1072;&#1103;_&#1086;&#1073;&#1083;&#1072;&#1089;&#1090;&#1100;" TargetMode="External"/><Relationship Id="rId5" Type="http://schemas.openxmlformats.org/officeDocument/2006/relationships/hyperlink" Target="http://ru.wikipedia.org/wiki/&#1064;&#1077;&#1074;&#1095;&#1077;&#1085;&#1082;&#1086;,_&#1058;&#1072;&#1088;&#1072;&#1089;_&#1043;&#1088;&#1080;&#1075;&#1086;&#1088;&#1100;&#1077;&#1074;&#1080;&#1095;" TargetMode="External"/><Relationship Id="rId6" Type="http://schemas.openxmlformats.org/officeDocument/2006/relationships/hyperlink" Target="http://ru.wikipedia.org/wiki/&#1055;&#1080;&#1088;&#1103;&#1090;&#1080;&#1085;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56;&#1086;&#1089;&#1090;&#1086;&#1074;" TargetMode="External"/><Relationship Id="rId3" Type="http://schemas.openxmlformats.org/officeDocument/2006/relationships/hyperlink" Target="http://ru.wikipedia.org/wiki/&#1041;&#1086;&#1103;&#1088;&#1080;&#1085;" TargetMode="External"/><Relationship Id="rId4" Type="http://schemas.openxmlformats.org/officeDocument/2006/relationships/hyperlink" Target="http://ru.wikipedia.org/w/index.php?title=&#1061;&#1088;&#1072;&#1073;&#1088;&amp;action=edit&amp;redlink=1" TargetMode="External"/><Relationship Id="rId5" Type="http://schemas.openxmlformats.org/officeDocument/2006/relationships/hyperlink" Target="http://ru.wikipedia.org/wiki/&#1042;&#1089;&#1077;&#1074;&#1086;&#1083;&#1086;&#1076;_&#1070;&#1088;&#1100;&#1077;&#1074;&#1080;&#1095;_&#1041;&#1086;&#1083;&#1100;&#1096;&#1086;&#1077;_&#1043;&#1085;&#1077;&#1079;&#1076;&#1086;" TargetMode="External"/><Relationship Id="rId6" Type="http://schemas.openxmlformats.org/officeDocument/2006/relationships/hyperlink" Target="http://ru.wikipedia.org/wiki/&#1050;&#1086;&#1085;&#1089;&#1090;&#1072;&#1085;&#1090;&#1080;&#1085;_&#1042;&#1089;&#1077;&#1074;&#1086;&#1083;&#1086;&#1076;&#1086;&#1074;&#1080;&#1095;" TargetMode="External"/><Relationship Id="rId7" Type="http://schemas.openxmlformats.org/officeDocument/2006/relationships/hyperlink" Target="http://ru.wikipedia.org/wiki/&#1070;&#1088;&#1080;&#1081;_&#1042;&#1089;&#1077;&#1074;&#1086;&#1083;&#1086;&#1076;&#1086;&#1074;&#1080;&#1095;" TargetMode="External"/><Relationship Id="rId8" Type="http://schemas.openxmlformats.org/officeDocument/2006/relationships/hyperlink" Target="http://ru.wikipedia.org/wiki/&#1052;&#1089;&#1090;&#1080;&#1089;&#1083;&#1072;&#1074;_&#1056;&#1086;&#1084;&#1072;&#1085;&#1086;&#1074;&#1080;&#1095;_&#1057;&#1090;&#1072;&#1088;&#1099;&#1081;" TargetMode="External"/><Relationship Id="rId9" Type="http://schemas.openxmlformats.org/officeDocument/2006/relationships/hyperlink" Target="http://ru.wikipedia.org/wiki/&#1041;&#1080;&#1090;&#1074;&#1072;_&#1087;&#1088;&#1080;_&#1050;&#1072;&#1083;&#1082;&#1077;" TargetMode="External"/><Relationship Id="rId10" Type="http://schemas.openxmlformats.org/officeDocument/2006/relationships/hyperlink" Target="http://ru.wikipedia.org/wiki/1223_&#1075;&#1086;&#1076;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88;&#1086;&#1093;&#1086;&#1076;" TargetMode="External"/><Relationship Id="rId2" Type="http://schemas.openxmlformats.org/officeDocument/2006/relationships/hyperlink" Target="http://ru.wikipedia.org/wiki/&#1042;&#1086;&#1083;&#1086;&#1076;&#1072;&#1088;&#1089;&#1082;&#1080;&#1081;_(&#1087;&#1072;&#1088;&#1086;&#1093;&#1086;&#1076;)" TargetMode="External"/><Relationship Id="rId3" Type="http://schemas.openxmlformats.org/officeDocument/2006/relationships/hyperlink" Target="http://ru.wikipedia.org/w/index.php?title=&#1056;&#1072;&#1076;&#1080;&#1097;&#1077;&#1074;,_&#1053;&#1080;&#1082;&#1086;&#1083;&#1072;&#1081;_&#1040;&#1083;&#1077;&#1082;&#1089;&#1072;&#1085;&#1076;&#1088;&#1086;&#1074;&#1080;&#1095;&amp;action=edit&amp;redlink=1" TargetMode="External"/><Relationship Id="rId4" Type="http://schemas.openxmlformats.org/officeDocument/2006/relationships/hyperlink" Target="http://ru.wikipedia.org/wiki/&#1058;&#1086;&#1083;&#1089;&#1090;&#1086;&#1081;,_&#1040;&#1083;&#1077;&#1082;&#1089;&#1077;&#1081;_&#1050;&#1086;&#1085;&#1089;&#1090;&#1072;&#1085;&#1090;&#1080;&#1085;&#1086;&#1074;&#1080;&#1095;" TargetMode="External"/><Relationship Id="rId5" Type="http://schemas.openxmlformats.org/officeDocument/2006/relationships/hyperlink" Target="http://ru.wikipedia.org/wiki/&#1042;&#1072;&#1089;&#1085;&#1077;&#1094;&#1086;&#1074;,_&#1042;&#1080;&#1082;&#1090;&#1086;&#1088;_&#1052;&#1080;&#1093;&#1072;&#1081;&#1083;&#1086;&#1074;&#1080;&#1095;" TargetMode="External"/><Relationship Id="rId6" Type="http://schemas.openxmlformats.org/officeDocument/2006/relationships/hyperlink" Target="http://ru.wikipedia.org/wiki/&#1041;&#1086;&#1075;&#1072;&#1090;&#1099;&#1088;&#1080;_(&#1082;&#1072;&#1088;&#1090;&#1080;&#1085;&#1072;_&#1042;&#1072;&#1089;&#1085;&#1077;&#1094;&#1086;&#1074;&#1072;)" TargetMode="External"/><Relationship Id="rId7" Type="http://schemas.openxmlformats.org/officeDocument/2006/relationships/hyperlink" Target="http://ru.wikipedia.org/wiki/&#1042;&#1077;&#1088;&#1077;&#1097;&#1072;&#1075;&#1080;&#1085;,_&#1042;&#1072;&#1089;&#1080;&#1083;&#1080;&#1081;_&#1055;&#1077;&#1090;&#1088;&#1086;&#1074;&#1080;&#1095;" TargetMode="External"/><Relationship Id="rId8" Type="http://schemas.openxmlformats.org/officeDocument/2006/relationships/hyperlink" Target="http://ru.wikipedia.org/wiki/&#1042;&#1077;&#1083;&#1080;&#1082;&#1080;&#1081;_&#1082;&#1085;&#1103;&#1079;&#1100;" TargetMode="External"/><Relationship Id="rId9" Type="http://schemas.openxmlformats.org/officeDocument/2006/relationships/hyperlink" Target="http://ru.wikipedia.org/wiki/&#1042;&#1083;&#1072;&#1076;&#1080;&#1084;&#1080;&#1088;_&#1040;&#1083;&#1077;&#1082;&#1089;&#1072;&#1085;&#1076;&#1088;&#1086;&#1074;&#1080;&#1095;" TargetMode="External"/><Relationship Id="rId10" Type="http://schemas.openxmlformats.org/officeDocument/2006/relationships/hyperlink" Target="http://ru.wikipedia.org/wiki/&#1044;&#1086;&#1084;_&#1091;&#1095;&#1105;&#1085;&#1099;&#1093;_(&#1057;&#1072;&#1085;&#1082;&#1090;-&#1055;&#1077;&#1090;&#1077;&#1088;&#1073;&#1091;&#1088;&#1075;)" TargetMode="External"/><Relationship Id="rId11" Type="http://schemas.openxmlformats.org/officeDocument/2006/relationships/hyperlink" Target="http://ru.wikipedia.org/wiki/&#1041;&#1080;&#1083;&#1080;&#1073;&#1080;&#1085;,_&#1048;&#1074;&#1072;&#1085;_&#1071;&#1082;&#1086;&#1074;&#1083;&#1077;&#1074;&#1080;&#1095;" TargetMode="External"/><Relationship Id="rId12" Type="http://schemas.openxmlformats.org/officeDocument/2006/relationships/hyperlink" Target="http://ru.wikipedia.org/wiki/&#1042;&#1072;&#1089;&#1080;&#1083;&#1100;&#1077;&#1074;,_&#1050;&#1086;&#1085;&#1089;&#1090;&#1072;&#1085;&#1090;&#1080;&#1085;_&#1042;&#1080;&#1082;&#1090;&#1086;&#1088;&#1086;&#1074;&#1080;&#1095;" TargetMode="External"/><Relationship Id="rId13" Type="http://schemas.openxmlformats.org/officeDocument/2006/relationships/hyperlink" Target="http://ru.wikipedia.org/wiki/&#1051;&#1091;&#1073;&#1086;&#1082;" TargetMode="External"/><Relationship Id="rId14" Type="http://schemas.openxmlformats.org/officeDocument/2006/relationships/image" Target="../media/image8.pn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9;&#1076;&#1072;&#1083;&#1100;&amp;action=edit&amp;redlink=1" TargetMode="External"/><Relationship Id="rId2" Type="http://schemas.openxmlformats.org/officeDocument/2006/relationships/hyperlink" Target="http://ru.wikipedia.org/w/index.php?title=&#1061;&#1080;&#1090;&#1088;&#1086;&#1091;&#1084;&#1080;&#1077;&amp;action=edit&amp;redlink=1" TargetMode="External"/><Relationship Id="rId3" Type="http://schemas.openxmlformats.org/officeDocument/2006/relationships/hyperlink" Target="http://ru.wikipedia.org/wiki/&#1043;&#1091;&#1089;&#1083;&#1080;" TargetMode="External"/><Relationship Id="rId4" Type="http://schemas.openxmlformats.org/officeDocument/2006/relationships/hyperlink" Target="http://ru.wikipedia.org/wiki/&#1044;&#1086;&#1073;&#1088;&#1099;&#1085;&#1103;_&#1053;&#1080;&#1082;&#1080;&#1090;&#1080;&#1095;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al_pop1"/>
          <p:cNvPicPr/>
          <p:nvPr/>
        </p:nvPicPr>
        <p:blipFill>
          <a:blip r:embed="rId1"/>
          <a:stretch/>
        </p:blipFill>
        <p:spPr>
          <a:xfrm>
            <a:off x="3059280" y="189000"/>
            <a:ext cx="5916600" cy="4437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0"/>
          <p:cNvSpPr txBox="1"/>
          <p:nvPr/>
        </p:nvSpPr>
        <p:spPr>
          <a:xfrm rot="5170800">
            <a:off x="-688680" y="2428560"/>
            <a:ext cx="5621400" cy="115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Calibri"/>
              </a:rPr>
              <a:t>Алеша Попович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3059280" y="5013360"/>
            <a:ext cx="58338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я по МХК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ил ученик  9»А»класса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росян Арту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МХК Печкурова Е.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ольск, 20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Calibri"/>
              </a:rPr>
              <a:t>Список используемой литерату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95640" y="2492280"/>
            <a:ext cx="640872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wikipedia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FictionBook.r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Im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2133360"/>
            <a:ext cx="8459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Образ Алеши в был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Происхождение обр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Образ в культу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Список используемой литерату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al_pop03_1"/>
          <p:cNvPicPr/>
          <p:nvPr/>
        </p:nvPicPr>
        <p:blipFill>
          <a:blip r:embed="rId1"/>
          <a:stretch/>
        </p:blipFill>
        <p:spPr>
          <a:xfrm>
            <a:off x="6588000" y="115920"/>
            <a:ext cx="2165400" cy="38606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1403280" y="476280"/>
            <a:ext cx="417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e4a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вед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e4a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923920"/>
            <a:ext cx="5796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ёша Попович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фольклорн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собирательный образ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богатыр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в русском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былинн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эпос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Алёша Попович как младший входит третьим по значению в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богатырскую троиц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вместе с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Ильёй Муромце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7"/>
              </a:rPr>
              <a:t>Добрыней Никитиче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8"/>
              </a:rPr>
              <a:t>украински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9"/>
              </a:rPr>
              <a:t>дума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также встречается персонаж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0"/>
              </a:rPr>
              <a:t>Алексий Попович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1"/>
              </a:rPr>
              <a:t>[1]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го 53 сюжета героических былин, Алёша Попович является главным героем двух из них (№ 20 и 21 по составленному Азбелевым указателю Азбелев С. Н. Историзм былин и специфика фольклора. Л.: Наука, 1982. — С. 287.&lt;Алёша Попович и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2"/>
              </a:rPr>
              <a:t>Ту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Алёша Попович и сестра бродовичей]] Кроме того, Алёша играет важную роль в популярной былине «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3"/>
              </a:rPr>
              <a:t>Добрын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на свадьбе своей жены» («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4"/>
              </a:rPr>
              <a:t>Добрын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в отъезде», «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5"/>
              </a:rPr>
              <a:t>Добрын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и Алёша» — № 18 по указателю Азбелева). Здесь Алёша — персонаж отрицательный. Как лицо общеизвестное, Алёша часто упоминается и в других былинах, обычно с указанием на его недостат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поп"/>
          <p:cNvPicPr/>
          <p:nvPr/>
        </p:nvPicPr>
        <p:blipFill>
          <a:blip r:embed="rId16"/>
          <a:stretch/>
        </p:blipFill>
        <p:spPr>
          <a:xfrm>
            <a:off x="5435640" y="0"/>
            <a:ext cx="3708360" cy="350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vasnecov10"/>
          <p:cNvPicPr/>
          <p:nvPr/>
        </p:nvPicPr>
        <p:blipFill>
          <a:blip r:embed="rId17"/>
          <a:stretch/>
        </p:blipFill>
        <p:spPr>
          <a:xfrm>
            <a:off x="2195640" y="0"/>
            <a:ext cx="3743280" cy="256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b_Alesha_Popovich"/>
          <p:cNvPicPr/>
          <p:nvPr/>
        </p:nvPicPr>
        <p:blipFill>
          <a:blip r:embed="rId18"/>
          <a:stretch/>
        </p:blipFill>
        <p:spPr>
          <a:xfrm>
            <a:off x="0" y="0"/>
            <a:ext cx="2484360" cy="22766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8"/>
          <p:cNvSpPr/>
          <p:nvPr/>
        </p:nvSpPr>
        <p:spPr>
          <a:xfrm>
            <a:off x="6156360" y="4292640"/>
            <a:ext cx="2016000" cy="1944720"/>
          </a:xfrm>
          <a:custGeom>
            <a:avLst/>
            <a:gdLst>
              <a:gd name="textAreaLeft" fmla="*/ 295200 w 2016000"/>
              <a:gd name="textAreaRight" fmla="*/ 1720800 w 2016000"/>
              <a:gd name="textAreaTop" fmla="*/ 284760 h 1944720"/>
              <a:gd name="textAreaBottom" fmla="*/ 1659960 h 19447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8"/>
          <p:cNvSpPr/>
          <p:nvPr/>
        </p:nvSpPr>
        <p:spPr>
          <a:xfrm>
            <a:off x="826920" y="1844640"/>
            <a:ext cx="6769440" cy="4032360"/>
          </a:xfrm>
          <a:prstGeom prst="cloudCallout">
            <a:avLst>
              <a:gd name="adj1" fmla="val -42777"/>
              <a:gd name="adj2" fmla="val 6472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лёша Попович — сын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ростовского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поп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Леонтия. Алёшу Поповича считают своим земляком и в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Пирятин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(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Полтавская област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 местному преданию, он часто бывал на Пирятинских ярмарках, помогал людям и имел богатырскую силу.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Тарас Шевченко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в один из своих приездов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Пирятин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написал думу об Алёше Попович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1042920" y="333360"/>
            <a:ext cx="7705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e4a8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раз Алеши в Былинах</a:t>
            </a:r>
            <a:endParaRPr b="0" lang="en-US" sz="1800" spc="1" strike="noStrike">
              <a:ln w="0">
                <a:noFill/>
              </a:ln>
              <a:solidFill>
                <a:srgbClr val="00e4a8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6443640" y="5516640"/>
            <a:ext cx="2376360" cy="1008000"/>
          </a:xfrm>
          <a:custGeom>
            <a:avLst/>
            <a:gdLst>
              <a:gd name="textAreaLeft" fmla="*/ 371160 w 2376360"/>
              <a:gd name="textAreaRight" fmla="*/ 2079360 w 237636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655308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ыкновенно считается, что историческим прототипом Алёши Поповича послужил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ростовск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бояри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Александр (Олеша) Попович. Согласно летописям, это был знаменитый «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храб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 (отборный воин), служивший сначал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Всеволоду Большое Гнезд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а затем его сыну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Константину Всеволодович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против его брата и претендента на владимирский стол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7"/>
              </a:rPr>
              <a:t>Юрия Всеволодович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причём Александр Попович сразил в поединках нескольких лучших воинов Юрия. Со смертью Константина и вокняжением Юрия (1218) он отъехал к киевскому великому князю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8"/>
              </a:rPr>
              <a:t>Мстиславу Старом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и вместе с ним погиб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9"/>
              </a:rPr>
              <a:t>битве при Калк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0"/>
              </a:rPr>
              <a:t>1223 год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042920" y="227664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187280" y="126828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1187280" y="692280"/>
            <a:ext cx="7272360" cy="10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исхождение образ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17" descr="1280176780"/>
          <p:cNvPicPr/>
          <p:nvPr/>
        </p:nvPicPr>
        <p:blipFill>
          <a:blip r:embed="rId11"/>
          <a:stretch/>
        </p:blipFill>
        <p:spPr>
          <a:xfrm>
            <a:off x="6796080" y="1700280"/>
            <a:ext cx="2347920" cy="41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920" y="2133360"/>
            <a:ext cx="6408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лёша Попович» назывался одно время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пароход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Володар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удожественная литерату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01 году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Николай Радище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здал поэму «Альоша Попович, богатырское песнотворение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ад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А. К. Толст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«Алёша Попович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азительное искус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сонаж картины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Виктора Васнец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«Богатыр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леша Попович» — картин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7"/>
              </a:rPr>
              <a:t>Василия Верещаг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аписанная для дворц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8"/>
              </a:rPr>
              <a:t>великого княз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9"/>
              </a:rPr>
              <a:t>Владимира Александрович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ныне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0"/>
              </a:rPr>
              <a:t>Дом ученых в Санкт-Петербург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"Алёша Попович" - эскиз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1"/>
              </a:rPr>
              <a:t>Ивана Билиб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леша Попович и красна девица» — картин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2"/>
              </a:rPr>
              <a:t>Константина Василье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ше Поповичу посвящен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3"/>
              </a:rPr>
              <a:t>лубочн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картина «Сильный богатырь Алёша Попович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WordArt 5" descr=""/>
          <p:cNvPicPr/>
          <p:nvPr/>
        </p:nvPicPr>
        <p:blipFill>
          <a:blip r:embed="rId14"/>
          <a:stretch/>
        </p:blipFill>
        <p:spPr>
          <a:xfrm>
            <a:off x="676440" y="396720"/>
            <a:ext cx="4767120" cy="120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60845"/>
          <p:cNvPicPr/>
          <p:nvPr/>
        </p:nvPicPr>
        <p:blipFill>
          <a:blip r:embed="rId15"/>
          <a:stretch/>
        </p:blipFill>
        <p:spPr>
          <a:xfrm>
            <a:off x="5796000" y="0"/>
            <a:ext cx="3348000" cy="292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lesha-popovich"/>
          <p:cNvPicPr/>
          <p:nvPr/>
        </p:nvPicPr>
        <p:blipFill>
          <a:blip r:embed="rId16"/>
          <a:stretch/>
        </p:blipFill>
        <p:spPr>
          <a:xfrm>
            <a:off x="6732720" y="2852640"/>
            <a:ext cx="2411280" cy="1978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1313924051_bdrip_2"/>
          <p:cNvPicPr/>
          <p:nvPr/>
        </p:nvPicPr>
        <p:blipFill>
          <a:blip r:embed="rId17"/>
          <a:stretch/>
        </p:blipFill>
        <p:spPr>
          <a:xfrm>
            <a:off x="7020000" y="4797360"/>
            <a:ext cx="196524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031920"/>
            <a:ext cx="640872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ёшу Поповича отличает не сила (иногда даже подчёркивается его слабость, указывается его хромота и т. п.). Ему свойственны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уда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атиск, сметливость, находчивость,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хитроум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мел играть на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гусл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Алёша готов обмануть даже своего названного брата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Добрын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сягая на его супружеские права (Алёша распространяет ложный слух о гибе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рыни, чтобы жениться на его жене Настасье Никулине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-"/>
          <p:cNvPicPr/>
          <p:nvPr/>
        </p:nvPicPr>
        <p:blipFill>
          <a:blip r:embed="rId5"/>
          <a:stretch/>
        </p:blipFill>
        <p:spPr>
          <a:xfrm>
            <a:off x="468360" y="0"/>
            <a:ext cx="5867280" cy="270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lesha-popovich_31573"/>
          <p:cNvPicPr/>
          <p:nvPr/>
        </p:nvPicPr>
        <p:blipFill>
          <a:blip r:embed="rId6"/>
          <a:stretch/>
        </p:blipFill>
        <p:spPr>
          <a:xfrm>
            <a:off x="6418440" y="0"/>
            <a:ext cx="2725560" cy="285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popovich"/>
          <p:cNvPicPr/>
          <p:nvPr/>
        </p:nvPicPr>
        <p:blipFill>
          <a:blip r:embed="rId7"/>
          <a:stretch/>
        </p:blipFill>
        <p:spPr>
          <a:xfrm>
            <a:off x="6300720" y="2852640"/>
            <a:ext cx="2700360" cy="350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MM900041151[1]"/>
          <p:cNvPicPr/>
          <p:nvPr/>
        </p:nvPicPr>
        <p:blipFill>
          <a:blip r:embed="rId8"/>
          <a:stretch/>
        </p:blipFill>
        <p:spPr>
          <a:xfrm>
            <a:off x="108000" y="0"/>
            <a:ext cx="1219320" cy="961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960640"/>
            <a:ext cx="489600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 на Алёшу переносятся черты, свойственные Вольге Святославичу: рождение его сопровождается громом; Алёша-младенец просит пеленать его не пеленами, но кольчугою; затем он немедленно просит у матери благословенья погулять по белу свету: выясняется, что он уже может сидеть на коне и владеть им, действовать копьём и саблей и т. 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==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400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33"/>
          <p:cNvPicPr/>
          <p:nvPr/>
        </p:nvPicPr>
        <p:blipFill>
          <a:blip r:embed="rId2"/>
          <a:stretch/>
        </p:blipFill>
        <p:spPr>
          <a:xfrm>
            <a:off x="0" y="0"/>
            <a:ext cx="4932360" cy="29242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/>
          <p:cNvSpPr/>
          <p:nvPr/>
        </p:nvSpPr>
        <p:spPr>
          <a:xfrm>
            <a:off x="6012000" y="4869000"/>
            <a:ext cx="2447640" cy="1296720"/>
          </a:xfrm>
          <a:custGeom>
            <a:avLst/>
            <a:gdLst>
              <a:gd name="textAreaLeft" fmla="*/ 306000 w 2447640"/>
              <a:gd name="textAreaRight" fmla="*/ 2142000 w 2447640"/>
              <a:gd name="textAreaTop" fmla="*/ 324000 h 1296720"/>
              <a:gd name="textAreaBottom" fmla="*/ 9727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57960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архаичным сюжетом, связанным с Алёшей Поповичем, считается его бой с Тугарином. Алёша Попович поражает Тугарина по дороге в Киев или в Киеве (известен вариант, в котором этот поединок происходит дважды). Тугарин грозит Алёше Поповичу задушить его дымом, засыпать искрами, спалить огнём-пламенем, застрелить головнями или проглотить живьё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19686"/>
          <p:cNvPicPr/>
          <p:nvPr/>
        </p:nvPicPr>
        <p:blipFill>
          <a:blip r:embed="rId1"/>
          <a:stretch/>
        </p:blipFill>
        <p:spPr>
          <a:xfrm>
            <a:off x="0" y="0"/>
            <a:ext cx="514836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8c92c2bf2b2b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2997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_f"/>
          <p:cNvPicPr/>
          <p:nvPr/>
        </p:nvPicPr>
        <p:blipFill>
          <a:blip r:embed="rId3"/>
          <a:stretch/>
        </p:blipFill>
        <p:spPr>
          <a:xfrm>
            <a:off x="5796000" y="2997360"/>
            <a:ext cx="334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3:22:18Z</dcterms:created>
  <dc:creator>Admin</dc:creator>
  <dc:description/>
  <dc:language>en-US</dc:language>
  <cp:lastModifiedBy>www.PHILka.RU</cp:lastModifiedBy>
  <dcterms:modified xsi:type="dcterms:W3CDTF">2011-12-03T11:58:57Z</dcterms:modified>
  <cp:revision>9</cp:revision>
  <dc:subject/>
  <dc:title>Слайд 1</dc:title>
</cp:coreProperties>
</file>