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BC0-CF4E-41DE-BC01-24C8B92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C4E-F474-4AE8-BE98-CB4F2D8C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007-6AD5-4E10-B499-901CFEC6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FF1-08E7-40EC-B871-6824D13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C63-2B57-445C-B752-710FC714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055B-971A-469A-B8EA-24EB711E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549-65EF-4A18-97A4-E8ADEB5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C95-5EA9-4A41-92B9-BC0E8CB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CFA-4B29-4D67-ADCA-60F36A9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47-B1F7-4ED9-A9B2-08A2CEF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0CF-ABAF-4357-B703-D3A9F72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334-E057-4E00-B1DF-439AC19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C15-D610-449E-A570-F9542D5E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Файл:Map Europe alliances 1914-ru.sv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31000">
            <a:off x="1413000" y="1852200"/>
            <a:ext cx="654192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енно-политические бло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 rot="253800">
            <a:off x="1330200" y="3436560"/>
            <a:ext cx="65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ремен Первой мировой вой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 Центральных держав прекратил своё существование с поражением в Первой мировой войне осенью 1918 года. При подписании перемирия все они вынуждены были безоговорочно принять условия победителей. Австро-Венгрия и Османская империя в результате войны распались; государства, созданные на территории Российской империи вынуждены были искать поддержки Антанты. Польша, Литва, Латвия, Эстония и Финляндия сохранили независимость, остальные были присоединены обратно к России (непосредственно к РСФСР или вошли в Советский Сою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58920" y="476280"/>
            <a:ext cx="63025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екращение существ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40360" y="4221000"/>
            <a:ext cx="4787640" cy="2637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Ан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а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фр.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nten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оенно-политический блок России, Англии и Франции, создан в качестве противовеса «Тройственному союзу»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-Enten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 сложился в основном в 1904—1907 гг. и завершил размежевание великих держав накануне Первой мировой войны. Термин возник в 1904 году первоначально для обозначения англо-французского союза, причём употреблялось выра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ердечное согласие» в память кратковременного англо-французского союза в 1840-х гг., носившего то же наз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770120"/>
            <a:ext cx="6842160" cy="4913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Антанты было реакцией на создание Тройственного союза, усиление Германии и попыткой не допустить её гегемонии на континенте первоначально со стороны России (Франция изначально занимала антигерманскую позицию), а затем и со стороны Англии. Последняя перед лицом угрозы германской гегемонии была вынуждена оставить традиционную политику «блестящей изоляции» и перейти к — впрочем, тоже традиционной — политике блокирования против самой сильной державы континента. Особенно важным стимулом для такого выбора Англии послужила германская военно-морская программа, а также колониальные притязания Германии. В Германии, в свою очередь, такой поворот событий был объявлен как «окружение» и послужил поводом для новых военных приготовлений, объявленных как сугубо оборон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28600">
            <a:off x="1906200" y="7560"/>
            <a:ext cx="5040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чина созд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Основ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1 — оформлено соглашение между Российской империей и Французской республикой, о создании Франко-русского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(17) августа 1892 — подписание секретной военной конвенции между Россией и Фран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3 — заключение оборонительного союза России с Фран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 — подписание англо-французского согл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7 — подписание русско-английского согл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7416720" cy="597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Тройственный 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ойственный сою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— военно-политический блок Германии, Австро-Венгрии и Италии, сложившийся в 1879—1882 годы, который положил начало разделу Европы на враждебные лагеря и сыграл важную роль в подготовке и развязывании Первой мировой войны (1914—1918 г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организатором Тройственного союза являлась Германия, заключившая в 1879 году военный союз с Австро-Венгрией. После этого, в 1882 году, к ним присоединилась Италия. Было создано ядро агрессивной военной группировки в Европе, направленной против России и Фр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мая 1882 года Германия, Австро-Венгрия и Италия подписали секретный договор о Тройственном союзе. Они взяли обязательства (сроком на 5 лет) не принимать участия ни в каких союзах или соглашениях, направленных против одной из этих стран, консультироваться по вопросам политического и экономического характера и оказывать взаимную поддержку. Германия и Австро-Венгрия обязались оказать Италии помощь в случае, если она «без прямого вызова с её стороны подверглась бы нападению Франции». Италия должна была сделать то же самое в случае неспровоцированного нападения Франции на Германию. Австро-Венгрии отводилась роль резерва на случай вступления в войну. Стороны обязались в случае общего участия в войне не заключать сепаратного мира и держать договор о Тройственном союзе в тайне. Договор возобновлялся в 1887 и 1891 годах (при этом вносились дополнения и уточнения) и автоматически продлевался в 1902 и 1912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79640" y="333360"/>
            <a:ext cx="4680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здание сою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пад сою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онца XIX века Италия, терпевшая убытки от таможенной войны, которую вела против неё Франция, начала менять политический курс. В 1902 году она заключила с Францией соглашение, обязавшись соблюдать нейтралитет в случае нападения Германии на Францию. После заключения Лондонского пакта Италия вступила в Первую мировую войну на стороне Антанты, и Тройственный союз распался (1915). После выхода Италии из союза, Болгария и Османская империя присоединились к Германии и Австро-Венгрии, образовав четверной сою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Центральные Державы</a:t>
            </a:r>
            <a:br>
              <a:rPr sz="3200"/>
            </a:b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(Четверной Сою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ые держа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нем. 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ittelmäch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венг. 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özponti hatalm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тур. 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İttifak Devletler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болг. 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Централни с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 — военно-политический блок государств, противостоявших державам «дружественного соглашения» (Антанте) в Первой мировой войне 1914—1918 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тав бл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ман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тро-Венг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ман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гарское царство (с 1915 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4681440" cy="28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Файл:Map Europe alliances 1914-ru.svg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640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124000" y="549360"/>
            <a:ext cx="45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енные альян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9:58:45Z</dcterms:created>
  <dc:creator>44</dc:creator>
  <dc:description/>
  <dc:language>en-US</dc:language>
  <cp:lastModifiedBy>44</cp:lastModifiedBy>
  <dcterms:modified xsi:type="dcterms:W3CDTF">2011-11-15T20:42:14Z</dcterms:modified>
  <cp:revision>3</cp:revision>
  <dc:subject/>
  <dc:title>Слайд 1</dc:title>
</cp:coreProperties>
</file>