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CAF-B1CB-4214-A2B5-371041A1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55B-34CF-4D60-8747-26A8BD36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D50-7A10-4354-955A-6F4B71AD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136-DCC7-400B-84D4-F0F0A4F3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C21-72EA-4384-A78A-35137381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468-5F21-4469-9457-C5BB3405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3E6-EC32-4CFE-B528-33EEF067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861-5B25-45E0-99ED-B7F4D49E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3E4-EF0C-4123-81DC-76C3D86B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B53-E5E9-4136-B6E6-F3E10BA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DBF-FA75-4DB6-BA85-C99D42BC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14E-08B8-4E26-982A-CAF5041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170F-24BA-4D90-8570-90597DF84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Файл:Map Europe alliances 1914-ru.sv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31000">
            <a:off x="1413000" y="1852200"/>
            <a:ext cx="654192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енно-политические бло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 rot="253800">
            <a:off x="1330200" y="3436560"/>
            <a:ext cx="65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ремен Первой мировой вой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 Центральных держав прекратил своё существование с поражением в Первой мировой войне осенью 1918 года. При подписании перемирия все они вынуждены были безоговорочно принять условия победителей. Австро-Венгрия и Османская империя в результате войны распались; государства, созданные на территории Российской империи вынуждены были искать поддержки Антанты. Польша, Литва, Латвия, Эстония и Финляндия сохранили независимость, остальные были присоединены обратно к России (непосредственно к РСФСР или вошли в Советский Сою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58920" y="476280"/>
            <a:ext cx="6302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екращение существ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40360" y="4221000"/>
            <a:ext cx="4787640" cy="2637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Ан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а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фр.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enten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военно-политический блок России, Англии и Франции, создан в качестве противовеса «Тройственному союзу»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-Enten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 сложился в основном в 1904—1907 гг. и завершил размежевание великих держав накануне Первой мировой войны. Термин возник в 1904 году первоначально для обозначения англо-французского союза, причём употреблялось выра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ердечное согласие» в память кратковременного англо-французского союза в 1840-х гг., носившего то же наз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1770120"/>
            <a:ext cx="6842160" cy="4913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Антанты было реакцией на создание Тройственного союза, усиление Германии и попыткой не допустить её гегемонии на континенте первоначально со стороны России (Франция изначально занимала антигерманскую позицию), а затем и со стороны Англии. Последняя перед лицом угрозы германской гегемонии была вынуждена оставить традиционную политику «блестящей изоляции» и перейти к — впрочем, тоже традиционной — политике блокирования против самой сильной державы континента. Особенно важным стимулом для такого выбора Англии послужила германская военно-морская программа, а также колониальные притязания Германии. В Германии, в свою очередь, такой поворот событий был объявлен как «окружение» и послужил поводом для новых военных приготовлений, объявленных как сугубо оборони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28600">
            <a:off x="1906200" y="7560"/>
            <a:ext cx="5040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чина созда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Основ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1 — оформлено соглашение между Российской империей и Французской республикой, о создании Франко-русского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(17) августа 1892 — подписание секретной военной конвенции между Россией и Фран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3 — заключение оборонительного союза России с Фран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4 — подписание англо-французского согла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7 — подписание русско-английского согла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7416720" cy="597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Тройственный 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ойственный сою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— военно-политический блок Германии, Австро-Венгрии и Италии, сложившийся в 1879—1882 годы, который положил начало разделу Европы на враждебные лагеря и сыграл важную роль в подготовке и развязывании Первой мировой войны (1914—1918 г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 организатором Тройственного союза являлась Германия, заключившая в 1879 году военный союз с Австро-Венгрией. После этого, в 1882 году, к ним присоединилась Италия. Было создано ядро агрессивной военной группировки в Европе, направленной против России и Фр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мая 1882 года Германия, Австро-Венгрия и Италия подписали секретный договор о Тройственном союзе. Они взяли обязательства (сроком на 5 лет) не принимать участия ни в каких союзах или соглашениях, направленных против одной из этих стран, консультироваться по вопросам политического и экономического характера и оказывать взаимную поддержку. Германия и Австро-Венгрия обязались оказать Италии помощь в случае, если она «без прямого вызова с её стороны подверглась бы нападению Франции». Италия должна была сделать то же самое в случае неспровоцированного нападения Франции на Германию. Австро-Венгрии отводилась роль резерва на случай вступления в войну. Стороны обязались в случае общего участия в войне не заключать сепаратного мира и держать договор о Тройственном союзе в тайне. Договор возобновлялся в 1887 и 1891 годах (при этом вносились дополнения и уточнения) и автоматически продлевался в 1902 и 1912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79640" y="333360"/>
            <a:ext cx="4680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здание сою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пад сою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онца XIX века Италия, терпевшая убытки от таможенной войны, которую вела против неё Франция, начала менять политический курс. В 1902 году она заключила с Францией соглашение, обязавшись соблюдать нейтралитет в случае нападения Германии на Францию. После заключения Лондонского пакта Италия вступила в Первую мировую войну на стороне Антанты, и Тройственный союз распался (1915). После выхода Италии из союза, Болгария и Османская империя присоединились к Германии и Австро-Венгрии, образовав четверной сою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Центральные Державы</a:t>
            </a:r>
            <a:br>
              <a:rPr sz="3200"/>
            </a:b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(Четверной Сою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ые держа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нем. 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ittelmäch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венг. 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özponti hatalm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тур. 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İttifak Devletler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болг. 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Централни с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 — военно-политический блок государств, противостоявших державам «дружественного соглашения» (Антанте) в Первой мировой войне 1914—1918 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тав бл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ман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тро-Венг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ман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гарское царство (с 1915 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4681440" cy="288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Файл:Map Europe alliances 1914-ru.svg"/>
          <p:cNvPicPr/>
          <p:nvPr/>
        </p:nvPicPr>
        <p:blipFill>
          <a:blip r:embed="rId1"/>
          <a:stretch/>
        </p:blipFill>
        <p:spPr>
          <a:xfrm>
            <a:off x="539640" y="1916280"/>
            <a:ext cx="7848720" cy="4640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124000" y="549360"/>
            <a:ext cx="453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енные альян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9:58:45Z</dcterms:created>
  <dc:creator>44</dc:creator>
  <dc:description/>
  <dc:language>en-US</dc:language>
  <cp:lastModifiedBy>44</cp:lastModifiedBy>
  <dcterms:modified xsi:type="dcterms:W3CDTF">2011-11-15T20:42:14Z</dcterms:modified>
  <cp:revision>3</cp:revision>
  <dc:subject/>
  <dc:title>Слайд 1</dc:title>
</cp:coreProperties>
</file>