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A12-D07D-4F41-809B-E2CE514D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264-7628-4817-BFB1-98ABFD9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7E7-0288-4D93-AA8F-D2A7FC38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2C6-B93F-4B99-835B-A7C7B296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705-8240-4430-A155-A2F1C2CA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F134-CDEF-4C94-A94C-304455F4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6B86-7F2D-4754-BDB2-7A4DADD8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FC74-D444-41B5-94DF-117E0493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0DA1-7D08-4AC8-B6B1-C154839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25A4-8134-47D0-B898-1ECB0F2F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A4B4-9D09-4679-B247-2163E00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FFD-AB64-461F-A811-E369E5A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6466-07DC-48CC-9EB7-31CF341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4CDF-4BE6-432E-820E-AC7AC5E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7EB2-654B-4F75-9DB5-B96C6CC0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1953-8AAA-4A31-B063-B6517ABE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CC8C-BDB0-4EE7-8582-E86457DE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A7D-1DE8-4D7B-A223-6A53668D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7B5-5109-4AAC-A949-9E423731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F2C-73C7-4B50-BEC4-B23585DD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41E-2994-49F3-8DAD-B99B3636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A76-7AD2-4A87-9FBA-4BAEFDB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63E-59E4-4986-8DFD-42736FC9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146-A4AD-4BE8-85A5-549E2C2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D004-FF93-4E21-8F0D-68CB89BD5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852-C4DE-4286-B23D-CB4312AD0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9900"/>
                </a:solidFill>
                <a:latin typeface="Times New Roman"/>
              </a:rPr>
              <a:t>Разнообразие растений</a:t>
            </a:r>
            <a:endParaRPr b="1" lang="en-US" sz="96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Цветковые растения - гиганты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527720" cy="5040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Баобаб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Эвкалипт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6120" y="1413000"/>
            <a:ext cx="4203720" cy="468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114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Водные растения</a:t>
            </a:r>
            <a:endParaRPr b="1" lang="en-US" sz="48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94360" cy="3994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4032360" cy="4105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87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11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Times New Roman"/>
              </a:rPr>
              <a:t>Лотос                  кувшинк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Насекомоядное растение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35120" y="1268280"/>
            <a:ext cx="4786560" cy="532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51952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Росян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Кактусы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4141800" cy="460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21200" y="1557360"/>
            <a:ext cx="4076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Нецветковые растен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194360" cy="432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4076640" cy="4321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587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Мхи: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Кукушкин лён        Сфагнум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Хвощ полевой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0960" y="1341360"/>
            <a:ext cx="4075200" cy="4535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946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Папоротники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94000" cy="417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05080" cy="41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Щитовник                    Венерин воло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Хвойные растения: сосн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118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Ель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                  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Кипарис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36920" cy="482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14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Гигантская секвой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14640" y="1125360"/>
            <a:ext cx="49165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Цветковые</a:t>
            </a: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растения: теневыносливые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Ландыш                   Кисл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78280" cy="417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880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Светолюбивые растен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Брусника              Черн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3720" y="1268280"/>
            <a:ext cx="3943440" cy="4388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46520" y="1268280"/>
            <a:ext cx="3946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29:10Z</dcterms:created>
  <dc:creator>наталия</dc:creator>
  <dc:description/>
  <dc:language>en-US</dc:language>
  <cp:lastModifiedBy>наталия</cp:lastModifiedBy>
  <dcterms:modified xsi:type="dcterms:W3CDTF">2009-03-09T19:01:33Z</dcterms:modified>
  <cp:revision>3</cp:revision>
  <dc:subject/>
  <dc:title>Слайд 1</dc:title>
</cp:coreProperties>
</file>