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9B1-8D9C-480D-8314-72A5B112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BD9-FE8A-438A-8639-00C61384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751-5455-426F-BB4F-37825A00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0C6-AB3D-49C9-9C00-DA446BDA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23E8-2347-42D9-B816-6413A28D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52FE-9FA1-40BE-B639-1D867781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610A-40D3-4C98-826D-A2853A15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2B0D-E39E-42A9-BDCA-466EF532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A0E3-7766-41F0-A901-3B3DC111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E3BE-BAC4-4216-87D8-AD8B2A1D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C335-F11B-4726-A808-9F017769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F62-3DE4-4610-B7D4-6DB5364D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5DBA-DA65-4E58-AD87-53F22283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E0C0-18D3-44BC-B4D9-90F8CD06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120E-C5BD-4E71-97A9-1F668854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27BC-0643-4A2C-9719-F4516BE0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3010-1584-4CE5-AF35-B2F27E2E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A3E-C5FA-4500-BB7A-7C2ECBFC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AE6-830B-4CB1-878F-FEF186C5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949-6E8A-473E-B180-25794C1B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7B3-E6AB-4BDC-BE34-C6418FBB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E1E-F59F-4E13-A275-BCC09606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FD2-86E2-428D-80A7-0DE19934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FE6-5000-486F-81FA-8B708391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54C4-DA7C-4DB4-A8F6-48DA0FFA7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0AE2-0A60-4475-8ADD-98F852BF9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9900"/>
                </a:solidFill>
                <a:latin typeface="Times New Roman"/>
              </a:rPr>
              <a:t>Разнообразие растений</a:t>
            </a:r>
            <a:endParaRPr b="1" lang="en-US" sz="9600" spc="-1" strike="noStrike">
              <a:solidFill>
                <a:srgbClr val="fffdd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Цветковые растения - гиганты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527720" cy="5040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5805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Баобаб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Эвкалипт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6120" y="1413000"/>
            <a:ext cx="4203720" cy="4680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114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Водные растения</a:t>
            </a:r>
            <a:endParaRPr b="1" lang="en-US" sz="4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194360" cy="3994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4032360" cy="41054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5877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Times New Roman"/>
              </a:rPr>
              <a:t>Лотос                  кувшинк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Насекомоядное растение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35120" y="1268280"/>
            <a:ext cx="4786560" cy="5329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551952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Росян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Times New Roman"/>
              </a:rPr>
              <a:t>Кактусы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4360" y="1557360"/>
            <a:ext cx="4141800" cy="4608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21200" y="1557360"/>
            <a:ext cx="4076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Нецветковые растения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194360" cy="432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61080" y="1268280"/>
            <a:ext cx="4076640" cy="4321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5876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Мхи: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Кукушкин лён        Сфагнум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Хвощ полевой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0960" y="1341360"/>
            <a:ext cx="4075200" cy="453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946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Папоротники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194000" cy="4176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105080" cy="4103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805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Щитовник                    Венерин воло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Хвойные растения: сосна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5118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Ель</a:t>
            </a: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                    </a:t>
            </a: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Кипарис</a:t>
            </a: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336920" cy="4826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140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Гигантская секвойя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14640" y="1125360"/>
            <a:ext cx="49165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Цветковые</a:t>
            </a:r>
            <a:r>
              <a:rPr b="1" lang="en-US" sz="4000" spc="-1" strike="noStrike">
                <a:solidFill>
                  <a:srgbClr val="fffdd1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растения: теневыносливые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6021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Ландыш                   Кислиц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878280" cy="4172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880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Светолюбивые растения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5805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Брусника              Черни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23720" y="1268280"/>
            <a:ext cx="3943440" cy="4388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46520" y="126828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29:10Z</dcterms:created>
  <dc:creator>наталия</dc:creator>
  <dc:description/>
  <dc:language>en-US</dc:language>
  <cp:lastModifiedBy>наталия</cp:lastModifiedBy>
  <dcterms:modified xsi:type="dcterms:W3CDTF">2009-03-09T19:01:33Z</dcterms:modified>
  <cp:revision>3</cp:revision>
  <dc:subject/>
  <dc:title>Слайд 1</dc:title>
</cp:coreProperties>
</file>