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jpeg" ContentType="image/jpe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1.png" ContentType="image/png"/>
  <Override PartName="/ppt/media/image4.png" ContentType="image/png"/>
  <Override PartName="/ppt/media/image19.gif" ContentType="image/gif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A2C3-F91B-46D8-93FD-699FECD64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04F8-F307-48CB-AD11-53F2CA329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479F-6D45-48D7-AB19-1585390BD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892D-5272-4EBB-92F3-E7EA0768B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EC842-D90C-46D8-8708-105ACD8C0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9F44A-2E40-4E66-BA56-ABB60EFDC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E6DC9-95C4-4F6C-A50A-C218E7BD6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2497E-C295-44B2-A962-E53CFA7CE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E324F-18B2-41DF-ADE2-8A7F742DC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A5F4E-08A8-4015-AC2E-711E43234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BDF0E-5D7F-4FA8-8831-8B526B6C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FADD-B171-4C5B-BBDB-9BC8FFFFA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1C9CD-7BF0-4A49-8162-9D84382F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CF22E-1AF3-49DC-B65D-71874942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EE436-0C92-42DD-8FE3-2204229C2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9A348-B733-43BC-BF26-B062AF931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B3050-2339-4B7B-B010-E4818371F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5FD8E-76D7-414A-8778-F727D36D0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83B45-56FA-4AC7-AAF5-EB35BD0AA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9EFC3-5443-4C29-AC83-592A5D377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D963C-D5B6-4F02-9CE6-05AFEE63F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F2D89-6CCC-4959-B465-2764C6069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B3ED-2B61-4216-8466-5EA9744D1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FEC66-9B05-4986-9A09-C824471F1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9BFC7-8536-400C-B670-33E292B7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A3CC0-71E6-4BFF-B46C-42C7D267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94096-8321-435C-981C-61E5ADBC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E6082-3DC3-4203-9C21-281CDE204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43EA2-C412-4C36-BDFA-B336A3362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CCB40-E7B7-45E1-94FC-8E6054356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CCEBC-960A-4837-B1F4-CC6C85FEE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044BB-11FF-4D4A-B591-AC3919EFC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60C03-675F-4C03-BC5C-6355E2647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6F7D-D92C-499F-96E9-E80F30E27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5EFD7-42B0-48E0-BFD2-F2F5A5EB1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619F1-E0FB-4BC5-B9BF-522C4454E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202B1-9B75-4C63-859F-3BC55F191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AC160-52E4-45BF-BF07-7B713EFF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6436F-F86F-4348-B04E-4635915B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1A010-7A33-4206-9DD6-581F1911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FDD7A-2C01-4909-8FE5-7B6466DD9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A0D28-8A1F-4033-9349-8CF1CE748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B4446-BB46-466C-8A94-9D958D81B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6040-A3A9-4ED1-A8AC-40E660EF1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10A4-07E8-4C39-9E08-8145211AB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A459-8AD4-42F4-AC18-97BE197C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C296-8569-41E7-A8BC-0DA64D58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E528-68AB-46CD-B783-7F70ACED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B8F32-70CB-4E0A-AE7D-2F8AAE583760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Группа 8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4" name="Полилиния 9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5" name="Полилиния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" name="Полилиния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8" name="Полилиния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7F7D0-7F76-4A67-9056-0925095702D5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4" name="Полилиния 9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5" name="Полилиния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Полилиния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8" name="Полилиния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31581-5E3B-4812-A4B1-8F92E1E2EBD4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с одним вырезанным скругленным углом 6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ый треугольник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олилиния 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олилиния 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7AA54-AB65-414E-9626-FC6C2F558A44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bf5f9"/>
                </a:solidFill>
                <a:latin typeface="Arial"/>
                <a:ea typeface="Arial"/>
              </a:rPr>
              <a:t>Родительское собрание</a:t>
            </a:r>
            <a:br>
              <a:rPr sz="4800"/>
            </a:br>
            <a:r>
              <a:rPr b="1" lang="ru-RU" sz="4800" spc="-1" strike="noStrike">
                <a:solidFill>
                  <a:srgbClr val="dbf5f9"/>
                </a:solidFill>
                <a:latin typeface="Arial"/>
                <a:ea typeface="Arial"/>
              </a:rPr>
              <a:t> «Права ребенка  -  обязанности родителей»</a:t>
            </a:r>
            <a:br>
              <a:rPr sz="4800"/>
            </a:br>
            <a:endParaRPr b="0" lang="en-US" sz="4800" spc="-1" strike="noStrike">
              <a:solidFill>
                <a:srgbClr val="dbf5f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50920" y="1213920"/>
            <a:ext cx="3749760" cy="464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Статья 7 и статья 8.</a:t>
            </a:r>
            <a:br>
              <a:rPr sz="2900"/>
            </a:br>
            <a:r>
              <a:rPr b="1" i="1" lang="ru-RU" sz="2900" spc="-1" strike="noStrike">
                <a:solidFill>
                  <a:srgbClr val="dbf5f9"/>
                </a:solidFill>
                <a:latin typeface="Arial"/>
                <a:ea typeface="Arial"/>
              </a:rPr>
              <a:t> Все дети имеют право на имя и на приобретение гражданства, а также они имеют право на сохранение своего имени и гражданства.</a:t>
            </a:r>
            <a:br>
              <a:rPr sz="4100"/>
            </a:br>
            <a:endParaRPr b="0" lang="en-US" sz="29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203" name="Picture 5" descr="http://www.zateevo.ru/userfiles/image/Upalnamoch_Prava/007.jpg"/>
          <p:cNvPicPr/>
          <p:nvPr/>
        </p:nvPicPr>
        <p:blipFill>
          <a:blip r:embed="rId1"/>
          <a:stretch/>
        </p:blipFill>
        <p:spPr>
          <a:xfrm>
            <a:off x="3857760" y="357120"/>
            <a:ext cx="507204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5" descr="http://www.zateevo.ru/userfiles/image/Upalnamoch_Prava/008.jpg"/>
          <p:cNvPicPr/>
          <p:nvPr/>
        </p:nvPicPr>
        <p:blipFill>
          <a:blip r:embed="rId1"/>
          <a:stretch/>
        </p:blipFill>
        <p:spPr>
          <a:xfrm>
            <a:off x="4143240" y="428760"/>
            <a:ext cx="4714920" cy="6143400"/>
          </a:xfrm>
          <a:prstGeom prst="rect">
            <a:avLst/>
          </a:prstGeom>
          <a:ln w="0">
            <a:noFill/>
          </a:ln>
        </p:spPr>
      </p:pic>
      <p:sp>
        <p:nvSpPr>
          <p:cNvPr id="205" name="Прямоугольник 4"/>
          <p:cNvSpPr/>
          <p:nvPr/>
        </p:nvSpPr>
        <p:spPr>
          <a:xfrm>
            <a:off x="179280" y="549360"/>
            <a:ext cx="4143600" cy="53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ff00"/>
                </a:solidFill>
                <a:uFillTx/>
                <a:latin typeface="Arial"/>
              </a:rPr>
              <a:t>Статья 9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Все дети имеют право жить со своими родителями, за исключением случаев, когда это невозможно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4500720" y="428400"/>
            <a:ext cx="464328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Статья 14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 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статья 15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Все дети имеют право думать обо всём так, как они хотят, они имеют право организовывать клубы по интересам и участвовать в собраниях и организациях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7" name="Object 2"/>
          <p:cNvGraphicFramePr/>
          <p:nvPr/>
        </p:nvGraphicFramePr>
        <p:xfrm>
          <a:off x="179280" y="404640"/>
          <a:ext cx="4357800" cy="585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404640"/>
                    <a:ext cx="4357800" cy="58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4714560" y="285480"/>
            <a:ext cx="442908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Прямоугольник 4"/>
          <p:cNvSpPr/>
          <p:nvPr/>
        </p:nvSpPr>
        <p:spPr>
          <a:xfrm>
            <a:off x="4643280" y="214200"/>
            <a:ext cx="4214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ff00"/>
                </a:solidFill>
                <a:uFillTx/>
                <a:latin typeface="Arial"/>
              </a:rPr>
              <a:t>Статья 34</a:t>
            </a:r>
            <a:r>
              <a:rPr b="1" i="1" lang="ru-RU" sz="36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i="1" lang="ru-RU" sz="3600" spc="-1" strike="noStrike" u="sng">
                <a:solidFill>
                  <a:srgbClr val="ffff00"/>
                </a:solidFill>
                <a:uFillTx/>
                <a:latin typeface="Arial"/>
              </a:rPr>
              <a:t>статья 35</a:t>
            </a:r>
            <a:r>
              <a:rPr b="1" i="1" lang="ru-RU" sz="3600" spc="-1" strike="noStrike">
                <a:solidFill>
                  <a:srgbClr val="ffff00"/>
                </a:solidFill>
                <a:latin typeface="Arial"/>
              </a:rPr>
              <a:t> и </a:t>
            </a:r>
            <a:r>
              <a:rPr b="1" i="1" lang="ru-RU" sz="3600" spc="-1" strike="noStrike" u="sng">
                <a:solidFill>
                  <a:srgbClr val="ffff00"/>
                </a:solidFill>
                <a:uFillTx/>
                <a:latin typeface="Arial"/>
              </a:rPr>
              <a:t>статья 36</a:t>
            </a:r>
            <a:r>
              <a:rPr b="1" i="1" lang="ru-RU" sz="36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Все дети имеют право на защиту от насилия, похищения или от любой другой формы эксплуатац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Object 2"/>
          <p:cNvGraphicFramePr/>
          <p:nvPr/>
        </p:nvGraphicFramePr>
        <p:xfrm>
          <a:off x="285840" y="714240"/>
          <a:ext cx="4286160" cy="535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714240"/>
                    <a:ext cx="4286160" cy="53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-360" y="620640"/>
            <a:ext cx="4357800" cy="35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i="1" lang="ru-RU" sz="24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Статья 24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Дети имеют право получать медицинскую помощь и лечение таким способом, который наилучшим образом поможет им сохранить здоровье, а также получать информацию о способах лечения и об условиях, способных повлиять на их здоровье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4" name="Object 2"/>
          <p:cNvGraphicFramePr/>
          <p:nvPr/>
        </p:nvGraphicFramePr>
        <p:xfrm>
          <a:off x="4459320" y="214200"/>
          <a:ext cx="4684680" cy="64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59320" y="214200"/>
                    <a:ext cx="468468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-360" y="260280"/>
            <a:ext cx="39654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i="1" lang="ru-RU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Статья 30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Все дети, принадлежащие к этническим, религиозным или языковым меньшинствам, имеют право пользоваться своей культурой, исповедовать свою религию и пользоваться родным языко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8" descr="E:\Documents and Settings\Admin\Мои документы\Мои рисунки\дети\clip_image002.gif"/>
          <p:cNvPicPr/>
          <p:nvPr/>
        </p:nvPicPr>
        <p:blipFill>
          <a:blip r:embed="rId1"/>
          <a:stretch/>
        </p:blipFill>
        <p:spPr>
          <a:xfrm>
            <a:off x="3786120" y="1143000"/>
            <a:ext cx="51436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572000" y="213840"/>
            <a:ext cx="45720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i="1" lang="ru-RU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Статья 28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 и </a:t>
            </a:r>
            <a:r>
              <a:rPr b="1" i="1" lang="ru-RU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статья 29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Все дети имеют право на получение образования, которое даёт возможность развития личности ребёнка.</a:t>
            </a:r>
            <a:r>
              <a:rPr b="1" i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5" descr="http://www.zateevo.ru/userfiles/image/Upalnamoch_Prava/017.jpg"/>
          <p:cNvPicPr/>
          <p:nvPr/>
        </p:nvPicPr>
        <p:blipFill>
          <a:blip r:embed="rId1"/>
          <a:stretch/>
        </p:blipFill>
        <p:spPr>
          <a:xfrm>
            <a:off x="0" y="214200"/>
            <a:ext cx="45720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-214560" y="0"/>
            <a:ext cx="48574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i="1" lang="ru-RU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Статья 27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Все дети имеют право на достаточно хороший уровень жизни, соответствующий установленным стандартам. Это означает, что дети должны иметь еду, одежду и жильё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6" descr="http://www.zateevo.ru/userfiles/image/Upalnamoch_Prava/016.jpg"/>
          <p:cNvPicPr/>
          <p:nvPr/>
        </p:nvPicPr>
        <p:blipFill>
          <a:blip r:embed="rId1"/>
          <a:stretch/>
        </p:blipFill>
        <p:spPr>
          <a:xfrm>
            <a:off x="4429080" y="0"/>
            <a:ext cx="4714920" cy="67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4500720" y="428400"/>
            <a:ext cx="464328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i="1" lang="ru-RU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Статья 31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Все дети имеют право играть и отдыхать в таких условиях, которые способствуют  их творческому и культурному развитию, занятием искусством, музыкой, театральными постановк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6" descr="http://www.zateevo.ru/userfiles/image/Upalnamoch_Prava/200.jpg"/>
          <p:cNvPicPr/>
          <p:nvPr/>
        </p:nvPicPr>
        <p:blipFill>
          <a:blip r:embed="rId1"/>
          <a:stretch/>
        </p:blipFill>
        <p:spPr>
          <a:xfrm>
            <a:off x="0" y="0"/>
            <a:ext cx="4786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214880" y="213840"/>
            <a:ext cx="4643280" cy="5286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МНИТЕ,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ЬЗУЯСЬ   СВОИМИ   ПРАВАМИ,   НАДО   УВАЖАТЬ ПРАВА ДРУГИХ ЛЮДЕЙ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4" descr="http://blago.katren.ru/assets/images/99_1.jpg"/>
          <p:cNvPicPr/>
          <p:nvPr/>
        </p:nvPicPr>
        <p:blipFill>
          <a:blip r:embed="rId1"/>
          <a:stretch/>
        </p:blipFill>
        <p:spPr>
          <a:xfrm>
            <a:off x="214200" y="3286080"/>
            <a:ext cx="4929480" cy="34099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H:\МАМА\Презентации\Сашина презентация\359504974.gif"/>
          <p:cNvPicPr/>
          <p:nvPr/>
        </p:nvPicPr>
        <p:blipFill>
          <a:blip r:embed="rId2"/>
          <a:stretch/>
        </p:blipFill>
        <p:spPr>
          <a:xfrm>
            <a:off x="357120" y="0"/>
            <a:ext cx="335772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Заголовок 1" descr=""/>
          <p:cNvPicPr/>
          <p:nvPr/>
        </p:nvPicPr>
        <p:blipFill>
          <a:blip r:embed="rId1"/>
          <a:stretch/>
        </p:blipFill>
        <p:spPr>
          <a:xfrm>
            <a:off x="542880" y="401760"/>
            <a:ext cx="7772400" cy="186048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539640" y="1628640"/>
            <a:ext cx="7772400" cy="2298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73000"/>
          </a:bodyPr>
          <a:p>
            <a:pPr marL="333720" indent="-33372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тоги  четвер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720" indent="-33372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исциплина на урок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720" indent="-33372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ще раз о школьной форм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720" indent="-33372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ава и обязанности родител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720" indent="-33372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полнение дневников, контроль родител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720" indent="-33372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но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3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530280" y="-79200"/>
            <a:ext cx="7772400" cy="125568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213840" y="642960"/>
            <a:ext cx="8929800" cy="621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Право на жизнь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Право на имя при рождени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Право на медицинскую помощь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Право на образовани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Право на отдых и досуг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Право иметь имущество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Право  свободно выражать свои взгляд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Право на свободное перемещени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Право на заботу и воспитание родителям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Право на всестороннее развитие и уважение человеческого достоинства( ни один ребенок не должен подвергаться жестокому обращению, насилию и оскорблениям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Право на личную жизнь, семейную жизнь, неприкосновенность жилища, тайну переписк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-365040" y="249120"/>
            <a:ext cx="9496440" cy="158616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68000" y="1341360"/>
            <a:ext cx="835164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43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1. </a:t>
            </a: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Обеспечивать и защищать права и интересы своих детей, не причиняя вред их физическому и психологическому здоровью, нравственному развитию, воспитывать детей, исключая пренебрежительное, грубое, жестокое, унижающее человеческое достоинство обращение, оскорбление, эксплуатацию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2. </a:t>
            </a: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Обеспечивать детям до 15 лет получение основного общего образования в общеобразовательной школе или другом образовательном учреждени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3. </a:t>
            </a: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Следить за внешним видом, поведением своих дете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4. </a:t>
            </a: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Обеспечивать ребенка всем необходимым для посещения школы (канцелярские принадлежности, спортивная форма, дополнительные учебные пособия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785440" cy="6335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.  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Контролировать посещаемость уроков, выполнение домашних заданий и результаты учебного процесс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6. 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ыполнять Устав образовательного учрежд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7. 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Обеспечивать базу в меру своих способностей и финансовых возможностей для всестороннего развития ребенка (на посещение театров, музеев, выставок и т.д.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8. 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Регулярно посещать родительские собрания, посещать школу по вызову классного руководителя или администра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9. 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Отпускать ребенка на внеклассные школьные мероприятия, если ребенок здоров и сам того жела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0. 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облюдать внутренний распорядок школы (забирать ребенка только после окончания урока, не отвлекать учителя вопросами во время урока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1. 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 случае причиненного ущерба имуществу школы родители обязаны возместить ег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12. В случае академической задолженности у обучающегося ответственность за ликвидацию возлагается на родите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Прямоугольник 6"/>
          <p:cNvSpPr/>
          <p:nvPr/>
        </p:nvSpPr>
        <p:spPr>
          <a:xfrm>
            <a:off x="2362320" y="2967120"/>
            <a:ext cx="183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WordArt 4"/>
          <p:cNvSpPr txBox="1"/>
          <p:nvPr/>
        </p:nvSpPr>
        <p:spPr>
          <a:xfrm>
            <a:off x="1042920" y="1484280"/>
            <a:ext cx="7274160" cy="39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entury"/>
              </a:rPr>
              <a:t>Берегите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entury"/>
              <a:ea typeface="Centur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entury"/>
              </a:rPr>
              <a:t>детей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entury"/>
              <a:ea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Заголовок 1" descr=""/>
          <p:cNvPicPr/>
          <p:nvPr/>
        </p:nvPicPr>
        <p:blipFill>
          <a:blip r:embed="rId1"/>
          <a:stretch/>
        </p:blipFill>
        <p:spPr>
          <a:xfrm>
            <a:off x="165240" y="304920"/>
            <a:ext cx="8424720" cy="1925640"/>
          </a:xfrm>
          <a:prstGeom prst="rect">
            <a:avLst/>
          </a:prstGeom>
          <a:ln w="0">
            <a:noFill/>
          </a:ln>
        </p:spPr>
      </p:pic>
      <p:pic>
        <p:nvPicPr>
          <p:cNvPr id="190" name="Диаграмма 4" descr=""/>
          <p:cNvPicPr/>
          <p:nvPr/>
        </p:nvPicPr>
        <p:blipFill>
          <a:blip r:embed="rId2"/>
          <a:stretch/>
        </p:blipFill>
        <p:spPr>
          <a:xfrm>
            <a:off x="324000" y="2060640"/>
            <a:ext cx="821052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0280" y="1316160"/>
            <a:ext cx="777240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ce4a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24000" y="692280"/>
          <a:ext cx="8208720" cy="4752720"/>
        </p:xfrm>
        <a:graphic>
          <a:graphicData uri="http://schemas.openxmlformats.org/drawingml/2006/table">
            <a:tbl>
              <a:tblPr/>
              <a:tblGrid>
                <a:gridCol w="2736720"/>
                <a:gridCol w="2735280"/>
                <a:gridCol w="2736720"/>
              </a:tblGrid>
              <a:tr h="1734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ател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четверть 2010-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четверть 2011-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певаемо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005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честв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006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323640" y="765000"/>
            <a:ext cx="835812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Цели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познакомить родителей с основными правами ребенка, провозглашенными в Конвенции о правах ребенка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Задачи:</a:t>
            </a:r>
            <a:r>
              <a:rPr b="1" lang="ru-RU" sz="3200" spc="-1" strike="noStrike">
                <a:solidFill>
                  <a:srgbClr val="e2d7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пополнить знания родителей о воспитании детей общедоступными сведениями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довести до родителей истину, что право и обязанность воспитания детей принадлежит им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оказывать помощь в разумном выстраивании отношений с ребенк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Андрей Дементьев: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2391840"/>
            <a:ext cx="822960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Arial"/>
                <a:ea typeface="Arial"/>
              </a:rPr>
              <a:t>«Сначала выполнять обязанности надо, а уж после предъявлять права».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Заголовок 1" descr=""/>
          <p:cNvPicPr/>
          <p:nvPr/>
        </p:nvPicPr>
        <p:blipFill>
          <a:blip r:embed="rId1"/>
          <a:stretch/>
        </p:blipFill>
        <p:spPr>
          <a:xfrm>
            <a:off x="122400" y="212760"/>
            <a:ext cx="9040680" cy="315288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529920" y="3285720"/>
            <a:ext cx="8256600" cy="3000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Ст. 64 Семейного кодекса Р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рава и обязанности родителей по защите прав  и интересов дете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Ст. 38 Конституции РФ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68360" y="177336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00"/>
                </a:solidFill>
                <a:latin typeface="Arial"/>
                <a:ea typeface="Arial"/>
              </a:rPr>
              <a:t>Забота о детях, их воспитание – равно право и обязанность родителей.</a:t>
            </a:r>
            <a:r>
              <a:rPr b="1" lang="ru-RU" sz="39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ctr"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Constantia"/>
              </a:rPr>
              <a:t>Родители являются законными представителями своих детей и выступают в защиту их прав и интересов в отношениях с любыми лицами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ctr"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250920" y="836280"/>
            <a:ext cx="85723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Конвенцию о правах ребенка – это важный документ, регулирующий защиту прав детей во всем мире. Конвенция – это не список прав ребенка, а перечень тех обязательств, который государства возложили на себя для защиты данных прав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Конвенция ООН о правах ребенка – это документ о правах ребенка, состоящий из 54 статей, каждая из которых описывает определенное право. Конвенция признает ребенком лицо, не достигшее 18 лет, если по законам страны возраст совершеннолетия не наступает раньше.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Когда страна подписывает эту Конвенцию, она принимает на себя обязанность предоставления этих прав всем детям без исключ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3T17:43:06Z</dcterms:created>
  <dc:creator>Пользователь</dc:creator>
  <dc:description/>
  <dc:language>en-US</dc:language>
  <cp:lastModifiedBy>Bulat</cp:lastModifiedBy>
  <dcterms:modified xsi:type="dcterms:W3CDTF">2011-12-05T14:03:40Z</dcterms:modified>
  <cp:revision>44</cp:revision>
  <dc:subject/>
  <dc:title>Переменные: тип, имя, значение</dc:title>
</cp:coreProperties>
</file>