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9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A12-180B-4FD5-81E1-91A79F3F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CC2-1324-4D75-B8B9-CB84DDCE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5DA-A34E-470B-AE30-48374A58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DE4-9BD3-4354-A417-29EA00A6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D04A-1D8F-4DE6-AC05-08716B40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5972-9E1F-48BC-AF82-D4E26A8C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4689-9260-4BEC-91C6-42C96A48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A935-A33D-43CB-B4F4-FF6FE77A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7054-D043-4B0B-8CC8-E01E3E76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F9BC-6DBC-4C54-98C2-ADA9AD89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7E92-CE3A-4D4A-8404-A492C477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ACF-D6D2-4FC7-BB6C-17ADF978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47F5-545F-49B2-970F-0E842DB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3BEE-0167-495D-9E15-E987262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2A51-28B8-4001-A087-71D3AC08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E144-F7B5-43B8-9A52-DC8A227E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16F1-65A8-4623-8E0D-AA1D50D4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C498-13A9-4BD8-A734-B78B09CE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D5DB-A31A-42E0-AF23-28A9E4A1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DF47-5F63-4943-8433-70E7D748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00D9-F035-4A49-8F9F-EEEB66C9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5D8D-43A1-4F20-8456-73F55BF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BD9-97BC-45BA-A5BB-19CA497A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F7E9-5700-409E-A948-87185A54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3F5A-D6AF-4337-9680-57DE2E51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A8E7-8017-43FB-B4F6-27D02004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B696-39B5-493F-997F-3BD355BB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90DF-A2CA-42D5-BE85-7AF46A0A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2B39F-EC39-4111-8649-D1E38E13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FE98-57D6-4C1A-8022-1424B4BA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F455-7DCE-4AC1-8DAF-3EB14682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3F8E9-D2C6-4ED5-AA32-69E9D657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8D2D-6B56-4743-9E76-84AD0138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869-B54E-46C6-887F-76772C7E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E4E40-FBD6-4642-B894-EEC3DC61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D5CC8-9F31-427F-935D-6805BA11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D1B61-F6F5-4A14-9C93-CA5B3D39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203E-7607-4F49-BBCF-3A571CB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EC0F-7738-49D6-A01A-6C052F24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9CB85-8E66-4B7D-820D-FC1CC06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A01CF-70EA-4B0E-9147-5EF00905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C7D9-1517-43AE-8957-06ED37B8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DBC4-B51D-439D-8CBB-71A8F4DA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434-477D-46F9-AA66-26ACA254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B42-EEFE-4B15-B4F3-4BBAC114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A05-94EB-4EF5-8474-C294207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CE7-8B36-4938-A71C-62370824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798-3338-43DE-BE55-7C187AAB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4A76-BD1F-4D53-9E4F-91CBEDC5BBA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2048-70B4-446D-9646-4535EB242FD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33D7-6860-4000-B1A3-19D7B55CB51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F7A4-3A3B-4F91-A9FA-679D619FD45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bf5f9"/>
                </a:solidFill>
                <a:latin typeface="Arial"/>
                <a:ea typeface="Arial"/>
              </a:rPr>
              <a:t>Родительское собрание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Arial"/>
                <a:ea typeface="Arial"/>
              </a:rPr>
              <a:t> «Права ребенка  -  обязанности родителей»</a:t>
            </a:r>
            <a:br>
              <a:rPr sz="4800"/>
            </a:b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1213920"/>
            <a:ext cx="374976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7 и статья 8.</a:t>
            </a:r>
            <a:br>
              <a:rPr sz="2900"/>
            </a:br>
            <a:r>
              <a:rPr b="1" i="1" lang="ru-RU" sz="2900" spc="-1" strike="noStrike">
                <a:solidFill>
                  <a:srgbClr val="dbf5f9"/>
                </a:solidFill>
                <a:latin typeface="Arial"/>
                <a:ea typeface="Arial"/>
              </a:rPr>
              <a:t> Все дети имеют право на имя и на приобретение гражданства, а также они имеют право на сохранение своего имени и гражданства.</a:t>
            </a:r>
            <a:br>
              <a:rPr sz="4100"/>
            </a:br>
            <a:endParaRPr b="0" lang="en-US" sz="29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03" name="Picture 5" descr="http://www.zateevo.ru/userfiles/image/Upalnamoch_Prava/007.jpg"/>
          <p:cNvPicPr/>
          <p:nvPr/>
        </p:nvPicPr>
        <p:blipFill>
          <a:blip r:embed="rId1"/>
          <a:stretch/>
        </p:blipFill>
        <p:spPr>
          <a:xfrm>
            <a:off x="3857760" y="357120"/>
            <a:ext cx="5072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http://www.zateevo.ru/userfiles/image/Upalnamoch_Prava/008.jpg"/>
          <p:cNvPicPr/>
          <p:nvPr/>
        </p:nvPicPr>
        <p:blipFill>
          <a:blip r:embed="rId1"/>
          <a:stretch/>
        </p:blipFill>
        <p:spPr>
          <a:xfrm>
            <a:off x="4143240" y="428760"/>
            <a:ext cx="4714920" cy="61434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179280" y="549360"/>
            <a:ext cx="41436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9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жить со своими родителями, за исключением случаев, когда это невозмо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00720" y="428400"/>
            <a:ext cx="4643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14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15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думать обо всём так, как они хотят, они имеют право организовывать клубы по интересам и участвовать в собраниях и организац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2"/>
          <p:cNvGraphicFramePr/>
          <p:nvPr/>
        </p:nvGraphicFramePr>
        <p:xfrm>
          <a:off x="179280" y="404640"/>
          <a:ext cx="4357800" cy="58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435780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714560" y="285480"/>
            <a:ext cx="4429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4643280" y="214200"/>
            <a:ext cx="421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4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5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6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на защиту от насилия, похищения или от любой другой формы эксплуат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285840" y="714240"/>
          <a:ext cx="428616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14240"/>
                    <a:ext cx="428616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-360" y="620640"/>
            <a:ext cx="43578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4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ти имеют право получать медицинскую помощь и лечение таким способом, который наилучшим образом поможет им сохранить здоровье, а также получать информацию о способах лечения и об условиях, способных повлиять на их здоровь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2"/>
          <p:cNvGraphicFramePr/>
          <p:nvPr/>
        </p:nvGraphicFramePr>
        <p:xfrm>
          <a:off x="4459320" y="214200"/>
          <a:ext cx="46846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214200"/>
                    <a:ext cx="468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-360" y="260280"/>
            <a:ext cx="3965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30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, принадлежащие к этническим, религиозным или языковым меньшинствам, имеют право пользоваться своей культурой, исповедовать свою религию и пользоваться родным язы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E:\Documents and Settings\Admin\Мои документы\Мои рисунки\дети\clip_image002.gif"/>
          <p:cNvPicPr/>
          <p:nvPr/>
        </p:nvPicPr>
        <p:blipFill>
          <a:blip r:embed="rId1"/>
          <a:stretch/>
        </p:blipFill>
        <p:spPr>
          <a:xfrm>
            <a:off x="3786120" y="1143000"/>
            <a:ext cx="5143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0" y="213840"/>
            <a:ext cx="4572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8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9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получение образования, которое даёт возможность развития личности ребёнка.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http://www.zateevo.ru/userfiles/image/Upalnamoch_Prava/017.jpg"/>
          <p:cNvPicPr/>
          <p:nvPr/>
        </p:nvPicPr>
        <p:blipFill>
          <a:blip r:embed="rId1"/>
          <a:stretch/>
        </p:blipFill>
        <p:spPr>
          <a:xfrm>
            <a:off x="0" y="21420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-214560" y="0"/>
            <a:ext cx="485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7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достаточно хороший уровень жизни, соответствующий установленным стандартам. Это означает, что дети должны иметь еду, одежду и жильё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http://www.zateevo.ru/userfiles/image/Upalnamoch_Prava/016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00720" y="428400"/>
            <a:ext cx="4643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31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играть и отдыхать в таких условиях, которые способствуют  их творческому и культурному развитию, занятием искусством, музыкой, театральными постанов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http://www.zateevo.ru/userfiles/image/Upalnamoch_Prava/200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214880" y="213840"/>
            <a:ext cx="4643280" cy="528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НИТЕ,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УЯСЬ   СВОИМИ   ПРАВАМИ,   НАДО   УВАЖАТЬ ПРАВА ДРУГИХ ЛЮДЕ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http://blago.katren.ru/assets/images/99_1.jpg"/>
          <p:cNvPicPr/>
          <p:nvPr/>
        </p:nvPicPr>
        <p:blipFill>
          <a:blip r:embed="rId1"/>
          <a:stretch/>
        </p:blipFill>
        <p:spPr>
          <a:xfrm>
            <a:off x="214200" y="3286080"/>
            <a:ext cx="4929480" cy="3409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:\МАМА\Презентации\Сашина презентация\359504974.gif"/>
          <p:cNvPicPr/>
          <p:nvPr/>
        </p:nvPicPr>
        <p:blipFill>
          <a:blip r:embed="rId2"/>
          <a:stretch/>
        </p:blipFill>
        <p:spPr>
          <a:xfrm>
            <a:off x="357120" y="0"/>
            <a:ext cx="33577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542880" y="401760"/>
            <a:ext cx="7772400" cy="1860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229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3000"/>
          </a:bodyPr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оги  четвер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циплина на уро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ще раз о школьной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а и обязанности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олнение дневников, контроль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-79200"/>
            <a:ext cx="7772400" cy="12556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13840" y="6429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жиз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имя при рожден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медицинскую помощ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отдых и досу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иметь имуще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 свободно выражать свои взгляд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свободное перемещ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заботу и воспитание родителя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всестороннее развитие и уважение человеческого достоинства( ни один ребенок не должен подвергаться жестокому обращению, насилию и оскорблениям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личную жизнь, семейную жизнь, неприкосновенность жилища, тайну перепис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-365040" y="249120"/>
            <a:ext cx="9496440" cy="15861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35164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Обеспечивать и защищать права и интересы своих детей, не причиняя вред их физическому и психологическому здоровью, нравственному развитию, воспитывать детей, исключая пренебрежительное, грубое, жестокое, унижающее человеческое достоинство обращение, оскорбление, эксплуатац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Обеспечивать детям до 15 лет получение основного общего образования в общеобразовательной школе или другом образовательном учрежден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Следить за внешним видом, поведением своих де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. 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Обеспечивать ребенка всем необходимым для посещения школы (канцелярские принадлежности, спортивная форма, дополнительные учебные пособи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ировать посещаемость уроков, выполнение домашних заданий и результаты учебного проце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полнять Устав образовательного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еспечивать базу в меру своих способностей и финансовых возможностей для всестороннего развития ребенка (на посещение театров, музеев, выставок и т.д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егулярно посещать родительские собрания, посещать школу по вызову классного руководителя или админист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пускать ребенка на внеклассные школьные мероприятия, если ребенок здоров и сам того жел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блюдать внутренний распорядок школы (забирать ребенка только после окончания урока, не отвлекать учителя вопросами во время уро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лучае причиненного ущерба имуществу школы родители обязаны возместить 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2. В случае академической задолженности у обучающегося ответственность за ликвидацию возлагается на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6"/>
          <p:cNvSpPr/>
          <p:nvPr/>
        </p:nvSpPr>
        <p:spPr>
          <a:xfrm>
            <a:off x="23623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1042920" y="1484280"/>
            <a:ext cx="72741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Берегит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дете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165240" y="304920"/>
            <a:ext cx="8424720" cy="1925640"/>
          </a:xfrm>
          <a:prstGeom prst="rect">
            <a:avLst/>
          </a:prstGeom>
          <a:ln w="0">
            <a:noFill/>
          </a:ln>
        </p:spPr>
      </p:pic>
      <p:pic>
        <p:nvPicPr>
          <p:cNvPr id="190" name="Диаграмма 4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2105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692280"/>
          <a:ext cx="8208720" cy="47527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73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четверть 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четверть 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вае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23640" y="765000"/>
            <a:ext cx="83581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Цели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знакомить родителей с основными правами ребенка, провозглашенными в Конвенции о правах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Задачи:</a:t>
            </a:r>
            <a:r>
              <a:rPr b="1" lang="ru-RU" sz="3200" spc="-1" strike="noStrike">
                <a:solidFill>
                  <a:srgbClr val="e2d7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пополнить знания родителей о воспитании детей общедоступными сведениям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довести до родителей истину, что право и обязанность воспитания детей принадлежит и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казывать помощь в разумном выстраивании отношений с ребен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ндрей Дементьев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39184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  <a:ea typeface="Arial"/>
              </a:rPr>
              <a:t>«Сначала выполнять обязанности надо, а уж после предъявлять права».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122400" y="212760"/>
            <a:ext cx="9040680" cy="3152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29920" y="3285720"/>
            <a:ext cx="8256600" cy="300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т. 64 Семейного кодекса Р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ава и обязанности родителей по защите прав  и интересов де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т. 38 Конституции РФ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7733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Arial"/>
                <a:ea typeface="Arial"/>
              </a:rPr>
              <a:t>Забота о детях, их воспитание – равно право и обязанность родителей.</a:t>
            </a:r>
            <a:r>
              <a:rPr b="1" lang="ru-RU" sz="39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Родители являются законными представителями своих детей и выступают в защиту их прав и интересов в отношениях с любыми лицам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50920" y="836280"/>
            <a:ext cx="8572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ю о правах ребенка – это важный документ, регулирующий защиту прав детей во всем мире. Конвенция – это не список прав ребенка, а перечень тех обязательств, который государства возложили на себя для защиты данных пра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я ООН о правах ребенка – это документ о правах ребенка, состоящий из 54 статей, каждая из которых описывает определенное право. Конвенция признает ребенком лицо, не достигшее 18 лет, если по законам страны возраст совершеннолетия не наступает раньше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гда страна подписывает эту Конвенцию, она принимает на себя обязанность предоставления этих прав всем детям без исклю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7:43:06Z</dcterms:created>
  <dc:creator>Пользователь</dc:creator>
  <dc:description/>
  <dc:language>en-US</dc:language>
  <cp:lastModifiedBy>Bulat</cp:lastModifiedBy>
  <dcterms:modified xsi:type="dcterms:W3CDTF">2011-12-05T14:03:40Z</dcterms:modified>
  <cp:revision>44</cp:revision>
  <dc:subject/>
  <dc:title>Переменные: тип, имя, значение</dc:title>
</cp:coreProperties>
</file>