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B82B-C4FB-439C-9A1E-3CC30F015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259E-4898-4821-A67E-46614A1717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5FC1-E323-42DF-AF35-10695954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A538-94F6-4818-AE24-061188E3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4062-58F2-434A-A1B9-2487BBB4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8525-3615-4E77-BD95-370D0508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00CF-C707-4CBC-9BD0-9E837CA8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6EC6-1293-4CB3-92DC-51183E34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AC83-0C69-4115-8FB6-EC2F0122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4715-CADF-492F-ACC5-E08C5785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2932-B471-4540-83F9-42B0CA73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6415-3043-482C-98BC-EA52664E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BDF6-4E4D-4FBC-8935-773A2AF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3427-9B11-4408-8915-BFE96CB3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924F-E386-426D-BA13-3B096AF7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4704-8A16-4283-837B-948E069A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8080-D251-4D77-B35B-E4019FC2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9113-7D82-4496-BDB2-00561F73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C5D0-B009-4575-9E54-A628F6EB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7CE8-73B1-4959-868B-5E3406F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21BB-5A36-4BF2-BC28-BBA730E7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1273-0040-4968-970C-6A9ED542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5703-CC22-4FAE-BFBA-A2FF3B7C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6921-EEC8-466F-94CD-C9EBFB6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B872-EE3B-4942-99D2-F0EF517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5775-20A8-4F4B-B4C3-02D5CAF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D6E0-DE79-4925-9A34-FBBC71EC7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F5CC-8D31-48BD-8B22-0BA0DBDC12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кими были великие ученые? В какое время они жили? Как к ним относились современники? Когда и как увлеклись наукой? Какие открытия совершили? Ответы на эти и другие вопросы, связанные с их жизнью и творчеством , вы сможете получить сегодня на нашем мероприятии не в готовом виде, а в результате выполнения зада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e5ff"/>
                </a:solidFill>
                <a:latin typeface="Garamond"/>
              </a:rPr>
              <a:t>До 5 дет Соня вместе с родителями жила в Москве, а с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e5e5ff"/>
                </a:solidFill>
                <a:latin typeface="Garamond"/>
              </a:rPr>
              <a:t>1855 по 1858 г. - в Калуге, куда отца перевели по делам службы. В 1858 г. В.В. Корвин-Круковский был произведен в генерал-лейтенанты, оставил службу и переехал вместе с семьей на постоянное жительство в свое имение Палибино, Невельского уезда, Витебской губернии. Здесь прошли детские и юношеские годы будущего великого математика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4" descr="polibino1"/>
          <p:cNvPicPr/>
          <p:nvPr/>
        </p:nvPicPr>
        <p:blipFill>
          <a:blip r:embed="rId1"/>
          <a:stretch/>
        </p:blipFill>
        <p:spPr>
          <a:xfrm>
            <a:off x="1258920" y="2357280"/>
            <a:ext cx="64800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360" y="449280"/>
            <a:ext cx="792792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Известно, что мать Сони, Елизавета Федоровна, была внучкой петербургского академика, астронома Федора Ивановича и дочерью почетного академика Федора Федоровича….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этого надо решить следующие задачи. Номер задачи соответствует месту буквы в слове, ответ задачи соответствует букве.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сстановите фамилию предка и деда Софьи Ковалевской по материнской лин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лесо имеет 10 спиц. Сколько промежутков между спицами?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колько детей в семье, если в семье 6 братьев и у каждого брата по сестр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у равна сумма корней квадратного трехчлена 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– 8х + 7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рышка стола имеет четыре угла. Один из них опилили. Сколько углов стало у крыш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дите в произведение 1 ∙2 ∙ 3 ∙ 4 ∙ 5 ∙ 6 последнюю цифр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у равно значение выражения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n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  <a:ea typeface="Arial"/>
              </a:rPr>
              <a:t>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+С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Ѕ </a:t>
            </a:r>
            <a:r>
              <a:rPr b="0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  <a:ea typeface="Arial"/>
              </a:rPr>
              <a:t>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28760" y="2786040"/>
          <a:ext cx="8219880" cy="1092240"/>
        </p:xfrm>
        <a:graphic>
          <a:graphicData uri="http://schemas.openxmlformats.org/drawingml/2006/table">
            <a:tbl>
              <a:tblPr/>
              <a:tblGrid>
                <a:gridCol w="1369800"/>
                <a:gridCol w="1370160"/>
                <a:gridCol w="1371600"/>
                <a:gridCol w="1368360"/>
                <a:gridCol w="1370160"/>
                <a:gridCol w="136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37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14480" cy="237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14480" cy="237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11448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Первые  уроки математики Соня и ее старшая сестра Анна получили в семье. Для воспитания и обучения сестер был приглашен  домашний учитель Иосиф Игнатович – сын мелкопоместного  шляхтича Витебской губернии,  который после окончания шестиклассного училища посвятил себя учительству, обучая детей помещиков.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135160"/>
            <a:ext cx="81486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зовите фамилию первого учителя сестер Крюковских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та фамилия записана в таблиц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шите уравнение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√х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= 12. Вы видите, что каждой фамилии соответствует числа. Фамилия учителя Ковалевских корень этого уравн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8200" y="2851200"/>
          <a:ext cx="8148600" cy="1150920"/>
        </p:xfrm>
        <a:graphic>
          <a:graphicData uri="http://schemas.openxmlformats.org/drawingml/2006/table">
            <a:tbl>
              <a:tblPr/>
              <a:tblGrid>
                <a:gridCol w="2716200"/>
                <a:gridCol w="2716200"/>
                <a:gridCol w="271620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леви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еви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шев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был талантливый педагог. К своему труду относился с увлечением, любил детей и к каждому из них находил особый подход. Он был убежден в том, что обязанностью домашнего учителя является воспитания трудолюбия, развитие познавательных способностей детей. Он считал, что русский язык – важнейший из предметов, ибо занятие русским языком развивает мышлении и дар речи. Соня писала под диктовку учителя, излагала самостоятельно устно и письменно свои мысли, училась декламировать, читала произведение русских авторов, статьи критиков. До десяти с половиной лет Соня изучала арифметику. Впоследствии она считала, что именно изучение арифметики дало ей основу математических знаний. На уроках истории учитель и ученицы читали открытки из трудов Карамзина, Соловьева, журнальные статьи. Играя  в  «путешествия», Соня знакомилась с окружающей природой. Ее интересовало все – маленькие ручейки и большие озера, земля в цветнике или в саду ,булыжники и драгоценные камни, домашние животные и  дикие звери. «Путешествия» с учителем,  Соня побывала в «европейских столицах, посетила и осмотрела музеи, библиотеки, ученые общества, университетские лекции» - все о чем Малевич рассказывал, он все видел и пережил сам. С первых уроков Малевич увидел в Соне очень внимательную и трудолюбивую учениц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есьма любопытно произошло первое знакомство Сони с высшей математикой. Случилось так, что стены в детской комнате в имении отца были оклеены лекциями по математическому анализу знаменитого математика. Как пишет Ковалевская, «от долгого ежедневного созерцания внешний вид многих формул так и врезалась в моей памяти». Через много лет преподаватель по математическому анализу удивлялся: «как скоро она усвоила понятия производной, точно она их наперед знала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Назовите  знаменитого русского ученого – математика, у которого Софья Ковалевская слушала лекции по математическому анализу. 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ому  ученому соответствует уравн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. Л. Чебыше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4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.Л. Буняковски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х – 36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.И. Сом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27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.В. Остроградски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2х + 1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.Н. Коркин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 (х – 5)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милия  лектора соответствует  то уравнение корнем которого является число 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Зимой Соня вместе со старшей сестрой  ездила в Петербург, где брала уроки у знаменательного педагога и исключительно одаренного математика.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берите  имя петербургского учителя Софьи из трех имен русских математиков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ека, записанных в таблиц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ветом является та фамилия которому соответствует, неравенство, верное при всех значениях переменной (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∞;+∞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8200" y="2924280"/>
          <a:ext cx="8148600" cy="2171520"/>
        </p:xfrm>
        <a:graphic>
          <a:graphicData uri="http://schemas.openxmlformats.org/drawingml/2006/table">
            <a:tbl>
              <a:tblPr/>
              <a:tblGrid>
                <a:gridCol w="2716200"/>
                <a:gridCol w="2716200"/>
                <a:gridCol w="2716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.В. Остроград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Л. Буняв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.Н.Страннолюб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1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1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≥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1 &gt;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34"/>
          <p:cNvSpPr/>
          <p:nvPr/>
        </p:nvSpPr>
        <p:spPr>
          <a:xfrm>
            <a:off x="905184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лександр Николаевич Страннолюбский родился на Камчатке в семье начальника области. Окончил Петербургский Морской кадетский корпус. Он мог бы сделать блестящую карьеру но судьба распорядилась так, что он стал учителем в бесплатной школе на Васильевском острове. После закрытия школы А. Н.  поступил в Морскую академию. Всю своего жизнь Страннолюбский отдавал силы знания,  любовь и время преподаванию в различных Женских курсах в кружках. 14 лет он был бессменным секретарем комитета, доставлявшего средства высшим женским курс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 имел возможности получить высшее образовании в России. С.В. выходит замуж за молодого ученого – биолога Владимира Онуфриевичем Ковалевского и выезжает в Германию. В те годы женщин не допускали в  университет, особенно на математический факультет. С.В. была настолько настойчива и целеустремленна,  что добилась того, чтобы один из крупнейших математиков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столетия проэкзаменовал ее на право быть его учениц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Знаете ли вы имя знаменитого немецкого математика, главы Берлинской математической школы, ставшего научным руководителем С.В.?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3863880"/>
            <a:ext cx="7715160" cy="15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йдите наименьшие значение функции У= |С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5х) |+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1600200"/>
          <a:ext cx="8002440" cy="197172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авид Гильбер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рл Вейерштрасс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еликс Клей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Карл Вейерштрасс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4" descr="pic"/>
          <p:cNvPicPr/>
          <p:nvPr/>
        </p:nvPicPr>
        <p:blipFill>
          <a:blip r:embed="rId1"/>
          <a:stretch/>
        </p:blipFill>
        <p:spPr>
          <a:xfrm>
            <a:off x="826920" y="162864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067280" y="1599840"/>
            <a:ext cx="4619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настоянию отца К. Вейерштрассе 4 года изучал в Бонии юридические науки, а затем оставил их, на 2 года перешел в Мюнстерскую академию и занялся математикой у профессора Гудермана ученика знаменитого Карла Якоби. 14 лет Вейерштрассе был учителем гимназии в Мюнстере и других городах Германии, по 30 часов в неделю отдавал урокам физики, математики, химии, естествознании и даже гимнастики и невзирая на такой многочасовой труд, продолжал  изучать математику выбирал самые трудные ее разделы. Имя К. Вейерштрасса стало известно в научных кругах Германии, и его пригласили на должность профессора в Берлинский университет, а  затем избрали членом Берлинской академии нау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pic"/>
          <p:cNvPicPr/>
          <p:nvPr/>
        </p:nvPicPr>
        <p:blipFill>
          <a:blip r:embed="rId2"/>
          <a:stretch/>
        </p:blipFill>
        <p:spPr>
          <a:xfrm>
            <a:off x="826920" y="1484280"/>
            <a:ext cx="3548160" cy="47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            </a:t>
            </a: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. Назовите имя первой русской женщины – математика, члена корреспондента Санкт – Петербургской Академии наук, профессора Стокгольмского университета, литература и публициста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92392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Ее жизнь – это увлекательная история о девушке, полюбившей свободу и математику , история о женщине проложившей дорогу в науку женщинам России и Европ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Женщин в Берлинский университет не допускали. Сам К. Вейерштрассе считал, что в университете, особенно на математическом факультете женщинам учиться нельзя. Ковалевская была настолько настойчива, что она добилась того, чтобы К. Вейерштрасс проэкзаменовал ее на право быть его частной ученицей. К. Вейерштрасс не верил в математические способности женщин и поэтому, чтобы освободиться от назойливой посетительницы, предложил ей для проверки знаний труднейшие задачи и пригласил ее прийти через неделю. Профессор был убежден в том, что иностранка больше не появиться , так как задания его вряд ли будет выполнено. Каково же было его удивление, когда через неделю С.В. посетила кабинет ученого и сообщила, что задачи решены. К. Вейерштрасс согласился давать способной ученице частные уроки. Он был доволен ученицей, говорил о ее значительных математических успехах, называл ее замечательной женщи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 Берлине С. Ковалевская прошла школу и начала писать работы в которых исследовали важнейшие математические вопрос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какой период времени С.В. Ковалевской была написана работа «К теории дифференциальных уравнений в частных производных»?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4360" y="1655280"/>
            <a:ext cx="7705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аблице записаны возможные временные промежу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олько корней имеет уравне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1 )(|х|-3)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2706840"/>
          <a:ext cx="7846920" cy="1761840"/>
        </p:xfrm>
        <a:graphic>
          <a:graphicData uri="http://schemas.openxmlformats.org/drawingml/2006/table">
            <a:tbl>
              <a:tblPr/>
              <a:tblGrid>
                <a:gridCol w="2614320"/>
                <a:gridCol w="2617920"/>
                <a:gridCol w="261468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2 – 18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3 – 18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4 - 18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бота Ковалевской вызвала восхищение ученых в Парижской Академии наук установили, что аналогичное сочинение, по боли частного характера еще ранее Ковалевской написал знаменитый ученый Огюстен Коши. Теорему, которую доказала С.В.К. стали называть « теоремой Коши Ковалевской». Они вошли во все курсы математического  анализа. В своем исследовании С.В. придала теореме более совершенную по точности, строгости форму, чем это было сделано у Кош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чились для Софьи недолгие ученические годы. Перед ее отъездом на родину К. Вейерштрасс написал в Геттингенский университет прошение о присуждении Ковалевской докторской степени без защиты диссертации. По ходатайству К. Вейерштрасса в Геттингенский университет С.В. Ковалевской заочно была присуждена ученая степень доктора философии с «наивысшей похвалой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В каком году С. В. была присуждена ученая степень доктора философии?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9152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начение  функц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у =(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in </a:t>
            </a:r>
            <a:r>
              <a:rPr b="1" lang="el-GR" sz="36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  <a:ea typeface="Arial"/>
              </a:rPr>
              <a:t>/2х)/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</a:t>
            </a:r>
            <a:r>
              <a:rPr b="1" lang="el-GR" sz="36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  <a:ea typeface="Arial"/>
              </a:rPr>
              <a:t>/2х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) при х = 2 соответствует этому год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1600200"/>
          <a:ext cx="8002440" cy="226692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√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/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/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24 года «с докторским  дипломат в кармане» С.В. Ковалевской приехала в С. Петербург. По  существующим в России законам женщина имела право преподавать только арифметику в младших классах  гимназии. Личная и научная жизнь Ковалевской  в этот период сложилась так, что ей пришлось отойти от занятий математики. В это время началась ее литературная  деятельность: она начала писать стихи, романы, рассказы, статьи. Сама Софья писала, что она всю жизнь не могла решить «к чему у нее больше склонность – к математике или литературе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усские ученые оказали моральную поддержку С.В.. ей было предложено выступить на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съезде русских естествоиспытателей и врачей, на котором она прочла доклад «О приведение абелевых интегралов третьего ранга к эллиптическим».  С.В. Ковалевская чтением своего доклада «произвела  впечатление» и заслужила одобрения ученых – математ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то из ученых пригласил Ковалевскую на съезд?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3573000"/>
            <a:ext cx="8148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шите неравенства |х-4|≤ 0 и вы узнаете кто пригласил  К. на съез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55640" y="1600200"/>
          <a:ext cx="7931160" cy="1844640"/>
        </p:xfrm>
        <a:graphic>
          <a:graphicData uri="http://schemas.openxmlformats.org/drawingml/2006/table">
            <a:tbl>
              <a:tblPr/>
              <a:tblGrid>
                <a:gridCol w="2643120"/>
                <a:gridCol w="2644920"/>
                <a:gridCol w="264312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обачев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быш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нделе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2d2015"/>
                          </a:solidFill>
                          <a:latin typeface="Calibri"/>
                          <a:ea typeface="Calibri"/>
                        </a:rPr>
                        <a:t>4 , х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2d2015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=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-4;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Прямоугольник 4"/>
          <p:cNvSpPr/>
          <p:nvPr/>
        </p:nvSpPr>
        <p:spPr>
          <a:xfrm>
            <a:off x="4315680" y="3228840"/>
            <a:ext cx="5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 царской России для первой женщины – математика не нашлось университетской кафедры. С.В.К. вынуждена была принять предложение занять кафедру в одном из университетов за границей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72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Знаете ли вы в каком университете С.В. согласилась заведовать кафедрой и читать лекции?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числите (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√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/ |х|)+7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4280" y="2500200"/>
          <a:ext cx="6405840" cy="1571760"/>
        </p:xfrm>
        <a:graphic>
          <a:graphicData uri="http://schemas.openxmlformats.org/drawingml/2006/table">
            <a:tbl>
              <a:tblPr/>
              <a:tblGrid>
                <a:gridCol w="2230560"/>
                <a:gridCol w="2087640"/>
                <a:gridCol w="208764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ерлин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окгольм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0; 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 каком году С.В.К. за свою работу получила премию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42960" y="3071880"/>
            <a:ext cx="71294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олько букв в имени математика ,автора теоремы «Параллельные прямые, пересекающие две данные прямые и отсекающие на одной прямой равные отрезки, отсекают равные отрезки и на другой прямой 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28840" y="2357280"/>
          <a:ext cx="6191280" cy="1214640"/>
        </p:xfrm>
        <a:graphic>
          <a:graphicData uri="http://schemas.openxmlformats.org/drawingml/2006/table">
            <a:tbl>
              <a:tblPr/>
              <a:tblGrid>
                <a:gridCol w="2127240"/>
                <a:gridCol w="2031840"/>
                <a:gridCol w="20322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6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9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В.К. стала знаменитостью. Она все чаще и чаще стала думать и хлопотать о возвращении в  России для научной работы в качестве члена Академии наук. Ковалевская, эта исключительная женщина, душой и сердцем принадлежала России, которою она беззаветно любила. О возвращении Ковалевской в Россию хлопотали ее друзья Петербургской академию наук,  по настоянию Чебышева приняла постановления о присуждении женщинам академических званий. Звание члена – корреспондента Академии наук не давало ей возможности вернувши в Россию. Пример С.В. Ковалевской первой русской женщины,  посвятившей себя науке  подействовал на других передовых женщин, которым С.В. очень помогла в их стремлении получить высшее образование и приносить пользу своему народу.  Назовем имена этих женщин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Ю.Л. Лермонтова которая одновременно с Ковалевской получила степень доктора за свои работы по хим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.М. Евреинова – первая женщина – юрист Росс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.Ф. Литвинова получила степень доктора математики и лингвист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dded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314280"/>
            <a:ext cx="8071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каком году умерла С.В. Ковалевская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1428480"/>
            <a:ext cx="6400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.В.К. умерла внезапно в Швеции не испытав радость возвращения на родин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Правильному ответу соответствует решение неравенства х</a:t>
            </a:r>
            <a:r>
              <a:rPr b="0" lang="ru-RU" sz="3200" spc="-1" strike="noStrike" baseline="30000">
                <a:solidFill>
                  <a:srgbClr val="800000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- 9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≥</a:t>
            </a:r>
            <a:r>
              <a:rPr b="0" lang="ru-RU" sz="3200" spc="-1" strike="noStrike" baseline="30000">
                <a:solidFill>
                  <a:srgbClr val="8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28840" y="2428920"/>
          <a:ext cx="6095880" cy="1571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3 &lt; х &lt;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Х &lt;-3, х = -3 ,          Х≥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[-3 ; 3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429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берите ее имя из четырех имен известных женщин, каждому из которых соответствует набор из единиц и нул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равильному ответу на вопрос соответствует набор, имеющий некоторое отличительное свойство по сравнению с тремя другими наборами. Угадайте это свойства и назовите имя профессора Стокгольмского университета.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а Августа Лавлейс – 1100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фи Жермен      –       1010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катерина Дашкова – 011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фья Ковалевская – 1011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5ff"/>
                </a:solidFill>
                <a:latin typeface="Garamond"/>
              </a:rPr>
              <a:t>Скончалась С.В.Ковалевская 10 февраля 1891 г. в Стокгольме от воспаления легких. Прощаясь С Ковалевской ,Фриц Леффлер написал стихотворения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71680" y="1357200"/>
            <a:ext cx="37144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уша из пламени и дум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истал ли твой корабль воздушны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 стране, куда парил твой ум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изыву истины послушный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ощай ! Тебя мы свято чти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вой прах  в могиле оставля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усть шведская земля над ни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ежит легко ,не подавляя.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ощай !Со славою твое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ы. Навсегда расставшись нам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Жить будешь в памяти люде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 другими славными умам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куда чудный звездный све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 небес на землю  будет литьс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льцо Сатурна не затмитс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Софья Ковалевская – царица математики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036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а прожила короткую, но яркую жизнь. Много ей довелось пережить: научную славу и литературное признание, сомнение и неуверенность, недовольство собой и одиночеств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koval"/>
          <p:cNvPicPr/>
          <p:nvPr/>
        </p:nvPicPr>
        <p:blipFill>
          <a:blip r:embed="rId1"/>
          <a:stretch/>
        </p:blipFill>
        <p:spPr>
          <a:xfrm>
            <a:off x="395280" y="1341360"/>
            <a:ext cx="3313080" cy="453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koval"/>
          <p:cNvPicPr/>
          <p:nvPr/>
        </p:nvPicPr>
        <p:blipFill>
          <a:blip r:embed="rId2"/>
          <a:stretch/>
        </p:blipFill>
        <p:spPr>
          <a:xfrm>
            <a:off x="395280" y="1197000"/>
            <a:ext cx="34574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onja"/>
          <p:cNvPicPr/>
          <p:nvPr/>
        </p:nvPicPr>
        <p:blipFill>
          <a:blip r:embed="rId1"/>
          <a:stretch/>
        </p:blipFill>
        <p:spPr>
          <a:xfrm>
            <a:off x="938160" y="1557360"/>
            <a:ext cx="3048120" cy="4568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753080" y="1655280"/>
            <a:ext cx="37432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Я чувствую, ч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едназначена служи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истине – науке, 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окладывать  новый  путь женщинам, потому ч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это значи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лужить справедлив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. Ковалев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sonja"/>
          <p:cNvPicPr/>
          <p:nvPr/>
        </p:nvPicPr>
        <p:blipFill>
          <a:blip r:embed="rId2"/>
          <a:stretch/>
        </p:blipFill>
        <p:spPr>
          <a:xfrm>
            <a:off x="971640" y="1449360"/>
            <a:ext cx="3120840" cy="467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onja"/>
          <p:cNvPicPr/>
          <p:nvPr/>
        </p:nvPicPr>
        <p:blipFill>
          <a:blip r:embed="rId3"/>
          <a:stretch/>
        </p:blipFill>
        <p:spPr>
          <a:xfrm>
            <a:off x="938160" y="1521000"/>
            <a:ext cx="3048120" cy="456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onja"/>
          <p:cNvPicPr/>
          <p:nvPr/>
        </p:nvPicPr>
        <p:blipFill>
          <a:blip r:embed="rId4"/>
          <a:stretch/>
        </p:blipFill>
        <p:spPr>
          <a:xfrm>
            <a:off x="971640" y="1413000"/>
            <a:ext cx="312084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Справка</a:t>
            </a: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а Августа Лавлейс, дочь Байрона – первая программистка , сотрудничала с изобретателем вычислительных машин Ч. Бэбиджем, в честь ее один из языков программирования назван «Ад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фи Жермен  в 1808 году получила Наполеоновскую премию парижской Академии наук за исследования по теории упруг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катерина Романовна Дашкова – русская княгиня, директор Санкт – Петербургской Академии нау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В каком году родилась С.В. Ковалевская?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627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од рождения Софьи Васильевны записан в таблице и является годом, которые нарушает общее свойство, присущее двум другим годам. Угадайте этот го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19240" y="4079880"/>
          <a:ext cx="7567560" cy="1133640"/>
        </p:xfrm>
        <a:graphic>
          <a:graphicData uri="http://schemas.openxmlformats.org/drawingml/2006/table">
            <a:tbl>
              <a:tblPr/>
              <a:tblGrid>
                <a:gridCol w="2523960"/>
                <a:gridCol w="2519640"/>
                <a:gridCol w="252396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49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50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53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ец С. В. Генерал – лейтенант артиллерии  Василий Васильевич Корвин – Круковский вышел в отставку и уехал с семьей из Москвы в свое родовое поместье, которое находилось на границе с Литвой. Сейчас – это Псковская земля. Красота имения была необычной: вокруг его на сотни километров простирались леса, богатые ягодами, грибами, зайцами, птицами и барсуками. Большой господский дом стоял на пригорке. Два флигеля, трехъярусная башня, увенчанная шпилем, балконы, фонари, веранды украшали дом. С одной стороны к усадьбе примыкал матовый бор, с другой – дубовая роща, дом был окружен садом с беседками, утопающими в сирени и жасмине, а с северной стороны зарастал травами большой пру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Знаете ли вы название имения Круковских?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85952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но записано в таблице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исло, записанное под названием  имении Круковских равно количеству верных высказываний среди следую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тив большего угла в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Δ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лежит большая  стор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длины сторон  равны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Δ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/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/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/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, то треугольник прямоуго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существует треугольник со сторонами 2, 3,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мма углов треугольника равна 180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268280"/>
          <a:ext cx="8291520" cy="1081080"/>
        </p:xfrm>
        <a:graphic>
          <a:graphicData uri="http://schemas.openxmlformats.org/drawingml/2006/table">
            <a:tbl>
              <a:tblPr/>
              <a:tblGrid>
                <a:gridCol w="1800360"/>
                <a:gridCol w="1944720"/>
                <a:gridCol w="251928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рели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вон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либи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рьи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20:25:48Z</dcterms:created>
  <dc:creator>Старо-Матакская СОШ</dc:creator>
  <dc:description/>
  <dc:language>en-US</dc:language>
  <cp:lastModifiedBy>нина николаевна</cp:lastModifiedBy>
  <dcterms:modified xsi:type="dcterms:W3CDTF">2010-12-12T18:52:41Z</dcterms:modified>
  <cp:revision>41</cp:revision>
  <dc:subject/>
  <dc:title>Софья Ковалевская – царица математики </dc:title>
</cp:coreProperties>
</file>