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E186-57C8-472F-AF7D-BF74469B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B533-0937-481C-83E7-8ABF9FEC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363B-A9F0-4B4B-9FFB-A5A5E3E6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9061-0E69-4ED1-BA27-2B0BFD12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50EF-1ECD-422A-B420-6EAACC51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CAF8-0525-408C-8B4D-6BB299C6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F838-77E3-4FBE-A131-3852E589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9C9B-0902-40C9-AFAB-629D0838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E3CC-A046-48E5-9488-5F316018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E361-21C1-42F7-AF94-AD35DBCA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6754-993A-47D5-B9EE-8D3948C3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F7C0-F41A-47F5-81BB-0A8165CE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1539-0E13-4F8C-B0A0-656F3FED3E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8000"/>
                </a:solidFill>
                <a:latin typeface="Arial"/>
              </a:rPr>
              <a:t>Тренинг</a:t>
            </a:r>
            <a:br>
              <a:rPr sz="7200"/>
            </a:br>
            <a:r>
              <a:rPr b="0" i="1" lang="ru-RU" sz="3200" spc="-1" strike="noStrike">
                <a:solidFill>
                  <a:srgbClr val="008000"/>
                </a:solidFill>
                <a:latin typeface="Arial"/>
              </a:rPr>
              <a:t>(склонение, падеж имён существительны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43680" y="5429160"/>
            <a:ext cx="400032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a2620"/>
                </a:solidFill>
                <a:latin typeface="Arial"/>
              </a:rPr>
              <a:t>Приходько Л.А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a262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a2620"/>
                </a:solidFill>
                <a:latin typeface="Arial"/>
              </a:rPr>
              <a:t>МОУ «СОШ №8 г.Выборг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-132480"/>
            <a:ext cx="5727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4000" y="119700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7236000" y="1197000"/>
            <a:ext cx="5029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 flipV="1">
            <a:off x="7451640" y="9075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 flipH="1">
            <a:off x="5076360" y="90792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5076720" y="90792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7380360" y="2349360"/>
            <a:ext cx="5032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 flipV="1">
            <a:off x="7596360" y="2060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H="1">
            <a:off x="5148360" y="206064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5148360" y="2060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6877080" y="3500280"/>
            <a:ext cx="5032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 flipV="1">
            <a:off x="7093080" y="3068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 flipH="1">
            <a:off x="4571640" y="306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4572000" y="3068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7236000" y="4653000"/>
            <a:ext cx="5029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7"/>
          <p:cNvSpPr/>
          <p:nvPr/>
        </p:nvSpPr>
        <p:spPr>
          <a:xfrm flipV="1">
            <a:off x="7451640" y="42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 flipH="1">
            <a:off x="4716360" y="429264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471636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7596360" y="5805360"/>
            <a:ext cx="5047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1"/>
          <p:cNvSpPr/>
          <p:nvPr/>
        </p:nvSpPr>
        <p:spPr>
          <a:xfrm flipV="1">
            <a:off x="7812000" y="54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2"/>
          <p:cNvSpPr/>
          <p:nvPr/>
        </p:nvSpPr>
        <p:spPr>
          <a:xfrm flipH="1">
            <a:off x="5148000" y="544500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3"/>
          <p:cNvSpPr/>
          <p:nvPr/>
        </p:nvSpPr>
        <p:spPr>
          <a:xfrm>
            <a:off x="5148360" y="544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1763640" y="1197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шел в мас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5148360" y="1197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кл., П.п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1476360" y="23493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ыгнул с печ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5364000" y="234936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кл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,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Р.п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1763640" y="3500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га в гипс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4716360" y="35733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кл.,П.п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08000" y="472428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умать о дич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5003640" y="472428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кл.,П.п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2"/>
          <p:cNvSpPr/>
          <p:nvPr/>
        </p:nvSpPr>
        <p:spPr>
          <a:xfrm>
            <a:off x="1116000" y="5805360"/>
            <a:ext cx="42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тюм на артис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3"/>
          <p:cNvSpPr/>
          <p:nvPr/>
        </p:nvSpPr>
        <p:spPr>
          <a:xfrm>
            <a:off x="5364000" y="587700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кл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, П.п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7524720" y="692280"/>
            <a:ext cx="5745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 flipV="1">
            <a:off x="7740720" y="33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 flipH="1">
            <a:off x="4211280" y="33336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4211640" y="33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6948360" y="1916280"/>
            <a:ext cx="505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 flipV="1">
            <a:off x="7093080" y="1484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 flipH="1">
            <a:off x="421164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1"/>
          <p:cNvSpPr/>
          <p:nvPr/>
        </p:nvSpPr>
        <p:spPr>
          <a:xfrm>
            <a:off x="4211640" y="1484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6372360" y="321300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6877080" y="2997360"/>
            <a:ext cx="5047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4"/>
          <p:cNvSpPr/>
          <p:nvPr/>
        </p:nvSpPr>
        <p:spPr>
          <a:xfrm flipV="1">
            <a:off x="7093080" y="2707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5"/>
          <p:cNvSpPr/>
          <p:nvPr/>
        </p:nvSpPr>
        <p:spPr>
          <a:xfrm flipH="1">
            <a:off x="3995640" y="2708280"/>
            <a:ext cx="30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6"/>
          <p:cNvSpPr/>
          <p:nvPr/>
        </p:nvSpPr>
        <p:spPr>
          <a:xfrm>
            <a:off x="3995640" y="270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6804000" y="4292640"/>
            <a:ext cx="43200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8"/>
          <p:cNvSpPr/>
          <p:nvPr/>
        </p:nvSpPr>
        <p:spPr>
          <a:xfrm flipV="1">
            <a:off x="7020000" y="393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9"/>
          <p:cNvSpPr/>
          <p:nvPr/>
        </p:nvSpPr>
        <p:spPr>
          <a:xfrm flipH="1">
            <a:off x="3924000" y="393372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3924360" y="3933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6516720" y="5445000"/>
            <a:ext cx="5047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3"/>
          <p:cNvSpPr/>
          <p:nvPr/>
        </p:nvSpPr>
        <p:spPr>
          <a:xfrm flipV="1">
            <a:off x="6732720" y="50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4"/>
          <p:cNvSpPr/>
          <p:nvPr/>
        </p:nvSpPr>
        <p:spPr>
          <a:xfrm flipH="1">
            <a:off x="3564000" y="508464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5"/>
          <p:cNvSpPr/>
          <p:nvPr/>
        </p:nvSpPr>
        <p:spPr>
          <a:xfrm>
            <a:off x="3564000" y="508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0" y="76500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омат около сире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4643280" y="76500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II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кл., Р.п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8"/>
          <p:cNvSpPr/>
          <p:nvPr/>
        </p:nvSpPr>
        <p:spPr>
          <a:xfrm>
            <a:off x="250920" y="1989000"/>
            <a:ext cx="44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жим для бумаж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4356000" y="198900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кл., Р.п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0"/>
          <p:cNvSpPr/>
          <p:nvPr/>
        </p:nvSpPr>
        <p:spPr>
          <a:xfrm>
            <a:off x="250920" y="306864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нулся к матер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1"/>
          <p:cNvSpPr/>
          <p:nvPr/>
        </p:nvSpPr>
        <p:spPr>
          <a:xfrm>
            <a:off x="4140360" y="306864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II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кл., Д.п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2"/>
          <p:cNvSpPr/>
          <p:nvPr/>
        </p:nvSpPr>
        <p:spPr>
          <a:xfrm>
            <a:off x="0" y="4292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ать на бараба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3"/>
          <p:cNvSpPr/>
          <p:nvPr/>
        </p:nvSpPr>
        <p:spPr>
          <a:xfrm>
            <a:off x="3995640" y="4292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кл., П.п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4"/>
          <p:cNvSpPr/>
          <p:nvPr/>
        </p:nvSpPr>
        <p:spPr>
          <a:xfrm>
            <a:off x="108000" y="544500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а для бродяг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5"/>
          <p:cNvSpPr/>
          <p:nvPr/>
        </p:nvSpPr>
        <p:spPr>
          <a:xfrm>
            <a:off x="3708360" y="5445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кл., Р.п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227640" y="907920"/>
            <a:ext cx="5032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 flipV="1">
            <a:off x="6372360" y="475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 flipH="1">
            <a:off x="3492360" y="476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3492360" y="47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451640" y="1989000"/>
            <a:ext cx="57636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 flipV="1">
            <a:off x="7667640" y="155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0"/>
          <p:cNvSpPr/>
          <p:nvPr/>
        </p:nvSpPr>
        <p:spPr>
          <a:xfrm flipH="1">
            <a:off x="5003640" y="155736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5003640" y="1557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6012000" y="3213000"/>
            <a:ext cx="5047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 flipV="1">
            <a:off x="6227640" y="278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 flipH="1">
            <a:off x="3850920" y="278136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3851280" y="278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6659640" y="4365720"/>
            <a:ext cx="5032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687708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 flipH="1">
            <a:off x="3779640" y="4005360"/>
            <a:ext cx="31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3780000" y="4005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0" y="9079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ть в роскош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3635280" y="90792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II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кл., П.п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0" y="1989000"/>
            <a:ext cx="52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ехали на автомоб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5148360" y="19890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скл., П.п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4"/>
          <p:cNvSpPr/>
          <p:nvPr/>
        </p:nvSpPr>
        <p:spPr>
          <a:xfrm>
            <a:off x="0" y="3213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но для Бурен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3924360" y="3213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кл., Р.п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0" y="4365720"/>
            <a:ext cx="42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ски на арбуз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3995640" y="436572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кл., П.п.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-720" y="5516640"/>
            <a:ext cx="39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жал по тропин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4066560" y="544500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кл., Д.п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0"/>
          <p:cNvSpPr/>
          <p:nvPr/>
        </p:nvSpPr>
        <p:spPr>
          <a:xfrm>
            <a:off x="6732720" y="5589720"/>
            <a:ext cx="5032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1"/>
          <p:cNvSpPr/>
          <p:nvPr/>
        </p:nvSpPr>
        <p:spPr>
          <a:xfrm flipV="1">
            <a:off x="3708360" y="515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2"/>
          <p:cNvSpPr/>
          <p:nvPr/>
        </p:nvSpPr>
        <p:spPr>
          <a:xfrm flipV="1">
            <a:off x="6877080" y="515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3"/>
          <p:cNvSpPr/>
          <p:nvPr/>
        </p:nvSpPr>
        <p:spPr>
          <a:xfrm flipH="1">
            <a:off x="3708360" y="5157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21:43:40Z</dcterms:created>
  <dc:creator>Admin</dc:creator>
  <dc:description/>
  <dc:language>en-US</dc:language>
  <cp:lastModifiedBy>FIRST</cp:lastModifiedBy>
  <dcterms:modified xsi:type="dcterms:W3CDTF">2011-12-05T15:45:52Z</dcterms:modified>
  <cp:revision>10</cp:revision>
  <dc:subject/>
  <dc:title>Тренинг</dc:title>
</cp:coreProperties>
</file>