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03D-0AA9-460E-A11F-F6E6DF55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8B9-B861-43EE-83E9-4BDAC875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79C-BDDE-4027-8E7B-FC7A24EE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532-1465-4F4C-AE61-D6E63E2F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298-F4B5-467A-8E59-80E529DB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C30-6183-4B3D-9AD1-1B01ABBB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447-4245-4EA7-80E8-B74D5FA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191-3BC4-4A29-AFEB-8197D94B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879-6325-4BCC-801D-8C32763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216-772C-4123-ACA2-D7602F79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E02-BF8C-4B6E-BFF3-92F3214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A03-8360-4384-BA97-A72326DB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0305-D7FD-4F53-BB18-36DD9C56E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8000"/>
                </a:solidFill>
                <a:latin typeface="Arial"/>
              </a:rPr>
              <a:t>Тренинг</a:t>
            </a:r>
            <a:br>
              <a:rPr sz="7200"/>
            </a:b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(склонение, падеж имён существитель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3680" y="5429160"/>
            <a:ext cx="400032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a2620"/>
                </a:solidFill>
                <a:latin typeface="Arial"/>
              </a:rPr>
              <a:t>Приходько Л.А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a262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a2620"/>
                </a:solidFill>
                <a:latin typeface="Arial"/>
              </a:rPr>
              <a:t>МОУ «СОШ №8 г.Выбор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132480"/>
            <a:ext cx="5727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236000" y="1197000"/>
            <a:ext cx="5029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V="1">
            <a:off x="7451640" y="907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5076360" y="90792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5076720" y="9079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380360" y="2349360"/>
            <a:ext cx="503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7596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>
            <a:off x="5148360" y="2060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514836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877080" y="3500280"/>
            <a:ext cx="50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V="1">
            <a:off x="7093080" y="3068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>
            <a:off x="4571640" y="306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572000" y="306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236000" y="4653000"/>
            <a:ext cx="5029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 flipV="1">
            <a:off x="745164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4716360" y="4292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4716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596360" y="5805360"/>
            <a:ext cx="504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V="1">
            <a:off x="7812000" y="54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 flipH="1">
            <a:off x="5148000" y="5445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148360" y="544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763640" y="1197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шел в мас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148360" y="1197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476360" y="2349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ыгнул с печ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5364000" y="2349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,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1763640" y="350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га в гип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4716360" y="357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08000" y="472428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мать о ди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003640" y="472428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1116000" y="5805360"/>
            <a:ext cx="42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тюм на артис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5364000" y="587700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524720" y="692280"/>
            <a:ext cx="5745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7740720" y="33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4211280" y="33336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4211640" y="3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948360" y="1916280"/>
            <a:ext cx="505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V="1">
            <a:off x="709308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 flipH="1">
            <a:off x="421164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421164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372360" y="3213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77080" y="2997360"/>
            <a:ext cx="50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709308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H="1">
            <a:off x="3995640" y="270828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399564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6804000" y="4292640"/>
            <a:ext cx="4320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 flipV="1">
            <a:off x="7020000" y="393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 flipH="1">
            <a:off x="3924000" y="3933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924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6516720" y="5445000"/>
            <a:ext cx="50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V="1">
            <a:off x="6732720" y="50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 flipH="1">
            <a:off x="3564000" y="5084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>
            <a:off x="3564000" y="508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0" y="76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омат около сире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643280" y="765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250920" y="198900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жим для бумаж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4356000" y="1989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250920" y="3068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нулся к мате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4140360" y="30686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Д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0" y="429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ть на бараба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3995640" y="429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108000" y="544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а для бродяг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5"/>
          <p:cNvSpPr/>
          <p:nvPr/>
        </p:nvSpPr>
        <p:spPr>
          <a:xfrm>
            <a:off x="3708360" y="5445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227640" y="907920"/>
            <a:ext cx="503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6372360" y="475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3492360" y="476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349236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451640" y="1989000"/>
            <a:ext cx="5763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 flipV="1">
            <a:off x="7667640" y="155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5003640" y="1557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003640" y="15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6012000" y="3213000"/>
            <a:ext cx="50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6227640" y="278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850920" y="2781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6659640" y="4365720"/>
            <a:ext cx="503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687708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3779640" y="400536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378000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0" y="907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ть в роскош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635280" y="9079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0" y="1989000"/>
            <a:ext cx="52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хали на автомоб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148360" y="1989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кл., П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о для Бурен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3924360" y="3213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Р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0" y="43657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ски на арбу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995640" y="436572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П.п.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-720" y="551664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жал по тропин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4066560" y="544500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л., Д.п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6732720" y="5589720"/>
            <a:ext cx="5032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 flipV="1">
            <a:off x="3708360" y="515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 flipV="1">
            <a:off x="6877080" y="515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 flipH="1">
            <a:off x="3708360" y="5157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1:43:40Z</dcterms:created>
  <dc:creator>Admin</dc:creator>
  <dc:description/>
  <dc:language>en-US</dc:language>
  <cp:lastModifiedBy>FIRST</cp:lastModifiedBy>
  <dcterms:modified xsi:type="dcterms:W3CDTF">2011-12-05T15:45:52Z</dcterms:modified>
  <cp:revision>10</cp:revision>
  <dc:subject/>
  <dc:title>Тренинг</dc:title>
</cp:coreProperties>
</file>