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7.jpeg" ContentType="image/jpeg"/>
  <Override PartName="/ppt/media/image26.jpeg" ContentType="image/jpeg"/>
  <Override PartName="/ppt/media/image24.gif" ContentType="image/gif"/>
  <Override PartName="/ppt/media/image17.png" ContentType="image/png"/>
  <Override PartName="/ppt/media/image32.jpeg" ContentType="image/jpeg"/>
  <Override PartName="/ppt/media/image23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33.gif" ContentType="image/gif"/>
  <Override PartName="/ppt/media/image34.jpeg" ContentType="image/jpeg"/>
  <Override PartName="/ppt/media/image35.gif" ContentType="image/gif"/>
  <Override PartName="/ppt/media/image7.jpeg" ContentType="image/jpeg"/>
  <Override PartName="/ppt/media/image15.gif" ContentType="image/gif"/>
  <Override PartName="/ppt/media/camera.wav" ContentType="audio/x-wav"/>
  <Override PartName="/ppt/media/image2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18.jpeg" ContentType="image/jpeg"/>
  <Override PartName="/ppt/media/image22.gif" ContentType="image/gif"/>
  <Override PartName="/ppt/media/image3.png" ContentType="image/png"/>
  <Override PartName="/ppt/media/image1.jpeg" ContentType="image/jpeg"/>
  <Override PartName="/ppt/media/image13.gif" ContentType="image/gif"/>
  <Override PartName="/ppt/media/image16.jpeg" ContentType="image/jpeg"/>
  <Override PartName="/ppt/media/image14.gif" ContentType="image/gif"/>
  <Override PartName="/ppt/media/image19.jpeg" ContentType="image/jpeg"/>
  <Override PartName="/ppt/media/image2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528-55B6-488C-9E91-FA4367E9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EA8-56DF-4667-8DEC-90380396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B508C-6328-4FE1-973F-E151F199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61E6B-395C-4B48-BF9C-C5E48A57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7B33E-38B2-4F82-BDBF-A42C87B6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6E0DD-D30F-4327-9277-3954508E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0C496-C68E-4B64-97A1-9DD67FCC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64E6E-546C-4098-B4D0-2BBDBE3F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656A5-DFD0-4007-B690-F83FF981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B6BEC-CC98-49F2-A47F-FE3F080E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9E03D-2F81-47C8-B46E-63736F36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BD1EC-D88E-44F7-8099-8DE84A9C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64D-5D8E-4B8A-8DF4-3670ADDC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712AF-C06B-470D-B444-BC1AA175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C9D4C-B4F2-4041-8017-D3509767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77018-07E9-4D9B-BC1E-195C424D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C85A0-3EDF-490D-B761-A50BB0B7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8867C-F271-4B66-87C6-12C4A7D7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400E6-591F-474E-B525-28BA7AFA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05E20-3F08-4EDC-B066-43FD54F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180C9-2F25-4256-A2E2-6006295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F2AF9-ACC4-4E9C-9D96-CB337454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08130-46C6-4CB9-882A-EADA4392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1B0-8E83-4029-891F-D782A4AE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37016-2AF5-47AA-9AA9-0982451A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2D4B0-048A-40D2-9F50-2BDB906D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01AC4-0EAD-4E4C-8C9B-7B3AB593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0C8FA-9170-4B25-BF10-584483EC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2CB20-6646-4CE4-925D-5C84861B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B592B-0F37-4F1D-94AA-439F092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8CAF6-46A9-4182-827D-D5A9A73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9DF2A-F605-42A2-912E-67A5ECA7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80FC8-AE61-43B0-8ED3-FB7D09FE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C22B2-5A47-490F-9761-FA6EBB8D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56A2-A3D8-4FB4-84F5-1B145EA1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9B0A6-5E46-4879-BDA1-57425E07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DD343-60FB-4DD4-8F6C-3A429CC3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0B95B-F167-40D5-AE62-758BEF88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BFD17-9AE8-410C-9866-E6B8F328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569D3-3334-48F3-B8E1-3D497919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0890C-8980-4E71-8FF0-2BF55B75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0093E-A5E7-42A4-8888-8C4C4704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8EFC7-0625-4E37-9369-AC4C3484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64650-3790-4751-B40B-7D176770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DBC4B-639E-45E9-BFB2-2E1FA98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8B65-5165-4C37-843B-D7700933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D94D5-2711-472B-B16E-2A021094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C5F33-B790-4FDF-8920-0F5738A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217C1-1BB7-4227-A91A-75DABF41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63588-2366-4FB6-927F-DC0DC425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6E406-0E45-4425-A115-92A62EB1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2C1C4-1365-4BC5-B48F-0192919E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FA290-61D3-4842-81FB-48FBDD9F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89035-A487-44B9-A83B-A2FB4888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EE2ED-72D6-42FA-B03B-E68AF509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F44AD-AB4C-4681-96B3-AEC973EC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4E04-E4AE-4CD9-B652-3D7A385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C7AB5-E187-4E69-87D9-5C4687F5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239C2-09F9-4348-A23A-D3B12385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325C3-5F2C-4395-9D19-18AB0A1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448CB-D41E-4911-AA5C-21305447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6764F-EE24-4A08-82F8-F359E10D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B846C-F172-4A39-B42D-0E9D120E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493DA-4FAF-4E75-8A4B-BC3F4797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43BD-7CAD-474D-B437-4E56A1A9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53D6-14DB-4F18-A975-1A68B4F1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8919-0229-468E-9387-CE4BB2F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7D44-DDA0-47DA-A9AF-ECE9E7E6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B33-B59F-4DE6-B8E5-80078D0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3637-AA3E-4255-BDBD-0681D4AE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0FE6-4D76-44CB-91C7-0C83C2E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5B21-9F26-4EAC-9F71-1E7008F6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A837-40E7-411E-B13C-32CCA758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701F-23B1-4D41-8A75-E8CEC153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FB45-1FA6-434D-A1D9-3CFCF00B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7872-8EF8-4409-86D1-E4AE103E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BCFA-34C4-4C0B-B1AB-5A02D82B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2C2A-769C-44FE-BFC4-DB40F61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95EA-33C0-4B2C-BF3A-2A4ED462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EB2-9452-44D2-87AC-21CC44A8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FDA5-E6FA-4ED1-95F3-167A4A51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2B54-2A9F-40CC-848F-A0DA448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A9EA-6CD8-429B-AE71-A1673DDC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BC39-869E-4349-BBAF-AE194CAC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5B43-025E-4076-B78C-2DDB298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6585-8DAD-4952-BF3C-1F931E43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F3FD-154C-4B9F-82D5-7E7155F7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7663-4300-4441-AE19-51F55F3D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2E184-EE5A-4A02-8C8F-0E75736E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15F9-BE1B-4F62-B2A3-FF737CBA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A11-C0EB-4B56-AB21-89BFBF36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3775D-F926-4E05-89EE-A2DC51DC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0474-3163-4859-A48E-E5FEFE4E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A8988-59D6-4316-BDB7-A42615A6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9006F-0AB1-4FC0-AB62-566D6C1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C65D-EA49-4FEF-80F9-BC283AF7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A870-580D-463A-A304-FBCB736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07784-C481-4FAB-9559-96CA1D60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941B-DDBD-4A96-8F68-F4F9BBFA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B18C-4A1B-45C7-AD92-EA4CE3BB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C8D3F-E2C2-45A3-8FF9-ED57B7B6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82B-7DB5-49C9-AA7B-F635D740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8D10-CF18-4747-8236-A9092F67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27785-21AD-442E-A722-2696B3E9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98BE8-2229-4A72-A3D3-50076D2E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8A91-1010-4F3C-A4AA-A06439EA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6CF6-FBC0-4227-A98A-C17C3CDB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5ADA-9B24-401E-9F3E-F000B3B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A460-A418-471D-8930-53E6B671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FC5F4-6597-478A-8BC2-E8A558DD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95023-4F3E-4F31-BAD4-967BD004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18400-B56E-4EF0-AA28-B8473CEA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F1E-B98A-4A80-BE0B-C578FC42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CFC4C-E696-4564-BBC3-BBAAA942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3D09-20F2-4B41-A1BD-7AF0F32D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02B27-100D-417F-AB6B-096057A7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180B-6916-468D-908D-42C540F8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5C931-9DA0-4116-93B5-9FCFA235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BC4B7-910A-44CE-9A1C-FCF8631C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5F10C-248D-4BC2-97A4-727CFB89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0159E-AFC0-4B91-AF1F-1C6A0459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F1BC9-E55A-4561-A244-ED04DF58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2B4E-53C1-4083-AA00-61090F75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578-9035-4D13-816D-4816D1D1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4CF97-7EBC-4FB1-AEA0-52D5714A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BA79-ED94-402A-BBA2-9E1B069D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A076-F3BE-4ABD-89DA-AE9FA4E8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5E2C4-A13B-436E-8D83-04A99397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7B047-A1BC-4177-A664-F5AE82FC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BB32-85D2-4861-8C7A-39601A3C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F20BD-A528-47BE-9D2E-64379772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F0D93-9410-436D-8EB7-A625FE34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B83DE-E2B6-4B05-8985-1952DDEB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2DB0A-7FD7-4088-B0AD-9A233BDC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99C-2DD4-493C-BC66-5A513B6D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A9BE7-166E-4A7D-B2DE-C97ED09B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A7D9D-A1F8-420F-A31B-1EC1545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684CF-FA51-4ED9-B5A5-553B4C62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C59BF-EA9B-408D-9145-1F87F0CF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76D5C-B28D-4841-BAE6-412335CF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D2154-D652-4542-98CE-12C6F423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8317D-8331-45BA-A257-8C3500CF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F6730-93B4-46B7-BCAC-541A63E7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688DB-6147-4073-8080-10F5BF5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3878F-52D4-4845-B0F9-AD0199FA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CA5-3A2B-44CC-858A-58BE7C3C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3AB6B-2D1C-4E5D-A536-49ECB88E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90A90-0F9C-4C24-A656-2C57988E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CAE93-2F86-4723-AB11-7B065A25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D71D4-9042-4E22-BB5F-FD6F2EE2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A7AB7-BCA2-4D2D-B972-D85F0007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066A4-F411-43D0-8F0C-6935AB34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80358-C0D0-4851-8A23-5D5A3AF9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ECFB0-A954-45C3-A772-E385540A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F106B-4A47-46F8-97AB-015BF02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EB423-BF5D-46FA-9324-76F9865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8DBC-798C-4E0D-BE18-9A373E93CA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3B60-A29A-438A-AE26-6C748E29CC2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6B84-040A-49C4-AEFF-6F91F37E09B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FFCA-84A9-4897-A724-FB8D54652AB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FC1C-95F3-4338-9B32-2B20A166255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C74E-D0C7-4ABF-ADEA-4B79D0E595B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146B-6833-4FBE-ABDE-E35D911839F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470-4061-468E-8713-DDD2E9BA998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F44E-9C2E-4177-AC3A-949AF4BCD3B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CF71-D831-40A1-B640-E4BBAFBAE20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425C-3328-4699-91CC-2B47B816C53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8A50-180A-4262-A9F3-B4778EA8347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6C54-B81C-4086-AB89-E3DFB095C59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image" Target="../media/image8.jpeg"/><Relationship Id="rId5" Type="http://schemas.openxmlformats.org/officeDocument/2006/relationships/image" Target="../media/image21.jpeg"/><Relationship Id="rId6" Type="http://schemas.openxmlformats.org/officeDocument/2006/relationships/image" Target="../media/image22.gi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3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259920"/>
            <a:ext cx="7993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ЗДОРОВЫЙ  ОБРАЗ ЖИЗНИ-ЧТО  ЭТО  ТАКОЕ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46" name="Picture 10" descr=""/>
          <p:cNvPicPr/>
          <p:nvPr/>
        </p:nvPicPr>
        <p:blipFill>
          <a:blip r:embed="rId1"/>
          <a:stretch/>
        </p:blipFill>
        <p:spPr>
          <a:xfrm>
            <a:off x="2286000" y="2571840"/>
            <a:ext cx="375444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333360"/>
            <a:ext cx="84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Monotype Corsiva"/>
              </a:rPr>
              <a:t>ЗДОРОВЫЙ ОБРАЗ ЖИЗНИ – ХОРОШАЯ ПРИВЫЧКА  !</a:t>
            </a:r>
            <a:endParaRPr b="1" i="1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mb dir="horz"/>
    <p:sndAc>
      <p:stSnd>
        <p:snd r:embed="rId2" name="camera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WordArt 2"/>
          <p:cNvSpPr txBox="1"/>
          <p:nvPr/>
        </p:nvSpPr>
        <p:spPr>
          <a:xfrm>
            <a:off x="1071720" y="1071720"/>
            <a:ext cx="720072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ОНЕЦ.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5357880" y="4357800"/>
            <a:ext cx="27860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5" name="Picture 10" descr="BD13656_"/>
          <p:cNvPicPr/>
          <p:nvPr/>
        </p:nvPicPr>
        <p:blipFill>
          <a:blip r:embed="rId1"/>
          <a:stretch/>
        </p:blipFill>
        <p:spPr>
          <a:xfrm>
            <a:off x="571680" y="4000680"/>
            <a:ext cx="1979280" cy="2628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camera.wav"/>
      </p:stSnd>
    </p:sndAc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392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34560" y="0"/>
            <a:ext cx="82090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Monotype Corsiva"/>
              </a:rPr>
              <a:t>КАК  БЫТЬ  ЗДОРОВЫМ 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71760" y="1071360"/>
            <a:ext cx="475776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4" marL="122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8ae"/>
                </a:solidFill>
                <a:latin typeface="Monotype Corsiva"/>
              </a:rPr>
              <a:t>Кого  из ребят на рисунках  можно  назвать более здоровым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9" name="Picture 6" descr="1"/>
          <p:cNvPicPr/>
          <p:nvPr/>
        </p:nvPicPr>
        <p:blipFill>
          <a:blip r:embed="rId2"/>
          <a:stretch/>
        </p:blipFill>
        <p:spPr>
          <a:xfrm>
            <a:off x="0" y="1214280"/>
            <a:ext cx="2492280" cy="2186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8" descr="2"/>
          <p:cNvPicPr/>
          <p:nvPr/>
        </p:nvPicPr>
        <p:blipFill>
          <a:blip r:embed="rId3"/>
          <a:stretch/>
        </p:blipFill>
        <p:spPr>
          <a:xfrm>
            <a:off x="571680" y="4572000"/>
            <a:ext cx="2268360" cy="20876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0" descr="3"/>
          <p:cNvPicPr/>
          <p:nvPr/>
        </p:nvPicPr>
        <p:blipFill>
          <a:blip r:embed="rId4"/>
          <a:stretch/>
        </p:blipFill>
        <p:spPr>
          <a:xfrm>
            <a:off x="6643800" y="1214280"/>
            <a:ext cx="2500200" cy="21607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1" descr="4"/>
          <p:cNvPicPr/>
          <p:nvPr/>
        </p:nvPicPr>
        <p:blipFill>
          <a:blip r:embed="rId5"/>
          <a:stretch/>
        </p:blipFill>
        <p:spPr>
          <a:xfrm>
            <a:off x="6000840" y="4500720"/>
            <a:ext cx="2484360" cy="21589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" descr="6"/>
          <p:cNvPicPr/>
          <p:nvPr/>
        </p:nvPicPr>
        <p:blipFill>
          <a:blip r:embed="rId6"/>
          <a:stretch/>
        </p:blipFill>
        <p:spPr>
          <a:xfrm>
            <a:off x="3348000" y="2924280"/>
            <a:ext cx="230508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7" name="camera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9900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179280" y="2852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2d700"/>
                </a:solidFill>
                <a:latin typeface="Monotype Corsiva"/>
              </a:rPr>
              <a:t>_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ХОРОШО ПЕРЕНОСИТ НАГРУЗКИ;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50920" y="3500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2d700"/>
                </a:solidFill>
                <a:latin typeface="Monotype Corsiva"/>
              </a:rPr>
              <a:t>_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РЕДКО  БОЛЕЕТ;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250920" y="4149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Monotype Corsiva"/>
              </a:rPr>
              <a:t>_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СОБЛЮДАЕТ РЕЖИМ;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50920" y="472428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2d700"/>
                </a:solidFill>
                <a:latin typeface="Monotype Corsiva"/>
              </a:rPr>
              <a:t>_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НЕ ПОДДАЕТСЯ ВРЕДНЫМ ПРИВЫЧКАМ</a:t>
            </a:r>
            <a:r>
              <a:rPr b="0" i="1" lang="ru-RU" sz="2800" spc="-1" strike="noStrike">
                <a:solidFill>
                  <a:srgbClr val="0000cc"/>
                </a:solidFill>
                <a:latin typeface="Monotype Corsiva"/>
              </a:rPr>
              <a:t>.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8" name="Picture 13" descr="AG00040_"/>
          <p:cNvPicPr/>
          <p:nvPr/>
        </p:nvPicPr>
        <p:blipFill>
          <a:blip r:embed="rId1"/>
          <a:stretch/>
        </p:blipFill>
        <p:spPr>
          <a:xfrm rot="441600">
            <a:off x="6443640" y="4508640"/>
            <a:ext cx="2521080" cy="19620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4" descr="AG00029_"/>
          <p:cNvPicPr/>
          <p:nvPr/>
        </p:nvPicPr>
        <p:blipFill>
          <a:blip r:embed="rId2"/>
          <a:stretch/>
        </p:blipFill>
        <p:spPr>
          <a:xfrm>
            <a:off x="4643280" y="3500280"/>
            <a:ext cx="1943280" cy="154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5" descr="AG00019_"/>
          <p:cNvPicPr/>
          <p:nvPr/>
        </p:nvPicPr>
        <p:blipFill>
          <a:blip r:embed="rId3"/>
          <a:stretch/>
        </p:blipFill>
        <p:spPr>
          <a:xfrm>
            <a:off x="6804000" y="1916280"/>
            <a:ext cx="1728720" cy="1600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12"/>
          <p:cNvSpPr/>
          <p:nvPr/>
        </p:nvSpPr>
        <p:spPr>
          <a:xfrm>
            <a:off x="1428840" y="571680"/>
            <a:ext cx="61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ЧЕЛОВЕК ЗДОРОВЫЙ ЕСЛИ, ОН: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diamond/>
    <p:sndAc>
      <p:stSnd>
        <p:snd r:embed="rId4" name="camera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4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4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100"/>
                            </p:stCondLst>
                            <p:childTnLst>
                              <p:par>
                                <p:cTn id="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1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780"/>
                            </p:stCondLst>
                            <p:childTnLst>
                              <p:par>
                                <p:cTn id="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78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980"/>
                            </p:stCondLst>
                            <p:childTnLst>
                              <p:par>
                                <p:cTn id="8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Rectangle 2" descr=""/>
          <p:cNvPicPr/>
          <p:nvPr/>
        </p:nvPicPr>
        <p:blipFill>
          <a:blip r:embed="rId2"/>
          <a:stretch/>
        </p:blipFill>
        <p:spPr>
          <a:xfrm>
            <a:off x="676440" y="79200"/>
            <a:ext cx="8570880" cy="21276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3374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b050"/>
                </a:solidFill>
                <a:latin typeface="Monotype Corsiva"/>
              </a:rPr>
              <a:t>Но даже сильный и закаленный человек может заболеть</a:t>
            </a:r>
            <a:r>
              <a:rPr b="1" i="1" lang="ru-RU" sz="2600" spc="-1" strike="noStrike">
                <a:solidFill>
                  <a:srgbClr val="e2d700"/>
                </a:solidFill>
                <a:latin typeface="Monotype Corsiv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64" name="Picture 4" descr="7"/>
          <p:cNvPicPr/>
          <p:nvPr/>
        </p:nvPicPr>
        <p:blipFill>
          <a:blip r:embed="rId3"/>
          <a:stretch/>
        </p:blipFill>
        <p:spPr>
          <a:xfrm>
            <a:off x="324000" y="3645000"/>
            <a:ext cx="2989080" cy="29970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2"/>
          <p:cNvPicPr/>
          <p:nvPr/>
        </p:nvPicPr>
        <p:blipFill>
          <a:blip r:embed="rId4"/>
          <a:stretch/>
        </p:blipFill>
        <p:spPr>
          <a:xfrm>
            <a:off x="5435640" y="3645000"/>
            <a:ext cx="34862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5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70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200"/>
                            </p:stCondLst>
                            <p:childTnLst>
                              <p:par>
                                <p:cTn id="1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20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WordArt 4"/>
          <p:cNvSpPr txBox="1"/>
          <p:nvPr/>
        </p:nvSpPr>
        <p:spPr>
          <a:xfrm rot="5400000">
            <a:off x="-1404360" y="2493000"/>
            <a:ext cx="5688000" cy="194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16200000"/>
                </a:gradFill>
                <a:latin typeface="Times New Roman"/>
              </a:rPr>
              <a:t>режим дня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16200000"/>
              </a:gradFill>
              <a:latin typeface="Times New Roman"/>
              <a:ea typeface="Times New Roman"/>
            </a:endParaRPr>
          </a:p>
        </p:txBody>
      </p:sp>
      <p:pic>
        <p:nvPicPr>
          <p:cNvPr id="667" name="Picture 5" descr="5"/>
          <p:cNvPicPr/>
          <p:nvPr/>
        </p:nvPicPr>
        <p:blipFill>
          <a:blip r:embed="rId2"/>
          <a:stretch/>
        </p:blipFill>
        <p:spPr>
          <a:xfrm>
            <a:off x="2195640" y="260280"/>
            <a:ext cx="3300120" cy="28098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" descr="6"/>
          <p:cNvPicPr/>
          <p:nvPr/>
        </p:nvPicPr>
        <p:blipFill>
          <a:blip r:embed="rId3"/>
          <a:stretch/>
        </p:blipFill>
        <p:spPr>
          <a:xfrm>
            <a:off x="2195640" y="3573360"/>
            <a:ext cx="3313080" cy="2808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1"/>
          <p:cNvPicPr/>
          <p:nvPr/>
        </p:nvPicPr>
        <p:blipFill>
          <a:blip r:embed="rId4"/>
          <a:stretch/>
        </p:blipFill>
        <p:spPr>
          <a:xfrm>
            <a:off x="5867280" y="3573360"/>
            <a:ext cx="3025800" cy="2808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8" descr="9"/>
          <p:cNvPicPr/>
          <p:nvPr/>
        </p:nvPicPr>
        <p:blipFill>
          <a:blip r:embed="rId5"/>
          <a:stretch/>
        </p:blipFill>
        <p:spPr>
          <a:xfrm>
            <a:off x="5796000" y="26028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9" descr="AG00215_"/>
          <p:cNvPicPr/>
          <p:nvPr/>
        </p:nvPicPr>
        <p:blipFill>
          <a:blip r:embed="rId6"/>
          <a:stretch/>
        </p:blipFill>
        <p:spPr>
          <a:xfrm>
            <a:off x="5003640" y="2349360"/>
            <a:ext cx="1513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  <p:sndAc>
      <p:stSnd>
        <p:snd r:embed="rId7" name="camera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001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Monotype Corsiva"/>
              </a:rPr>
              <a:t>ПРАВИЛА РЕЖИМА ДН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73" name="Picture 24" descr="AG00320_"/>
          <p:cNvPicPr/>
          <p:nvPr/>
        </p:nvPicPr>
        <p:blipFill>
          <a:blip r:embed="rId2"/>
          <a:stretch/>
        </p:blipFill>
        <p:spPr>
          <a:xfrm>
            <a:off x="324000" y="4149720"/>
            <a:ext cx="2879640" cy="23860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BD13666_"/>
          <p:cNvPicPr/>
          <p:nvPr/>
        </p:nvPicPr>
        <p:blipFill>
          <a:blip r:embed="rId3"/>
          <a:stretch/>
        </p:blipFill>
        <p:spPr>
          <a:xfrm>
            <a:off x="6215040" y="1967040"/>
            <a:ext cx="1785960" cy="126036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4"/>
          <p:cNvSpPr/>
          <p:nvPr/>
        </p:nvSpPr>
        <p:spPr>
          <a:xfrm>
            <a:off x="2857680" y="200016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СПИТЕ НЕ МЕНЕЕ  9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                   ЧАСОВ 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179280" y="3500280"/>
            <a:ext cx="37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1752480" y="14288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ИТАЙТЕСЬ ВСЕГДА В ОДНО И ТО ЖЕ ВРЕМЯ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8" name="Text Box 9"/>
          <p:cNvSpPr/>
          <p:nvPr/>
        </p:nvSpPr>
        <p:spPr>
          <a:xfrm>
            <a:off x="2357280" y="78588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РОГУЛКА  НА СВЕЖЕМ ВОЗДУХЕ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Text Box 21"/>
          <p:cNvSpPr/>
          <p:nvPr/>
        </p:nvSpPr>
        <p:spPr>
          <a:xfrm>
            <a:off x="3924360" y="1773360"/>
            <a:ext cx="38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Text Box 22"/>
          <p:cNvSpPr/>
          <p:nvPr/>
        </p:nvSpPr>
        <p:spPr>
          <a:xfrm>
            <a:off x="3214800" y="1785960"/>
            <a:ext cx="36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4286160" y="342900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_ВОВРЕМЯ ПРИХОДИТЕ В ШКОЛУ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2" name="Text Box 31"/>
          <p:cNvSpPr/>
          <p:nvPr/>
        </p:nvSpPr>
        <p:spPr>
          <a:xfrm rot="16200000">
            <a:off x="4379040" y="-375480"/>
            <a:ext cx="853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3" name="Text Box 33"/>
          <p:cNvSpPr/>
          <p:nvPr/>
        </p:nvSpPr>
        <p:spPr>
          <a:xfrm>
            <a:off x="-785880" y="47149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4" name="Text Box 34"/>
          <p:cNvSpPr/>
          <p:nvPr/>
        </p:nvSpPr>
        <p:spPr>
          <a:xfrm>
            <a:off x="1476360" y="3933720"/>
            <a:ext cx="82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5" name="Text Box 36"/>
          <p:cNvSpPr/>
          <p:nvPr/>
        </p:nvSpPr>
        <p:spPr>
          <a:xfrm>
            <a:off x="-285840" y="2786040"/>
            <a:ext cx="56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ДЕЛАЙТЕ  ДОМ.ЗАДАНИЕ В ОДНО И ТО ЖЕ ВРЕМЯ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6" name="Text Box 37"/>
          <p:cNvSpPr/>
          <p:nvPr/>
        </p:nvSpPr>
        <p:spPr>
          <a:xfrm>
            <a:off x="2428920" y="471492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_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ЛОЖИТЕСЬ СПАТЬ В ОДНО И ТОЖЕ ВРЕМЯ.</a:t>
            </a:r>
            <a:endParaRPr b="1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mb dir="horz"/>
    <p:sndAc>
      <p:stSnd>
        <p:snd r:embed="rId4" name="camera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9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9000"/>
                            </p:stCondLst>
                            <p:childTnLst>
                              <p:par>
                                <p:cTn id="20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1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WordArt 2"/>
          <p:cNvSpPr txBox="1"/>
          <p:nvPr/>
        </p:nvSpPr>
        <p:spPr>
          <a:xfrm>
            <a:off x="611280" y="0"/>
            <a:ext cx="73454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чная гигиена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8" name="Picture 3" descr="11"/>
          <p:cNvPicPr/>
          <p:nvPr/>
        </p:nvPicPr>
        <p:blipFill>
          <a:blip r:embed="rId2"/>
          <a:stretch/>
        </p:blipFill>
        <p:spPr>
          <a:xfrm>
            <a:off x="5651640" y="3500280"/>
            <a:ext cx="3492360" cy="335772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4"/>
          <p:cNvSpPr/>
          <p:nvPr/>
        </p:nvSpPr>
        <p:spPr>
          <a:xfrm>
            <a:off x="0" y="227664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_СЛЕДИТЕ ЗА ЧИСТАТОЙ И НЕ СОРИТЕ САМИ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-324000" y="285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_МОЙТЕ РУКИ ПЕРЕД ЕДОЙ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179280" y="3284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Monotype Corsiva"/>
              </a:rPr>
              <a:t>_</a:t>
            </a: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ПОЛЬЗУЙТЕСЬ ДЛЯ ЕДЫ ТОЛЬКО СВОЕЙ ПОСУДОЙ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179280" y="422100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Monotype Corsiva"/>
              </a:rPr>
              <a:t>_</a:t>
            </a: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ПОЛЬЗУЙТЕСЬ ТОЛЬКО СВОЕЙ ОДЕЖДОЙ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0" y="5084640"/>
            <a:ext cx="52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Monotype Corsiva"/>
              </a:rPr>
              <a:t>_</a:t>
            </a:r>
            <a:r>
              <a:rPr b="1" i="1" lang="ru-RU" sz="3200" spc="-1" strike="noStrike">
                <a:solidFill>
                  <a:srgbClr val="ff6600"/>
                </a:solidFill>
                <a:latin typeface="Monotype Corsiva"/>
              </a:rPr>
              <a:t>ПОМОГАЙТЕ РОДНЫМ В ДОМАШНЕЙ УБОРКЕ.</a:t>
            </a:r>
            <a:endParaRPr b="1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94" name="Picture 13" descr="AG00321_"/>
          <p:cNvPicPr/>
          <p:nvPr/>
        </p:nvPicPr>
        <p:blipFill>
          <a:blip r:embed="rId3"/>
          <a:stretch/>
        </p:blipFill>
        <p:spPr>
          <a:xfrm>
            <a:off x="7093080" y="189000"/>
            <a:ext cx="284472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4" name="camera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60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2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8100"/>
                            </p:stCondLst>
                            <p:childTnLst>
                              <p:par>
                                <p:cTn id="2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200"/>
                            </p:stCondLst>
                            <p:childTnLst>
                              <p:par>
                                <p:cTn id="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ff3399"/>
                </a:solidFill>
                <a:latin typeface="Monotype Corsiva"/>
              </a:rPr>
              <a:t>Ч ТОБЫ БЫТЬ ЗАКАЛЕННЫМ, НУЖНО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6" name="Picture 7" descr="AG00326_"/>
          <p:cNvPicPr/>
          <p:nvPr/>
        </p:nvPicPr>
        <p:blipFill>
          <a:blip r:embed="rId2"/>
          <a:stretch/>
        </p:blipFill>
        <p:spPr>
          <a:xfrm>
            <a:off x="6659640" y="2637000"/>
            <a:ext cx="2484360" cy="2016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4" descr="j0236465"/>
          <p:cNvPicPr/>
          <p:nvPr/>
        </p:nvPicPr>
        <p:blipFill>
          <a:blip r:embed="rId3"/>
          <a:stretch/>
        </p:blipFill>
        <p:spPr>
          <a:xfrm>
            <a:off x="6058080" y="20844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3"/>
          <p:cNvSpPr/>
          <p:nvPr/>
        </p:nvSpPr>
        <p:spPr>
          <a:xfrm>
            <a:off x="250920" y="206064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_НЕ ОДЕВАТЬСЯ СЛИШКОМ ТЕПЛО.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179280" y="371628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_БОЛЬШЕ ВРЕМЕНИ ПРОВОДИТЬ НА СВЕЖЕМ ВОЗДУХЕ.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179280" y="537372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_КАК МОЖНО ЧАЩЕ ДЕЛАТЬ ВОДНЫЕ ПРОЦЕДУРЫ.</a:t>
            </a:r>
            <a:endParaRPr b="1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comb dir="horz"/>
    <p:sndAc>
      <p:stSnd>
        <p:snd r:embed="rId4" name="camera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WordArt 3"/>
          <p:cNvSpPr txBox="1"/>
          <p:nvPr/>
        </p:nvSpPr>
        <p:spPr>
          <a:xfrm>
            <a:off x="900000" y="476280"/>
            <a:ext cx="6696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редные привычки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03" name="Picture 5" descr="3"/>
          <p:cNvPicPr/>
          <p:nvPr/>
        </p:nvPicPr>
        <p:blipFill>
          <a:blip r:embed="rId2"/>
          <a:stretch/>
        </p:blipFill>
        <p:spPr>
          <a:xfrm>
            <a:off x="0" y="3789360"/>
            <a:ext cx="3371760" cy="3068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" descr="4"/>
          <p:cNvPicPr/>
          <p:nvPr/>
        </p:nvPicPr>
        <p:blipFill>
          <a:blip r:embed="rId3"/>
          <a:stretch/>
        </p:blipFill>
        <p:spPr>
          <a:xfrm>
            <a:off x="5580000" y="3789360"/>
            <a:ext cx="3564000" cy="30686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7" descr="j0283262"/>
          <p:cNvPicPr/>
          <p:nvPr/>
        </p:nvPicPr>
        <p:blipFill>
          <a:blip r:embed="rId4"/>
          <a:stretch/>
        </p:blipFill>
        <p:spPr>
          <a:xfrm>
            <a:off x="3348000" y="2060640"/>
            <a:ext cx="2232000" cy="2736720"/>
          </a:xfrm>
          <a:prstGeom prst="rect">
            <a:avLst/>
          </a:prstGeom>
          <a:ln w="0">
            <a:noFill/>
          </a:ln>
        </p:spPr>
      </p:pic>
      <p:sp>
        <p:nvSpPr>
          <p:cNvPr id="706" name="AutoShape 8"/>
          <p:cNvSpPr/>
          <p:nvPr/>
        </p:nvSpPr>
        <p:spPr>
          <a:xfrm>
            <a:off x="5796000" y="1700280"/>
            <a:ext cx="3348000" cy="1728720"/>
          </a:xfrm>
          <a:prstGeom prst="cloudCallout">
            <a:avLst>
              <a:gd name="adj1" fmla="val -6425"/>
              <a:gd name="adj2" fmla="val 6331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5364000" y="206064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ИТЬ- ЗДОРОВЬЮ ВРЕДИТЬ!</a:t>
            </a:r>
            <a:endParaRPr b="1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8" name="AutoShape 11"/>
          <p:cNvSpPr/>
          <p:nvPr/>
        </p:nvSpPr>
        <p:spPr>
          <a:xfrm>
            <a:off x="0" y="2060640"/>
            <a:ext cx="3132000" cy="1439640"/>
          </a:xfrm>
          <a:prstGeom prst="cloudCallout">
            <a:avLst>
              <a:gd name="adj1" fmla="val -26481"/>
              <a:gd name="adj2" fmla="val 62018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324000" y="220500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ЕНИЕ СОКРАЩАЕТ ВАШУ ЖИЗНЬ!</a:t>
            </a:r>
            <a:endParaRPr b="1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0" name="AutoShape 13"/>
          <p:cNvSpPr/>
          <p:nvPr/>
        </p:nvSpPr>
        <p:spPr>
          <a:xfrm rot="10800000">
            <a:off x="3492000" y="5013000"/>
            <a:ext cx="2087640" cy="1655640"/>
          </a:xfrm>
          <a:prstGeom prst="wedgeEllipseCallout">
            <a:avLst>
              <a:gd name="adj1" fmla="val -32967"/>
              <a:gd name="adj2" fmla="val 9899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3564000" y="530064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КОГОЛЬ УХУДШАЕТ ПАМЯТЬ!</a:t>
            </a:r>
            <a:endParaRPr b="1" i="1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mb dir="horz"/>
    <p:sndAc>
      <p:stSnd>
        <p:snd r:embed="rId5" name="camera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9:34:59Z</dcterms:created>
  <dc:creator>_</dc:creator>
  <dc:description/>
  <dc:language>en-US</dc:language>
  <cp:lastModifiedBy>юля</cp:lastModifiedBy>
  <dcterms:modified xsi:type="dcterms:W3CDTF">2011-12-05T18:56:58Z</dcterms:modified>
  <cp:revision>69</cp:revision>
  <dc:subject/>
  <dc:title>ЗДОРОВЫЙ  ОБРАЗ ЖИЗНИ-ЧТО  ЭТО  ТАКОЕ?</dc:title>
</cp:coreProperties>
</file>