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7.jpeg" ContentType="image/jpeg"/>
  <Override PartName="/ppt/media/image26.jpeg" ContentType="image/jpeg"/>
  <Override PartName="/ppt/media/image24.gif" ContentType="image/gif"/>
  <Override PartName="/ppt/media/image17.png" ContentType="image/png"/>
  <Override PartName="/ppt/media/image32.jpeg" ContentType="image/jpeg"/>
  <Override PartName="/ppt/media/image23.jpeg" ContentType="image/jpeg"/>
  <Override PartName="/ppt/media/image25.gif" ContentType="image/gif"/>
  <Override PartName="/ppt/media/image8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30.gif" ContentType="image/gif"/>
  <Override PartName="/ppt/media/image33.gif" ContentType="image/gif"/>
  <Override PartName="/ppt/media/image34.jpeg" ContentType="image/jpeg"/>
  <Override PartName="/ppt/media/image35.gif" ContentType="image/gif"/>
  <Override PartName="/ppt/media/image7.jpeg" ContentType="image/jpeg"/>
  <Override PartName="/ppt/media/image15.gif" ContentType="image/gif"/>
  <Override PartName="/ppt/media/camera.wav" ContentType="audio/x-wav"/>
  <Override PartName="/ppt/media/image21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18.jpeg" ContentType="image/jpeg"/>
  <Override PartName="/ppt/media/image22.gif" ContentType="image/gif"/>
  <Override PartName="/ppt/media/image3.png" ContentType="image/png"/>
  <Override PartName="/ppt/media/image1.jpeg" ContentType="image/jpeg"/>
  <Override PartName="/ppt/media/image13.gif" ContentType="image/gif"/>
  <Override PartName="/ppt/media/image16.jpeg" ContentType="image/jpeg"/>
  <Override PartName="/ppt/media/image14.gif" ContentType="image/gif"/>
  <Override PartName="/ppt/media/image19.jpeg" ContentType="image/jpeg"/>
  <Override PartName="/ppt/media/image2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B4F-C54A-42B6-AF62-DBFED752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98D-8FDF-43F2-888C-42583F09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3693B-A4CD-4FB0-94D9-989FFC69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1B167-E8D5-40FE-A601-40E016C7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86D12-4BB8-4AD0-A664-1D60D075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0A333-F0EF-47F9-9479-2F496033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22F23-073F-40AD-9A5B-007FF972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31267-483D-4120-99D5-DCEEE020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DB251-379B-437D-BD15-44C0DB0B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FA0E9-AB74-4DC6-AC6E-07B9F6C9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55D3C-DBA6-4798-AB74-5C2D189D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746D5-D821-469D-A0A7-F03C4049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FFB-9ED0-4F55-B8A6-4F1D00ED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DDF89-5A31-447D-9D60-8A0EF7EA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517F3-ED0E-4135-AE9B-C43FE8C4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485F4-6064-498F-8621-81497867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69EF7-0A62-415E-AFF5-7D06C4D8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E675F-5484-46ED-9286-06CDBE21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839BF-1B28-4FE7-884F-BDB92C26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3C710-6C31-48C9-A227-F8201B61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C435A-AE74-44A9-8034-C72DBDF6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9A969-AF5B-4A64-B281-2026B17B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E18CA-3466-43EC-868D-E03F66BA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530-B27B-4D22-B705-780AFEF7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EE1C0-1EF8-4C7B-9F44-4BF13CBC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F82BA-8BE2-4DAF-9295-06E94148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379E6-CDDE-4F19-94DC-71E2BB93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18905-E382-4897-9C96-4B63643E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640B0-9E1C-44DD-BCCF-F7FA801F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C571F-8336-4E77-B098-82626C91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13579-81FA-48F1-8F30-A5DC89D2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200AF-B808-4C14-80C9-A01C1BC3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D9522-625A-4ADF-8109-9541EE78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979A5-B95E-4094-A34F-898B33D8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C883-49A9-42E2-B80F-B96D644E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D9E62-62DA-490F-84D7-67E5678C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2367B-78BF-4E90-B617-24AD31B2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58F74-B96A-4251-ADC8-F0B576F9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13E6B-A47B-497F-9A7A-357B5303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A5F5B-4B69-49C5-A176-ADE8A437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51A6B-62E7-4C40-8D8C-D53FED43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9BEB9-7137-4641-AE58-E468746D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47E97-DDC3-4E36-BFEC-1369ADC1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D708F-664E-4719-8761-F11557DC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BA17A-8220-4438-A3A8-E3A01924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06AE-6C4A-4147-8159-A2EAA4B5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036D1-9A59-41DF-AAB4-E4613EAD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856C7-5A87-4AD4-8E37-49A7730D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13C69-E9F2-4799-BF5E-9B927389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40078-A754-4970-A797-369B1362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47A2A-FF99-45CD-9D82-BD1C24F9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CC4AA-7235-4B09-8E4E-E3ED5499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66680-2C22-4ADF-BBB6-DEB8436F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FF10E-C0E6-49DF-9105-E65F4A30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ADB41-A3F0-4A95-B9A9-98F1E1F7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3F236-7932-4005-BF04-874DFA7B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71FA-3516-42C9-9D43-19B55A8D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8F3D0-1E14-4D60-A820-6674D974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1581A-A4FA-4BF7-ACF1-A9E30BC8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6F0E6-241A-47F9-B6D1-2E537459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C4194-4048-4812-9D3A-DF0B3AF7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6B858-9BE1-413C-BEE5-67764029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3C941-6FF3-41CE-81E8-4C8E6903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48214-9447-49B0-8B7E-28C2D4CB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1F95-9D74-483D-832B-30B2D828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E51E-819E-438B-A6A4-5B78DE65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199A-6A68-42CB-A7DB-5C90A1D2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4EBB-E290-4EA5-AD26-986064D8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2CC9-27AF-46FD-8FC8-49017701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E0CD-1DF4-43CA-9505-1E9D4F50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DFA4-895A-4F83-8028-B95D93AF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3E00-4B1A-4FE8-BEBB-1E8E4802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A804-9B0C-41BF-8E4D-191621FD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5E32-A2A5-4514-A693-7F612A6A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F597-9AD1-481A-B544-E2468621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6678D-B1E4-4AFA-8E5F-BFB98337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BBE5-BFF9-42EF-B3B5-E797C1B0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80290-D441-47DF-BC43-58FE1FFF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B912-CD7A-4854-8B43-AA13904B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422-8F23-4010-A69D-E8B3FD04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81CC9-CC57-42F7-B0D2-77D81F13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DF93-F39E-4A8A-B7C3-DBF647C8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7DFD-CD7F-4FDD-891D-30D09B09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9054-5E0D-4761-BAFA-27E91CF0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6A0D-ECF9-4603-8AD2-DA42E7D8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DCDD-3653-4069-8A5A-CA4563B8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4950E-317F-41DC-891C-597FFC24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1295C-51F3-436F-88E7-0E142840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AD5D1-7376-41E7-A06B-54CA14A6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138D3-B3C3-4AC1-8C7F-2C714E83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69D-5FE6-4B9E-A042-64270857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73B61-0D05-44D8-B544-4CE6FCE3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792CD-3619-426C-9A91-10A7C40B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FD3A-9852-40D8-BEB0-B0572BB9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C65FF-0989-4218-AFD4-26B73A64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849AC-2E17-4759-9925-B312F39C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5E602-7C9F-4BEC-B729-92CE4C3F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92C2C-6D2A-4516-83BA-03CA3CB7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DD367-DBC4-4AA0-AD6C-6CFFC02B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2FE29-96C9-4743-8821-90CB85F6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F3E8C-3135-4B44-952C-DE6666F5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097-7472-4BBD-9A5A-1D4A33A0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EB220-1A4F-4D2B-8727-8F0F576A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2ACF9-C778-468D-9D8D-C54DC5F2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32EF3-5F26-40E0-8BF1-53E24701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341F7-F86E-4CF4-99DE-62CE275B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9172C-ED4E-4163-BC67-AD4F6E0D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C371D-00B6-4487-9998-2592C0BC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18C0E-0ADF-43AB-BFEF-BDCF151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AA33D-4F9D-425F-985C-51C93BF8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5DC76-E846-4541-92CD-0FCE5EA9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C77DE-ABC0-4715-B6E8-B5707FD6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C41-BFD1-4DFC-A6F6-0FC94AB9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01646-A805-42C9-B406-56BEFE6D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74DBF-9445-4FCB-9138-645F0E23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09226-A530-4139-8876-B114E70F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C99A9-466C-4C07-BB92-C1C55EA0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EF3C6-AE8E-4975-960C-AA9A900A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C0F68-2ACC-4B8D-AA23-5808DED2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03578-3373-4316-95D1-A953869A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C1DCD-9EA4-4460-8091-292F6718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9291B-9560-4859-A6C2-F161B39F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794BD-5B2D-4F42-A80D-D80CCB4E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75C-CDC3-4EF7-8CD6-F43E17F2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48248-E421-40AB-B52D-CF691B0C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42955-FBEC-4E68-A5B3-12057CD2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E21B9-890C-4BBB-A518-99883DE8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7CE9C-910A-4569-9475-991A6EB1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36199-8774-4B39-9A11-62EA7B94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C4701-70C5-4F4F-BFC7-013782C1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2D542-2660-4B3D-9030-A77A14F1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49BA2-9275-47A5-BD01-DAB08ED7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CBC8B-A62A-4041-9363-216C162F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62047-F174-4161-B578-D0ACDC7D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139-F09A-4057-9616-5962CE61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869B2-BA6D-443D-97DF-FA1D2CC1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19E67-3B30-4275-9B8E-8D831F61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EBE35-4212-42EC-9136-AA39473D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93806-447F-4971-8938-661B0996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7A812-B9B8-4144-876D-876068A0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D58D6-A308-4B6A-A187-74068A3E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8765F-EE49-4E5B-ABED-60499C3C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5D660-FC6B-4BCB-B53F-400D4526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83E42-67F8-45F9-9028-827DFB7F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1D151-1291-487D-A7CB-131E4DBC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DAB-1BC0-4C09-91B6-649F12D3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8D497-7C42-485C-B3A2-E47E5E79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01F0A-2547-4461-B21B-03C07DAF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F5583-7CF1-4998-80C7-CD7EC0C9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CD068-C7A6-40EB-8AD2-5EDB512B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36D9D-18C5-4923-B66F-32D61189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1E703-0E27-4ED8-85BF-7F5F32F6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A6667-E4FA-4A34-BB4F-1222DE2C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A0B16-E317-4996-9A95-C57F9118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FD9D6-6D8B-4FFD-B5DF-7519B040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820AA-1345-4FF4-BA9C-EB90636D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EDD4-8A68-414F-9F6F-BA0C7C2ACD9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BD35-94DC-4028-A9CA-63C82604218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A52E-C0AA-4086-9D40-5E1A06E239B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2D9F-1E1E-4333-9C17-57AE0480ACA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6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FB88-6673-4F0D-A6BF-9F9A3CDD144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CD04-3D50-4743-9526-D51FEE7C966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8FF9-71D7-4BAD-A25D-9187C258B8C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6AE9-DE1D-4F29-8422-83A25C85959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D08E-A220-4AF5-B83A-1136D8E1108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728E-BD57-4627-B6D7-A50597CDA33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C937-5235-40A2-8A5D-BA3E63320C3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AFB9-E1F7-4D69-A0CA-5CA56ADAB16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7F5B-BD29-474A-8F63-F40348F5F1E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2.jpeg"/><Relationship Id="rId4" Type="http://schemas.openxmlformats.org/officeDocument/2006/relationships/image" Target="../media/image8.jpeg"/><Relationship Id="rId5" Type="http://schemas.openxmlformats.org/officeDocument/2006/relationships/image" Target="../media/image21.jpeg"/><Relationship Id="rId6" Type="http://schemas.openxmlformats.org/officeDocument/2006/relationships/image" Target="../media/image22.gi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3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50560" y="259920"/>
            <a:ext cx="7993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ЗДОРОВЫЙ  ОБРАЗ ЖИЗНИ-ЧТО  ЭТО  ТАКОЕ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46" name="Picture 10" descr=""/>
          <p:cNvPicPr/>
          <p:nvPr/>
        </p:nvPicPr>
        <p:blipFill>
          <a:blip r:embed="rId1"/>
          <a:stretch/>
        </p:blipFill>
        <p:spPr>
          <a:xfrm>
            <a:off x="2286000" y="2571840"/>
            <a:ext cx="375444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0" y="333360"/>
            <a:ext cx="84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Monotype Corsiva"/>
              </a:rPr>
              <a:t>ЗДОРОВЫЙ ОБРАЗ ЖИЗНИ – ХОРОШАЯ ПРИВЫЧКА  !</a:t>
            </a:r>
            <a:endParaRPr b="1" i="1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comb dir="horz"/>
    <p:sndAc>
      <p:stSnd>
        <p:snd r:embed="rId2" name="camera.wav"/>
      </p:stSnd>
    </p:sndAc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WordArt 2"/>
          <p:cNvSpPr txBox="1"/>
          <p:nvPr/>
        </p:nvSpPr>
        <p:spPr>
          <a:xfrm>
            <a:off x="1071720" y="1071720"/>
            <a:ext cx="720072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ОНЕЦ.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5357880" y="4357800"/>
            <a:ext cx="27860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5" name="Picture 10" descr="BD13656_"/>
          <p:cNvPicPr/>
          <p:nvPr/>
        </p:nvPicPr>
        <p:blipFill>
          <a:blip r:embed="rId1"/>
          <a:stretch/>
        </p:blipFill>
        <p:spPr>
          <a:xfrm>
            <a:off x="571680" y="4000680"/>
            <a:ext cx="1979280" cy="2628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camera.wav"/>
      </p:stSnd>
    </p:sndAc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95 E">
                                      <p:cBhvr>
                                        <p:cTn id="392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34560" y="0"/>
            <a:ext cx="82090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Monotype Corsiva"/>
              </a:rPr>
              <a:t>КАК  БЫТЬ  ЗДОРОВЫМ ?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571760" y="1071360"/>
            <a:ext cx="475776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4" marL="122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8ae"/>
                </a:solidFill>
                <a:latin typeface="Monotype Corsiva"/>
              </a:rPr>
              <a:t>Кого  из ребят на рисунках  можно  назвать более здоровым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49" name="Picture 6" descr="1"/>
          <p:cNvPicPr/>
          <p:nvPr/>
        </p:nvPicPr>
        <p:blipFill>
          <a:blip r:embed="rId2"/>
          <a:stretch/>
        </p:blipFill>
        <p:spPr>
          <a:xfrm>
            <a:off x="0" y="1214280"/>
            <a:ext cx="2492280" cy="2186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8" descr="2"/>
          <p:cNvPicPr/>
          <p:nvPr/>
        </p:nvPicPr>
        <p:blipFill>
          <a:blip r:embed="rId3"/>
          <a:stretch/>
        </p:blipFill>
        <p:spPr>
          <a:xfrm>
            <a:off x="571680" y="4572000"/>
            <a:ext cx="2268360" cy="20876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0" descr="3"/>
          <p:cNvPicPr/>
          <p:nvPr/>
        </p:nvPicPr>
        <p:blipFill>
          <a:blip r:embed="rId4"/>
          <a:stretch/>
        </p:blipFill>
        <p:spPr>
          <a:xfrm>
            <a:off x="6643800" y="1214280"/>
            <a:ext cx="2500200" cy="21607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1" descr="4"/>
          <p:cNvPicPr/>
          <p:nvPr/>
        </p:nvPicPr>
        <p:blipFill>
          <a:blip r:embed="rId5"/>
          <a:stretch/>
        </p:blipFill>
        <p:spPr>
          <a:xfrm>
            <a:off x="6000840" y="4500720"/>
            <a:ext cx="2484360" cy="21589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2" descr="6"/>
          <p:cNvPicPr/>
          <p:nvPr/>
        </p:nvPicPr>
        <p:blipFill>
          <a:blip r:embed="rId6"/>
          <a:stretch/>
        </p:blipFill>
        <p:spPr>
          <a:xfrm>
            <a:off x="3348000" y="2924280"/>
            <a:ext cx="230508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  <p:sndAc>
      <p:stSnd>
        <p:snd r:embed="rId7" name="camera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5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179280" y="2852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2d700"/>
                </a:solidFill>
                <a:latin typeface="Monotype Corsiva"/>
              </a:rPr>
              <a:t>_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ХОРОШО ПЕРЕНОСИТ НАГРУЗКИ;</a:t>
            </a:r>
            <a:endParaRPr b="1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250920" y="3500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2d700"/>
                </a:solidFill>
                <a:latin typeface="Monotype Corsiva"/>
              </a:rPr>
              <a:t>_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РЕДКО  БОЛЕЕТ;</a:t>
            </a:r>
            <a:endParaRPr b="1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250920" y="4149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Monotype Corsiva"/>
              </a:rPr>
              <a:t>_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СОБЛЮДАЕТ РЕЖИМ;</a:t>
            </a:r>
            <a:endParaRPr b="1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250920" y="472428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2d700"/>
                </a:solidFill>
                <a:latin typeface="Monotype Corsiva"/>
              </a:rPr>
              <a:t>_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НЕ ПОДДАЕТСЯ ВРЕДНЫМ ПРИВЫЧКАМ</a:t>
            </a:r>
            <a:r>
              <a:rPr b="0" i="1" lang="ru-RU" sz="2800" spc="-1" strike="noStrike">
                <a:solidFill>
                  <a:srgbClr val="0000cc"/>
                </a:solidFill>
                <a:latin typeface="Monotype Corsiva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8" name="Picture 13" descr="AG00040_"/>
          <p:cNvPicPr/>
          <p:nvPr/>
        </p:nvPicPr>
        <p:blipFill>
          <a:blip r:embed="rId1"/>
          <a:stretch/>
        </p:blipFill>
        <p:spPr>
          <a:xfrm rot="441600">
            <a:off x="6443640" y="4508640"/>
            <a:ext cx="2521080" cy="19620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4" descr="AG00029_"/>
          <p:cNvPicPr/>
          <p:nvPr/>
        </p:nvPicPr>
        <p:blipFill>
          <a:blip r:embed="rId2"/>
          <a:stretch/>
        </p:blipFill>
        <p:spPr>
          <a:xfrm>
            <a:off x="4643280" y="3500280"/>
            <a:ext cx="1943280" cy="15415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5" descr="AG00019_"/>
          <p:cNvPicPr/>
          <p:nvPr/>
        </p:nvPicPr>
        <p:blipFill>
          <a:blip r:embed="rId3"/>
          <a:stretch/>
        </p:blipFill>
        <p:spPr>
          <a:xfrm>
            <a:off x="6804000" y="1916280"/>
            <a:ext cx="1728720" cy="1600200"/>
          </a:xfrm>
          <a:prstGeom prst="rect">
            <a:avLst/>
          </a:prstGeom>
          <a:ln w="0">
            <a:noFill/>
          </a:ln>
        </p:spPr>
      </p:pic>
      <p:sp>
        <p:nvSpPr>
          <p:cNvPr id="661" name="TextBox 12"/>
          <p:cNvSpPr/>
          <p:nvPr/>
        </p:nvSpPr>
        <p:spPr>
          <a:xfrm>
            <a:off x="1428840" y="571680"/>
            <a:ext cx="61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ЧЕЛОВЕК ЗДОРОВЫЙ ЕСЛИ, ОН:</a:t>
            </a:r>
            <a:endParaRPr b="1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diamond/>
    <p:sndAc>
      <p:stSnd>
        <p:snd r:embed="rId4" name="camera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4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4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100"/>
                            </p:stCondLst>
                            <p:childTnLst>
                              <p:par>
                                <p:cTn id="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10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780"/>
                            </p:stCondLst>
                            <p:childTnLst>
                              <p:par>
                                <p:cTn id="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78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980"/>
                            </p:stCondLst>
                            <p:childTnLst>
                              <p:par>
                                <p:cTn id="8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Rectangle 2" descr=""/>
          <p:cNvPicPr/>
          <p:nvPr/>
        </p:nvPicPr>
        <p:blipFill>
          <a:blip r:embed="rId2"/>
          <a:stretch/>
        </p:blipFill>
        <p:spPr>
          <a:xfrm>
            <a:off x="676440" y="79200"/>
            <a:ext cx="8570880" cy="21276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3374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b050"/>
                </a:solidFill>
                <a:latin typeface="Monotype Corsiva"/>
              </a:rPr>
              <a:t>Но даже сильный и закаленный человек может заболеть</a:t>
            </a:r>
            <a:r>
              <a:rPr b="1" i="1" lang="ru-RU" sz="2600" spc="-1" strike="noStrike">
                <a:solidFill>
                  <a:srgbClr val="e2d700"/>
                </a:solidFill>
                <a:latin typeface="Monotype Corsiv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64" name="Picture 4" descr="7"/>
          <p:cNvPicPr/>
          <p:nvPr/>
        </p:nvPicPr>
        <p:blipFill>
          <a:blip r:embed="rId3"/>
          <a:stretch/>
        </p:blipFill>
        <p:spPr>
          <a:xfrm>
            <a:off x="324000" y="3645000"/>
            <a:ext cx="2989080" cy="29970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2"/>
          <p:cNvPicPr/>
          <p:nvPr/>
        </p:nvPicPr>
        <p:blipFill>
          <a:blip r:embed="rId4"/>
          <a:stretch/>
        </p:blipFill>
        <p:spPr>
          <a:xfrm>
            <a:off x="5435640" y="3645000"/>
            <a:ext cx="34862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  <p:sndAc>
      <p:stSnd>
        <p:snd r:embed="rId5" name="camera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700"/>
                            </p:stCondLst>
                            <p:childTnLst>
                              <p:par>
                                <p:cTn id="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200"/>
                            </p:stCondLst>
                            <p:childTnLst>
                              <p:par>
                                <p:cTn id="1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20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WordArt 4"/>
          <p:cNvSpPr txBox="1"/>
          <p:nvPr/>
        </p:nvSpPr>
        <p:spPr>
          <a:xfrm rot="5400000">
            <a:off x="-1404360" y="2493000"/>
            <a:ext cx="5688000" cy="194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Triangle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16200000"/>
                </a:gradFill>
                <a:latin typeface="Times New Roman"/>
              </a:rPr>
              <a:t>режим дня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16200000"/>
              </a:gradFill>
              <a:latin typeface="Times New Roman"/>
              <a:ea typeface="Times New Roman"/>
            </a:endParaRPr>
          </a:p>
        </p:txBody>
      </p:sp>
      <p:pic>
        <p:nvPicPr>
          <p:cNvPr id="667" name="Picture 5" descr="5"/>
          <p:cNvPicPr/>
          <p:nvPr/>
        </p:nvPicPr>
        <p:blipFill>
          <a:blip r:embed="rId2"/>
          <a:stretch/>
        </p:blipFill>
        <p:spPr>
          <a:xfrm>
            <a:off x="2195640" y="260280"/>
            <a:ext cx="3300120" cy="28098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" descr="6"/>
          <p:cNvPicPr/>
          <p:nvPr/>
        </p:nvPicPr>
        <p:blipFill>
          <a:blip r:embed="rId3"/>
          <a:stretch/>
        </p:blipFill>
        <p:spPr>
          <a:xfrm>
            <a:off x="2195640" y="3573360"/>
            <a:ext cx="3313080" cy="28083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7" descr="1"/>
          <p:cNvPicPr/>
          <p:nvPr/>
        </p:nvPicPr>
        <p:blipFill>
          <a:blip r:embed="rId4"/>
          <a:stretch/>
        </p:blipFill>
        <p:spPr>
          <a:xfrm>
            <a:off x="5867280" y="3573360"/>
            <a:ext cx="3025800" cy="28083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8" descr="9"/>
          <p:cNvPicPr/>
          <p:nvPr/>
        </p:nvPicPr>
        <p:blipFill>
          <a:blip r:embed="rId5"/>
          <a:stretch/>
        </p:blipFill>
        <p:spPr>
          <a:xfrm>
            <a:off x="5796000" y="26028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9" descr="AG00215_"/>
          <p:cNvPicPr/>
          <p:nvPr/>
        </p:nvPicPr>
        <p:blipFill>
          <a:blip r:embed="rId6"/>
          <a:stretch/>
        </p:blipFill>
        <p:spPr>
          <a:xfrm>
            <a:off x="5003640" y="2349360"/>
            <a:ext cx="15130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  <p:sndAc>
      <p:stSnd>
        <p:snd r:embed="rId7" name="camera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00016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Monotype Corsiva"/>
              </a:rPr>
              <a:t>ПРАВИЛА РЕЖИМА ДН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73" name="Picture 24" descr="AG00320_"/>
          <p:cNvPicPr/>
          <p:nvPr/>
        </p:nvPicPr>
        <p:blipFill>
          <a:blip r:embed="rId2"/>
          <a:stretch/>
        </p:blipFill>
        <p:spPr>
          <a:xfrm>
            <a:off x="324000" y="4149720"/>
            <a:ext cx="2879640" cy="23860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BD13666_"/>
          <p:cNvPicPr/>
          <p:nvPr/>
        </p:nvPicPr>
        <p:blipFill>
          <a:blip r:embed="rId3"/>
          <a:stretch/>
        </p:blipFill>
        <p:spPr>
          <a:xfrm>
            <a:off x="6215040" y="1967040"/>
            <a:ext cx="1785960" cy="126036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4"/>
          <p:cNvSpPr/>
          <p:nvPr/>
        </p:nvSpPr>
        <p:spPr>
          <a:xfrm>
            <a:off x="2857680" y="200016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_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СПИТЕ НЕ МЕНЕЕ  9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                    ЧАСОВ </a:t>
            </a:r>
            <a:endParaRPr b="1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179280" y="3500280"/>
            <a:ext cx="37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1752480" y="14288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_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ПИТАЙТЕСЬ ВСЕГДА В ОДНО И ТО ЖЕ ВРЕМЯ.</a:t>
            </a:r>
            <a:endParaRPr b="1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8" name="Text Box 9"/>
          <p:cNvSpPr/>
          <p:nvPr/>
        </p:nvSpPr>
        <p:spPr>
          <a:xfrm>
            <a:off x="2357280" y="78588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_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ПРОГУЛКА  НА СВЕЖЕМ ВОЗДУХЕ.</a:t>
            </a:r>
            <a:endParaRPr b="1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9" name="Text Box 21"/>
          <p:cNvSpPr/>
          <p:nvPr/>
        </p:nvSpPr>
        <p:spPr>
          <a:xfrm>
            <a:off x="3924360" y="1773360"/>
            <a:ext cx="38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0" name="Text Box 22"/>
          <p:cNvSpPr/>
          <p:nvPr/>
        </p:nvSpPr>
        <p:spPr>
          <a:xfrm>
            <a:off x="3214800" y="1785960"/>
            <a:ext cx="36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1" name="Text Box 29"/>
          <p:cNvSpPr/>
          <p:nvPr/>
        </p:nvSpPr>
        <p:spPr>
          <a:xfrm>
            <a:off x="4286160" y="342900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_ВОВРЕМЯ ПРИХОДИТЕ В ШКОЛУ.</a:t>
            </a:r>
            <a:endParaRPr b="1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2" name="Text Box 31"/>
          <p:cNvSpPr/>
          <p:nvPr/>
        </p:nvSpPr>
        <p:spPr>
          <a:xfrm rot="16200000">
            <a:off x="4379040" y="-375480"/>
            <a:ext cx="853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3" name="Text Box 33"/>
          <p:cNvSpPr/>
          <p:nvPr/>
        </p:nvSpPr>
        <p:spPr>
          <a:xfrm>
            <a:off x="-785880" y="47149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4" name="Text Box 34"/>
          <p:cNvSpPr/>
          <p:nvPr/>
        </p:nvSpPr>
        <p:spPr>
          <a:xfrm>
            <a:off x="1476360" y="3933720"/>
            <a:ext cx="82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5" name="Text Box 36"/>
          <p:cNvSpPr/>
          <p:nvPr/>
        </p:nvSpPr>
        <p:spPr>
          <a:xfrm>
            <a:off x="-285840" y="2786040"/>
            <a:ext cx="56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_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ДЕЛАЙТЕ  ДОМ.ЗАДАНИЕ В ОДНО И ТО ЖЕ ВРЕМЯ.</a:t>
            </a:r>
            <a:endParaRPr b="1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6" name="Text Box 37"/>
          <p:cNvSpPr/>
          <p:nvPr/>
        </p:nvSpPr>
        <p:spPr>
          <a:xfrm>
            <a:off x="2428920" y="471492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_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ЛОЖИТЕСЬ СПАТЬ В ОДНО И ТОЖЕ ВРЕМЯ.</a:t>
            </a:r>
            <a:endParaRPr b="1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comb dir="horz"/>
    <p:sndAc>
      <p:stSnd>
        <p:snd r:embed="rId4" name="camera.wav"/>
      </p:stSnd>
    </p:sndAc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9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9000"/>
                            </p:stCondLst>
                            <p:childTnLst>
                              <p:par>
                                <p:cTn id="20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4000"/>
                            </p:stCondLst>
                            <p:childTnLst>
                              <p:par>
                                <p:cTn id="21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WordArt 2"/>
          <p:cNvSpPr txBox="1"/>
          <p:nvPr/>
        </p:nvSpPr>
        <p:spPr>
          <a:xfrm>
            <a:off x="611280" y="0"/>
            <a:ext cx="734544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чная гигиена</a:t>
            </a:r>
            <a:endParaRPr b="1" i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8" name="Picture 3" descr="11"/>
          <p:cNvPicPr/>
          <p:nvPr/>
        </p:nvPicPr>
        <p:blipFill>
          <a:blip r:embed="rId2"/>
          <a:stretch/>
        </p:blipFill>
        <p:spPr>
          <a:xfrm>
            <a:off x="5651640" y="3500280"/>
            <a:ext cx="3492360" cy="335772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4"/>
          <p:cNvSpPr/>
          <p:nvPr/>
        </p:nvSpPr>
        <p:spPr>
          <a:xfrm>
            <a:off x="0" y="227664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Monotype Corsiva"/>
              </a:rPr>
              <a:t>_СЛЕДИТЕ ЗА ЧИСТАТОЙ И НЕ СОРИТЕ САМИ.</a:t>
            </a:r>
            <a:endParaRPr b="1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-324000" y="2852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Monotype Corsiva"/>
              </a:rPr>
              <a:t>_МОЙТЕ РУКИ ПЕРЕД ЕДОЙ.</a:t>
            </a:r>
            <a:endParaRPr b="1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179280" y="3284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Monotype Corsiva"/>
              </a:rPr>
              <a:t>_</a:t>
            </a:r>
            <a:r>
              <a:rPr b="1" i="1" lang="ru-RU" sz="3200" spc="-1" strike="noStrike">
                <a:solidFill>
                  <a:srgbClr val="ff6600"/>
                </a:solidFill>
                <a:latin typeface="Monotype Corsiva"/>
              </a:rPr>
              <a:t>ПОЛЬЗУЙТЕСЬ ДЛЯ ЕДЫ ТОЛЬКО СВОЕЙ ПОСУДОЙ.</a:t>
            </a:r>
            <a:endParaRPr b="1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179280" y="422100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Monotype Corsiva"/>
              </a:rPr>
              <a:t>_</a:t>
            </a:r>
            <a:r>
              <a:rPr b="1" i="1" lang="ru-RU" sz="3200" spc="-1" strike="noStrike">
                <a:solidFill>
                  <a:srgbClr val="ff6600"/>
                </a:solidFill>
                <a:latin typeface="Monotype Corsiva"/>
              </a:rPr>
              <a:t>ПОЛЬЗУЙТЕСЬ ТОЛЬКО СВОЕЙ ОДЕЖДОЙ.</a:t>
            </a:r>
            <a:endParaRPr b="1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3" name="Text Box 10"/>
          <p:cNvSpPr/>
          <p:nvPr/>
        </p:nvSpPr>
        <p:spPr>
          <a:xfrm>
            <a:off x="0" y="5084640"/>
            <a:ext cx="52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Monotype Corsiva"/>
              </a:rPr>
              <a:t>_</a:t>
            </a:r>
            <a:r>
              <a:rPr b="1" i="1" lang="ru-RU" sz="3200" spc="-1" strike="noStrike">
                <a:solidFill>
                  <a:srgbClr val="ff6600"/>
                </a:solidFill>
                <a:latin typeface="Monotype Corsiva"/>
              </a:rPr>
              <a:t>ПОМОГАЙТЕ РОДНЫМ В ДОМАШНЕЙ УБОРКЕ.</a:t>
            </a:r>
            <a:endParaRPr b="1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94" name="Picture 13" descr="AG00321_"/>
          <p:cNvPicPr/>
          <p:nvPr/>
        </p:nvPicPr>
        <p:blipFill>
          <a:blip r:embed="rId3"/>
          <a:stretch/>
        </p:blipFill>
        <p:spPr>
          <a:xfrm>
            <a:off x="7093080" y="189000"/>
            <a:ext cx="284472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4" name="camera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600"/>
                            </p:stCondLst>
                            <p:childTnLst>
                              <p:par>
                                <p:cTn id="2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500"/>
                            </p:stCondLst>
                            <p:childTnLst>
                              <p:par>
                                <p:cTn id="2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2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8100"/>
                            </p:stCondLst>
                            <p:childTnLst>
                              <p:par>
                                <p:cTn id="2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2200"/>
                            </p:stCondLst>
                            <p:childTnLst>
                              <p:par>
                                <p:cTn id="2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ff3399"/>
                </a:solidFill>
                <a:latin typeface="Monotype Corsiva"/>
              </a:rPr>
              <a:t>Ч ТОБЫ БЫТЬ ЗАКАЛЕННЫМ, НУЖНО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96" name="Picture 7" descr="AG00326_"/>
          <p:cNvPicPr/>
          <p:nvPr/>
        </p:nvPicPr>
        <p:blipFill>
          <a:blip r:embed="rId2"/>
          <a:stretch/>
        </p:blipFill>
        <p:spPr>
          <a:xfrm>
            <a:off x="6659640" y="2637000"/>
            <a:ext cx="2484360" cy="20160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4" descr="j0236465"/>
          <p:cNvPicPr/>
          <p:nvPr/>
        </p:nvPicPr>
        <p:blipFill>
          <a:blip r:embed="rId3"/>
          <a:stretch/>
        </p:blipFill>
        <p:spPr>
          <a:xfrm>
            <a:off x="6058080" y="20844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3"/>
          <p:cNvSpPr/>
          <p:nvPr/>
        </p:nvSpPr>
        <p:spPr>
          <a:xfrm>
            <a:off x="250920" y="206064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_НЕ ОДЕВАТЬСЯ СЛИШКОМ ТЕПЛО.</a:t>
            </a:r>
            <a:endParaRPr b="1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179280" y="371628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_БОЛЬШЕ ВРЕМЕНИ ПРОВОДИТЬ НА СВЕЖЕМ ВОЗДУХЕ.</a:t>
            </a:r>
            <a:endParaRPr b="1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0" name="Text Box 6"/>
          <p:cNvSpPr/>
          <p:nvPr/>
        </p:nvSpPr>
        <p:spPr>
          <a:xfrm>
            <a:off x="179280" y="537372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_КАК МОЖНО ЧАЩЕ ДЕЛАТЬ ВОДНЫЕ ПРОЦЕДУРЫ.</a:t>
            </a:r>
            <a:endParaRPr b="1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comb dir="horz"/>
    <p:sndAc>
      <p:stSnd>
        <p:snd r:embed="rId4" name="camera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WordArt 3"/>
          <p:cNvSpPr txBox="1"/>
          <p:nvPr/>
        </p:nvSpPr>
        <p:spPr>
          <a:xfrm>
            <a:off x="900000" y="476280"/>
            <a:ext cx="6696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редные привычки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03" name="Picture 5" descr="3"/>
          <p:cNvPicPr/>
          <p:nvPr/>
        </p:nvPicPr>
        <p:blipFill>
          <a:blip r:embed="rId2"/>
          <a:stretch/>
        </p:blipFill>
        <p:spPr>
          <a:xfrm>
            <a:off x="0" y="3789360"/>
            <a:ext cx="3371760" cy="3068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" descr="4"/>
          <p:cNvPicPr/>
          <p:nvPr/>
        </p:nvPicPr>
        <p:blipFill>
          <a:blip r:embed="rId3"/>
          <a:stretch/>
        </p:blipFill>
        <p:spPr>
          <a:xfrm>
            <a:off x="5580000" y="3789360"/>
            <a:ext cx="3564000" cy="306864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7" descr="j0283262"/>
          <p:cNvPicPr/>
          <p:nvPr/>
        </p:nvPicPr>
        <p:blipFill>
          <a:blip r:embed="rId4"/>
          <a:stretch/>
        </p:blipFill>
        <p:spPr>
          <a:xfrm>
            <a:off x="3348000" y="2060640"/>
            <a:ext cx="2232000" cy="2736720"/>
          </a:xfrm>
          <a:prstGeom prst="rect">
            <a:avLst/>
          </a:prstGeom>
          <a:ln w="0">
            <a:noFill/>
          </a:ln>
        </p:spPr>
      </p:pic>
      <p:sp>
        <p:nvSpPr>
          <p:cNvPr id="706" name="AutoShape 8"/>
          <p:cNvSpPr/>
          <p:nvPr/>
        </p:nvSpPr>
        <p:spPr>
          <a:xfrm>
            <a:off x="5796000" y="1700280"/>
            <a:ext cx="3348000" cy="1728720"/>
          </a:xfrm>
          <a:prstGeom prst="cloudCallout">
            <a:avLst>
              <a:gd name="adj1" fmla="val -6425"/>
              <a:gd name="adj2" fmla="val 6331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7" name="Text Box 10"/>
          <p:cNvSpPr/>
          <p:nvPr/>
        </p:nvSpPr>
        <p:spPr>
          <a:xfrm>
            <a:off x="5364000" y="206064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РИТЬ- ЗДОРОВЬЮ ВРЕДИТЬ!</a:t>
            </a:r>
            <a:endParaRPr b="1" i="1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8" name="AutoShape 11"/>
          <p:cNvSpPr/>
          <p:nvPr/>
        </p:nvSpPr>
        <p:spPr>
          <a:xfrm>
            <a:off x="0" y="2060640"/>
            <a:ext cx="3132000" cy="1439640"/>
          </a:xfrm>
          <a:prstGeom prst="cloudCallout">
            <a:avLst>
              <a:gd name="adj1" fmla="val -26481"/>
              <a:gd name="adj2" fmla="val 6201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9" name="Text Box 12"/>
          <p:cNvSpPr/>
          <p:nvPr/>
        </p:nvSpPr>
        <p:spPr>
          <a:xfrm>
            <a:off x="324000" y="2205000"/>
            <a:ext cx="230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РЕНИЕ СОКРАЩАЕТ ВАШУ ЖИЗНЬ!</a:t>
            </a:r>
            <a:endParaRPr b="1" i="1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0" name="AutoShape 13"/>
          <p:cNvSpPr/>
          <p:nvPr/>
        </p:nvSpPr>
        <p:spPr>
          <a:xfrm rot="10800000">
            <a:off x="3492000" y="5013000"/>
            <a:ext cx="2087640" cy="1655640"/>
          </a:xfrm>
          <a:prstGeom prst="wedgeEllipseCallout">
            <a:avLst>
              <a:gd name="adj1" fmla="val -32967"/>
              <a:gd name="adj2" fmla="val 9899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1" name="Text Box 14"/>
          <p:cNvSpPr/>
          <p:nvPr/>
        </p:nvSpPr>
        <p:spPr>
          <a:xfrm>
            <a:off x="3564000" y="530064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ЛКОГОЛЬ УХУДШАЕТ ПАМЯТЬ!</a:t>
            </a:r>
            <a:endParaRPr b="1" i="1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comb dir="horz"/>
    <p:sndAc>
      <p:stSnd>
        <p:snd r:embed="rId5" name="camera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500"/>
                            </p:stCondLst>
                            <p:childTnLst>
                              <p:par>
                                <p:cTn id="34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75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000"/>
                            </p:stCondLst>
                            <p:childTnLst>
                              <p:par>
                                <p:cTn id="3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9:34:59Z</dcterms:created>
  <dc:creator>_</dc:creator>
  <dc:description/>
  <dc:language>en-US</dc:language>
  <cp:lastModifiedBy>юля</cp:lastModifiedBy>
  <dcterms:modified xsi:type="dcterms:W3CDTF">2011-12-05T18:56:58Z</dcterms:modified>
  <cp:revision>69</cp:revision>
  <dc:subject/>
  <dc:title>ЗДОРОВЫЙ  ОБРАЗ ЖИЗНИ-ЧТО  ЭТО  ТАКОЕ?</dc:title>
</cp:coreProperties>
</file>