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DBE-BD73-42B8-B1BD-0E4C421E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073-B601-4C05-88F2-9262FA7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604-3B5D-40E5-8728-802E0C06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62A-C7C1-4080-BD00-862E28E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A0594-4EF3-4C37-B768-661C63E3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CA2A-69E8-405B-BF1C-DFA9D663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BE447-E41F-47F3-8638-21A62B1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4419-967B-435A-B89E-98AE102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1BC3C-66C0-4747-A693-7E9852E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DEE4E-2164-4357-81A9-ED7D5A40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3734-5172-4B73-8F3B-207C4D0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346-696D-4162-BA87-D62C45D4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6BE05-AF65-4D2F-B1E4-3D260AD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DFF91-056E-4988-B766-80A09D3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48AC9-2055-42DB-B618-2406392F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D3F7-072F-4074-A13D-63F3C5A1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D8B47-D432-4794-B1CE-424113C8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91F-54AF-4FBB-AC21-D422C92C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086-F7B1-4912-A162-163A74C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D8A-5915-4BCA-81CB-79CD14C7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083-7040-4AF0-B3BA-E6AB005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717-AABE-45F0-B145-19572685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6AB-CA50-4667-8A6B-6CA62D44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6AD-C5D1-4EEF-B0C3-3B317FE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306E-31C0-4816-93FD-0184217944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93F-B138-45FE-A2D0-CF97B1A786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Организмы </a:t>
            </a:r>
            <a:br>
              <a:rPr sz="66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мировом океане</a:t>
            </a:r>
            <a:br>
              <a:rPr sz="66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итатели холодного клима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6880" y="1268280"/>
            <a:ext cx="342900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ие львы длина до 3,6 м, вес до 400 к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83200" y="1268280"/>
            <a:ext cx="336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ие сло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в Тихом океане, у берегов Северной Америки. Длина до 6,5 м, вес до 3,5 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юлен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еляют Северный Ледовитый океан и моря вокруг Южного полюса. Охотятся на рыбу и кальма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338720" cy="32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3280" y="620640"/>
            <a:ext cx="42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итатели кораллового ри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2590920" cy="2881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алловые рифы созданы из миллионов коралловых полип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ой Барьерный риф – самый большой в мире  - протянулся вдоль побережья Австралии на 2000 к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ская звезд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жет уничтожать мидий и устриц, рифообразующие кораллы. Встречается на глубине до 1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и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овит добычу и убивает её стрекательными кле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0840" y="404640"/>
            <a:ext cx="3817800" cy="424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43440" y="404640"/>
            <a:ext cx="3814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ыба – кло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кул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ая большая из них – китовая, до 18 м, питается планктоном. Самая крупная среди хищных акул – большая белая, до 7 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3160" y="260280"/>
            <a:ext cx="3976560" cy="442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880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итатели морского побережь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б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ивут на песчаных пляжах. Когда наступает отлив, закапываются в гру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еветк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ходят пищу среди морских водорос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365120"/>
            <a:ext cx="4537080" cy="3389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52920" y="1341360"/>
            <a:ext cx="3105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орпена, или морской ёр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2323800"/>
            <a:ext cx="4038480" cy="274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большие хищные ры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рмятся среди камней в расщелинах ск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гда наступает отлив, они отплывают в мо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9280" y="1898640"/>
            <a:ext cx="4537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ие гиганты - ки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4464000" cy="496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большой среди китов – синий кит до 30 м в длину, до 160 т веса. Ежедневно съедает до 4 т планкт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убоководные обитат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мбала – самая глубоководная из  известных рыб, найдена на глубине 10900 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3210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к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3120" y="1773360"/>
            <a:ext cx="3946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8:46:45Z</dcterms:created>
  <dc:creator>наталия</dc:creator>
  <dc:description/>
  <dc:language>en-US</dc:language>
  <cp:lastModifiedBy>Station</cp:lastModifiedBy>
  <dcterms:modified xsi:type="dcterms:W3CDTF">2011-12-05T15:57:15Z</dcterms:modified>
  <cp:revision>4</cp:revision>
  <dc:subject/>
  <dc:title>Организмы  в мировом океане </dc:title>
</cp:coreProperties>
</file>