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1C9-F0F6-45E9-914B-55836518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DCB-33D4-4762-AF11-D98A0189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AFA-ABCF-4CFF-A3D3-B49D8AE5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34B-B1FD-45AB-8EE7-8BCA34A9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B0DBC-7E46-4D84-8207-20F26545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4F787-83F0-4740-8ADD-70949B2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F10C5-B129-442E-9F9B-60786224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51AAA-C003-4235-AB15-DB1FC60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6DBB1-1394-4E71-85F6-32CCF98F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10E7F-D91A-4215-ABDA-41F50578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58F62-63EC-41D8-AEB5-394D9C2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9A9-89CD-446F-AA31-4E0DB60A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A3BDA-7623-44D3-98A6-C3488BE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C9D39-60CF-4A14-845D-1A9B72D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323F7-9CD5-4E1A-A0D5-28394905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1F23-A206-40D3-A407-ADA02563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B834F-6A92-48F3-86BD-94F07F4B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AB5-07BD-4C66-9348-556CCE6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776-F9F9-45A6-9E39-D597C034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49F-F325-41E3-8F9D-424DC7D7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4F1-8109-4B2F-83B5-EC05D797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DB2-99EA-4251-AAF6-B03919D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157-876C-4885-B3A6-023E3F7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206-E0F2-4A9A-942D-B2F5537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B417-B1A3-4AB1-A767-AC0C02B290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BDD5-78EB-426F-B3C6-083BDA7D34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Организмы </a:t>
            </a:r>
            <a:br>
              <a:rPr sz="66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мировом океане</a:t>
            </a:r>
            <a:br>
              <a:rPr sz="66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итатели холодного клима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6880" y="1268280"/>
            <a:ext cx="3429000" cy="3816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ские львы длина до 3,6 м, вес до 400 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83200" y="1268280"/>
            <a:ext cx="3365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ские слон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ут в Тихом океане, у берегов Северной Америки. Длина до 6,5 м, вес до 3,5 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юлен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еляют Северный Ледовитый океан и моря вокруг Южного полюса. Охотятся на рыбу и кальма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338720" cy="32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3280" y="620640"/>
            <a:ext cx="42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итатели кораллового ри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590920" cy="2881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алловые рифы созданы из миллионов коралловых полип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ьшой Барьерный риф – самый большой в мире  - протянулся вдоль побережья Австралии на 2000 к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2459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ская звезд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жет уничтожать мидий и устриц, рифообразующие кораллы. Встречается на глубине до 1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тини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овит добычу и убивает её стрекательными кле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0840" y="404640"/>
            <a:ext cx="3817800" cy="424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43440" y="404640"/>
            <a:ext cx="3814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ыба – кло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кул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ая большая из них – китовая, до 18 м, питается планктоном. Самая крупная среди хищных акул – большая белая, до 7 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3160" y="260280"/>
            <a:ext cx="3976560" cy="442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3880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итатели морского побережь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б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ут на песчаных пляжах. Когда наступает отлив, закапываются в гру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еветк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ходят пищу среди морских водорос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1365120"/>
            <a:ext cx="4537080" cy="3389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52920" y="1341360"/>
            <a:ext cx="3105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корпена, или морской ёр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2323800"/>
            <a:ext cx="4038480" cy="274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большие хищные ры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мятся среди камней в расщелинах ск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наступает отлив, они отплывают в мор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9280" y="1898640"/>
            <a:ext cx="4537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ские гиганты - ки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4464000" cy="496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ый большой среди китов – синий кит до 30 м в длину, до 160 т веса. Ежедневно съедает до 4 т планкт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лубоководные обитат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мбала – самая глубоководная из  известных рыб, найдена на глубине 10900 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3210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к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3120" y="1773360"/>
            <a:ext cx="3946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8:46:45Z</dcterms:created>
  <dc:creator>наталия</dc:creator>
  <dc:description/>
  <dc:language>en-US</dc:language>
  <cp:lastModifiedBy>Station</cp:lastModifiedBy>
  <dcterms:modified xsi:type="dcterms:W3CDTF">2011-12-05T15:57:15Z</dcterms:modified>
  <cp:revision>4</cp:revision>
  <dc:subject/>
  <dc:title>Организмы  в мировом океане </dc:title>
</cp:coreProperties>
</file>