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694-DEED-4A23-8C14-03029689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E3D-9D35-4C9B-B448-CF5AAB52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EA2-219E-4EAA-BD11-CAD12808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69E-8496-471B-9B34-F0CF1058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67E9-E540-4D72-BF67-8800D80A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7BB5-748D-49FA-8A11-5A628C3C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4DAA-E8A6-47D7-BDFF-B3E4113B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CD42-CFDF-4D1A-A7CB-3E8CDE31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8888-9AAA-45CA-9BD3-D160FF93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4059-DAC3-4F3B-B762-1B83A5B0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2092-112B-4B77-ADB3-50C33EBF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8C8-6031-489D-83BF-0A2DF70D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1A02-9177-4C04-AF76-4FD6A225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D72E-020B-469C-8BB6-5796775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A0E8-BC87-47B4-BF75-B5ABB919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E852-B489-4DE5-A964-C8ADDE41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4EA2-9452-46F2-A330-BC876564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AF2-6EC3-4922-A8D2-598A2615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6C2-199D-463E-83E3-02D2ACDF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B28-4616-4CB5-826F-433B33FC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333-EEE3-46B1-B676-F8CE5CCC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D61-CCB3-47E2-83FF-06A01779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D8A-91A1-4354-9C26-D7D76FAF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DF9-F0C0-4B2D-BEB4-E8EEAEFB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5A15-1C1D-41F4-B61A-9FF635EE19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C279-8D7A-448C-9D20-CEDB40125D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57728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Tahoma"/>
              </a:rPr>
              <a:t>Сложение и вычитание вида + 1, - 1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2786040"/>
            <a:ext cx="9144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cc"/>
                </a:solidFill>
                <a:latin typeface="Arial"/>
              </a:rPr>
              <a:t>Досточтимые первоклассники,</a:t>
            </a:r>
            <a:r>
              <a:rPr b="1" i="1" lang="ru-RU" sz="54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5400"/>
            </a:br>
            <a:r>
              <a:rPr b="1" i="1" lang="ru-RU" sz="5400" spc="-1" strike="noStrike">
                <a:solidFill>
                  <a:srgbClr val="ff33cc"/>
                </a:solidFill>
                <a:latin typeface="Arial"/>
              </a:rPr>
              <a:t>успехов вам в учёбе!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33cc"/>
              </a:solidFill>
              <a:latin typeface="Tahoma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273672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cc"/>
                </a:solidFill>
                <a:latin typeface="Tahoma"/>
              </a:rPr>
              <a:t>Приветствуем вас, </a:t>
            </a:r>
            <a:br>
              <a:rPr sz="6000"/>
            </a:br>
            <a:r>
              <a:rPr b="1" i="1" lang="ru-RU" sz="6000" spc="-1" strike="noStrike">
                <a:solidFill>
                  <a:srgbClr val="cc00cc"/>
                </a:solidFill>
                <a:latin typeface="Tahoma"/>
              </a:rPr>
              <a:t>о досточтимые  первоклассники !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0" t="0" r="61276" b="56112"/>
          <a:stretch/>
        </p:blipFill>
        <p:spPr>
          <a:xfrm>
            <a:off x="2627280" y="2997360"/>
            <a:ext cx="4248360" cy="30780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ahoma"/>
              </a:rPr>
              <a:t>Восстанови пример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1484280"/>
          <a:ext cx="2449440" cy="2590920"/>
        </p:xfrm>
        <a:graphic>
          <a:graphicData uri="http://schemas.openxmlformats.org/drawingml/2006/table">
            <a:tbl>
              <a:tblPr/>
              <a:tblGrid>
                <a:gridCol w="490320"/>
                <a:gridCol w="476280"/>
                <a:gridCol w="503280"/>
                <a:gridCol w="488880"/>
                <a:gridCol w="49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16360" y="1557360"/>
          <a:ext cx="3024360" cy="2590920"/>
        </p:xfrm>
        <a:graphic>
          <a:graphicData uri="http://schemas.openxmlformats.org/drawingml/2006/table">
            <a:tbl>
              <a:tblPr/>
              <a:tblGrid>
                <a:gridCol w="604800"/>
                <a:gridCol w="606600"/>
                <a:gridCol w="601560"/>
                <a:gridCol w="606600"/>
                <a:gridCol w="60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547640" y="4221000"/>
          <a:ext cx="2808360" cy="2590920"/>
        </p:xfrm>
        <a:graphic>
          <a:graphicData uri="http://schemas.openxmlformats.org/drawingml/2006/table">
            <a:tbl>
              <a:tblPr/>
              <a:tblGrid>
                <a:gridCol w="562320"/>
                <a:gridCol w="560160"/>
                <a:gridCol w="563760"/>
                <a:gridCol w="560160"/>
                <a:gridCol w="561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372360" y="4292640"/>
          <a:ext cx="2016000" cy="2590920"/>
        </p:xfrm>
        <a:graphic>
          <a:graphicData uri="http://schemas.openxmlformats.org/drawingml/2006/table">
            <a:tbl>
              <a:tblPr/>
              <a:tblGrid>
                <a:gridCol w="401400"/>
                <a:gridCol w="405000"/>
                <a:gridCol w="403200"/>
                <a:gridCol w="404640"/>
                <a:gridCol w="4017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cc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230" descr=""/>
          <p:cNvPicPr/>
          <p:nvPr/>
        </p:nvPicPr>
        <p:blipFill>
          <a:blip r:embed="rId1"/>
          <a:srcRect l="45025" t="59067" r="33215" b="984"/>
          <a:stretch/>
        </p:blipFill>
        <p:spPr>
          <a:xfrm>
            <a:off x="4541760" y="4221000"/>
            <a:ext cx="1685880" cy="2637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1" descr=""/>
          <p:cNvPicPr/>
          <p:nvPr/>
        </p:nvPicPr>
        <p:blipFill>
          <a:blip r:embed="rId2"/>
          <a:srcRect l="66578" t="59067" r="22143" b="984"/>
          <a:stretch/>
        </p:blipFill>
        <p:spPr>
          <a:xfrm>
            <a:off x="8028000" y="1484280"/>
            <a:ext cx="879480" cy="2637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5" descr=""/>
          <p:cNvPicPr/>
          <p:nvPr/>
        </p:nvPicPr>
        <p:blipFill>
          <a:blip r:embed="rId3"/>
          <a:srcRect l="77650" t="59067" r="0" b="984"/>
          <a:stretch/>
        </p:blipFill>
        <p:spPr>
          <a:xfrm>
            <a:off x="2828880" y="1484280"/>
            <a:ext cx="1739880" cy="2637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36" descr=""/>
          <p:cNvPicPr/>
          <p:nvPr/>
        </p:nvPicPr>
        <p:blipFill>
          <a:blip r:embed="rId4"/>
          <a:srcRect l="25096" t="0" r="56097" b="81709"/>
          <a:stretch/>
        </p:blipFill>
        <p:spPr>
          <a:xfrm>
            <a:off x="0" y="4508640"/>
            <a:ext cx="14572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Tahoma"/>
              </a:rPr>
              <a:t>Подумай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3280" y="1981080"/>
            <a:ext cx="77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 грядке сидят 6 воробьё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от подкрался и схватил                               1 воробья. Сколько воробьёв                          осталось на грядк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тоит в лесу дуб. На дубе                         3 ветки. На каждой ветке по 3 яблока. Сколько всего яблок на дуб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65199" t="0" r="0" b="0"/>
          <a:stretch/>
        </p:blipFill>
        <p:spPr>
          <a:xfrm>
            <a:off x="7559640" y="333360"/>
            <a:ext cx="1523880" cy="360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rcRect l="40596" t="14767" r="45025" b="58082"/>
          <a:stretch/>
        </p:blipFill>
        <p:spPr>
          <a:xfrm>
            <a:off x="0" y="4365720"/>
            <a:ext cx="1440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ahoma"/>
              </a:rPr>
              <a:t>Математический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ff00"/>
                </a:solidFill>
                <a:latin typeface="Tahoma"/>
              </a:rPr>
              <a:t>диктан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rcRect l="25096" t="0" r="56097" b="81709"/>
          <a:stretch/>
        </p:blipFill>
        <p:spPr>
          <a:xfrm>
            <a:off x="0" y="0"/>
            <a:ext cx="2050920" cy="198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0" y="3213000"/>
          <a:ext cx="9144000" cy="8226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 w="28080">
                      <a:solidFill>
                        <a:srgbClr val="ff33cc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Цепоч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+2      +2       -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1       +2      +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+1       -0      +1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3691" t="19685" r="40607" b="14764"/>
          <a:stretch/>
        </p:blipFill>
        <p:spPr>
          <a:xfrm>
            <a:off x="250920" y="260280"/>
            <a:ext cx="316872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Oval 5"/>
          <p:cNvSpPr/>
          <p:nvPr/>
        </p:nvSpPr>
        <p:spPr>
          <a:xfrm>
            <a:off x="2843280" y="3357720"/>
            <a:ext cx="647640" cy="57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2771640" y="4797360"/>
            <a:ext cx="64800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2771640" y="5950080"/>
            <a:ext cx="648000" cy="57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8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4788000" y="3284640"/>
            <a:ext cx="647640" cy="57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6659640" y="3284640"/>
            <a:ext cx="647640" cy="57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172360" y="3357720"/>
            <a:ext cx="647640" cy="57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6</a:t>
            </a:r>
            <a:endParaRPr b="0" lang="en-US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8172360" y="6021360"/>
            <a:ext cx="72072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6443640" y="6021360"/>
            <a:ext cx="64764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4500720" y="6021360"/>
            <a:ext cx="64764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2" name="Oval 15"/>
          <p:cNvSpPr/>
          <p:nvPr/>
        </p:nvSpPr>
        <p:spPr>
          <a:xfrm>
            <a:off x="6588000" y="4581360"/>
            <a:ext cx="64800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3" name="Oval 16"/>
          <p:cNvSpPr/>
          <p:nvPr/>
        </p:nvSpPr>
        <p:spPr>
          <a:xfrm>
            <a:off x="4572000" y="4653000"/>
            <a:ext cx="64764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44" name="Oval 17"/>
          <p:cNvSpPr/>
          <p:nvPr/>
        </p:nvSpPr>
        <p:spPr>
          <a:xfrm>
            <a:off x="8172360" y="4581360"/>
            <a:ext cx="64764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8</a:t>
            </a:r>
            <a:endParaRPr b="0" lang="en-US" sz="44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492360" y="3716280"/>
          <a:ext cx="1295640" cy="51768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435640" y="3716280"/>
          <a:ext cx="1297080" cy="517680"/>
        </p:xfrm>
        <a:graphic>
          <a:graphicData uri="http://schemas.openxmlformats.org/drawingml/2006/table">
            <a:tbl>
              <a:tblPr/>
              <a:tblGrid>
                <a:gridCol w="129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308720" y="3716280"/>
          <a:ext cx="863640" cy="517680"/>
        </p:xfrm>
        <a:graphic>
          <a:graphicData uri="http://schemas.openxmlformats.org/drawingml/2006/table">
            <a:tbl>
              <a:tblPr/>
              <a:tblGrid>
                <a:gridCol w="863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419640" y="5084640"/>
          <a:ext cx="1152360" cy="517680"/>
        </p:xfrm>
        <a:graphic>
          <a:graphicData uri="http://schemas.openxmlformats.org/drawingml/2006/table">
            <a:tbl>
              <a:tblPr/>
              <a:tblGrid>
                <a:gridCol w="115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219640" y="5084640"/>
          <a:ext cx="1513080" cy="59076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164360" y="5084640"/>
          <a:ext cx="1079640" cy="5176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419640" y="6453360"/>
          <a:ext cx="1081080" cy="51732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148360" y="6453360"/>
          <a:ext cx="1368360" cy="51732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093080" y="6453360"/>
          <a:ext cx="1079280" cy="51732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ahoma"/>
              </a:rPr>
              <a:t>Реши задачу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У  Васи в левом кармане  5  орехов, а в правом 3 ореха. Сколько всего   орехов  у Васи?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45025" t="59067" r="33215" b="984"/>
          <a:stretch/>
        </p:blipFill>
        <p:spPr>
          <a:xfrm>
            <a:off x="0" y="0"/>
            <a:ext cx="2592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32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Л. – 5 о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                    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П. -  3 о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5 + 3 = 8 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ор.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Ответ</a:t>
            </a: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i="1" lang="ru-RU" sz="4400" spc="-1" strike="noStrike">
                <a:solidFill>
                  <a:srgbClr val="ffff00"/>
                </a:solidFill>
                <a:latin typeface="Freestyle Script"/>
              </a:rPr>
              <a:t>8 о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4143240" y="2286000"/>
            <a:ext cx="503280" cy="1944720"/>
          </a:xfrm>
          <a:custGeom>
            <a:avLst/>
            <a:gdLst>
              <a:gd name="textAreaLeft" fmla="*/ 0 w 503280"/>
              <a:gd name="textAreaRight" fmla="*/ 181800 w 5032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7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Tahoma"/>
              </a:rPr>
              <a:t>Проверь запис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rcRect l="65199" t="0" r="0" b="0"/>
          <a:stretch/>
        </p:blipFill>
        <p:spPr>
          <a:xfrm>
            <a:off x="5940360" y="765000"/>
            <a:ext cx="2879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ff00"/>
                </a:solidFill>
                <a:latin typeface="Arial"/>
              </a:rPr>
              <a:t>0  1  2  3  4  5  6  7  8  9  10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25096" t="0" r="56097" b="81709"/>
          <a:stretch/>
        </p:blipFill>
        <p:spPr>
          <a:xfrm>
            <a:off x="0" y="5049720"/>
            <a:ext cx="2411280" cy="180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250920" y="765000"/>
          <a:ext cx="8785080" cy="517680"/>
        </p:xfrm>
        <a:graphic>
          <a:graphicData uri="http://schemas.openxmlformats.org/drawingml/2006/table">
            <a:tbl>
              <a:tblPr/>
              <a:tblGrid>
                <a:gridCol w="357120"/>
                <a:gridCol w="857160"/>
                <a:gridCol w="785880"/>
                <a:gridCol w="641520"/>
                <a:gridCol w="858600"/>
                <a:gridCol w="712800"/>
                <a:gridCol w="716040"/>
                <a:gridCol w="785880"/>
                <a:gridCol w="785880"/>
                <a:gridCol w="712800"/>
                <a:gridCol w="928440"/>
                <a:gridCol w="642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 w="28080">
                      <a:solidFill>
                        <a:srgbClr val="ff33cc"/>
                      </a:solidFill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ffffff"/>
                        </a:solidFill>
                        <a:uFillTx/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33cc"/>
                      </a:solidFill>
                    </a:lnL>
                    <a:lnR>
                      <a:noFill/>
                    </a:lnR>
                    <a:lnT w="28080">
                      <a:solidFill>
                        <a:srgbClr val="ff33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102"/>
          <p:cNvSpPr/>
          <p:nvPr/>
        </p:nvSpPr>
        <p:spPr>
          <a:xfrm>
            <a:off x="1457280" y="2012040"/>
            <a:ext cx="623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3 + 1=        10 - 1=        4 - 1=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4 + 1=         8 – 1 =       8 + 1=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7 + 1=         6 – 1 =       3 – 1= 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9 + 1=         7 – 1 =       5 – 1=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5 + 1=         2 – 1 =       6 + 1=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5:47:11Z</dcterms:created>
  <dc:creator>1</dc:creator>
  <dc:description/>
  <dc:language>en-US</dc:language>
  <cp:lastModifiedBy>Admin</cp:lastModifiedBy>
  <dcterms:modified xsi:type="dcterms:W3CDTF">2010-11-28T12:19:15Z</dcterms:modified>
  <cp:revision>4</cp:revision>
  <dc:subject/>
  <dc:title>Восстанови примеры</dc:title>
</cp:coreProperties>
</file>