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25C-A586-4924-806B-E259F4BE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610-5387-4A50-8D48-22AA052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1C3-2D70-4BA9-8C28-8E71E8F5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BC7-FE5D-4AF7-90E7-EE50870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834-AE4B-46AE-BFC2-151CF57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157-70DC-481A-B8F0-A3DE8B70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0C4-656C-4D0E-A960-AEA0898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43B-2A02-41EE-AD3E-5AD127D3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5411-1189-4B63-B646-EE45AF6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479-0689-433D-BC44-E6C199D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236-6929-43E1-82C7-3F402EB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A10-A1E1-42C8-B25A-228AD51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DBDC-3780-46B1-853F-1A46FD1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B246-354A-4E64-914A-BC4EB9D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EDC5-5A1C-497B-800E-6338B29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7AC6-41BA-4413-AA3D-E9A401C2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415A-CFC6-498A-8C51-CD6015EE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715-C211-40FA-92FE-0152204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4A3-5EAE-4A02-8699-3AC90457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FB5-36E5-45B7-9936-6F10DEA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B3D-C269-4F9B-B588-E179AAD2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BEC-2D18-4ED7-8519-C365B45A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643-E865-4A86-B013-1CC467C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D2F-560A-47E5-A9DF-CB398E2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9B5D-BA17-4F0C-A6E8-7AD670A9D1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9F7F-BBB3-4FC8-B886-C4A2FAACAF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577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Сложение и вычитание вида + 1, - 1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78604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Досточтимые первоклассники,</a:t>
            </a:r>
            <a:r>
              <a:rPr b="1" i="1" lang="ru-RU" sz="5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успехов вам в учёбе!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7367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Приветствуем вас, </a:t>
            </a:r>
            <a:br>
              <a:rPr sz="6000"/>
            </a:b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о досточтимые  первоклассники 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0" t="0" r="61276" b="56112"/>
          <a:stretch/>
        </p:blipFill>
        <p:spPr>
          <a:xfrm>
            <a:off x="2627280" y="2997360"/>
            <a:ext cx="4248360" cy="3078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Восстанови приме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484280"/>
          <a:ext cx="2449440" cy="2590920"/>
        </p:xfrm>
        <a:graphic>
          <a:graphicData uri="http://schemas.openxmlformats.org/drawingml/2006/table">
            <a:tbl>
              <a:tblPr/>
              <a:tblGrid>
                <a:gridCol w="490320"/>
                <a:gridCol w="476280"/>
                <a:gridCol w="503280"/>
                <a:gridCol w="488880"/>
                <a:gridCol w="49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1557360"/>
          <a:ext cx="3024360" cy="2590920"/>
        </p:xfrm>
        <a:graphic>
          <a:graphicData uri="http://schemas.openxmlformats.org/drawingml/2006/table">
            <a:tbl>
              <a:tblPr/>
              <a:tblGrid>
                <a:gridCol w="604800"/>
                <a:gridCol w="606600"/>
                <a:gridCol w="601560"/>
                <a:gridCol w="606600"/>
                <a:gridCol w="60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47640" y="4221000"/>
          <a:ext cx="2808360" cy="2590920"/>
        </p:xfrm>
        <a:graphic>
          <a:graphicData uri="http://schemas.openxmlformats.org/drawingml/2006/table">
            <a:tbl>
              <a:tblPr/>
              <a:tblGrid>
                <a:gridCol w="562320"/>
                <a:gridCol w="560160"/>
                <a:gridCol w="563760"/>
                <a:gridCol w="560160"/>
                <a:gridCol w="5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372360" y="4292640"/>
          <a:ext cx="2016000" cy="2590920"/>
        </p:xfrm>
        <a:graphic>
          <a:graphicData uri="http://schemas.openxmlformats.org/drawingml/2006/table">
            <a:tbl>
              <a:tblPr/>
              <a:tblGrid>
                <a:gridCol w="401400"/>
                <a:gridCol w="405000"/>
                <a:gridCol w="403200"/>
                <a:gridCol w="404640"/>
                <a:gridCol w="4017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30" descr=""/>
          <p:cNvPicPr/>
          <p:nvPr/>
        </p:nvPicPr>
        <p:blipFill>
          <a:blip r:embed="rId1"/>
          <a:srcRect l="45025" t="59067" r="33215" b="984"/>
          <a:stretch/>
        </p:blipFill>
        <p:spPr>
          <a:xfrm>
            <a:off x="4541760" y="4221000"/>
            <a:ext cx="1685880" cy="263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1" descr=""/>
          <p:cNvPicPr/>
          <p:nvPr/>
        </p:nvPicPr>
        <p:blipFill>
          <a:blip r:embed="rId2"/>
          <a:srcRect l="66578" t="59067" r="22143" b="984"/>
          <a:stretch/>
        </p:blipFill>
        <p:spPr>
          <a:xfrm>
            <a:off x="8028000" y="1484280"/>
            <a:ext cx="879480" cy="263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5" descr=""/>
          <p:cNvPicPr/>
          <p:nvPr/>
        </p:nvPicPr>
        <p:blipFill>
          <a:blip r:embed="rId3"/>
          <a:srcRect l="77650" t="59067" r="0" b="984"/>
          <a:stretch/>
        </p:blipFill>
        <p:spPr>
          <a:xfrm>
            <a:off x="2828880" y="1484280"/>
            <a:ext cx="1739880" cy="263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6" descr=""/>
          <p:cNvPicPr/>
          <p:nvPr/>
        </p:nvPicPr>
        <p:blipFill>
          <a:blip r:embed="rId4"/>
          <a:srcRect l="25096" t="0" r="56097" b="81709"/>
          <a:stretch/>
        </p:blipFill>
        <p:spPr>
          <a:xfrm>
            <a:off x="0" y="4508640"/>
            <a:ext cx="1457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Подума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 грядке сидят 6 воробьё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от подкрался и схватил                               1 воробья. Сколько воробьёв                          осталось на гряд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тоит в лесу дуб. На дубе                         3 ветки. На каждой ветке по 3 яблока. Сколько всего яблок на дуб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5199" t="0" r="0" b="0"/>
          <a:stretch/>
        </p:blipFill>
        <p:spPr>
          <a:xfrm>
            <a:off x="7559640" y="333360"/>
            <a:ext cx="1523880" cy="36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rcRect l="40596" t="14767" r="45025" b="58082"/>
          <a:stretch/>
        </p:blipFill>
        <p:spPr>
          <a:xfrm>
            <a:off x="0" y="4365720"/>
            <a:ext cx="1440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Математический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диктан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rcRect l="25096" t="0" r="56097" b="81709"/>
          <a:stretch/>
        </p:blipFill>
        <p:spPr>
          <a:xfrm>
            <a:off x="0" y="0"/>
            <a:ext cx="205092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3213000"/>
          <a:ext cx="9144000" cy="8226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поч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2      +2       -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       +2      +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1       -0      +1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3691" t="19685" r="40607" b="14764"/>
          <a:stretch/>
        </p:blipFill>
        <p:spPr>
          <a:xfrm>
            <a:off x="250920" y="260280"/>
            <a:ext cx="316872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2843280" y="335772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2771640" y="4797360"/>
            <a:ext cx="64800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771640" y="5950080"/>
            <a:ext cx="64800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4788000" y="328464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6659640" y="328464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172360" y="335772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8172360" y="6021360"/>
            <a:ext cx="72072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6443640" y="602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500720" y="602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6588000" y="4581360"/>
            <a:ext cx="64800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4572000" y="465300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8172360" y="458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8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92360" y="3716280"/>
          <a:ext cx="1295640" cy="51768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5640" y="3716280"/>
          <a:ext cx="1297080" cy="51768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308720" y="3716280"/>
          <a:ext cx="863640" cy="51768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19640" y="5084640"/>
          <a:ext cx="1152360" cy="51768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219640" y="5084640"/>
          <a:ext cx="1513080" cy="59076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164360" y="5084640"/>
          <a:ext cx="1079640" cy="5176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419640" y="6453360"/>
          <a:ext cx="1081080" cy="51732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148360" y="6453360"/>
          <a:ext cx="1368360" cy="5173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093080" y="6453360"/>
          <a:ext cx="1079280" cy="51732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Реши задач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  Васи в левом кармане  5  орехов, а в правом 3 ореха. Сколько всего   орехов  у Васи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45025" t="59067" r="33215" b="984"/>
          <a:stretch/>
        </p:blipFill>
        <p:spPr>
          <a:xfrm>
            <a:off x="0" y="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Л. – 5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  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П. -  3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5 + 3 = 8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ор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Ответ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8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143240" y="2286000"/>
            <a:ext cx="503280" cy="1944720"/>
          </a:xfrm>
          <a:custGeom>
            <a:avLst/>
            <a:gdLst>
              <a:gd name="textAreaLeft" fmla="*/ 0 w 503280"/>
              <a:gd name="textAreaRight" fmla="*/ 181800 w 503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Проверь запис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65199" t="0" r="0" b="0"/>
          <a:stretch/>
        </p:blipFill>
        <p:spPr>
          <a:xfrm>
            <a:off x="5940360" y="765000"/>
            <a:ext cx="2879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0  1  2  3  4  5  6  7  8  9  10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25096" t="0" r="56097" b="81709"/>
          <a:stretch/>
        </p:blipFill>
        <p:spPr>
          <a:xfrm>
            <a:off x="0" y="5049720"/>
            <a:ext cx="2411280" cy="18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50920" y="765000"/>
          <a:ext cx="8785080" cy="517680"/>
        </p:xfrm>
        <a:graphic>
          <a:graphicData uri="http://schemas.openxmlformats.org/drawingml/2006/table">
            <a:tbl>
              <a:tblPr/>
              <a:tblGrid>
                <a:gridCol w="357120"/>
                <a:gridCol w="857160"/>
                <a:gridCol w="785880"/>
                <a:gridCol w="641520"/>
                <a:gridCol w="858600"/>
                <a:gridCol w="712800"/>
                <a:gridCol w="716040"/>
                <a:gridCol w="785880"/>
                <a:gridCol w="785880"/>
                <a:gridCol w="712800"/>
                <a:gridCol w="928440"/>
                <a:gridCol w="64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2"/>
          <p:cNvSpPr/>
          <p:nvPr/>
        </p:nvSpPr>
        <p:spPr>
          <a:xfrm>
            <a:off x="1457280" y="2012040"/>
            <a:ext cx="623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3 + 1=        10 - 1=        4 -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4 + 1=         8 – 1 =       8 +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7 + 1=         6 – 1 =       3 – 1=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9 + 1=         7 – 1 =       5 –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5 + 1=         2 – 1 =       6 +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47:11Z</dcterms:created>
  <dc:creator>1</dc:creator>
  <dc:description/>
  <dc:language>en-US</dc:language>
  <cp:lastModifiedBy>Admin</cp:lastModifiedBy>
  <dcterms:modified xsi:type="dcterms:W3CDTF">2010-11-28T12:19:15Z</dcterms:modified>
  <cp:revision>4</cp:revision>
  <dc:subject/>
  <dc:title>Восстанови примеры</dc:title>
</cp:coreProperties>
</file>