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gif" ContentType="image/gif"/>
  <Override PartName="/ppt/media/image5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15AA8-BE43-49CA-9F16-B35205BF47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A76BD-EC2B-4BE3-91E4-83F48F46C4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B956E-F24D-4CDB-9D83-0F03107DA8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D3C29-AD28-46E6-A295-4BF1330D25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07A83-D29D-4245-971A-CC4E6DF80A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6B46C-E139-4908-AC77-D870A1B804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604D4-9531-41A0-9C85-6564956705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44D12-0145-4C20-8389-7309876CDC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5B7-EDD2-485C-8A95-40FEFA08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9C73-7E47-4598-9827-6109C6FB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56F-1AC6-4456-8BB7-3240BEFC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5B6-8B75-49D9-803B-E2679AA6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2525-721B-4C79-8AF7-FCB9408E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E84-0A8D-4CC3-ACFF-5357C388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63C-A233-41EB-8AA3-7B4B42E0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AE70-7BE5-4233-9ED2-C3DCEE31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F5EC-E8D6-49CD-B0AE-99FFD58B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52E-89D1-48AF-985F-0F2C7BE0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025C-7A9A-417B-93BD-FE161A8C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F902-E0EB-4D39-8D0A-95F4445E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857A31-B8E5-41A9-8A56-259C618C41F4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black105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WordArt 4"/>
          <p:cNvSpPr txBox="1"/>
          <p:nvPr/>
        </p:nvSpPr>
        <p:spPr>
          <a:xfrm>
            <a:off x="1039680" y="3422520"/>
            <a:ext cx="77868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«Неповторим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виж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уши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2" name="WordArt 10" descr=""/>
          <p:cNvPicPr/>
          <p:nvPr/>
        </p:nvPicPr>
        <p:blipFill>
          <a:blip r:embed="rId2"/>
          <a:stretch/>
        </p:blipFill>
        <p:spPr>
          <a:xfrm>
            <a:off x="249120" y="-6480"/>
            <a:ext cx="9583920" cy="31942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7"/>
          <p:cNvSpPr/>
          <p:nvPr/>
        </p:nvSpPr>
        <p:spPr>
          <a:xfrm>
            <a:off x="254160" y="6923160"/>
            <a:ext cx="9559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a3a3e0"/>
                </a:solidFill>
                <a:latin typeface="Arial"/>
              </a:rPr>
              <a:t>Руководитель проекта: учитель русского языка и литературы </a:t>
            </a:r>
            <a:r>
              <a:rPr b="1" i="1" lang="ru-RU" sz="1800" spc="-1" strike="noStrike" u="sng">
                <a:solidFill>
                  <a:srgbClr val="a3a3e0"/>
                </a:solidFill>
                <a:uFillTx/>
                <a:latin typeface="Arial"/>
              </a:rPr>
              <a:t>Скидело О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254160" y="422280"/>
            <a:ext cx="9559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a3a3e0"/>
                </a:solidFill>
                <a:latin typeface="Arial"/>
              </a:rPr>
              <a:t>ШКОЛА-ИНТЕРНАТ  </a:t>
            </a:r>
            <a:r>
              <a:rPr b="1" i="1" lang="en-US" sz="1800" spc="-1" strike="noStrike">
                <a:solidFill>
                  <a:srgbClr val="a3a3e0"/>
                </a:solidFill>
                <a:latin typeface="Arial"/>
              </a:rPr>
              <a:t>V  </a:t>
            </a:r>
            <a:r>
              <a:rPr b="1" i="1" lang="ru-RU" sz="1800" spc="-1" strike="noStrike">
                <a:solidFill>
                  <a:srgbClr val="a3a3e0"/>
                </a:solidFill>
                <a:latin typeface="Arial"/>
              </a:rPr>
              <a:t>ВИДА Г. ЗЕРНОГ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1"/>
          <p:cNvSpPr/>
          <p:nvPr/>
        </p:nvSpPr>
        <p:spPr>
          <a:xfrm>
            <a:off x="2162160" y="341964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"/>
          <p:cNvSpPr/>
          <p:nvPr/>
        </p:nvSpPr>
        <p:spPr>
          <a:xfrm flipV="1">
            <a:off x="2162160" y="4857480"/>
            <a:ext cx="71928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>
            <a:off x="1619280" y="4680000"/>
            <a:ext cx="539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1619280" y="3960720"/>
            <a:ext cx="53964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"/>
          <p:cNvSpPr/>
          <p:nvPr/>
        </p:nvSpPr>
        <p:spPr>
          <a:xfrm flipV="1">
            <a:off x="2162160" y="4136760"/>
            <a:ext cx="53820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4319640" y="5400720"/>
            <a:ext cx="179280" cy="179280"/>
          </a:xfrm>
          <a:custGeom>
            <a:avLst/>
            <a:gdLst>
              <a:gd name="textAreaLeft" fmla="*/ 40680 w 179280"/>
              <a:gd name="textAreaRight" fmla="*/ 138600 w 179280"/>
              <a:gd name="textAreaTop" fmla="*/ 40680 h 179280"/>
              <a:gd name="textAreaBottom" fmla="*/ 138600 h 17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3600360" y="6300720"/>
            <a:ext cx="179640" cy="362160"/>
          </a:xfrm>
          <a:custGeom>
            <a:avLst/>
            <a:gdLst>
              <a:gd name="textAreaLeft" fmla="*/ 41040 w 179640"/>
              <a:gd name="textAreaRight" fmla="*/ 138600 w 179640"/>
              <a:gd name="textAreaTop" fmla="*/ 82440 h 362160"/>
              <a:gd name="textAreaBottom" fmla="*/ 279720 h 362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8"/>
          <p:cNvSpPr/>
          <p:nvPr/>
        </p:nvSpPr>
        <p:spPr>
          <a:xfrm>
            <a:off x="5400720" y="594036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53" h="132">
                <a:moveTo>
                  <a:pt x="123" y="39"/>
                </a:moveTo>
                <a:cubicBezTo>
                  <a:pt x="116" y="26"/>
                  <a:pt x="113" y="13"/>
                  <a:pt x="114" y="0"/>
                </a:cubicBezTo>
                <a:cubicBezTo>
                  <a:pt x="103" y="7"/>
                  <a:pt x="90" y="11"/>
                  <a:pt x="76" y="11"/>
                </a:cubicBezTo>
                <a:cubicBezTo>
                  <a:pt x="62" y="11"/>
                  <a:pt x="49" y="7"/>
                  <a:pt x="38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3"/>
                  <a:pt x="35" y="27"/>
                  <a:pt x="28" y="39"/>
                </a:cubicBezTo>
                <a:cubicBezTo>
                  <a:pt x="22" y="51"/>
                  <a:pt x="11" y="60"/>
                  <a:pt x="0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7"/>
                  <a:pt x="0" y="67"/>
                  <a:pt x="0" y="67"/>
                </a:cubicBezTo>
                <a:cubicBezTo>
                  <a:pt x="12" y="73"/>
                  <a:pt x="22" y="82"/>
                  <a:pt x="28" y="93"/>
                </a:cubicBezTo>
                <a:cubicBezTo>
                  <a:pt x="35" y="105"/>
                  <a:pt x="38" y="119"/>
                  <a:pt x="38" y="131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49" y="125"/>
                  <a:pt x="62" y="121"/>
                  <a:pt x="76" y="121"/>
                </a:cubicBezTo>
                <a:cubicBezTo>
                  <a:pt x="90" y="121"/>
                  <a:pt x="103" y="125"/>
                  <a:pt x="114" y="132"/>
                </a:cubicBezTo>
                <a:cubicBezTo>
                  <a:pt x="114" y="132"/>
                  <a:pt x="114" y="132"/>
                  <a:pt x="114" y="132"/>
                </a:cubicBezTo>
                <a:cubicBezTo>
                  <a:pt x="113" y="119"/>
                  <a:pt x="116" y="106"/>
                  <a:pt x="123" y="93"/>
                </a:cubicBezTo>
                <a:cubicBezTo>
                  <a:pt x="130" y="81"/>
                  <a:pt x="141" y="72"/>
                  <a:pt x="153" y="66"/>
                </a:cubicBezTo>
                <a:cubicBezTo>
                  <a:pt x="153" y="66"/>
                  <a:pt x="153" y="66"/>
                  <a:pt x="153" y="66"/>
                </a:cubicBezTo>
                <a:cubicBezTo>
                  <a:pt x="141" y="60"/>
                  <a:pt x="130" y="51"/>
                  <a:pt x="123" y="39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940360" y="6659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6480000" y="5759280"/>
            <a:ext cx="179640" cy="179640"/>
          </a:xfrm>
          <a:custGeom>
            <a:avLst/>
            <a:gdLst>
              <a:gd name="textAreaLeft" fmla="*/ 41040 w 179640"/>
              <a:gd name="textAreaRight" fmla="*/ 138600 w 179640"/>
              <a:gd name="textAreaTop" fmla="*/ 41040 h 179640"/>
              <a:gd name="textAreaBottom" fmla="*/ 138600 h 1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>
            <a:off x="5221440" y="4500720"/>
            <a:ext cx="358560" cy="360360"/>
          </a:xfrm>
          <a:custGeom>
            <a:avLst/>
            <a:gdLst>
              <a:gd name="textAreaLeft" fmla="*/ 81720 w 358560"/>
              <a:gd name="textAreaRight" fmla="*/ 276840 w 3585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84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3240000" y="4859280"/>
            <a:ext cx="179640" cy="360360"/>
          </a:xfrm>
          <a:custGeom>
            <a:avLst/>
            <a:gdLst>
              <a:gd name="textAreaLeft" fmla="*/ 41040 w 179640"/>
              <a:gd name="textAreaRight" fmla="*/ 138600 w 17964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3"/>
          <p:cNvSpPr/>
          <p:nvPr/>
        </p:nvSpPr>
        <p:spPr>
          <a:xfrm>
            <a:off x="1260360" y="6300720"/>
            <a:ext cx="179640" cy="179280"/>
          </a:xfrm>
          <a:custGeom>
            <a:avLst/>
            <a:gdLst>
              <a:gd name="textAreaLeft" fmla="*/ 0 w 179640"/>
              <a:gd name="textAreaRight" fmla="*/ 180000 w 17964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53" h="132">
                <a:moveTo>
                  <a:pt x="123" y="39"/>
                </a:moveTo>
                <a:cubicBezTo>
                  <a:pt x="116" y="26"/>
                  <a:pt x="113" y="13"/>
                  <a:pt x="114" y="0"/>
                </a:cubicBezTo>
                <a:cubicBezTo>
                  <a:pt x="103" y="7"/>
                  <a:pt x="90" y="11"/>
                  <a:pt x="76" y="11"/>
                </a:cubicBezTo>
                <a:cubicBezTo>
                  <a:pt x="62" y="11"/>
                  <a:pt x="49" y="7"/>
                  <a:pt x="38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3"/>
                  <a:pt x="35" y="27"/>
                  <a:pt x="28" y="39"/>
                </a:cubicBezTo>
                <a:cubicBezTo>
                  <a:pt x="22" y="51"/>
                  <a:pt x="11" y="60"/>
                  <a:pt x="0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7"/>
                  <a:pt x="0" y="67"/>
                  <a:pt x="0" y="67"/>
                </a:cubicBezTo>
                <a:cubicBezTo>
                  <a:pt x="12" y="73"/>
                  <a:pt x="22" y="82"/>
                  <a:pt x="28" y="93"/>
                </a:cubicBezTo>
                <a:cubicBezTo>
                  <a:pt x="35" y="105"/>
                  <a:pt x="38" y="119"/>
                  <a:pt x="38" y="131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49" y="125"/>
                  <a:pt x="62" y="121"/>
                  <a:pt x="76" y="121"/>
                </a:cubicBezTo>
                <a:cubicBezTo>
                  <a:pt x="90" y="121"/>
                  <a:pt x="103" y="125"/>
                  <a:pt x="114" y="132"/>
                </a:cubicBezTo>
                <a:cubicBezTo>
                  <a:pt x="114" y="132"/>
                  <a:pt x="114" y="132"/>
                  <a:pt x="114" y="132"/>
                </a:cubicBezTo>
                <a:cubicBezTo>
                  <a:pt x="113" y="119"/>
                  <a:pt x="116" y="106"/>
                  <a:pt x="123" y="93"/>
                </a:cubicBezTo>
                <a:cubicBezTo>
                  <a:pt x="130" y="81"/>
                  <a:pt x="141" y="72"/>
                  <a:pt x="153" y="66"/>
                </a:cubicBezTo>
                <a:cubicBezTo>
                  <a:pt x="153" y="66"/>
                  <a:pt x="153" y="66"/>
                  <a:pt x="153" y="66"/>
                </a:cubicBezTo>
                <a:cubicBezTo>
                  <a:pt x="141" y="60"/>
                  <a:pt x="130" y="51"/>
                  <a:pt x="123" y="39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4"/>
          <p:cNvSpPr/>
          <p:nvPr/>
        </p:nvSpPr>
        <p:spPr>
          <a:xfrm>
            <a:off x="7740720" y="5940360"/>
            <a:ext cx="177840" cy="179280"/>
          </a:xfrm>
          <a:custGeom>
            <a:avLst/>
            <a:gdLst>
              <a:gd name="textAreaLeft" fmla="*/ 0 w 177840"/>
              <a:gd name="textAreaRight" fmla="*/ 178200 w 17784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53" h="132">
                <a:moveTo>
                  <a:pt x="123" y="39"/>
                </a:moveTo>
                <a:cubicBezTo>
                  <a:pt x="116" y="26"/>
                  <a:pt x="113" y="13"/>
                  <a:pt x="114" y="0"/>
                </a:cubicBezTo>
                <a:cubicBezTo>
                  <a:pt x="103" y="7"/>
                  <a:pt x="90" y="11"/>
                  <a:pt x="76" y="11"/>
                </a:cubicBezTo>
                <a:cubicBezTo>
                  <a:pt x="62" y="11"/>
                  <a:pt x="49" y="7"/>
                  <a:pt x="38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3"/>
                  <a:pt x="35" y="27"/>
                  <a:pt x="28" y="39"/>
                </a:cubicBezTo>
                <a:cubicBezTo>
                  <a:pt x="22" y="51"/>
                  <a:pt x="11" y="60"/>
                  <a:pt x="0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7"/>
                  <a:pt x="0" y="67"/>
                  <a:pt x="0" y="67"/>
                </a:cubicBezTo>
                <a:cubicBezTo>
                  <a:pt x="12" y="73"/>
                  <a:pt x="22" y="82"/>
                  <a:pt x="28" y="93"/>
                </a:cubicBezTo>
                <a:cubicBezTo>
                  <a:pt x="35" y="105"/>
                  <a:pt x="38" y="119"/>
                  <a:pt x="38" y="131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49" y="125"/>
                  <a:pt x="62" y="121"/>
                  <a:pt x="76" y="121"/>
                </a:cubicBezTo>
                <a:cubicBezTo>
                  <a:pt x="90" y="121"/>
                  <a:pt x="103" y="125"/>
                  <a:pt x="114" y="132"/>
                </a:cubicBezTo>
                <a:cubicBezTo>
                  <a:pt x="114" y="132"/>
                  <a:pt x="114" y="132"/>
                  <a:pt x="114" y="132"/>
                </a:cubicBezTo>
                <a:cubicBezTo>
                  <a:pt x="113" y="119"/>
                  <a:pt x="116" y="106"/>
                  <a:pt x="123" y="93"/>
                </a:cubicBezTo>
                <a:cubicBezTo>
                  <a:pt x="130" y="81"/>
                  <a:pt x="141" y="72"/>
                  <a:pt x="153" y="66"/>
                </a:cubicBezTo>
                <a:cubicBezTo>
                  <a:pt x="153" y="66"/>
                  <a:pt x="153" y="66"/>
                  <a:pt x="153" y="66"/>
                </a:cubicBezTo>
                <a:cubicBezTo>
                  <a:pt x="141" y="60"/>
                  <a:pt x="130" y="51"/>
                  <a:pt x="123" y="39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5"/>
          <p:cNvSpPr/>
          <p:nvPr/>
        </p:nvSpPr>
        <p:spPr>
          <a:xfrm>
            <a:off x="7199280" y="450072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53" h="132">
                <a:moveTo>
                  <a:pt x="123" y="39"/>
                </a:moveTo>
                <a:cubicBezTo>
                  <a:pt x="116" y="26"/>
                  <a:pt x="113" y="13"/>
                  <a:pt x="114" y="0"/>
                </a:cubicBezTo>
                <a:cubicBezTo>
                  <a:pt x="103" y="7"/>
                  <a:pt x="90" y="11"/>
                  <a:pt x="76" y="11"/>
                </a:cubicBezTo>
                <a:cubicBezTo>
                  <a:pt x="62" y="11"/>
                  <a:pt x="49" y="7"/>
                  <a:pt x="38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3"/>
                  <a:pt x="35" y="27"/>
                  <a:pt x="28" y="39"/>
                </a:cubicBezTo>
                <a:cubicBezTo>
                  <a:pt x="22" y="51"/>
                  <a:pt x="11" y="60"/>
                  <a:pt x="0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7"/>
                  <a:pt x="0" y="67"/>
                  <a:pt x="0" y="67"/>
                </a:cubicBezTo>
                <a:cubicBezTo>
                  <a:pt x="12" y="73"/>
                  <a:pt x="22" y="82"/>
                  <a:pt x="28" y="93"/>
                </a:cubicBezTo>
                <a:cubicBezTo>
                  <a:pt x="35" y="105"/>
                  <a:pt x="38" y="119"/>
                  <a:pt x="38" y="131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49" y="125"/>
                  <a:pt x="62" y="121"/>
                  <a:pt x="76" y="121"/>
                </a:cubicBezTo>
                <a:cubicBezTo>
                  <a:pt x="90" y="121"/>
                  <a:pt x="103" y="125"/>
                  <a:pt x="114" y="132"/>
                </a:cubicBezTo>
                <a:cubicBezTo>
                  <a:pt x="114" y="132"/>
                  <a:pt x="114" y="132"/>
                  <a:pt x="114" y="132"/>
                </a:cubicBezTo>
                <a:cubicBezTo>
                  <a:pt x="113" y="119"/>
                  <a:pt x="116" y="106"/>
                  <a:pt x="123" y="93"/>
                </a:cubicBezTo>
                <a:cubicBezTo>
                  <a:pt x="130" y="81"/>
                  <a:pt x="141" y="72"/>
                  <a:pt x="153" y="66"/>
                </a:cubicBezTo>
                <a:cubicBezTo>
                  <a:pt x="153" y="66"/>
                  <a:pt x="153" y="66"/>
                  <a:pt x="153" y="66"/>
                </a:cubicBezTo>
                <a:cubicBezTo>
                  <a:pt x="141" y="60"/>
                  <a:pt x="130" y="51"/>
                  <a:pt x="123" y="39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6"/>
          <p:cNvSpPr/>
          <p:nvPr/>
        </p:nvSpPr>
        <p:spPr>
          <a:xfrm>
            <a:off x="4140360" y="450072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53" h="132">
                <a:moveTo>
                  <a:pt x="123" y="39"/>
                </a:moveTo>
                <a:cubicBezTo>
                  <a:pt x="116" y="26"/>
                  <a:pt x="113" y="13"/>
                  <a:pt x="114" y="0"/>
                </a:cubicBezTo>
                <a:cubicBezTo>
                  <a:pt x="103" y="7"/>
                  <a:pt x="90" y="11"/>
                  <a:pt x="76" y="11"/>
                </a:cubicBezTo>
                <a:cubicBezTo>
                  <a:pt x="62" y="11"/>
                  <a:pt x="49" y="7"/>
                  <a:pt x="38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3"/>
                  <a:pt x="35" y="27"/>
                  <a:pt x="28" y="39"/>
                </a:cubicBezTo>
                <a:cubicBezTo>
                  <a:pt x="22" y="51"/>
                  <a:pt x="11" y="60"/>
                  <a:pt x="0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7"/>
                  <a:pt x="0" y="67"/>
                  <a:pt x="0" y="67"/>
                </a:cubicBezTo>
                <a:cubicBezTo>
                  <a:pt x="12" y="73"/>
                  <a:pt x="22" y="82"/>
                  <a:pt x="28" y="93"/>
                </a:cubicBezTo>
                <a:cubicBezTo>
                  <a:pt x="35" y="105"/>
                  <a:pt x="38" y="119"/>
                  <a:pt x="38" y="131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49" y="125"/>
                  <a:pt x="62" y="121"/>
                  <a:pt x="76" y="121"/>
                </a:cubicBezTo>
                <a:cubicBezTo>
                  <a:pt x="90" y="121"/>
                  <a:pt x="103" y="125"/>
                  <a:pt x="114" y="132"/>
                </a:cubicBezTo>
                <a:cubicBezTo>
                  <a:pt x="114" y="132"/>
                  <a:pt x="114" y="132"/>
                  <a:pt x="114" y="132"/>
                </a:cubicBezTo>
                <a:cubicBezTo>
                  <a:pt x="113" y="119"/>
                  <a:pt x="116" y="106"/>
                  <a:pt x="123" y="93"/>
                </a:cubicBezTo>
                <a:cubicBezTo>
                  <a:pt x="130" y="81"/>
                  <a:pt x="141" y="72"/>
                  <a:pt x="153" y="66"/>
                </a:cubicBezTo>
                <a:cubicBezTo>
                  <a:pt x="153" y="66"/>
                  <a:pt x="153" y="66"/>
                  <a:pt x="153" y="66"/>
                </a:cubicBezTo>
                <a:cubicBezTo>
                  <a:pt x="141" y="60"/>
                  <a:pt x="130" y="51"/>
                  <a:pt x="123" y="39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7"/>
          <p:cNvSpPr/>
          <p:nvPr/>
        </p:nvSpPr>
        <p:spPr>
          <a:xfrm>
            <a:off x="900000" y="5400720"/>
            <a:ext cx="179640" cy="179280"/>
          </a:xfrm>
          <a:custGeom>
            <a:avLst/>
            <a:gdLst>
              <a:gd name="textAreaLeft" fmla="*/ 0 w 179640"/>
              <a:gd name="textAreaRight" fmla="*/ 180000 w 17964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53" h="132">
                <a:moveTo>
                  <a:pt x="123" y="39"/>
                </a:moveTo>
                <a:cubicBezTo>
                  <a:pt x="116" y="26"/>
                  <a:pt x="113" y="13"/>
                  <a:pt x="114" y="0"/>
                </a:cubicBezTo>
                <a:cubicBezTo>
                  <a:pt x="103" y="7"/>
                  <a:pt x="90" y="11"/>
                  <a:pt x="76" y="11"/>
                </a:cubicBezTo>
                <a:cubicBezTo>
                  <a:pt x="62" y="11"/>
                  <a:pt x="49" y="7"/>
                  <a:pt x="38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3"/>
                  <a:pt x="35" y="27"/>
                  <a:pt x="28" y="39"/>
                </a:cubicBezTo>
                <a:cubicBezTo>
                  <a:pt x="22" y="51"/>
                  <a:pt x="11" y="60"/>
                  <a:pt x="0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7"/>
                  <a:pt x="0" y="67"/>
                  <a:pt x="0" y="67"/>
                </a:cubicBezTo>
                <a:cubicBezTo>
                  <a:pt x="12" y="73"/>
                  <a:pt x="22" y="82"/>
                  <a:pt x="28" y="93"/>
                </a:cubicBezTo>
                <a:cubicBezTo>
                  <a:pt x="35" y="105"/>
                  <a:pt x="38" y="119"/>
                  <a:pt x="38" y="131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49" y="125"/>
                  <a:pt x="62" y="121"/>
                  <a:pt x="76" y="121"/>
                </a:cubicBezTo>
                <a:cubicBezTo>
                  <a:pt x="90" y="121"/>
                  <a:pt x="103" y="125"/>
                  <a:pt x="114" y="132"/>
                </a:cubicBezTo>
                <a:cubicBezTo>
                  <a:pt x="114" y="132"/>
                  <a:pt x="114" y="132"/>
                  <a:pt x="114" y="132"/>
                </a:cubicBezTo>
                <a:cubicBezTo>
                  <a:pt x="113" y="119"/>
                  <a:pt x="116" y="106"/>
                  <a:pt x="123" y="93"/>
                </a:cubicBezTo>
                <a:cubicBezTo>
                  <a:pt x="130" y="81"/>
                  <a:pt x="141" y="72"/>
                  <a:pt x="153" y="66"/>
                </a:cubicBezTo>
                <a:cubicBezTo>
                  <a:pt x="153" y="66"/>
                  <a:pt x="153" y="66"/>
                  <a:pt x="153" y="66"/>
                </a:cubicBezTo>
                <a:cubicBezTo>
                  <a:pt x="141" y="60"/>
                  <a:pt x="130" y="51"/>
                  <a:pt x="123" y="39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8"/>
          <p:cNvSpPr/>
          <p:nvPr/>
        </p:nvSpPr>
        <p:spPr>
          <a:xfrm>
            <a:off x="3240000" y="3598920"/>
            <a:ext cx="179640" cy="181080"/>
          </a:xfrm>
          <a:custGeom>
            <a:avLst/>
            <a:gdLst>
              <a:gd name="textAreaLeft" fmla="*/ 0 w 179640"/>
              <a:gd name="textAreaRight" fmla="*/ 180000 w 1796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53" h="132">
                <a:moveTo>
                  <a:pt x="123" y="39"/>
                </a:moveTo>
                <a:cubicBezTo>
                  <a:pt x="116" y="26"/>
                  <a:pt x="113" y="13"/>
                  <a:pt x="114" y="0"/>
                </a:cubicBezTo>
                <a:cubicBezTo>
                  <a:pt x="103" y="7"/>
                  <a:pt x="90" y="11"/>
                  <a:pt x="76" y="11"/>
                </a:cubicBezTo>
                <a:cubicBezTo>
                  <a:pt x="62" y="11"/>
                  <a:pt x="49" y="7"/>
                  <a:pt x="38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3"/>
                  <a:pt x="35" y="27"/>
                  <a:pt x="28" y="39"/>
                </a:cubicBezTo>
                <a:cubicBezTo>
                  <a:pt x="22" y="51"/>
                  <a:pt x="11" y="60"/>
                  <a:pt x="0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7"/>
                  <a:pt x="0" y="67"/>
                  <a:pt x="0" y="67"/>
                </a:cubicBezTo>
                <a:cubicBezTo>
                  <a:pt x="12" y="73"/>
                  <a:pt x="22" y="82"/>
                  <a:pt x="28" y="93"/>
                </a:cubicBezTo>
                <a:cubicBezTo>
                  <a:pt x="35" y="105"/>
                  <a:pt x="38" y="119"/>
                  <a:pt x="38" y="131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49" y="125"/>
                  <a:pt x="62" y="121"/>
                  <a:pt x="76" y="121"/>
                </a:cubicBezTo>
                <a:cubicBezTo>
                  <a:pt x="90" y="121"/>
                  <a:pt x="103" y="125"/>
                  <a:pt x="114" y="132"/>
                </a:cubicBezTo>
                <a:cubicBezTo>
                  <a:pt x="114" y="132"/>
                  <a:pt x="114" y="132"/>
                  <a:pt x="114" y="132"/>
                </a:cubicBezTo>
                <a:cubicBezTo>
                  <a:pt x="113" y="119"/>
                  <a:pt x="116" y="106"/>
                  <a:pt x="123" y="93"/>
                </a:cubicBezTo>
                <a:cubicBezTo>
                  <a:pt x="130" y="81"/>
                  <a:pt x="141" y="72"/>
                  <a:pt x="153" y="66"/>
                </a:cubicBezTo>
                <a:cubicBezTo>
                  <a:pt x="153" y="66"/>
                  <a:pt x="153" y="66"/>
                  <a:pt x="153" y="66"/>
                </a:cubicBezTo>
                <a:cubicBezTo>
                  <a:pt x="141" y="60"/>
                  <a:pt x="130" y="51"/>
                  <a:pt x="123" y="39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9"/>
          <p:cNvSpPr/>
          <p:nvPr/>
        </p:nvSpPr>
        <p:spPr>
          <a:xfrm>
            <a:off x="8099280" y="6840360"/>
            <a:ext cx="177840" cy="360720"/>
          </a:xfrm>
          <a:custGeom>
            <a:avLst/>
            <a:gdLst>
              <a:gd name="textAreaLeft" fmla="*/ 73080 w 177840"/>
              <a:gd name="textAreaRight" fmla="*/ 104760 w 177840"/>
              <a:gd name="textAreaTop" fmla="*/ 148680 h 360720"/>
              <a:gd name="textAreaBottom" fmla="*/ 212040 h 36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0"/>
          <p:cNvSpPr/>
          <p:nvPr/>
        </p:nvSpPr>
        <p:spPr>
          <a:xfrm>
            <a:off x="4859280" y="6840360"/>
            <a:ext cx="179280" cy="179640"/>
          </a:xfrm>
          <a:custGeom>
            <a:avLst/>
            <a:gdLst>
              <a:gd name="textAreaLeft" fmla="*/ 55440 w 179280"/>
              <a:gd name="textAreaRight" fmla="*/ 123840 w 179280"/>
              <a:gd name="textAreaTop" fmla="*/ 68400 h 179640"/>
              <a:gd name="textAreaBottom" fmla="*/ 137160 h 179640"/>
            </a:gdLst>
            <a:ahLst/>
            <a:rect l="textAreaLeft" t="textAreaTop" r="textAreaRight" b="textAreaBottom"/>
            <a:pathLst>
              <a:path w="179387" h="179387">
                <a:moveTo>
                  <a:pt x="0" y="68520"/>
                </a:moveTo>
                <a:lnTo>
                  <a:pt x="68520" y="68520"/>
                </a:lnTo>
                <a:lnTo>
                  <a:pt x="89694" y="0"/>
                </a:lnTo>
                <a:lnTo>
                  <a:pt x="110867" y="68520"/>
                </a:lnTo>
                <a:lnTo>
                  <a:pt x="179387" y="68520"/>
                </a:lnTo>
                <a:lnTo>
                  <a:pt x="123953" y="110867"/>
                </a:lnTo>
                <a:lnTo>
                  <a:pt x="145127" y="179386"/>
                </a:lnTo>
                <a:lnTo>
                  <a:pt x="89694" y="137039"/>
                </a:lnTo>
                <a:lnTo>
                  <a:pt x="34260" y="179386"/>
                </a:lnTo>
                <a:lnTo>
                  <a:pt x="55434" y="110867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1"/>
          <p:cNvSpPr/>
          <p:nvPr/>
        </p:nvSpPr>
        <p:spPr>
          <a:xfrm>
            <a:off x="8099280" y="5580000"/>
            <a:ext cx="360360" cy="360360"/>
          </a:xfrm>
          <a:prstGeom prst="irregularSeal2">
            <a:avLst/>
          </a:prstGeom>
          <a:solidFill>
            <a:srgbClr val="00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2"/>
          <p:cNvSpPr/>
          <p:nvPr/>
        </p:nvSpPr>
        <p:spPr>
          <a:xfrm>
            <a:off x="2700360" y="6119640"/>
            <a:ext cx="177840" cy="360360"/>
          </a:xfrm>
          <a:custGeom>
            <a:avLst/>
            <a:gdLst>
              <a:gd name="textAreaLeft" fmla="*/ 73080 w 177840"/>
              <a:gd name="textAreaRight" fmla="*/ 104760 w 1778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3"/>
          <p:cNvSpPr/>
          <p:nvPr/>
        </p:nvSpPr>
        <p:spPr>
          <a:xfrm>
            <a:off x="8459640" y="4500720"/>
            <a:ext cx="179640" cy="360360"/>
          </a:xfrm>
          <a:custGeom>
            <a:avLst/>
            <a:gdLst>
              <a:gd name="textAreaLeft" fmla="*/ 55440 w 179640"/>
              <a:gd name="textAreaRight" fmla="*/ 124200 w 179640"/>
              <a:gd name="textAreaTop" fmla="*/ 137520 h 360360"/>
              <a:gd name="textAreaBottom" fmla="*/ 275400 h 360360"/>
            </a:gdLst>
            <a:ahLst/>
            <a:rect l="textAreaLeft" t="textAreaTop" r="textAreaRight" b="textAreaBottom"/>
            <a:pathLst>
              <a:path w="179387" h="360362">
                <a:moveTo>
                  <a:pt x="0" y="137646"/>
                </a:moveTo>
                <a:lnTo>
                  <a:pt x="68520" y="137647"/>
                </a:lnTo>
                <a:lnTo>
                  <a:pt x="89694" y="0"/>
                </a:lnTo>
                <a:lnTo>
                  <a:pt x="110867" y="137647"/>
                </a:lnTo>
                <a:lnTo>
                  <a:pt x="179387" y="137646"/>
                </a:lnTo>
                <a:lnTo>
                  <a:pt x="123953" y="222715"/>
                </a:lnTo>
                <a:lnTo>
                  <a:pt x="145127" y="360361"/>
                </a:lnTo>
                <a:lnTo>
                  <a:pt x="89694" y="275290"/>
                </a:lnTo>
                <a:lnTo>
                  <a:pt x="34260" y="360361"/>
                </a:lnTo>
                <a:lnTo>
                  <a:pt x="55434" y="222715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4"/>
          <p:cNvSpPr/>
          <p:nvPr/>
        </p:nvSpPr>
        <p:spPr>
          <a:xfrm>
            <a:off x="8999640" y="6659640"/>
            <a:ext cx="179280" cy="179280"/>
          </a:xfrm>
          <a:custGeom>
            <a:avLst/>
            <a:gdLst>
              <a:gd name="textAreaLeft" fmla="*/ 40680 w 179280"/>
              <a:gd name="textAreaRight" fmla="*/ 138600 w 179280"/>
              <a:gd name="textAreaTop" fmla="*/ 40680 h 179280"/>
              <a:gd name="textAreaBottom" fmla="*/ 138600 h 17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5"/>
          <p:cNvSpPr/>
          <p:nvPr/>
        </p:nvSpPr>
        <p:spPr>
          <a:xfrm>
            <a:off x="4319640" y="3598920"/>
            <a:ext cx="360360" cy="361800"/>
          </a:xfrm>
          <a:custGeom>
            <a:avLst/>
            <a:gdLst>
              <a:gd name="textAreaLeft" fmla="*/ 82080 w 360360"/>
              <a:gd name="textAreaRight" fmla="*/ 278280 w 360360"/>
              <a:gd name="textAreaTop" fmla="*/ 82440 h 361800"/>
              <a:gd name="textAreaBottom" fmla="*/ 279360 h 36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6"/>
          <p:cNvSpPr/>
          <p:nvPr/>
        </p:nvSpPr>
        <p:spPr>
          <a:xfrm>
            <a:off x="6300720" y="4140360"/>
            <a:ext cx="179280" cy="179280"/>
          </a:xfrm>
          <a:custGeom>
            <a:avLst/>
            <a:gdLst>
              <a:gd name="textAreaLeft" fmla="*/ 40680 w 179280"/>
              <a:gd name="textAreaRight" fmla="*/ 138600 w 179280"/>
              <a:gd name="textAreaTop" fmla="*/ 40680 h 179280"/>
              <a:gd name="textAreaBottom" fmla="*/ 138600 h 17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7"/>
          <p:cNvSpPr/>
          <p:nvPr/>
        </p:nvSpPr>
        <p:spPr>
          <a:xfrm>
            <a:off x="720720" y="3240000"/>
            <a:ext cx="179280" cy="179640"/>
          </a:xfrm>
          <a:custGeom>
            <a:avLst/>
            <a:gdLst>
              <a:gd name="textAreaLeft" fmla="*/ 40680 w 179280"/>
              <a:gd name="textAreaRight" fmla="*/ 138600 w 179280"/>
              <a:gd name="textAreaTop" fmla="*/ 41040 h 179640"/>
              <a:gd name="textAreaBottom" fmla="*/ 138600 h 1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8"/>
          <p:cNvSpPr/>
          <p:nvPr/>
        </p:nvSpPr>
        <p:spPr>
          <a:xfrm>
            <a:off x="1619280" y="3240000"/>
            <a:ext cx="1258920" cy="2879640"/>
          </a:xfrm>
          <a:custGeom>
            <a:avLst/>
            <a:gdLst>
              <a:gd name="textAreaLeft" fmla="*/ 174600 w 1258920"/>
              <a:gd name="textAreaRight" fmla="*/ 997200 w 1258920"/>
              <a:gd name="textAreaTop" fmla="*/ 442440 h 2879640"/>
              <a:gd name="textAreaBottom" fmla="*/ 2310480 h 287964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fill="none"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fill="none"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fill="none"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fill="none"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fill="none"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fill="none"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fill="none"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fill="none"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fill="none"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fill="none"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fill="none"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5c852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29"/>
          <p:cNvSpPr/>
          <p:nvPr/>
        </p:nvSpPr>
        <p:spPr>
          <a:xfrm>
            <a:off x="1979640" y="5400720"/>
            <a:ext cx="179280" cy="179280"/>
          </a:xfrm>
          <a:custGeom>
            <a:avLst/>
            <a:gdLst/>
            <a:ahLst/>
            <a:rect l="l" t="t" r="r" b="b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0"/>
          <p:cNvSpPr/>
          <p:nvPr/>
        </p:nvSpPr>
        <p:spPr>
          <a:xfrm>
            <a:off x="2162160" y="4859280"/>
            <a:ext cx="177840" cy="179280"/>
          </a:xfrm>
          <a:custGeom>
            <a:avLst/>
            <a:gdLst>
              <a:gd name="textAreaLeft" fmla="*/ 0 w 177840"/>
              <a:gd name="textAreaRight" fmla="*/ 178200 w 177840"/>
              <a:gd name="textAreaTop" fmla="*/ 0 h 179280"/>
              <a:gd name="textAreaBottom" fmla="*/ 179280 h 1792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1"/>
          <p:cNvSpPr/>
          <p:nvPr/>
        </p:nvSpPr>
        <p:spPr>
          <a:xfrm>
            <a:off x="2162160" y="4140360"/>
            <a:ext cx="177840" cy="179280"/>
          </a:xfrm>
          <a:custGeom>
            <a:avLst/>
            <a:gdLst>
              <a:gd name="textAreaLeft" fmla="*/ 0 w 177840"/>
              <a:gd name="textAreaRight" fmla="*/ 178200 w 177840"/>
              <a:gd name="textAreaTop" fmla="*/ 0 h 179280"/>
              <a:gd name="textAreaBottom" fmla="*/ 179280 h 1792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2"/>
          <p:cNvSpPr/>
          <p:nvPr/>
        </p:nvSpPr>
        <p:spPr>
          <a:xfrm>
            <a:off x="1800360" y="4500720"/>
            <a:ext cx="179280" cy="179280"/>
          </a:xfrm>
          <a:custGeom>
            <a:avLst/>
            <a:gdLst/>
            <a:ahLst/>
            <a:rect l="l" t="t" r="r" b="b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3"/>
          <p:cNvSpPr/>
          <p:nvPr/>
        </p:nvSpPr>
        <p:spPr>
          <a:xfrm>
            <a:off x="2521080" y="4500720"/>
            <a:ext cx="177840" cy="179280"/>
          </a:xfrm>
          <a:custGeom>
            <a:avLst/>
            <a:gdLst>
              <a:gd name="textAreaLeft" fmla="*/ 0 w 177840"/>
              <a:gd name="textAreaRight" fmla="*/ 178200 w 177840"/>
              <a:gd name="textAreaTop" fmla="*/ 0 h 179280"/>
              <a:gd name="textAreaBottom" fmla="*/ 179280 h 1792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4"/>
          <p:cNvSpPr/>
          <p:nvPr/>
        </p:nvSpPr>
        <p:spPr>
          <a:xfrm>
            <a:off x="2162160" y="3598920"/>
            <a:ext cx="177840" cy="181080"/>
          </a:xfrm>
          <a:custGeom>
            <a:avLst/>
            <a:gdLst>
              <a:gd name="textAreaLeft" fmla="*/ 0 w 177840"/>
              <a:gd name="textAreaRight" fmla="*/ 178200 w 1778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5"/>
          <p:cNvSpPr/>
          <p:nvPr/>
        </p:nvSpPr>
        <p:spPr>
          <a:xfrm>
            <a:off x="1800360" y="5040360"/>
            <a:ext cx="179280" cy="179280"/>
          </a:xfrm>
          <a:custGeom>
            <a:avLst/>
            <a:gdLst/>
            <a:ahLst/>
            <a:rect l="l" t="t" r="r" b="b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6"/>
          <p:cNvSpPr/>
          <p:nvPr/>
        </p:nvSpPr>
        <p:spPr>
          <a:xfrm>
            <a:off x="2340000" y="5219640"/>
            <a:ext cx="181080" cy="179280"/>
          </a:xfrm>
          <a:custGeom>
            <a:avLst/>
            <a:gdLst>
              <a:gd name="textAreaLeft" fmla="*/ 0 w 181080"/>
              <a:gd name="textAreaRight" fmla="*/ 181440 w 181080"/>
              <a:gd name="textAreaTop" fmla="*/ 0 h 179280"/>
              <a:gd name="textAreaBottom" fmla="*/ 179280 h 1792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7"/>
          <p:cNvSpPr/>
          <p:nvPr/>
        </p:nvSpPr>
        <p:spPr>
          <a:xfrm>
            <a:off x="2521080" y="3780000"/>
            <a:ext cx="177840" cy="180720"/>
          </a:xfrm>
          <a:custGeom>
            <a:avLst/>
            <a:gdLst>
              <a:gd name="textAreaLeft" fmla="*/ 0 w 177840"/>
              <a:gd name="textAreaRight" fmla="*/ 178200 w 17784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8"/>
          <p:cNvSpPr/>
          <p:nvPr/>
        </p:nvSpPr>
        <p:spPr>
          <a:xfrm>
            <a:off x="1800360" y="3960720"/>
            <a:ext cx="179280" cy="177840"/>
          </a:xfrm>
          <a:custGeom>
            <a:avLst/>
            <a:gdLst>
              <a:gd name="textAreaLeft" fmla="*/ 0 w 179280"/>
              <a:gd name="textAreaRight" fmla="*/ 179280 w 17928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9"/>
          <p:cNvSpPr/>
          <p:nvPr/>
        </p:nvSpPr>
        <p:spPr>
          <a:xfrm>
            <a:off x="1619280" y="539640"/>
            <a:ext cx="2700360" cy="1260720"/>
          </a:xfrm>
          <a:custGeom>
            <a:avLst/>
            <a:gdLst>
              <a:gd name="textAreaLeft" fmla="*/ 374760 w 2700360"/>
              <a:gd name="textAreaRight" fmla="*/ 2139120 w 2700360"/>
              <a:gd name="textAreaTop" fmla="*/ 193680 h 1260720"/>
              <a:gd name="textAreaBottom" fmla="*/ 1011600 h 126072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fill="none"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fill="none"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fill="none"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fill="none"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fill="none"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fill="none"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fill="none"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fill="none"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fill="none"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fill="none"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fill="none"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1" descr=""/>
          <p:cNvPicPr/>
          <p:nvPr/>
        </p:nvPicPr>
        <p:blipFill>
          <a:blip r:embed="rId2"/>
          <a:stretch/>
        </p:blipFill>
        <p:spPr>
          <a:xfrm>
            <a:off x="3780000" y="2879640"/>
            <a:ext cx="180720" cy="18108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42"/>
          <p:cNvSpPr/>
          <p:nvPr/>
        </p:nvSpPr>
        <p:spPr>
          <a:xfrm>
            <a:off x="6480000" y="3419640"/>
            <a:ext cx="179640" cy="179280"/>
          </a:xfrm>
          <a:custGeom>
            <a:avLst/>
            <a:gdLst>
              <a:gd name="textAreaLeft" fmla="*/ 41040 w 179640"/>
              <a:gd name="textAreaRight" fmla="*/ 138600 w 179640"/>
              <a:gd name="textAreaTop" fmla="*/ 40680 h 179280"/>
              <a:gd name="textAreaBottom" fmla="*/ 138600 h 17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3"/>
          <p:cNvSpPr/>
          <p:nvPr/>
        </p:nvSpPr>
        <p:spPr>
          <a:xfrm>
            <a:off x="2162160" y="6119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4"/>
          <p:cNvSpPr/>
          <p:nvPr/>
        </p:nvSpPr>
        <p:spPr>
          <a:xfrm>
            <a:off x="2162160" y="630072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5"/>
          <p:cNvSpPr/>
          <p:nvPr/>
        </p:nvSpPr>
        <p:spPr>
          <a:xfrm>
            <a:off x="8820000" y="2879640"/>
            <a:ext cx="179640" cy="179640"/>
          </a:xfrm>
          <a:custGeom>
            <a:avLst/>
            <a:gdLst>
              <a:gd name="textAreaLeft" fmla="*/ 41040 w 179640"/>
              <a:gd name="textAreaRight" fmla="*/ 138600 w 179640"/>
              <a:gd name="textAreaTop" fmla="*/ 41040 h 179640"/>
              <a:gd name="textAreaBottom" fmla="*/ 138600 h 1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6"/>
          <p:cNvSpPr/>
          <p:nvPr/>
        </p:nvSpPr>
        <p:spPr>
          <a:xfrm>
            <a:off x="1440000" y="2340000"/>
            <a:ext cx="179280" cy="179280"/>
          </a:xfrm>
          <a:custGeom>
            <a:avLst/>
            <a:gdLst>
              <a:gd name="textAreaLeft" fmla="*/ 40680 w 179280"/>
              <a:gd name="textAreaRight" fmla="*/ 138600 w 179280"/>
              <a:gd name="textAreaTop" fmla="*/ 40680 h 179280"/>
              <a:gd name="textAreaBottom" fmla="*/ 138600 h 17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7"/>
          <p:cNvSpPr/>
          <p:nvPr/>
        </p:nvSpPr>
        <p:spPr>
          <a:xfrm>
            <a:off x="2878200" y="2340000"/>
            <a:ext cx="181080" cy="179280"/>
          </a:xfrm>
          <a:custGeom>
            <a:avLst/>
            <a:gdLst>
              <a:gd name="textAreaLeft" fmla="*/ 41400 w 181080"/>
              <a:gd name="textAreaRight" fmla="*/ 139680 w 181080"/>
              <a:gd name="textAreaTop" fmla="*/ 40680 h 179280"/>
              <a:gd name="textAreaBottom" fmla="*/ 138600 h 17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8"/>
          <p:cNvSpPr/>
          <p:nvPr/>
        </p:nvSpPr>
        <p:spPr>
          <a:xfrm>
            <a:off x="7199280" y="6659640"/>
            <a:ext cx="179280" cy="179280"/>
          </a:xfrm>
          <a:custGeom>
            <a:avLst/>
            <a:gdLst>
              <a:gd name="textAreaLeft" fmla="*/ 40680 w 179280"/>
              <a:gd name="textAreaRight" fmla="*/ 138600 w 179280"/>
              <a:gd name="textAreaTop" fmla="*/ 40680 h 179280"/>
              <a:gd name="textAreaBottom" fmla="*/ 138600 h 17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9"/>
          <p:cNvSpPr/>
          <p:nvPr/>
        </p:nvSpPr>
        <p:spPr>
          <a:xfrm>
            <a:off x="539640" y="6659640"/>
            <a:ext cx="179640" cy="179280"/>
          </a:xfrm>
          <a:custGeom>
            <a:avLst/>
            <a:gdLst>
              <a:gd name="textAreaLeft" fmla="*/ 41040 w 179640"/>
              <a:gd name="textAreaRight" fmla="*/ 138600 w 179640"/>
              <a:gd name="textAreaTop" fmla="*/ 40680 h 179280"/>
              <a:gd name="textAreaBottom" fmla="*/ 138600 h 17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0"/>
          <p:cNvSpPr/>
          <p:nvPr/>
        </p:nvSpPr>
        <p:spPr>
          <a:xfrm>
            <a:off x="7380360" y="3419640"/>
            <a:ext cx="181080" cy="179280"/>
          </a:xfrm>
          <a:custGeom>
            <a:avLst/>
            <a:gdLst>
              <a:gd name="textAreaLeft" fmla="*/ 41400 w 181080"/>
              <a:gd name="textAreaRight" fmla="*/ 139680 w 181080"/>
              <a:gd name="textAreaTop" fmla="*/ 40680 h 179280"/>
              <a:gd name="textAreaBottom" fmla="*/ 138600 h 17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1"/>
          <p:cNvSpPr/>
          <p:nvPr/>
        </p:nvSpPr>
        <p:spPr>
          <a:xfrm>
            <a:off x="6408720" y="6300720"/>
            <a:ext cx="3240000" cy="107784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аморкина Любов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53"/>
          <p:cNvSpPr/>
          <p:nvPr/>
        </p:nvSpPr>
        <p:spPr>
          <a:xfrm>
            <a:off x="4824360" y="539640"/>
            <a:ext cx="4753080" cy="2413080"/>
          </a:xfrm>
          <a:custGeom>
            <a:avLst/>
            <a:gdLst>
              <a:gd name="textAreaLeft" fmla="*/ 659880 w 4753080"/>
              <a:gd name="textAreaRight" fmla="*/ 3765240 w 4753080"/>
              <a:gd name="textAreaTop" fmla="*/ 370800 h 2413080"/>
              <a:gd name="textAreaBottom" fmla="*/ 1936080 h 241308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fill="none"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fill="none"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fill="none"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fill="none"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fill="none"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fill="none"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fill="none"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fill="none"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fill="none"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fill="none"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fill="none"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4"/>
          <p:cNvSpPr/>
          <p:nvPr/>
        </p:nvSpPr>
        <p:spPr>
          <a:xfrm>
            <a:off x="5688000" y="1042920"/>
            <a:ext cx="410364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ступает Новый год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лагоухаю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ветущие слив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" descr=""/>
          <p:cNvPicPr/>
          <p:nvPr/>
        </p:nvPicPr>
        <p:blipFill>
          <a:blip r:embed="rId1"/>
          <a:stretch/>
        </p:blipFill>
        <p:spPr>
          <a:xfrm>
            <a:off x="1979640" y="1260360"/>
            <a:ext cx="8023320" cy="6194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82440" y="2700360"/>
            <a:ext cx="1897200" cy="46879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3"/>
          <p:cNvSpPr/>
          <p:nvPr/>
        </p:nvSpPr>
        <p:spPr>
          <a:xfrm>
            <a:off x="181080" y="193680"/>
            <a:ext cx="2878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аморкина 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5400720" y="181080"/>
            <a:ext cx="44989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в мире персиковый источ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м фазан сид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ьет росу он с хризан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36240" y="587520"/>
            <a:ext cx="4871880" cy="50472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300" spc="-1" strike="noStrike">
                <a:solidFill>
                  <a:srgbClr val="ff6600"/>
                </a:solidFill>
                <a:latin typeface="Times New Roman"/>
              </a:rPr>
              <a:t>Краснянская Светлан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5963760" y="4200480"/>
            <a:ext cx="3529080" cy="251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Осень при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Алый клен оп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Опустело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1679400"/>
            <a:ext cx="59529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7" name="Rectangle 4"/>
          <p:cNvSpPr/>
          <p:nvPr/>
        </p:nvSpPr>
        <p:spPr>
          <a:xfrm>
            <a:off x="5460840" y="2352600"/>
            <a:ext cx="53658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Красные язы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Уничтожают все вокру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Это языки пламе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504720" y="503280"/>
            <a:ext cx="3814920" cy="482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Краснянская Светла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186160" y="2015280"/>
            <a:ext cx="2517480" cy="2341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5040360" y="1549440"/>
            <a:ext cx="47689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4933c"/>
                </a:solidFill>
                <a:latin typeface="Arial"/>
              </a:rPr>
              <a:t>Летнее ут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4933c"/>
                </a:solidFill>
                <a:latin typeface="Arial"/>
              </a:rPr>
              <a:t>Над каждым прудом повис тум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4933c"/>
                </a:solidFill>
                <a:latin typeface="Arial"/>
              </a:rPr>
              <a:t>Прохладно на у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095640" y="6443640"/>
            <a:ext cx="41212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4933c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c4933c"/>
                </a:solidFill>
                <a:latin typeface="Arial"/>
              </a:rPr>
              <a:t>Сотников Алекса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5"/>
          <p:cNvSpPr/>
          <p:nvPr/>
        </p:nvSpPr>
        <p:spPr>
          <a:xfrm>
            <a:off x="5040360" y="2987640"/>
            <a:ext cx="465444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Monotype Corsiva"/>
              </a:rPr>
              <a:t>Плывут по неб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Monotype Corsiva"/>
              </a:rPr>
              <a:t>Белые корабли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Monotype Corsiva"/>
              </a:rPr>
              <a:t>Это обла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4720" y="755640"/>
            <a:ext cx="41036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Краснянская Светл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4720" y="1763640"/>
            <a:ext cx="9072720" cy="4989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black105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04720" y="0"/>
            <a:ext cx="9250560" cy="72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a3a3e0"/>
                </a:solidFill>
                <a:latin typeface="Arial"/>
              </a:rPr>
              <a:t>Ц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овлечь учащихся в неповторимый мир японской поэзии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совершенствовать коммуникативно-речевые умения учащихся создавать устные сообщения, умения  осуществлять практическую деятельность с использованием ассоциативно-синектического метода и метода «дизайн искусственных стихов»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развивать мышление, воображение, творческие способности учащихся; умения анализировать, сопоставлять, обобщать; умение использовать мультимедийные средства представления информации для самовыражения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оспитывать чувство прекрасного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рививать бережное и внимательное отношение к природе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оспитывать  эстетический вкус, внимательное отношение к слову, потребность выражать свои мысли и чувства в литературном творчестве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развивать интерес и уважительное отношение к культуре разных народо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119640" y="5040360"/>
            <a:ext cx="3060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3ff23"/>
                </a:solidFill>
                <a:latin typeface="Arial"/>
              </a:rPr>
              <a:t>Время бежит быстр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3ff23"/>
                </a:solidFill>
                <a:latin typeface="Arial"/>
              </a:rPr>
              <a:t>За ним не угн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3ff23"/>
                </a:solidFill>
                <a:latin typeface="Arial"/>
              </a:rPr>
              <a:t>Так и жизнь пролетит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521964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dc2300"/>
                </a:solidFill>
                <a:latin typeface="Arial"/>
              </a:rPr>
              <a:t>Кравц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dc2300"/>
                </a:solidFill>
                <a:latin typeface="Arial"/>
              </a:rPr>
              <a:t>Алекс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dc2300"/>
                </a:solidFill>
                <a:latin typeface="Arial"/>
              </a:rPr>
              <a:t>Сотников Александ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04720" y="466560"/>
            <a:ext cx="46785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Время бежит быстр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За ним не угн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Так и жизнь пролети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5545080" y="5923080"/>
            <a:ext cx="420372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Сотников Алекса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2"/>
          <p:cNvSpPr/>
          <p:nvPr/>
        </p:nvSpPr>
        <p:spPr>
          <a:xfrm>
            <a:off x="3233880" y="2463840"/>
            <a:ext cx="612720" cy="3881520"/>
          </a:xfrm>
          <a:custGeom>
            <a:avLst/>
            <a:gdLst>
              <a:gd name="textAreaLeft" fmla="*/ 0 w 612720"/>
              <a:gd name="textAreaRight" fmla="*/ 613080 w 612720"/>
              <a:gd name="textAreaTop" fmla="*/ 0 h 3881520"/>
              <a:gd name="textAreaBottom" fmla="*/ 3881880 h 3881520"/>
            </a:gdLst>
            <a:ahLst/>
            <a:rect l="textAreaLeft" t="textAreaTop" r="textAreaRight" b="textAreaBottom"/>
            <a:pathLst>
              <a:path w="1700" h="10782">
                <a:moveTo>
                  <a:pt x="0" y="10781"/>
                </a:moveTo>
                <a:cubicBezTo>
                  <a:pt x="79" y="9873"/>
                  <a:pt x="715" y="9249"/>
                  <a:pt x="645" y="8262"/>
                </a:cubicBezTo>
                <a:cubicBezTo>
                  <a:pt x="586" y="7448"/>
                  <a:pt x="606" y="6626"/>
                  <a:pt x="644" y="5812"/>
                </a:cubicBezTo>
                <a:cubicBezTo>
                  <a:pt x="681" y="5032"/>
                  <a:pt x="621" y="4277"/>
                  <a:pt x="586" y="3501"/>
                </a:cubicBezTo>
                <a:cubicBezTo>
                  <a:pt x="542" y="2534"/>
                  <a:pt x="1228" y="1944"/>
                  <a:pt x="1523" y="1190"/>
                </a:cubicBezTo>
                <a:lnTo>
                  <a:pt x="1640" y="490"/>
                </a:lnTo>
                <a:lnTo>
                  <a:pt x="1699" y="0"/>
                </a:lnTo>
              </a:path>
            </a:pathLst>
          </a:custGeom>
          <a:noFill/>
          <a:ln w="108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3516480" y="3740040"/>
            <a:ext cx="1414440" cy="105912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1059120"/>
              <a:gd name="textAreaBottom" fmla="*/ 1059480 h 1059120"/>
            </a:gdLst>
            <a:ahLst/>
            <a:rect l="textAreaLeft" t="textAreaTop" r="textAreaRight" b="textAreaBottom"/>
            <a:pathLst>
              <a:path w="3925" h="2942">
                <a:moveTo>
                  <a:pt x="0" y="2941"/>
                </a:moveTo>
                <a:cubicBezTo>
                  <a:pt x="691" y="2612"/>
                  <a:pt x="1031" y="1700"/>
                  <a:pt x="1874" y="1610"/>
                </a:cubicBezTo>
                <a:cubicBezTo>
                  <a:pt x="2581" y="1535"/>
                  <a:pt x="3203" y="912"/>
                  <a:pt x="3631" y="211"/>
                </a:cubicBezTo>
                <a:lnTo>
                  <a:pt x="3924" y="0"/>
                </a:lnTo>
              </a:path>
            </a:pathLst>
          </a:custGeom>
          <a:noFill/>
          <a:ln w="108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4"/>
          <p:cNvSpPr/>
          <p:nvPr/>
        </p:nvSpPr>
        <p:spPr>
          <a:xfrm>
            <a:off x="2946240" y="2354400"/>
            <a:ext cx="422280" cy="1411200"/>
          </a:xfrm>
          <a:custGeom>
            <a:avLst/>
            <a:gdLst>
              <a:gd name="textAreaLeft" fmla="*/ 0 w 422280"/>
              <a:gd name="textAreaRight" fmla="*/ 422640 w 422280"/>
              <a:gd name="textAreaTop" fmla="*/ 0 h 1411200"/>
              <a:gd name="textAreaBottom" fmla="*/ 1411560 h 1411200"/>
            </a:gdLst>
            <a:ahLst/>
            <a:rect l="textAreaLeft" t="textAreaTop" r="textAreaRight" b="textAreaBottom"/>
            <a:pathLst>
              <a:path w="1173" h="3921">
                <a:moveTo>
                  <a:pt x="1172" y="3920"/>
                </a:moveTo>
                <a:cubicBezTo>
                  <a:pt x="726" y="3279"/>
                  <a:pt x="306" y="2483"/>
                  <a:pt x="351" y="1610"/>
                </a:cubicBezTo>
                <a:lnTo>
                  <a:pt x="293" y="560"/>
                </a:lnTo>
                <a:lnTo>
                  <a:pt x="0" y="0"/>
                </a:lnTo>
              </a:path>
            </a:pathLst>
          </a:custGeom>
          <a:noFill/>
          <a:ln w="108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5"/>
          <p:cNvSpPr/>
          <p:nvPr/>
        </p:nvSpPr>
        <p:spPr>
          <a:xfrm>
            <a:off x="2124000" y="4067280"/>
            <a:ext cx="1265400" cy="1164960"/>
          </a:xfrm>
          <a:custGeom>
            <a:avLst/>
            <a:gdLst>
              <a:gd name="textAreaLeft" fmla="*/ 0 w 1265400"/>
              <a:gd name="textAreaRight" fmla="*/ 1265760 w 1265400"/>
              <a:gd name="textAreaTop" fmla="*/ 0 h 1164960"/>
              <a:gd name="textAreaBottom" fmla="*/ 1165320 h 1164960"/>
            </a:gdLst>
            <a:ahLst/>
            <a:rect l="textAreaLeft" t="textAreaTop" r="textAreaRight" b="textAreaBottom"/>
            <a:pathLst>
              <a:path w="3516" h="3237">
                <a:moveTo>
                  <a:pt x="3515" y="3151"/>
                </a:moveTo>
                <a:cubicBezTo>
                  <a:pt x="2494" y="3236"/>
                  <a:pt x="3025" y="1903"/>
                  <a:pt x="2577" y="1401"/>
                </a:cubicBezTo>
                <a:cubicBezTo>
                  <a:pt x="2044" y="804"/>
                  <a:pt x="1291" y="566"/>
                  <a:pt x="586" y="351"/>
                </a:cubicBezTo>
                <a:lnTo>
                  <a:pt x="0" y="71"/>
                </a:lnTo>
                <a:lnTo>
                  <a:pt x="0" y="0"/>
                </a:lnTo>
              </a:path>
            </a:pathLst>
          </a:custGeom>
          <a:noFill/>
          <a:ln w="108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6"/>
          <p:cNvSpPr/>
          <p:nvPr/>
        </p:nvSpPr>
        <p:spPr>
          <a:xfrm>
            <a:off x="2398680" y="3033720"/>
            <a:ext cx="993960" cy="1109520"/>
          </a:xfrm>
          <a:custGeom>
            <a:avLst/>
            <a:gdLst>
              <a:gd name="textAreaLeft" fmla="*/ 0 w 993960"/>
              <a:gd name="textAreaRight" fmla="*/ 994320 w 99396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w="2754" h="3081">
                <a:moveTo>
                  <a:pt x="2753" y="3080"/>
                </a:moveTo>
                <a:cubicBezTo>
                  <a:pt x="2280" y="2431"/>
                  <a:pt x="1511" y="2457"/>
                  <a:pt x="995" y="1890"/>
                </a:cubicBezTo>
                <a:lnTo>
                  <a:pt x="468" y="1189"/>
                </a:lnTo>
                <a:lnTo>
                  <a:pt x="175" y="490"/>
                </a:lnTo>
                <a:lnTo>
                  <a:pt x="0" y="0"/>
                </a:lnTo>
              </a:path>
            </a:pathLst>
          </a:custGeom>
          <a:noFill/>
          <a:ln w="108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7"/>
          <p:cNvSpPr/>
          <p:nvPr/>
        </p:nvSpPr>
        <p:spPr>
          <a:xfrm>
            <a:off x="3475080" y="5005440"/>
            <a:ext cx="1538280" cy="904680"/>
          </a:xfrm>
          <a:custGeom>
            <a:avLst/>
            <a:gdLst>
              <a:gd name="textAreaLeft" fmla="*/ 0 w 1538280"/>
              <a:gd name="textAreaRight" fmla="*/ 1538640 w 153828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4276" h="2508">
                <a:moveTo>
                  <a:pt x="0" y="2507"/>
                </a:moveTo>
                <a:cubicBezTo>
                  <a:pt x="631" y="2075"/>
                  <a:pt x="1329" y="1676"/>
                  <a:pt x="1757" y="967"/>
                </a:cubicBezTo>
                <a:cubicBezTo>
                  <a:pt x="2341" y="0"/>
                  <a:pt x="3287" y="532"/>
                  <a:pt x="4041" y="267"/>
                </a:cubicBezTo>
                <a:lnTo>
                  <a:pt x="4275" y="268"/>
                </a:lnTo>
              </a:path>
            </a:pathLst>
          </a:custGeom>
          <a:noFill/>
          <a:ln w="108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8"/>
          <p:cNvSpPr/>
          <p:nvPr/>
        </p:nvSpPr>
        <p:spPr>
          <a:xfrm>
            <a:off x="2610000" y="5000760"/>
            <a:ext cx="663480" cy="1234800"/>
          </a:xfrm>
          <a:custGeom>
            <a:avLst/>
            <a:gdLst>
              <a:gd name="textAreaLeft" fmla="*/ 0 w 663480"/>
              <a:gd name="textAreaRight" fmla="*/ 663840 w 663480"/>
              <a:gd name="textAreaTop" fmla="*/ 0 h 1234800"/>
              <a:gd name="textAreaBottom" fmla="*/ 1235160 h 1234800"/>
            </a:gdLst>
            <a:ahLst/>
            <a:rect l="textAreaLeft" t="textAreaTop" r="textAreaRight" b="textAreaBottom"/>
            <a:pathLst>
              <a:path w="1841" h="3430">
                <a:moveTo>
                  <a:pt x="1758" y="3429"/>
                </a:moveTo>
                <a:cubicBezTo>
                  <a:pt x="1840" y="2644"/>
                  <a:pt x="1656" y="1716"/>
                  <a:pt x="996" y="1329"/>
                </a:cubicBezTo>
                <a:lnTo>
                  <a:pt x="351" y="839"/>
                </a:lnTo>
                <a:lnTo>
                  <a:pt x="0" y="139"/>
                </a:lnTo>
                <a:lnTo>
                  <a:pt x="0" y="0"/>
                </a:lnTo>
              </a:path>
            </a:pathLst>
          </a:custGeom>
          <a:noFill/>
          <a:ln w="108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9"/>
          <p:cNvSpPr/>
          <p:nvPr/>
        </p:nvSpPr>
        <p:spPr>
          <a:xfrm>
            <a:off x="3112920" y="6087960"/>
            <a:ext cx="290520" cy="932040"/>
          </a:xfrm>
          <a:custGeom>
            <a:avLst/>
            <a:gdLst>
              <a:gd name="textAreaLeft" fmla="*/ 0 w 290520"/>
              <a:gd name="textAreaRight" fmla="*/ 290520 w 29052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806" h="2591">
                <a:moveTo>
                  <a:pt x="545" y="0"/>
                </a:moveTo>
                <a:cubicBezTo>
                  <a:pt x="805" y="745"/>
                  <a:pt x="0" y="1399"/>
                  <a:pt x="545" y="2101"/>
                </a:cubicBezTo>
                <a:lnTo>
                  <a:pt x="423" y="2590"/>
                </a:lnTo>
              </a:path>
            </a:pathLst>
          </a:custGeom>
          <a:noFill/>
          <a:ln w="144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0"/>
          <p:cNvSpPr/>
          <p:nvPr/>
        </p:nvSpPr>
        <p:spPr>
          <a:xfrm>
            <a:off x="3332160" y="6281640"/>
            <a:ext cx="88920" cy="706680"/>
          </a:xfrm>
          <a:custGeom>
            <a:avLst/>
            <a:gdLst>
              <a:gd name="textAreaLeft" fmla="*/ 0 w 88920"/>
              <a:gd name="textAreaRight" fmla="*/ 88920 w 8892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245" h="1962">
                <a:moveTo>
                  <a:pt x="121" y="0"/>
                </a:moveTo>
                <a:lnTo>
                  <a:pt x="0" y="700"/>
                </a:lnTo>
                <a:lnTo>
                  <a:pt x="61" y="1401"/>
                </a:lnTo>
                <a:lnTo>
                  <a:pt x="244" y="1961"/>
                </a:lnTo>
              </a:path>
            </a:pathLst>
          </a:custGeom>
          <a:noFill/>
          <a:ln w="144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1"/>
          <p:cNvSpPr/>
          <p:nvPr/>
        </p:nvSpPr>
        <p:spPr>
          <a:xfrm>
            <a:off x="4338720" y="3362400"/>
            <a:ext cx="631800" cy="857160"/>
          </a:xfrm>
          <a:custGeom>
            <a:avLst/>
            <a:gdLst>
              <a:gd name="textAreaLeft" fmla="*/ 0 w 631800"/>
              <a:gd name="textAreaRight" fmla="*/ 632160 w 63180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1757" h="2381">
                <a:moveTo>
                  <a:pt x="0" y="2380"/>
                </a:moveTo>
                <a:cubicBezTo>
                  <a:pt x="310" y="1633"/>
                  <a:pt x="802" y="1027"/>
                  <a:pt x="1112" y="279"/>
                </a:cubicBezTo>
                <a:lnTo>
                  <a:pt x="1699" y="69"/>
                </a:lnTo>
                <a:lnTo>
                  <a:pt x="1756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2"/>
          <p:cNvSpPr/>
          <p:nvPr/>
        </p:nvSpPr>
        <p:spPr>
          <a:xfrm>
            <a:off x="4676760" y="3487680"/>
            <a:ext cx="612720" cy="101520"/>
          </a:xfrm>
          <a:custGeom>
            <a:avLst/>
            <a:gdLst>
              <a:gd name="textAreaLeft" fmla="*/ 0 w 612720"/>
              <a:gd name="textAreaRight" fmla="*/ 613080 w 6127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700" h="281">
                <a:moveTo>
                  <a:pt x="0" y="280"/>
                </a:moveTo>
                <a:lnTo>
                  <a:pt x="586" y="280"/>
                </a:lnTo>
                <a:lnTo>
                  <a:pt x="1171" y="0"/>
                </a:lnTo>
                <a:lnTo>
                  <a:pt x="1699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3"/>
          <p:cNvSpPr/>
          <p:nvPr/>
        </p:nvSpPr>
        <p:spPr>
          <a:xfrm>
            <a:off x="3811680" y="2354400"/>
            <a:ext cx="358560" cy="604800"/>
          </a:xfrm>
          <a:custGeom>
            <a:avLst/>
            <a:gdLst>
              <a:gd name="textAreaLeft" fmla="*/ 0 w 358560"/>
              <a:gd name="textAreaRight" fmla="*/ 358920 w 35856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996" h="1681">
                <a:moveTo>
                  <a:pt x="0" y="1680"/>
                </a:moveTo>
                <a:lnTo>
                  <a:pt x="469" y="909"/>
                </a:lnTo>
                <a:lnTo>
                  <a:pt x="820" y="209"/>
                </a:lnTo>
                <a:lnTo>
                  <a:pt x="995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4"/>
          <p:cNvSpPr/>
          <p:nvPr/>
        </p:nvSpPr>
        <p:spPr>
          <a:xfrm>
            <a:off x="3500280" y="2328840"/>
            <a:ext cx="247680" cy="806400"/>
          </a:xfrm>
          <a:custGeom>
            <a:avLst/>
            <a:gdLst>
              <a:gd name="textAreaLeft" fmla="*/ 0 w 247680"/>
              <a:gd name="textAreaRight" fmla="*/ 248040 w 24768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690" h="2242">
                <a:moveTo>
                  <a:pt x="220" y="2241"/>
                </a:moveTo>
                <a:cubicBezTo>
                  <a:pt x="303" y="1535"/>
                  <a:pt x="0" y="722"/>
                  <a:pt x="513" y="141"/>
                </a:cubicBezTo>
                <a:lnTo>
                  <a:pt x="689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5"/>
          <p:cNvSpPr/>
          <p:nvPr/>
        </p:nvSpPr>
        <p:spPr>
          <a:xfrm>
            <a:off x="4761000" y="3954600"/>
            <a:ext cx="674640" cy="288720"/>
          </a:xfrm>
          <a:custGeom>
            <a:avLst/>
            <a:gdLst>
              <a:gd name="textAreaLeft" fmla="*/ 0 w 674640"/>
              <a:gd name="textAreaRight" fmla="*/ 675000 w 674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876" h="804">
                <a:moveTo>
                  <a:pt x="0" y="175"/>
                </a:moveTo>
                <a:cubicBezTo>
                  <a:pt x="645" y="0"/>
                  <a:pt x="1107" y="803"/>
                  <a:pt x="1757" y="525"/>
                </a:cubicBezTo>
                <a:lnTo>
                  <a:pt x="1875" y="384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6"/>
          <p:cNvSpPr/>
          <p:nvPr/>
        </p:nvSpPr>
        <p:spPr>
          <a:xfrm>
            <a:off x="3875040" y="2025720"/>
            <a:ext cx="366840" cy="453960"/>
          </a:xfrm>
          <a:custGeom>
            <a:avLst/>
            <a:gdLst>
              <a:gd name="textAreaLeft" fmla="*/ 0 w 366840"/>
              <a:gd name="textAreaRight" fmla="*/ 367200 w 36684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018" h="1261">
                <a:moveTo>
                  <a:pt x="0" y="1260"/>
                </a:moveTo>
                <a:lnTo>
                  <a:pt x="484" y="1051"/>
                </a:lnTo>
                <a:lnTo>
                  <a:pt x="775" y="350"/>
                </a:lnTo>
                <a:lnTo>
                  <a:pt x="1017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7"/>
          <p:cNvSpPr/>
          <p:nvPr/>
        </p:nvSpPr>
        <p:spPr>
          <a:xfrm>
            <a:off x="4676760" y="4773600"/>
            <a:ext cx="865080" cy="277920"/>
          </a:xfrm>
          <a:custGeom>
            <a:avLst/>
            <a:gdLst>
              <a:gd name="textAreaLeft" fmla="*/ 0 w 865080"/>
              <a:gd name="textAreaRight" fmla="*/ 865440 w 8650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2403" h="771">
                <a:moveTo>
                  <a:pt x="0" y="770"/>
                </a:moveTo>
                <a:cubicBezTo>
                  <a:pt x="543" y="400"/>
                  <a:pt x="1169" y="65"/>
                  <a:pt x="1815" y="210"/>
                </a:cubicBezTo>
                <a:lnTo>
                  <a:pt x="2402" y="70"/>
                </a:lnTo>
                <a:lnTo>
                  <a:pt x="2402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8"/>
          <p:cNvSpPr/>
          <p:nvPr/>
        </p:nvSpPr>
        <p:spPr>
          <a:xfrm>
            <a:off x="4654440" y="5202360"/>
            <a:ext cx="379440" cy="196560"/>
          </a:xfrm>
          <a:custGeom>
            <a:avLst/>
            <a:gdLst>
              <a:gd name="textAreaLeft" fmla="*/ 0 w 379440"/>
              <a:gd name="textAreaRight" fmla="*/ 379800 w 3794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1053" h="548">
                <a:moveTo>
                  <a:pt x="0" y="0"/>
                </a:moveTo>
                <a:cubicBezTo>
                  <a:pt x="346" y="488"/>
                  <a:pt x="701" y="207"/>
                  <a:pt x="1052" y="274"/>
                </a:cubicBezTo>
                <a:lnTo>
                  <a:pt x="795" y="547"/>
                </a:lnTo>
                <a:lnTo>
                  <a:pt x="585" y="411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9"/>
          <p:cNvSpPr/>
          <p:nvPr/>
        </p:nvSpPr>
        <p:spPr>
          <a:xfrm>
            <a:off x="5033880" y="5075280"/>
            <a:ext cx="358920" cy="226800"/>
          </a:xfrm>
          <a:custGeom>
            <a:avLst/>
            <a:gdLst>
              <a:gd name="textAreaLeft" fmla="*/ 0 w 358920"/>
              <a:gd name="textAreaRight" fmla="*/ 359280 w 35892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996" h="631">
                <a:moveTo>
                  <a:pt x="0" y="0"/>
                </a:moveTo>
                <a:lnTo>
                  <a:pt x="585" y="630"/>
                </a:lnTo>
                <a:lnTo>
                  <a:pt x="995" y="63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0"/>
          <p:cNvSpPr/>
          <p:nvPr/>
        </p:nvSpPr>
        <p:spPr>
          <a:xfrm>
            <a:off x="4043520" y="2757600"/>
            <a:ext cx="1054080" cy="1538280"/>
          </a:xfrm>
          <a:custGeom>
            <a:avLst/>
            <a:gdLst>
              <a:gd name="textAreaLeft" fmla="*/ 0 w 1054080"/>
              <a:gd name="textAreaRight" fmla="*/ 1054440 w 105408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w="2929" h="4272">
                <a:moveTo>
                  <a:pt x="0" y="4271"/>
                </a:moveTo>
                <a:cubicBezTo>
                  <a:pt x="409" y="3645"/>
                  <a:pt x="214" y="2873"/>
                  <a:pt x="469" y="2171"/>
                </a:cubicBezTo>
                <a:cubicBezTo>
                  <a:pt x="780" y="1308"/>
                  <a:pt x="1520" y="1069"/>
                  <a:pt x="2167" y="840"/>
                </a:cubicBezTo>
                <a:lnTo>
                  <a:pt x="2753" y="350"/>
                </a:lnTo>
                <a:lnTo>
                  <a:pt x="2928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1"/>
          <p:cNvSpPr/>
          <p:nvPr/>
        </p:nvSpPr>
        <p:spPr>
          <a:xfrm>
            <a:off x="4572000" y="2757600"/>
            <a:ext cx="358920" cy="379440"/>
          </a:xfrm>
          <a:custGeom>
            <a:avLst/>
            <a:gdLst>
              <a:gd name="textAreaLeft" fmla="*/ 0 w 358920"/>
              <a:gd name="textAreaRight" fmla="*/ 358920 w 35892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997" h="1052">
                <a:moveTo>
                  <a:pt x="0" y="1051"/>
                </a:moveTo>
                <a:lnTo>
                  <a:pt x="527" y="350"/>
                </a:lnTo>
                <a:lnTo>
                  <a:pt x="996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2"/>
          <p:cNvSpPr/>
          <p:nvPr/>
        </p:nvSpPr>
        <p:spPr>
          <a:xfrm>
            <a:off x="4275000" y="4521240"/>
            <a:ext cx="717840" cy="563400"/>
          </a:xfrm>
          <a:custGeom>
            <a:avLst/>
            <a:gdLst>
              <a:gd name="textAreaLeft" fmla="*/ 0 w 717840"/>
              <a:gd name="textAreaRight" fmla="*/ 718200 w 71784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1992" h="1565">
                <a:moveTo>
                  <a:pt x="0" y="1540"/>
                </a:moveTo>
                <a:cubicBezTo>
                  <a:pt x="903" y="1564"/>
                  <a:pt x="800" y="186"/>
                  <a:pt x="1640" y="70"/>
                </a:cubicBezTo>
                <a:lnTo>
                  <a:pt x="1991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3"/>
          <p:cNvSpPr/>
          <p:nvPr/>
        </p:nvSpPr>
        <p:spPr>
          <a:xfrm>
            <a:off x="2968560" y="1874880"/>
            <a:ext cx="319320" cy="933480"/>
          </a:xfrm>
          <a:custGeom>
            <a:avLst/>
            <a:gdLst>
              <a:gd name="textAreaLeft" fmla="*/ 0 w 319320"/>
              <a:gd name="textAreaRight" fmla="*/ 319680 w 3193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889" h="2592">
                <a:moveTo>
                  <a:pt x="469" y="2591"/>
                </a:moveTo>
                <a:cubicBezTo>
                  <a:pt x="888" y="1867"/>
                  <a:pt x="479" y="967"/>
                  <a:pt x="59" y="421"/>
                </a:cubicBezTo>
                <a:lnTo>
                  <a:pt x="0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4"/>
          <p:cNvSpPr/>
          <p:nvPr/>
        </p:nvSpPr>
        <p:spPr>
          <a:xfrm>
            <a:off x="2441520" y="2556000"/>
            <a:ext cx="345960" cy="960480"/>
          </a:xfrm>
          <a:custGeom>
            <a:avLst/>
            <a:gdLst>
              <a:gd name="textAreaLeft" fmla="*/ 0 w 345960"/>
              <a:gd name="textAreaRight" fmla="*/ 346320 w 34596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963" h="2662">
                <a:moveTo>
                  <a:pt x="644" y="2661"/>
                </a:moveTo>
                <a:cubicBezTo>
                  <a:pt x="654" y="1952"/>
                  <a:pt x="962" y="1048"/>
                  <a:pt x="293" y="560"/>
                </a:cubicBezTo>
                <a:lnTo>
                  <a:pt x="0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5"/>
          <p:cNvSpPr/>
          <p:nvPr/>
        </p:nvSpPr>
        <p:spPr>
          <a:xfrm>
            <a:off x="3200400" y="1800360"/>
            <a:ext cx="104760" cy="579240"/>
          </a:xfrm>
          <a:custGeom>
            <a:avLst/>
            <a:gdLst>
              <a:gd name="textAreaLeft" fmla="*/ 0 w 104760"/>
              <a:gd name="textAreaRight" fmla="*/ 105120 w 10476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294" h="1610">
                <a:moveTo>
                  <a:pt x="0" y="1609"/>
                </a:moveTo>
                <a:lnTo>
                  <a:pt x="233" y="769"/>
                </a:lnTo>
                <a:lnTo>
                  <a:pt x="292" y="69"/>
                </a:lnTo>
                <a:lnTo>
                  <a:pt x="293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6"/>
          <p:cNvSpPr/>
          <p:nvPr/>
        </p:nvSpPr>
        <p:spPr>
          <a:xfrm>
            <a:off x="2251080" y="2579760"/>
            <a:ext cx="274680" cy="150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762" h="421">
                <a:moveTo>
                  <a:pt x="761" y="420"/>
                </a:moveTo>
                <a:lnTo>
                  <a:pt x="176" y="211"/>
                </a:lnTo>
                <a:lnTo>
                  <a:pt x="0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7"/>
          <p:cNvSpPr/>
          <p:nvPr/>
        </p:nvSpPr>
        <p:spPr>
          <a:xfrm>
            <a:off x="2017800" y="3255840"/>
            <a:ext cx="466560" cy="114480"/>
          </a:xfrm>
          <a:custGeom>
            <a:avLst/>
            <a:gdLst>
              <a:gd name="textAreaLeft" fmla="*/ 0 w 466560"/>
              <a:gd name="textAreaRight" fmla="*/ 466920 w 4665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295" h="318">
                <a:moveTo>
                  <a:pt x="1294" y="189"/>
                </a:moveTo>
                <a:cubicBezTo>
                  <a:pt x="1031" y="260"/>
                  <a:pt x="765" y="191"/>
                  <a:pt x="502" y="235"/>
                </a:cubicBezTo>
                <a:cubicBezTo>
                  <a:pt x="0" y="317"/>
                  <a:pt x="624" y="0"/>
                  <a:pt x="690" y="189"/>
                </a:cubicBezTo>
                <a:lnTo>
                  <a:pt x="784" y="235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8"/>
          <p:cNvSpPr/>
          <p:nvPr/>
        </p:nvSpPr>
        <p:spPr>
          <a:xfrm>
            <a:off x="1863720" y="3960720"/>
            <a:ext cx="704880" cy="233280"/>
          </a:xfrm>
          <a:custGeom>
            <a:avLst/>
            <a:gdLst>
              <a:gd name="textAreaLeft" fmla="*/ 0 w 704880"/>
              <a:gd name="textAreaRight" fmla="*/ 705240 w 70488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956" h="652">
                <a:moveTo>
                  <a:pt x="1955" y="651"/>
                </a:moveTo>
                <a:cubicBezTo>
                  <a:pt x="1830" y="0"/>
                  <a:pt x="1329" y="215"/>
                  <a:pt x="992" y="141"/>
                </a:cubicBezTo>
                <a:cubicBezTo>
                  <a:pt x="663" y="71"/>
                  <a:pt x="330" y="70"/>
                  <a:pt x="0" y="25"/>
                </a:cubicBezTo>
                <a:lnTo>
                  <a:pt x="255" y="24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9"/>
          <p:cNvSpPr/>
          <p:nvPr/>
        </p:nvSpPr>
        <p:spPr>
          <a:xfrm>
            <a:off x="1808280" y="3838680"/>
            <a:ext cx="315720" cy="104760"/>
          </a:xfrm>
          <a:custGeom>
            <a:avLst/>
            <a:gdLst>
              <a:gd name="textAreaLeft" fmla="*/ 0 w 315720"/>
              <a:gd name="textAreaRight" fmla="*/ 316080 w 3157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879" h="281">
                <a:moveTo>
                  <a:pt x="878" y="0"/>
                </a:moveTo>
                <a:lnTo>
                  <a:pt x="292" y="279"/>
                </a:lnTo>
                <a:lnTo>
                  <a:pt x="0" y="28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0"/>
          <p:cNvSpPr/>
          <p:nvPr/>
        </p:nvSpPr>
        <p:spPr>
          <a:xfrm>
            <a:off x="2558880" y="4470480"/>
            <a:ext cx="400320" cy="858600"/>
          </a:xfrm>
          <a:custGeom>
            <a:avLst/>
            <a:gdLst>
              <a:gd name="textAreaLeft" fmla="*/ 0 w 400320"/>
              <a:gd name="textAreaRight" fmla="*/ 400680 w 400320"/>
              <a:gd name="textAreaTop" fmla="*/ 0 h 858600"/>
              <a:gd name="textAreaBottom" fmla="*/ 858960 h 858600"/>
            </a:gdLst>
            <a:ahLst/>
            <a:rect l="textAreaLeft" t="textAreaTop" r="textAreaRight" b="textAreaBottom"/>
            <a:pathLst>
              <a:path w="1112" h="2381">
                <a:moveTo>
                  <a:pt x="771" y="2380"/>
                </a:moveTo>
                <a:cubicBezTo>
                  <a:pt x="1111" y="1301"/>
                  <a:pt x="271" y="1383"/>
                  <a:pt x="37" y="910"/>
                </a:cubicBezTo>
                <a:lnTo>
                  <a:pt x="0" y="210"/>
                </a:lnTo>
                <a:lnTo>
                  <a:pt x="1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1"/>
          <p:cNvSpPr/>
          <p:nvPr/>
        </p:nvSpPr>
        <p:spPr>
          <a:xfrm>
            <a:off x="2757600" y="4697280"/>
            <a:ext cx="168120" cy="277920"/>
          </a:xfrm>
          <a:custGeom>
            <a:avLst/>
            <a:gdLst>
              <a:gd name="textAreaLeft" fmla="*/ 0 w 168120"/>
              <a:gd name="textAreaRight" fmla="*/ 168480 w 16812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469" h="770">
                <a:moveTo>
                  <a:pt x="0" y="769"/>
                </a:moveTo>
                <a:lnTo>
                  <a:pt x="468" y="68"/>
                </a:lnTo>
                <a:lnTo>
                  <a:pt x="468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2"/>
          <p:cNvSpPr/>
          <p:nvPr/>
        </p:nvSpPr>
        <p:spPr>
          <a:xfrm>
            <a:off x="2019240" y="5380200"/>
            <a:ext cx="1014480" cy="33624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336240"/>
              <a:gd name="textAreaBottom" fmla="*/ 336600 h 336240"/>
            </a:gdLst>
            <a:ahLst/>
            <a:rect l="textAreaLeft" t="textAreaTop" r="textAreaRight" b="textAreaBottom"/>
            <a:pathLst>
              <a:path w="2813" h="938">
                <a:moveTo>
                  <a:pt x="2812" y="560"/>
                </a:moveTo>
                <a:cubicBezTo>
                  <a:pt x="2159" y="373"/>
                  <a:pt x="1332" y="937"/>
                  <a:pt x="821" y="140"/>
                </a:cubicBezTo>
                <a:lnTo>
                  <a:pt x="234" y="0"/>
                </a:lnTo>
                <a:lnTo>
                  <a:pt x="0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2103480" y="5000760"/>
            <a:ext cx="401760" cy="554040"/>
          </a:xfrm>
          <a:custGeom>
            <a:avLst/>
            <a:gdLst>
              <a:gd name="textAreaLeft" fmla="*/ 0 w 401760"/>
              <a:gd name="textAreaRight" fmla="*/ 402120 w 4017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114" h="1541">
                <a:moveTo>
                  <a:pt x="1113" y="1540"/>
                </a:moveTo>
                <a:lnTo>
                  <a:pt x="879" y="839"/>
                </a:lnTo>
                <a:lnTo>
                  <a:pt x="293" y="351"/>
                </a:lnTo>
                <a:lnTo>
                  <a:pt x="0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4"/>
          <p:cNvSpPr/>
          <p:nvPr/>
        </p:nvSpPr>
        <p:spPr>
          <a:xfrm>
            <a:off x="3325680" y="6134040"/>
            <a:ext cx="338400" cy="831960"/>
          </a:xfrm>
          <a:custGeom>
            <a:avLst/>
            <a:gdLst>
              <a:gd name="textAreaLeft" fmla="*/ 0 w 338400"/>
              <a:gd name="textAreaRight" fmla="*/ 338760 w 338400"/>
              <a:gd name="textAreaTop" fmla="*/ 0 h 831960"/>
              <a:gd name="textAreaBottom" fmla="*/ 832320 h 831960"/>
            </a:gdLst>
            <a:ahLst/>
            <a:rect l="textAreaLeft" t="textAreaTop" r="textAreaRight" b="textAreaBottom"/>
            <a:pathLst>
              <a:path w="938" h="2311">
                <a:moveTo>
                  <a:pt x="0" y="2310"/>
                </a:moveTo>
                <a:lnTo>
                  <a:pt x="235" y="1120"/>
                </a:lnTo>
                <a:lnTo>
                  <a:pt x="527" y="420"/>
                </a:lnTo>
                <a:lnTo>
                  <a:pt x="937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5"/>
          <p:cNvSpPr/>
          <p:nvPr/>
        </p:nvSpPr>
        <p:spPr>
          <a:xfrm>
            <a:off x="2671920" y="6060960"/>
            <a:ext cx="315720" cy="505080"/>
          </a:xfrm>
          <a:custGeom>
            <a:avLst/>
            <a:gdLst>
              <a:gd name="textAreaLeft" fmla="*/ 0 w 315720"/>
              <a:gd name="textAreaRight" fmla="*/ 316080 w 31572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879" h="1401">
                <a:moveTo>
                  <a:pt x="878" y="1400"/>
                </a:moveTo>
                <a:lnTo>
                  <a:pt x="586" y="700"/>
                </a:lnTo>
                <a:lnTo>
                  <a:pt x="0" y="140"/>
                </a:lnTo>
                <a:lnTo>
                  <a:pt x="1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6"/>
          <p:cNvSpPr/>
          <p:nvPr/>
        </p:nvSpPr>
        <p:spPr>
          <a:xfrm>
            <a:off x="3240000" y="6108840"/>
            <a:ext cx="235080" cy="338040"/>
          </a:xfrm>
          <a:custGeom>
            <a:avLst/>
            <a:gdLst>
              <a:gd name="textAreaLeft" fmla="*/ 0 w 235080"/>
              <a:gd name="textAreaRight" fmla="*/ 235440 w 23508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652" h="941">
                <a:moveTo>
                  <a:pt x="0" y="940"/>
                </a:moveTo>
                <a:lnTo>
                  <a:pt x="406" y="313"/>
                </a:lnTo>
                <a:lnTo>
                  <a:pt x="651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7"/>
          <p:cNvSpPr/>
          <p:nvPr/>
        </p:nvSpPr>
        <p:spPr>
          <a:xfrm>
            <a:off x="2946240" y="6184800"/>
            <a:ext cx="22320" cy="403200"/>
          </a:xfrm>
          <a:custGeom>
            <a:avLst/>
            <a:gdLst>
              <a:gd name="textAreaLeft" fmla="*/ 0 w 22320"/>
              <a:gd name="textAreaRight" fmla="*/ 22680 w 2232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60" h="1121">
                <a:moveTo>
                  <a:pt x="0" y="1120"/>
                </a:moveTo>
                <a:lnTo>
                  <a:pt x="59" y="420"/>
                </a:lnTo>
                <a:lnTo>
                  <a:pt x="0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8"/>
          <p:cNvSpPr/>
          <p:nvPr/>
        </p:nvSpPr>
        <p:spPr>
          <a:xfrm>
            <a:off x="3009960" y="5958000"/>
            <a:ext cx="88920" cy="849240"/>
          </a:xfrm>
          <a:custGeom>
            <a:avLst/>
            <a:gdLst>
              <a:gd name="textAreaLeft" fmla="*/ 0 w 88920"/>
              <a:gd name="textAreaRight" fmla="*/ 88920 w 8892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246" h="2361">
                <a:moveTo>
                  <a:pt x="137" y="2360"/>
                </a:moveTo>
                <a:cubicBezTo>
                  <a:pt x="11" y="1621"/>
                  <a:pt x="245" y="868"/>
                  <a:pt x="68" y="146"/>
                </a:cubicBezTo>
                <a:lnTo>
                  <a:pt x="0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9"/>
          <p:cNvSpPr/>
          <p:nvPr/>
        </p:nvSpPr>
        <p:spPr>
          <a:xfrm>
            <a:off x="4110120" y="1925640"/>
            <a:ext cx="263520" cy="157320"/>
          </a:xfrm>
          <a:custGeom>
            <a:avLst/>
            <a:gdLst>
              <a:gd name="textAreaLeft" fmla="*/ 0 w 263520"/>
              <a:gd name="textAreaRight" fmla="*/ 263880 w 26352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40"/>
          <p:cNvSpPr/>
          <p:nvPr/>
        </p:nvSpPr>
        <p:spPr>
          <a:xfrm>
            <a:off x="4110120" y="2241720"/>
            <a:ext cx="263520" cy="314280"/>
          </a:xfrm>
          <a:custGeom>
            <a:avLst/>
            <a:gdLst>
              <a:gd name="textAreaLeft" fmla="*/ 0 w 263520"/>
              <a:gd name="textAreaRight" fmla="*/ 263880 w 26352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41"/>
          <p:cNvSpPr/>
          <p:nvPr/>
        </p:nvSpPr>
        <p:spPr>
          <a:xfrm>
            <a:off x="3578400" y="2241720"/>
            <a:ext cx="133200" cy="314280"/>
          </a:xfrm>
          <a:custGeom>
            <a:avLst/>
            <a:gdLst>
              <a:gd name="textAreaLeft" fmla="*/ 0 w 133200"/>
              <a:gd name="textAreaRight" fmla="*/ 133560 w 1332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42"/>
          <p:cNvSpPr/>
          <p:nvPr/>
        </p:nvSpPr>
        <p:spPr>
          <a:xfrm>
            <a:off x="3844800" y="2241720"/>
            <a:ext cx="131760" cy="314280"/>
          </a:xfrm>
          <a:custGeom>
            <a:avLst/>
            <a:gdLst>
              <a:gd name="textAreaLeft" fmla="*/ 0 w 131760"/>
              <a:gd name="textAreaRight" fmla="*/ 132120 w 1317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43"/>
          <p:cNvSpPr/>
          <p:nvPr/>
        </p:nvSpPr>
        <p:spPr>
          <a:xfrm>
            <a:off x="3024360" y="2428920"/>
            <a:ext cx="263520" cy="317520"/>
          </a:xfrm>
          <a:custGeom>
            <a:avLst/>
            <a:gdLst>
              <a:gd name="textAreaLeft" fmla="*/ 0 w 263520"/>
              <a:gd name="textAreaRight" fmla="*/ 263880 w 2635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44"/>
          <p:cNvSpPr/>
          <p:nvPr/>
        </p:nvSpPr>
        <p:spPr>
          <a:xfrm>
            <a:off x="4000680" y="1619280"/>
            <a:ext cx="131760" cy="315720"/>
          </a:xfrm>
          <a:custGeom>
            <a:avLst/>
            <a:gdLst>
              <a:gd name="textAreaLeft" fmla="*/ 0 w 131760"/>
              <a:gd name="textAreaRight" fmla="*/ 132120 w 13176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45"/>
          <p:cNvSpPr/>
          <p:nvPr/>
        </p:nvSpPr>
        <p:spPr>
          <a:xfrm>
            <a:off x="2789280" y="2241720"/>
            <a:ext cx="263520" cy="156960"/>
          </a:xfrm>
          <a:custGeom>
            <a:avLst/>
            <a:gdLst>
              <a:gd name="textAreaLeft" fmla="*/ 0 w 263520"/>
              <a:gd name="textAreaRight" fmla="*/ 263880 w 26352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46"/>
          <p:cNvSpPr/>
          <p:nvPr/>
        </p:nvSpPr>
        <p:spPr>
          <a:xfrm>
            <a:off x="2392200" y="2398680"/>
            <a:ext cx="131760" cy="316080"/>
          </a:xfrm>
          <a:custGeom>
            <a:avLst/>
            <a:gdLst>
              <a:gd name="textAreaLeft" fmla="*/ 0 w 131760"/>
              <a:gd name="textAreaRight" fmla="*/ 132120 w 13176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47"/>
          <p:cNvSpPr/>
          <p:nvPr/>
        </p:nvSpPr>
        <p:spPr>
          <a:xfrm>
            <a:off x="2125800" y="2398680"/>
            <a:ext cx="133200" cy="316080"/>
          </a:xfrm>
          <a:custGeom>
            <a:avLst/>
            <a:gdLst>
              <a:gd name="textAreaLeft" fmla="*/ 0 w 133200"/>
              <a:gd name="textAreaRight" fmla="*/ 133560 w 13320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48"/>
          <p:cNvSpPr/>
          <p:nvPr/>
        </p:nvSpPr>
        <p:spPr>
          <a:xfrm>
            <a:off x="2392200" y="2873520"/>
            <a:ext cx="131760" cy="317520"/>
          </a:xfrm>
          <a:custGeom>
            <a:avLst/>
            <a:gdLst>
              <a:gd name="textAreaLeft" fmla="*/ 0 w 131760"/>
              <a:gd name="textAreaRight" fmla="*/ 132120 w 1317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49"/>
          <p:cNvSpPr/>
          <p:nvPr/>
        </p:nvSpPr>
        <p:spPr>
          <a:xfrm>
            <a:off x="2125800" y="3191040"/>
            <a:ext cx="133200" cy="314280"/>
          </a:xfrm>
          <a:custGeom>
            <a:avLst/>
            <a:gdLst>
              <a:gd name="textAreaLeft" fmla="*/ 0 w 133200"/>
              <a:gd name="textAreaRight" fmla="*/ 133560 w 1332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50"/>
          <p:cNvSpPr/>
          <p:nvPr/>
        </p:nvSpPr>
        <p:spPr>
          <a:xfrm>
            <a:off x="1440000" y="4503600"/>
            <a:ext cx="395280" cy="158760"/>
          </a:xfrm>
          <a:custGeom>
            <a:avLst/>
            <a:gdLst>
              <a:gd name="textAreaLeft" fmla="*/ 0 w 395280"/>
              <a:gd name="textAreaRight" fmla="*/ 395640 w 395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51"/>
          <p:cNvSpPr/>
          <p:nvPr/>
        </p:nvSpPr>
        <p:spPr>
          <a:xfrm>
            <a:off x="1440000" y="4662360"/>
            <a:ext cx="264960" cy="314280"/>
          </a:xfrm>
          <a:custGeom>
            <a:avLst/>
            <a:gdLst>
              <a:gd name="textAreaLeft" fmla="*/ 0 w 264960"/>
              <a:gd name="textAreaRight" fmla="*/ 264960 w 2649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52"/>
          <p:cNvSpPr/>
          <p:nvPr/>
        </p:nvSpPr>
        <p:spPr>
          <a:xfrm>
            <a:off x="1995480" y="3978360"/>
            <a:ext cx="263520" cy="158760"/>
          </a:xfrm>
          <a:custGeom>
            <a:avLst/>
            <a:gdLst>
              <a:gd name="textAreaLeft" fmla="*/ 0 w 263520"/>
              <a:gd name="textAreaRight" fmla="*/ 263880 w 263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53"/>
          <p:cNvSpPr/>
          <p:nvPr/>
        </p:nvSpPr>
        <p:spPr>
          <a:xfrm>
            <a:off x="2789280" y="4608360"/>
            <a:ext cx="263520" cy="158760"/>
          </a:xfrm>
          <a:custGeom>
            <a:avLst/>
            <a:gdLst>
              <a:gd name="textAreaLeft" fmla="*/ 0 w 263520"/>
              <a:gd name="textAreaRight" fmla="*/ 263880 w 263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54"/>
          <p:cNvSpPr/>
          <p:nvPr/>
        </p:nvSpPr>
        <p:spPr>
          <a:xfrm>
            <a:off x="2260440" y="4294080"/>
            <a:ext cx="263520" cy="314280"/>
          </a:xfrm>
          <a:custGeom>
            <a:avLst/>
            <a:gdLst>
              <a:gd name="textAreaLeft" fmla="*/ 0 w 263520"/>
              <a:gd name="textAreaRight" fmla="*/ 263880 w 26352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55"/>
          <p:cNvSpPr/>
          <p:nvPr/>
        </p:nvSpPr>
        <p:spPr>
          <a:xfrm>
            <a:off x="2523960" y="4924440"/>
            <a:ext cx="131760" cy="315720"/>
          </a:xfrm>
          <a:custGeom>
            <a:avLst/>
            <a:gdLst>
              <a:gd name="textAreaLeft" fmla="*/ 0 w 131760"/>
              <a:gd name="textAreaRight" fmla="*/ 132120 w 13176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56"/>
          <p:cNvSpPr/>
          <p:nvPr/>
        </p:nvSpPr>
        <p:spPr>
          <a:xfrm>
            <a:off x="2125800" y="4924440"/>
            <a:ext cx="133200" cy="315720"/>
          </a:xfrm>
          <a:custGeom>
            <a:avLst/>
            <a:gdLst>
              <a:gd name="textAreaLeft" fmla="*/ 0 w 133200"/>
              <a:gd name="textAreaRight" fmla="*/ 133560 w 133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57"/>
          <p:cNvSpPr/>
          <p:nvPr/>
        </p:nvSpPr>
        <p:spPr>
          <a:xfrm>
            <a:off x="1863720" y="5240160"/>
            <a:ext cx="262080" cy="316080"/>
          </a:xfrm>
          <a:custGeom>
            <a:avLst/>
            <a:gdLst>
              <a:gd name="textAreaLeft" fmla="*/ 0 w 262080"/>
              <a:gd name="textAreaRight" fmla="*/ 262440 w 26208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58"/>
          <p:cNvSpPr/>
          <p:nvPr/>
        </p:nvSpPr>
        <p:spPr>
          <a:xfrm>
            <a:off x="4768920" y="2556000"/>
            <a:ext cx="131760" cy="317520"/>
          </a:xfrm>
          <a:custGeom>
            <a:avLst/>
            <a:gdLst>
              <a:gd name="textAreaLeft" fmla="*/ 0 w 131760"/>
              <a:gd name="textAreaRight" fmla="*/ 132120 w 1317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59"/>
          <p:cNvSpPr/>
          <p:nvPr/>
        </p:nvSpPr>
        <p:spPr>
          <a:xfrm>
            <a:off x="5033880" y="2556000"/>
            <a:ext cx="263520" cy="317520"/>
          </a:xfrm>
          <a:custGeom>
            <a:avLst/>
            <a:gdLst>
              <a:gd name="textAreaLeft" fmla="*/ 0 w 263520"/>
              <a:gd name="textAreaRight" fmla="*/ 263880 w 2635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60"/>
          <p:cNvSpPr/>
          <p:nvPr/>
        </p:nvSpPr>
        <p:spPr>
          <a:xfrm>
            <a:off x="4900680" y="3191040"/>
            <a:ext cx="264960" cy="314280"/>
          </a:xfrm>
          <a:custGeom>
            <a:avLst/>
            <a:gdLst>
              <a:gd name="textAreaLeft" fmla="*/ 0 w 264960"/>
              <a:gd name="textAreaRight" fmla="*/ 264960 w 2649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61"/>
          <p:cNvSpPr/>
          <p:nvPr/>
        </p:nvSpPr>
        <p:spPr>
          <a:xfrm>
            <a:off x="5297400" y="3505320"/>
            <a:ext cx="131760" cy="156960"/>
          </a:xfrm>
          <a:custGeom>
            <a:avLst/>
            <a:gdLst>
              <a:gd name="textAreaLeft" fmla="*/ 0 w 131760"/>
              <a:gd name="textAreaRight" fmla="*/ 132120 w 13176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62"/>
          <p:cNvSpPr/>
          <p:nvPr/>
        </p:nvSpPr>
        <p:spPr>
          <a:xfrm>
            <a:off x="5165640" y="3505320"/>
            <a:ext cx="263520" cy="156960"/>
          </a:xfrm>
          <a:custGeom>
            <a:avLst/>
            <a:gdLst>
              <a:gd name="textAreaLeft" fmla="*/ 0 w 263520"/>
              <a:gd name="textAreaRight" fmla="*/ 263880 w 26352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63"/>
          <p:cNvSpPr/>
          <p:nvPr/>
        </p:nvSpPr>
        <p:spPr>
          <a:xfrm>
            <a:off x="4768920" y="3662280"/>
            <a:ext cx="396720" cy="158760"/>
          </a:xfrm>
          <a:custGeom>
            <a:avLst/>
            <a:gdLst>
              <a:gd name="textAreaLeft" fmla="*/ 0 w 396720"/>
              <a:gd name="textAreaRight" fmla="*/ 397080 w 3967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64"/>
          <p:cNvSpPr/>
          <p:nvPr/>
        </p:nvSpPr>
        <p:spPr>
          <a:xfrm>
            <a:off x="5297400" y="3978360"/>
            <a:ext cx="265320" cy="315720"/>
          </a:xfrm>
          <a:custGeom>
            <a:avLst/>
            <a:gdLst>
              <a:gd name="textAreaLeft" fmla="*/ 0 w 265320"/>
              <a:gd name="textAreaRight" fmla="*/ 265680 w 26532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65"/>
          <p:cNvSpPr/>
          <p:nvPr/>
        </p:nvSpPr>
        <p:spPr>
          <a:xfrm>
            <a:off x="4900680" y="4451400"/>
            <a:ext cx="264960" cy="156960"/>
          </a:xfrm>
          <a:custGeom>
            <a:avLst/>
            <a:gdLst>
              <a:gd name="textAreaLeft" fmla="*/ 0 w 264960"/>
              <a:gd name="textAreaRight" fmla="*/ 264960 w 26496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66"/>
          <p:cNvSpPr/>
          <p:nvPr/>
        </p:nvSpPr>
        <p:spPr>
          <a:xfrm>
            <a:off x="5165640" y="5195880"/>
            <a:ext cx="593640" cy="358920"/>
          </a:xfrm>
          <a:custGeom>
            <a:avLst/>
            <a:gdLst>
              <a:gd name="textAreaLeft" fmla="*/ 0 w 593640"/>
              <a:gd name="textAreaRight" fmla="*/ 594000 w 593640"/>
              <a:gd name="textAreaTop" fmla="*/ 0 h 358920"/>
              <a:gd name="textAreaBottom" fmla="*/ 358920 h 3589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7"/>
          <p:cNvSpPr/>
          <p:nvPr/>
        </p:nvSpPr>
        <p:spPr>
          <a:xfrm>
            <a:off x="5297400" y="5083200"/>
            <a:ext cx="265320" cy="315720"/>
          </a:xfrm>
          <a:custGeom>
            <a:avLst/>
            <a:gdLst>
              <a:gd name="textAreaLeft" fmla="*/ 0 w 265320"/>
              <a:gd name="textAreaRight" fmla="*/ 265680 w 26532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68"/>
          <p:cNvSpPr/>
          <p:nvPr/>
        </p:nvSpPr>
        <p:spPr>
          <a:xfrm>
            <a:off x="4768920" y="5240160"/>
            <a:ext cx="261720" cy="158760"/>
          </a:xfrm>
          <a:custGeom>
            <a:avLst/>
            <a:gdLst>
              <a:gd name="textAreaLeft" fmla="*/ 0 w 261720"/>
              <a:gd name="textAreaRight" fmla="*/ 262080 w 2617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69"/>
          <p:cNvSpPr/>
          <p:nvPr/>
        </p:nvSpPr>
        <p:spPr>
          <a:xfrm>
            <a:off x="3316320" y="6027840"/>
            <a:ext cx="262080" cy="317520"/>
          </a:xfrm>
          <a:custGeom>
            <a:avLst/>
            <a:gdLst>
              <a:gd name="textAreaLeft" fmla="*/ 0 w 262080"/>
              <a:gd name="textAreaRight" fmla="*/ 262440 w 2620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70"/>
          <p:cNvSpPr/>
          <p:nvPr/>
        </p:nvSpPr>
        <p:spPr>
          <a:xfrm>
            <a:off x="3578400" y="6027840"/>
            <a:ext cx="266400" cy="160200"/>
          </a:xfrm>
          <a:custGeom>
            <a:avLst/>
            <a:gdLst>
              <a:gd name="textAreaLeft" fmla="*/ 0 w 266400"/>
              <a:gd name="textAreaRight" fmla="*/ 266760 w 26640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71"/>
          <p:cNvSpPr/>
          <p:nvPr/>
        </p:nvSpPr>
        <p:spPr>
          <a:xfrm>
            <a:off x="2921040" y="5715000"/>
            <a:ext cx="131760" cy="316080"/>
          </a:xfrm>
          <a:custGeom>
            <a:avLst/>
            <a:gdLst>
              <a:gd name="textAreaLeft" fmla="*/ 0 w 131760"/>
              <a:gd name="textAreaRight" fmla="*/ 132120 w 13176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2"/>
          <p:cNvSpPr/>
          <p:nvPr/>
        </p:nvSpPr>
        <p:spPr>
          <a:xfrm>
            <a:off x="2921040" y="6027840"/>
            <a:ext cx="131760" cy="317520"/>
          </a:xfrm>
          <a:custGeom>
            <a:avLst/>
            <a:gdLst>
              <a:gd name="textAreaLeft" fmla="*/ 0 w 131760"/>
              <a:gd name="textAreaRight" fmla="*/ 132120 w 1317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73"/>
          <p:cNvSpPr/>
          <p:nvPr/>
        </p:nvSpPr>
        <p:spPr>
          <a:xfrm>
            <a:off x="2523960" y="6188040"/>
            <a:ext cx="397080" cy="474840"/>
          </a:xfrm>
          <a:custGeom>
            <a:avLst/>
            <a:gdLst>
              <a:gd name="textAreaLeft" fmla="*/ 0 w 397080"/>
              <a:gd name="textAreaRight" fmla="*/ 397440 w 39708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4"/>
          <p:cNvSpPr/>
          <p:nvPr/>
        </p:nvSpPr>
        <p:spPr>
          <a:xfrm>
            <a:off x="647640" y="250920"/>
            <a:ext cx="2160720" cy="21286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6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6"/>
          <p:cNvSpPr/>
          <p:nvPr/>
        </p:nvSpPr>
        <p:spPr>
          <a:xfrm>
            <a:off x="5940360" y="1976400"/>
            <a:ext cx="36370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Расцвела сак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7"/>
          <p:cNvSpPr/>
          <p:nvPr/>
        </p:nvSpPr>
        <p:spPr>
          <a:xfrm>
            <a:off x="6048360" y="6443640"/>
            <a:ext cx="3456000" cy="601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овиков Алек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8"/>
          <p:cNvSpPr/>
          <p:nvPr/>
        </p:nvSpPr>
        <p:spPr>
          <a:xfrm>
            <a:off x="5902200" y="2484360"/>
            <a:ext cx="3951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 каждый лепес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9"/>
          <p:cNvSpPr/>
          <p:nvPr/>
        </p:nvSpPr>
        <p:spPr>
          <a:xfrm>
            <a:off x="5902200" y="3059280"/>
            <a:ext cx="40230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Радуется солныш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0"/>
          <p:cNvSpPr/>
          <p:nvPr/>
        </p:nvSpPr>
        <p:spPr>
          <a:xfrm>
            <a:off x="5977080" y="3564000"/>
            <a:ext cx="27702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Какой аром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81"/>
          <p:cNvSpPr/>
          <p:nvPr/>
        </p:nvSpPr>
        <p:spPr>
          <a:xfrm>
            <a:off x="3240000" y="1619280"/>
            <a:ext cx="179640" cy="360360"/>
          </a:xfrm>
          <a:custGeom>
            <a:avLst/>
            <a:gdLst>
              <a:gd name="textAreaLeft" fmla="*/ 0 w 179640"/>
              <a:gd name="textAreaRight" fmla="*/ 180000 w 179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2"/>
          <p:cNvSpPr/>
          <p:nvPr/>
        </p:nvSpPr>
        <p:spPr>
          <a:xfrm>
            <a:off x="2878200" y="1619280"/>
            <a:ext cx="181080" cy="360360"/>
          </a:xfrm>
          <a:custGeom>
            <a:avLst/>
            <a:gdLst>
              <a:gd name="textAreaLeft" fmla="*/ 0 w 181080"/>
              <a:gd name="textAreaRight" fmla="*/ 181440 w 1810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3"/>
          <p:cNvSpPr/>
          <p:nvPr/>
        </p:nvSpPr>
        <p:spPr>
          <a:xfrm>
            <a:off x="5688000" y="1549440"/>
            <a:ext cx="41212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4933c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4933c"/>
                </a:solidFill>
                <a:latin typeface="Arial"/>
              </a:rPr>
              <a:t>Наступила ве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81080" y="539640"/>
            <a:ext cx="179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60360" y="539640"/>
            <a:ext cx="95392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асцвела саку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Но печал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Недолговечна жизнь лепестко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4"/>
          <p:cNvSpPr/>
          <p:nvPr/>
        </p:nvSpPr>
        <p:spPr>
          <a:xfrm>
            <a:off x="96840" y="1863720"/>
            <a:ext cx="6434280" cy="3027240"/>
          </a:xfrm>
          <a:custGeom>
            <a:avLst/>
            <a:gdLst>
              <a:gd name="textAreaLeft" fmla="*/ 0 w 6434280"/>
              <a:gd name="textAreaRight" fmla="*/ 6434640 w 6434280"/>
              <a:gd name="textAreaTop" fmla="*/ 0 h 3027240"/>
              <a:gd name="textAreaBottom" fmla="*/ 3027600 h 3027240"/>
            </a:gdLst>
            <a:ahLst/>
            <a:rect l="textAreaLeft" t="textAreaTop" r="textAreaRight" b="textAreaBottom"/>
            <a:pathLst>
              <a:path w="17872" h="8408">
                <a:moveTo>
                  <a:pt x="3581" y="6177"/>
                </a:moveTo>
                <a:cubicBezTo>
                  <a:pt x="3853" y="5369"/>
                  <a:pt x="5169" y="5467"/>
                  <a:pt x="5185" y="6497"/>
                </a:cubicBezTo>
                <a:cubicBezTo>
                  <a:pt x="5198" y="7304"/>
                  <a:pt x="4764" y="8090"/>
                  <a:pt x="4031" y="8229"/>
                </a:cubicBezTo>
                <a:cubicBezTo>
                  <a:pt x="3090" y="8407"/>
                  <a:pt x="2159" y="7924"/>
                  <a:pt x="1400" y="7395"/>
                </a:cubicBezTo>
                <a:cubicBezTo>
                  <a:pt x="644" y="6868"/>
                  <a:pt x="127" y="6019"/>
                  <a:pt x="53" y="5086"/>
                </a:cubicBezTo>
                <a:cubicBezTo>
                  <a:pt x="0" y="4412"/>
                  <a:pt x="203" y="3464"/>
                  <a:pt x="1015" y="3419"/>
                </a:cubicBezTo>
                <a:cubicBezTo>
                  <a:pt x="1822" y="3375"/>
                  <a:pt x="2593" y="3693"/>
                  <a:pt x="3324" y="3996"/>
                </a:cubicBezTo>
                <a:cubicBezTo>
                  <a:pt x="4175" y="4348"/>
                  <a:pt x="4937" y="4884"/>
                  <a:pt x="5698" y="5407"/>
                </a:cubicBezTo>
                <a:cubicBezTo>
                  <a:pt x="6463" y="5932"/>
                  <a:pt x="7342" y="6272"/>
                  <a:pt x="8135" y="6754"/>
                </a:cubicBezTo>
                <a:cubicBezTo>
                  <a:pt x="8843" y="7184"/>
                  <a:pt x="9672" y="7292"/>
                  <a:pt x="10444" y="7524"/>
                </a:cubicBezTo>
                <a:cubicBezTo>
                  <a:pt x="11254" y="7767"/>
                  <a:pt x="12115" y="7899"/>
                  <a:pt x="12946" y="7780"/>
                </a:cubicBezTo>
                <a:cubicBezTo>
                  <a:pt x="13920" y="7641"/>
                  <a:pt x="14796" y="7031"/>
                  <a:pt x="15447" y="6305"/>
                </a:cubicBezTo>
                <a:cubicBezTo>
                  <a:pt x="16266" y="5393"/>
                  <a:pt x="16839" y="4292"/>
                  <a:pt x="17436" y="3225"/>
                </a:cubicBezTo>
                <a:cubicBezTo>
                  <a:pt x="17827" y="2528"/>
                  <a:pt x="17871" y="1719"/>
                  <a:pt x="17820" y="917"/>
                </a:cubicBezTo>
                <a:cubicBezTo>
                  <a:pt x="17762" y="0"/>
                  <a:pt x="16849" y="43"/>
                  <a:pt x="16281" y="83"/>
                </a:cubicBezTo>
                <a:cubicBezTo>
                  <a:pt x="15581" y="132"/>
                  <a:pt x="14919" y="445"/>
                  <a:pt x="14357" y="853"/>
                </a:cubicBezTo>
                <a:cubicBezTo>
                  <a:pt x="13835" y="1232"/>
                  <a:pt x="12912" y="1278"/>
                  <a:pt x="12882" y="2200"/>
                </a:cubicBezTo>
                <a:cubicBezTo>
                  <a:pt x="12858" y="2922"/>
                  <a:pt x="13265" y="3510"/>
                  <a:pt x="13266" y="4188"/>
                </a:cubicBezTo>
                <a:cubicBezTo>
                  <a:pt x="13269" y="5173"/>
                  <a:pt x="14565" y="5122"/>
                  <a:pt x="14806" y="4251"/>
                </a:cubicBezTo>
                <a:cubicBezTo>
                  <a:pt x="14983" y="3614"/>
                  <a:pt x="15444" y="3013"/>
                  <a:pt x="15319" y="2327"/>
                </a:cubicBezTo>
                <a:lnTo>
                  <a:pt x="14679" y="1879"/>
                </a:lnTo>
                <a:lnTo>
                  <a:pt x="14100" y="2456"/>
                </a:lnTo>
              </a:path>
            </a:pathLst>
          </a:custGeom>
          <a:noFill/>
          <a:ln w="9360">
            <a:solidFill>
              <a:srgbClr val="99ccff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5"/>
          <p:cNvSpPr/>
          <p:nvPr/>
        </p:nvSpPr>
        <p:spPr>
          <a:xfrm>
            <a:off x="600120" y="5040360"/>
            <a:ext cx="4881600" cy="1517760"/>
          </a:xfrm>
          <a:custGeom>
            <a:avLst/>
            <a:gdLst>
              <a:gd name="textAreaLeft" fmla="*/ 0 w 4881600"/>
              <a:gd name="textAreaRight" fmla="*/ 4881960 w 4881600"/>
              <a:gd name="textAreaTop" fmla="*/ 0 h 1517760"/>
              <a:gd name="textAreaBottom" fmla="*/ 1518120 h 1517760"/>
            </a:gdLst>
            <a:ahLst/>
            <a:rect l="textAreaLeft" t="textAreaTop" r="textAreaRight" b="textAreaBottom"/>
            <a:pathLst>
              <a:path w="13560" h="4222">
                <a:moveTo>
                  <a:pt x="1923" y="2164"/>
                </a:moveTo>
                <a:cubicBezTo>
                  <a:pt x="2427" y="3063"/>
                  <a:pt x="797" y="3623"/>
                  <a:pt x="641" y="2484"/>
                </a:cubicBezTo>
                <a:cubicBezTo>
                  <a:pt x="570" y="1967"/>
                  <a:pt x="0" y="634"/>
                  <a:pt x="1218" y="1009"/>
                </a:cubicBezTo>
                <a:cubicBezTo>
                  <a:pt x="2066" y="1270"/>
                  <a:pt x="2717" y="1924"/>
                  <a:pt x="3399" y="2484"/>
                </a:cubicBezTo>
                <a:cubicBezTo>
                  <a:pt x="4065" y="3032"/>
                  <a:pt x="4820" y="3498"/>
                  <a:pt x="5708" y="3703"/>
                </a:cubicBezTo>
                <a:cubicBezTo>
                  <a:pt x="6561" y="3900"/>
                  <a:pt x="7405" y="4128"/>
                  <a:pt x="8273" y="4152"/>
                </a:cubicBezTo>
                <a:cubicBezTo>
                  <a:pt x="9106" y="4175"/>
                  <a:pt x="9947" y="4221"/>
                  <a:pt x="10775" y="4088"/>
                </a:cubicBezTo>
                <a:cubicBezTo>
                  <a:pt x="11527" y="3967"/>
                  <a:pt x="12377" y="3714"/>
                  <a:pt x="12699" y="2805"/>
                </a:cubicBezTo>
                <a:cubicBezTo>
                  <a:pt x="12927" y="2160"/>
                  <a:pt x="13559" y="1315"/>
                  <a:pt x="12956" y="753"/>
                </a:cubicBezTo>
                <a:cubicBezTo>
                  <a:pt x="12438" y="271"/>
                  <a:pt x="11690" y="0"/>
                  <a:pt x="10967" y="47"/>
                </a:cubicBezTo>
                <a:cubicBezTo>
                  <a:pt x="10115" y="103"/>
                  <a:pt x="9700" y="1262"/>
                  <a:pt x="10711" y="1843"/>
                </a:cubicBezTo>
                <a:cubicBezTo>
                  <a:pt x="11642" y="2378"/>
                  <a:pt x="12388" y="803"/>
                  <a:pt x="11096" y="817"/>
                </a:cubicBezTo>
                <a:lnTo>
                  <a:pt x="11288" y="1202"/>
                </a:lnTo>
              </a:path>
            </a:pathLst>
          </a:custGeom>
          <a:noFill/>
          <a:ln w="9360">
            <a:solidFill>
              <a:srgbClr val="99ccff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6"/>
          <p:cNvSpPr/>
          <p:nvPr/>
        </p:nvSpPr>
        <p:spPr>
          <a:xfrm>
            <a:off x="6480000" y="3598920"/>
            <a:ext cx="540000" cy="541440"/>
          </a:xfrm>
          <a:custGeom>
            <a:avLst/>
            <a:gdLst>
              <a:gd name="textAreaLeft" fmla="*/ 0 w 540000"/>
              <a:gd name="textAreaRight" fmla="*/ 540360 w 54000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808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7"/>
          <p:cNvSpPr/>
          <p:nvPr/>
        </p:nvSpPr>
        <p:spPr>
          <a:xfrm>
            <a:off x="5580000" y="6659640"/>
            <a:ext cx="539640" cy="539640"/>
          </a:xfrm>
          <a:custGeom>
            <a:avLst/>
            <a:gdLst>
              <a:gd name="textAreaLeft" fmla="*/ 0 w 539640"/>
              <a:gd name="textAreaRight" fmla="*/ 540000 w 53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808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"/>
          <p:cNvSpPr/>
          <p:nvPr/>
        </p:nvSpPr>
        <p:spPr>
          <a:xfrm>
            <a:off x="6840360" y="2700360"/>
            <a:ext cx="540000" cy="539640"/>
          </a:xfrm>
          <a:custGeom>
            <a:avLst/>
            <a:gdLst>
              <a:gd name="textAreaLeft" fmla="*/ 0 w 540000"/>
              <a:gd name="textAreaRight" fmla="*/ 540360 w 54000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808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5759280" y="5940360"/>
            <a:ext cx="540000" cy="539640"/>
          </a:xfrm>
          <a:custGeom>
            <a:avLst/>
            <a:gdLst>
              <a:gd name="textAreaLeft" fmla="*/ 0 w 540000"/>
              <a:gd name="textAreaRight" fmla="*/ 540360 w 54000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808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>
            <a:off x="6840360" y="6119640"/>
            <a:ext cx="540000" cy="540000"/>
          </a:xfrm>
          <a:custGeom>
            <a:avLst/>
            <a:gdLst>
              <a:gd name="textAreaLeft" fmla="*/ 0 w 540000"/>
              <a:gd name="textAreaRight" fmla="*/ 540360 w 54000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808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"/>
          <p:cNvSpPr/>
          <p:nvPr/>
        </p:nvSpPr>
        <p:spPr>
          <a:xfrm>
            <a:off x="7380360" y="3060720"/>
            <a:ext cx="538200" cy="538200"/>
          </a:xfrm>
          <a:custGeom>
            <a:avLst/>
            <a:gdLst>
              <a:gd name="textAreaLeft" fmla="*/ 0 w 538200"/>
              <a:gd name="textAreaRight" fmla="*/ 538200 w 53820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808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2"/>
          <p:cNvSpPr/>
          <p:nvPr/>
        </p:nvSpPr>
        <p:spPr>
          <a:xfrm>
            <a:off x="1800360" y="3419640"/>
            <a:ext cx="539640" cy="541080"/>
          </a:xfrm>
          <a:custGeom>
            <a:avLst/>
            <a:gdLst>
              <a:gd name="textAreaLeft" fmla="*/ 0 w 539640"/>
              <a:gd name="textAreaRight" fmla="*/ 540000 w 539640"/>
              <a:gd name="textAreaTop" fmla="*/ 0 h 541080"/>
              <a:gd name="textAreaBottom" fmla="*/ 541440 h 5410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808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3"/>
          <p:cNvSpPr/>
          <p:nvPr/>
        </p:nvSpPr>
        <p:spPr>
          <a:xfrm>
            <a:off x="2340000" y="5759280"/>
            <a:ext cx="538200" cy="540000"/>
          </a:xfrm>
          <a:custGeom>
            <a:avLst/>
            <a:gdLst>
              <a:gd name="textAreaLeft" fmla="*/ 0 w 538200"/>
              <a:gd name="textAreaRight" fmla="*/ 538200 w 53820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808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6480000" y="6804000"/>
            <a:ext cx="3313440" cy="574560"/>
          </a:xfrm>
          <a:prstGeom prst="rect">
            <a:avLst/>
          </a:pr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етелин Вячесл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5472000" y="181080"/>
            <a:ext cx="4214880" cy="609480"/>
          </a:xfrm>
          <a:prstGeom prst="rect">
            <a:avLst/>
          </a:pr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Краснянская Свет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16000" y="1187280"/>
            <a:ext cx="3865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Небесная р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Разливается среди звез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Это млечный п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3121200" y="2160720"/>
            <a:ext cx="383688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т прошел дож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-за туч вышло сол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етняя рад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873600" y="5759280"/>
            <a:ext cx="2449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47ff"/>
                </a:solidFill>
                <a:latin typeface="Al Bayan Plain"/>
                <a:ea typeface="Times New Roman"/>
              </a:rPr>
              <a:t>     </a:t>
            </a:r>
            <a:r>
              <a:rPr b="1" i="1" lang="ru-RU" sz="2600" spc="-1" strike="noStrike">
                <a:solidFill>
                  <a:srgbClr val="0047ff"/>
                </a:solidFill>
                <a:latin typeface="Al Bayan Plain"/>
                <a:ea typeface="Times New Roman"/>
              </a:rPr>
              <a:t>Шакун Ива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335280" y="5075280"/>
            <a:ext cx="35290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 вижу на земле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стоптанный цветок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то цветок люб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576360" y="395280"/>
            <a:ext cx="3168720" cy="431640"/>
          </a:xfrm>
          <a:prstGeom prst="rect">
            <a:avLst/>
          </a:prstGeom>
          <a:noFill/>
          <a:ln w="1260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етелин Вячесл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a7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reeform 2"/>
          <p:cNvSpPr/>
          <p:nvPr/>
        </p:nvSpPr>
        <p:spPr>
          <a:xfrm>
            <a:off x="4680000" y="971640"/>
            <a:ext cx="2700360" cy="1258920"/>
          </a:xfrm>
          <a:custGeom>
            <a:avLst/>
            <a:gdLst>
              <a:gd name="textAreaLeft" fmla="*/ 374760 w 2700360"/>
              <a:gd name="textAreaRight" fmla="*/ 2139120 w 2700360"/>
              <a:gd name="textAreaTop" fmla="*/ 193320 h 1258920"/>
              <a:gd name="textAreaBottom" fmla="*/ 1010160 h 125892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fill="none"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fill="none"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fill="none"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fill="none"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fill="none"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fill="none"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fill="none"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fill="none"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fill="none"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fill="none"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fill="none"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5940360"/>
            <a:ext cx="10080720" cy="1619280"/>
          </a:xfrm>
          <a:prstGeom prst="rect">
            <a:avLst/>
          </a:prstGeom>
          <a:ln w="0">
            <a:noFill/>
          </a:ln>
        </p:spPr>
      </p:pic>
      <p:sp>
        <p:nvSpPr>
          <p:cNvPr id="170" name="Oval 4"/>
          <p:cNvSpPr/>
          <p:nvPr/>
        </p:nvSpPr>
        <p:spPr>
          <a:xfrm>
            <a:off x="4968720" y="2843280"/>
            <a:ext cx="109800" cy="3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4537080" y="2771640"/>
            <a:ext cx="108000" cy="3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186520" y="4067280"/>
            <a:ext cx="107640" cy="3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5400720" y="2340000"/>
            <a:ext cx="108000" cy="3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4753080" y="3492360"/>
            <a:ext cx="109440" cy="3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5327640" y="3059280"/>
            <a:ext cx="109440" cy="3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977080" y="3780000"/>
            <a:ext cx="109440" cy="3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1"/>
          <p:cNvSpPr/>
          <p:nvPr/>
        </p:nvSpPr>
        <p:spPr>
          <a:xfrm>
            <a:off x="3024360" y="3419640"/>
            <a:ext cx="109440" cy="3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2"/>
          <p:cNvSpPr/>
          <p:nvPr/>
        </p:nvSpPr>
        <p:spPr>
          <a:xfrm>
            <a:off x="2878200" y="466560"/>
            <a:ext cx="2701800" cy="1260720"/>
          </a:xfrm>
          <a:custGeom>
            <a:avLst/>
            <a:gdLst>
              <a:gd name="textAreaLeft" fmla="*/ 375120 w 2701800"/>
              <a:gd name="textAreaRight" fmla="*/ 2140200 w 2701800"/>
              <a:gd name="textAreaTop" fmla="*/ 193680 h 1260720"/>
              <a:gd name="textAreaBottom" fmla="*/ 1011600 h 126072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fill="none"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fill="none"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fill="none"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fill="none"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fill="none"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fill="none"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fill="none"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fill="none"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fill="none"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fill="none"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fill="none"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3"/>
          <p:cNvSpPr/>
          <p:nvPr/>
        </p:nvSpPr>
        <p:spPr>
          <a:xfrm>
            <a:off x="1655640" y="1763640"/>
            <a:ext cx="2700360" cy="1260720"/>
          </a:xfrm>
          <a:custGeom>
            <a:avLst/>
            <a:gdLst>
              <a:gd name="textAreaLeft" fmla="*/ 374760 w 2700360"/>
              <a:gd name="textAreaRight" fmla="*/ 2139120 w 2700360"/>
              <a:gd name="textAreaTop" fmla="*/ 193680 h 1260720"/>
              <a:gd name="textAreaBottom" fmla="*/ 1011600 h 126072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fill="none"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fill="none"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fill="none"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fill="none"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fill="none"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fill="none"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fill="none"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fill="none"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fill="none"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fill="none"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fill="none"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4"/>
          <p:cNvSpPr/>
          <p:nvPr/>
        </p:nvSpPr>
        <p:spPr>
          <a:xfrm>
            <a:off x="4248000" y="3276720"/>
            <a:ext cx="109800" cy="322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5"/>
          <p:cNvSpPr/>
          <p:nvPr/>
        </p:nvSpPr>
        <p:spPr>
          <a:xfrm>
            <a:off x="3886200" y="4211640"/>
            <a:ext cx="111240" cy="3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6"/>
          <p:cNvSpPr/>
          <p:nvPr/>
        </p:nvSpPr>
        <p:spPr>
          <a:xfrm>
            <a:off x="3672000" y="3276720"/>
            <a:ext cx="109440" cy="322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7"/>
          <p:cNvSpPr/>
          <p:nvPr/>
        </p:nvSpPr>
        <p:spPr>
          <a:xfrm>
            <a:off x="6119640" y="2627280"/>
            <a:ext cx="109800" cy="3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8"/>
          <p:cNvSpPr/>
          <p:nvPr/>
        </p:nvSpPr>
        <p:spPr>
          <a:xfrm>
            <a:off x="4537080" y="4788000"/>
            <a:ext cx="108000" cy="3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9"/>
          <p:cNvSpPr/>
          <p:nvPr/>
        </p:nvSpPr>
        <p:spPr>
          <a:xfrm>
            <a:off x="7632720" y="4788000"/>
            <a:ext cx="1609560" cy="1574640"/>
          </a:xfrm>
          <a:custGeom>
            <a:avLst/>
            <a:gdLst>
              <a:gd name="textAreaLeft" fmla="*/ 0 w 1609560"/>
              <a:gd name="textAreaRight" fmla="*/ 1609920 w 1609560"/>
              <a:gd name="textAreaTop" fmla="*/ 0 h 1574640"/>
              <a:gd name="textAreaBottom" fmla="*/ 1575000 h 1574640"/>
            </a:gdLst>
            <a:ahLst/>
            <a:rect l="textAreaLeft" t="textAreaTop" r="textAreaRight" b="textAreaBottom"/>
            <a:pathLst>
              <a:path w="4471" h="4376">
                <a:moveTo>
                  <a:pt x="0" y="4311"/>
                </a:moveTo>
                <a:cubicBezTo>
                  <a:pt x="992" y="4375"/>
                  <a:pt x="1562" y="3296"/>
                  <a:pt x="1517" y="2475"/>
                </a:cubicBezTo>
                <a:cubicBezTo>
                  <a:pt x="1474" y="1691"/>
                  <a:pt x="1947" y="457"/>
                  <a:pt x="2955" y="799"/>
                </a:cubicBezTo>
                <a:lnTo>
                  <a:pt x="3752" y="799"/>
                </a:lnTo>
                <a:lnTo>
                  <a:pt x="4470" y="0"/>
                </a:lnTo>
              </a:path>
            </a:pathLst>
          </a:custGeom>
          <a:noFill/>
          <a:ln w="180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20"/>
          <p:cNvSpPr/>
          <p:nvPr/>
        </p:nvSpPr>
        <p:spPr>
          <a:xfrm>
            <a:off x="7128000" y="3924360"/>
            <a:ext cx="1020600" cy="2386080"/>
          </a:xfrm>
          <a:custGeom>
            <a:avLst/>
            <a:gdLst>
              <a:gd name="textAreaLeft" fmla="*/ 0 w 1020600"/>
              <a:gd name="textAreaRight" fmla="*/ 1020600 w 1020600"/>
              <a:gd name="textAreaTop" fmla="*/ 0 h 2386080"/>
              <a:gd name="textAreaBottom" fmla="*/ 2386440 h 2386080"/>
            </a:gdLst>
            <a:ahLst/>
            <a:rect l="textAreaLeft" t="textAreaTop" r="textAreaRight" b="textAreaBottom"/>
            <a:pathLst>
              <a:path w="2835" h="6626">
                <a:moveTo>
                  <a:pt x="1522" y="6625"/>
                </a:moveTo>
                <a:cubicBezTo>
                  <a:pt x="0" y="5866"/>
                  <a:pt x="2151" y="5113"/>
                  <a:pt x="1522" y="4230"/>
                </a:cubicBezTo>
                <a:cubicBezTo>
                  <a:pt x="749" y="3145"/>
                  <a:pt x="2834" y="2641"/>
                  <a:pt x="1362" y="1836"/>
                </a:cubicBezTo>
                <a:lnTo>
                  <a:pt x="1841" y="1038"/>
                </a:lnTo>
                <a:lnTo>
                  <a:pt x="1442" y="239"/>
                </a:lnTo>
                <a:lnTo>
                  <a:pt x="1602" y="0"/>
                </a:lnTo>
              </a:path>
            </a:pathLst>
          </a:custGeom>
          <a:noFill/>
          <a:ln w="180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21"/>
          <p:cNvSpPr/>
          <p:nvPr/>
        </p:nvSpPr>
        <p:spPr>
          <a:xfrm>
            <a:off x="6840360" y="2771640"/>
            <a:ext cx="909720" cy="1236960"/>
          </a:xfrm>
          <a:custGeom>
            <a:avLst/>
            <a:gdLst>
              <a:gd name="textAreaLeft" fmla="*/ 0 w 909720"/>
              <a:gd name="textAreaRight" fmla="*/ 910080 w 90972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2527" h="3433">
                <a:moveTo>
                  <a:pt x="2235" y="3432"/>
                </a:moveTo>
                <a:cubicBezTo>
                  <a:pt x="426" y="3219"/>
                  <a:pt x="2526" y="1445"/>
                  <a:pt x="718" y="1277"/>
                </a:cubicBezTo>
                <a:lnTo>
                  <a:pt x="0" y="479"/>
                </a:lnTo>
                <a:lnTo>
                  <a:pt x="239" y="0"/>
                </a:lnTo>
              </a:path>
            </a:pathLst>
          </a:custGeom>
          <a:noFill/>
          <a:ln w="72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22"/>
          <p:cNvSpPr/>
          <p:nvPr/>
        </p:nvSpPr>
        <p:spPr>
          <a:xfrm>
            <a:off x="7848720" y="3851280"/>
            <a:ext cx="966600" cy="1581120"/>
          </a:xfrm>
          <a:custGeom>
            <a:avLst/>
            <a:gdLst>
              <a:gd name="textAreaLeft" fmla="*/ 0 w 966600"/>
              <a:gd name="textAreaRight" fmla="*/ 966960 w 96660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685" h="4391">
                <a:moveTo>
                  <a:pt x="0" y="4390"/>
                </a:moveTo>
                <a:cubicBezTo>
                  <a:pt x="1129" y="4261"/>
                  <a:pt x="263" y="2959"/>
                  <a:pt x="1836" y="2794"/>
                </a:cubicBezTo>
                <a:cubicBezTo>
                  <a:pt x="2684" y="2705"/>
                  <a:pt x="488" y="993"/>
                  <a:pt x="1916" y="399"/>
                </a:cubicBezTo>
                <a:lnTo>
                  <a:pt x="2555" y="0"/>
                </a:lnTo>
              </a:path>
            </a:pathLst>
          </a:custGeom>
          <a:noFill/>
          <a:ln w="72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24"/>
          <p:cNvSpPr/>
          <p:nvPr/>
        </p:nvSpPr>
        <p:spPr>
          <a:xfrm>
            <a:off x="7488360" y="6242040"/>
            <a:ext cx="177840" cy="1317600"/>
          </a:xfrm>
          <a:custGeom>
            <a:avLst/>
            <a:gdLst>
              <a:gd name="textAreaLeft" fmla="*/ 0 w 177840"/>
              <a:gd name="textAreaRight" fmla="*/ 178200 w 177840"/>
              <a:gd name="textAreaTop" fmla="*/ 0 h 1317600"/>
              <a:gd name="textAreaBottom" fmla="*/ 1317960 h 1317600"/>
            </a:gdLst>
            <a:ahLst/>
            <a:rect l="textAreaLeft" t="textAreaTop" r="textAreaRight" b="textAreaBottom"/>
            <a:pathLst>
              <a:path w="494" h="3658">
                <a:moveTo>
                  <a:pt x="43" y="3657"/>
                </a:moveTo>
                <a:cubicBezTo>
                  <a:pt x="0" y="2745"/>
                  <a:pt x="493" y="1898"/>
                  <a:pt x="316" y="981"/>
                </a:cubicBezTo>
                <a:lnTo>
                  <a:pt x="133" y="89"/>
                </a:lnTo>
                <a:lnTo>
                  <a:pt x="133" y="0"/>
                </a:lnTo>
              </a:path>
            </a:pathLst>
          </a:custGeom>
          <a:noFill/>
          <a:ln w="324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25"/>
          <p:cNvSpPr/>
          <p:nvPr/>
        </p:nvSpPr>
        <p:spPr>
          <a:xfrm>
            <a:off x="6194520" y="4282920"/>
            <a:ext cx="1176120" cy="2041560"/>
          </a:xfrm>
          <a:custGeom>
            <a:avLst/>
            <a:gdLst>
              <a:gd name="textAreaLeft" fmla="*/ 0 w 1176120"/>
              <a:gd name="textAreaRight" fmla="*/ 1176480 w 1176120"/>
              <a:gd name="textAreaTop" fmla="*/ 0 h 2041560"/>
              <a:gd name="textAreaBottom" fmla="*/ 2041920 h 2041560"/>
            </a:gdLst>
            <a:ahLst/>
            <a:rect l="textAreaLeft" t="textAreaTop" r="textAreaRight" b="textAreaBottom"/>
            <a:pathLst>
              <a:path w="3274" h="5668">
                <a:moveTo>
                  <a:pt x="3273" y="5667"/>
                </a:moveTo>
                <a:cubicBezTo>
                  <a:pt x="2956" y="4643"/>
                  <a:pt x="919" y="4980"/>
                  <a:pt x="1437" y="3751"/>
                </a:cubicBezTo>
                <a:cubicBezTo>
                  <a:pt x="1839" y="2798"/>
                  <a:pt x="1670" y="1610"/>
                  <a:pt x="639" y="1357"/>
                </a:cubicBezTo>
                <a:lnTo>
                  <a:pt x="0" y="558"/>
                </a:lnTo>
                <a:lnTo>
                  <a:pt x="559" y="0"/>
                </a:lnTo>
              </a:path>
            </a:pathLst>
          </a:custGeom>
          <a:noFill/>
          <a:ln w="180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6"/>
          <p:cNvSpPr/>
          <p:nvPr/>
        </p:nvSpPr>
        <p:spPr>
          <a:xfrm>
            <a:off x="7056360" y="2411280"/>
            <a:ext cx="997200" cy="1609920"/>
          </a:xfrm>
          <a:custGeom>
            <a:avLst/>
            <a:gdLst>
              <a:gd name="textAreaLeft" fmla="*/ 0 w 997200"/>
              <a:gd name="textAreaRight" fmla="*/ 997560 w 997200"/>
              <a:gd name="textAreaTop" fmla="*/ 0 h 1609920"/>
              <a:gd name="textAreaBottom" fmla="*/ 1610280 h 1609920"/>
            </a:gdLst>
            <a:ahLst/>
            <a:rect l="textAreaLeft" t="textAreaTop" r="textAreaRight" b="textAreaBottom"/>
            <a:pathLst>
              <a:path w="2770" h="4471">
                <a:moveTo>
                  <a:pt x="1352" y="4470"/>
                </a:moveTo>
                <a:cubicBezTo>
                  <a:pt x="2769" y="4234"/>
                  <a:pt x="2221" y="2273"/>
                  <a:pt x="1432" y="2075"/>
                </a:cubicBezTo>
                <a:cubicBezTo>
                  <a:pt x="384" y="1814"/>
                  <a:pt x="0" y="77"/>
                  <a:pt x="1352" y="319"/>
                </a:cubicBezTo>
                <a:lnTo>
                  <a:pt x="2150" y="0"/>
                </a:lnTo>
                <a:lnTo>
                  <a:pt x="2230" y="0"/>
                </a:lnTo>
              </a:path>
            </a:pathLst>
          </a:custGeom>
          <a:noFill/>
          <a:ln w="72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27"/>
          <p:cNvSpPr/>
          <p:nvPr/>
        </p:nvSpPr>
        <p:spPr>
          <a:xfrm>
            <a:off x="7848720" y="2627280"/>
            <a:ext cx="966600" cy="1581120"/>
          </a:xfrm>
          <a:custGeom>
            <a:avLst/>
            <a:gdLst>
              <a:gd name="textAreaLeft" fmla="*/ 0 w 966600"/>
              <a:gd name="textAreaRight" fmla="*/ 966960 w 96660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685" h="4391">
                <a:moveTo>
                  <a:pt x="0" y="4390"/>
                </a:moveTo>
                <a:cubicBezTo>
                  <a:pt x="1129" y="4261"/>
                  <a:pt x="263" y="2959"/>
                  <a:pt x="1836" y="2794"/>
                </a:cubicBezTo>
                <a:cubicBezTo>
                  <a:pt x="2684" y="2705"/>
                  <a:pt x="488" y="993"/>
                  <a:pt x="1916" y="399"/>
                </a:cubicBezTo>
                <a:lnTo>
                  <a:pt x="2555" y="0"/>
                </a:lnTo>
              </a:path>
            </a:pathLst>
          </a:custGeom>
          <a:noFill/>
          <a:ln w="72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28"/>
          <p:cNvSpPr/>
          <p:nvPr/>
        </p:nvSpPr>
        <p:spPr>
          <a:xfrm>
            <a:off x="6910560" y="3419640"/>
            <a:ext cx="969840" cy="2500200"/>
          </a:xfrm>
          <a:custGeom>
            <a:avLst/>
            <a:gdLst>
              <a:gd name="textAreaLeft" fmla="*/ 0 w 969840"/>
              <a:gd name="textAreaRight" fmla="*/ 970200 w 969840"/>
              <a:gd name="textAreaTop" fmla="*/ 0 h 2500200"/>
              <a:gd name="textAreaBottom" fmla="*/ 2500560 h 2500200"/>
            </a:gdLst>
            <a:ahLst/>
            <a:rect l="textAreaLeft" t="textAreaTop" r="textAreaRight" b="textAreaBottom"/>
            <a:pathLst>
              <a:path w="2688" h="6946">
                <a:moveTo>
                  <a:pt x="1489" y="6945"/>
                </a:moveTo>
                <a:cubicBezTo>
                  <a:pt x="2687" y="6036"/>
                  <a:pt x="677" y="5521"/>
                  <a:pt x="372" y="4869"/>
                </a:cubicBezTo>
                <a:cubicBezTo>
                  <a:pt x="0" y="4074"/>
                  <a:pt x="1166" y="3412"/>
                  <a:pt x="1090" y="2475"/>
                </a:cubicBezTo>
                <a:cubicBezTo>
                  <a:pt x="1023" y="1651"/>
                  <a:pt x="652" y="777"/>
                  <a:pt x="1170" y="0"/>
                </a:cubicBezTo>
              </a:path>
            </a:pathLst>
          </a:custGeom>
          <a:noFill/>
          <a:ln w="72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5"/>
          <p:cNvSpPr/>
          <p:nvPr/>
        </p:nvSpPr>
        <p:spPr>
          <a:xfrm>
            <a:off x="287280" y="3851280"/>
            <a:ext cx="277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Осенний веч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Идет дож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Это плачут анге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6"/>
          <p:cNvSpPr/>
          <p:nvPr/>
        </p:nvSpPr>
        <p:spPr>
          <a:xfrm>
            <a:off x="6910560" y="324000"/>
            <a:ext cx="27716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Лунев Ю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05:48:33Z</dcterms:created>
  <dc:creator>комп8 </dc:creator>
  <dc:description/>
  <dc:language>en-US</dc:language>
  <cp:lastModifiedBy>USER</cp:lastModifiedBy>
  <dcterms:modified xsi:type="dcterms:W3CDTF">2011-12-05T17:48:48Z</dcterms:modified>
  <cp:revision>17</cp:revision>
  <dc:subject/>
  <dc:title>Слайд 1</dc:title>
</cp:coreProperties>
</file>