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A55-055D-4220-BA9E-B781C022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85E-9C7E-4E66-B588-AB5F305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C25-45A6-4F12-B234-3377A3AA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6CC-2239-4FF8-8730-D76F9D97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69C6-76AE-4CAB-AF5B-78956A5E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77EF1-C32C-41C1-A623-39EE8222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0883-BAE3-41BA-8FE1-4F02F87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8141C-7A34-462B-99A1-F04C3766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D3AF8-1ACC-477A-A14D-2C1A124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3845F-96BD-4543-9F16-4962B8E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E14F4-8DD8-46DD-BF56-0C563AC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46C-D486-4A4A-8730-8E326315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5AA6F-491D-4BB0-8438-904C28A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7222-3EB3-4B51-8309-789ED19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57A1E-7133-4300-8C72-46A7B1C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29465-DE06-4E05-9707-4790A14F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EF3E4-762F-4916-BFC5-73A4B03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7DA1-69C6-4665-A437-3771B37B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253A-E739-4DDA-878B-5F4FB72C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F133-A24A-448E-9471-C0CD8C20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DFDF-AA35-4466-9039-1F8DBEA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C8C0-04F7-4F83-B4C3-AFC6F48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A3E-14F3-49AD-B95A-977D1A1B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7B56-6F52-4511-B69B-FACAC058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AEA9-A153-4932-B671-F6E541D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3C1B-7584-4046-A716-F47D916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734F-3C8E-45CD-A60C-889FE48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915F-77BB-41F3-B30F-18E560D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E756-180A-4284-B437-391EB1EB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FA15-4687-4398-A972-E3C9809A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5A97C-7BDE-448D-A2D7-EAB48D4B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EFE57-8322-456F-9C28-933977F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7FDC6-3C57-4948-BF82-55848B2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BB1-0F5A-4DA5-BEFA-EB35FDED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62A9E-0118-4B34-B12D-2592BFB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4FEB5-EDCA-4BFA-805A-62BF2697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1C3A6-AE05-44F1-9CF1-B80D888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AFBE7-C26E-4D9E-B95A-C987D26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2D0E6-094B-40B8-A8AC-22432E1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C6BA5-04E5-4F18-9B5C-488FE4C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39103-1A8F-473A-BA31-4307D27C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8E25B-6240-4EAF-9458-70BD202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7AF5A-80B9-414B-BFEB-4BE46D8F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769-0C7E-4042-BC8A-1C86C37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857-61D5-4A79-BC17-827A882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F28-6DB6-4937-9EB2-BF3013C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9E6-D560-4514-A52E-AA11561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C11-9FBF-4792-A5AC-FD0AE39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335F-B60C-4970-8CF8-F891054089E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096920" y="4734000"/>
            <a:ext cx="22287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3532320" y="4734000"/>
            <a:ext cx="22287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3405240" y="4702320"/>
            <a:ext cx="34920" cy="601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E7A-5879-4A68-8A4F-818931250D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514440" y="6556320"/>
            <a:ext cx="594360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B12-1C79-4793-AB5B-638207855CC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422280" y="2906640"/>
            <a:ext cx="281160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3565440" y="2906640"/>
            <a:ext cx="28130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BA6-D333-49DF-813E-A09F71E3728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0" y="3121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Творческая раб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ученицы 1-го класса МОУ «Никольская средняя шк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ласовой Улья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ГОРДОСТЬ МОЕЙ СЕМЬ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4" descr="09132ab5d210a65a73614a1c98293fcc.jpg"/>
          <p:cNvPicPr/>
          <p:nvPr/>
        </p:nvPicPr>
        <p:blipFill>
          <a:blip r:embed="rId1"/>
          <a:stretch/>
        </p:blipFill>
        <p:spPr>
          <a:xfrm>
            <a:off x="1000080" y="2071800"/>
            <a:ext cx="4954680" cy="3562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67082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6362640"/>
                <a:tab algn="l" pos="6550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Script"/>
                <a:ea typeface="Calibri"/>
              </a:rPr>
              <a:t>Великая Отечественная Война оставила свой след в судьбах миллионов семей. Я хотела бы рассказать о тех, кого помнят и кем гордятся в моей семье – моих прадедушках, принимавших участие в Великой отечественной Вой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8295-3.jpg"/>
          <p:cNvPicPr/>
          <p:nvPr/>
        </p:nvPicPr>
        <p:blipFill>
          <a:blip r:embed="rId1"/>
          <a:stretch/>
        </p:blipFill>
        <p:spPr>
          <a:xfrm>
            <a:off x="1285920" y="357120"/>
            <a:ext cx="4572000" cy="2571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3300120"/>
            <a:ext cx="6643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Ефименко Михаил Кузьм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Родился 12.05.1924г. Начал воевать в августе 1943г. на Курской дуге                  гв. красноармейцем 2-ой Гвардейской воздушно-десантной дивизии Центрального фронта. Является участником Курской битвы, которая по своему ожесточению и упорству не имеет себе равных. Сокрушительный разгром гитлеровских войск на Курской дуге и последующий выход советских войск к Днепру завершили коренной перелом в ходе Великой Отечественной вой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ставе 2- ой Гвардейской воздушно-десантной дивизии дошел до Чехословацкой республики. В Праге встретил Победу. Затем до 1947 года принимал участие в борьбе с  бандеровцами  на Украи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 годы войны был награжден двумя медалями «За отвагу» и медалями за освобождения городов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5" descr="Фото0101.jpg"/>
          <p:cNvPicPr/>
          <p:nvPr/>
        </p:nvPicPr>
        <p:blipFill>
          <a:blip r:embed="rId2"/>
          <a:stretch/>
        </p:blipFill>
        <p:spPr>
          <a:xfrm>
            <a:off x="2000160" y="628668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42720" y="357120"/>
            <a:ext cx="6172200" cy="84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onstantia"/>
              </a:rPr>
              <a:t>Власов Алексей Николаевич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одился в 1917 году. Начал воевать в 1942 году в 210 стрелковом полку 82 стрелковой Ярцевской краснознаменной дивизии 65 Армии. Летом 1942 года дивизия отличилась в боях на Гжатском направлении, хорошо показала себя при освобождении городов Ярцево, Смоленск и других. Личный состав дивизии героически сражался в боях за освобождение Белоруссии, Литовской ССР, Латвийской ССР, и в наступательных операциях на территории Польши и Германии. Алексей Николаевич встретил Победу на территории Германи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 годы войны был награжден медалью «За боевые заслуги» и медалями за освобождение городов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Рисунок 3" descr="Дед.jpg"/>
          <p:cNvPicPr/>
          <p:nvPr/>
        </p:nvPicPr>
        <p:blipFill>
          <a:blip r:embed="rId1"/>
          <a:stretch/>
        </p:blipFill>
        <p:spPr>
          <a:xfrm>
            <a:off x="500040" y="2928960"/>
            <a:ext cx="185724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011.JPG"/>
          <p:cNvPicPr/>
          <p:nvPr/>
        </p:nvPicPr>
        <p:blipFill>
          <a:blip r:embed="rId2"/>
          <a:stretch/>
        </p:blipFill>
        <p:spPr>
          <a:xfrm>
            <a:off x="2643120" y="3357720"/>
            <a:ext cx="1743120" cy="13064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012.JPG"/>
          <p:cNvPicPr/>
          <p:nvPr/>
        </p:nvPicPr>
        <p:blipFill>
          <a:blip r:embed="rId3"/>
          <a:stretch/>
        </p:blipFill>
        <p:spPr>
          <a:xfrm>
            <a:off x="4857840" y="3571920"/>
            <a:ext cx="1358640" cy="1019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214200" y="5482440"/>
            <a:ext cx="63579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Платонов Кузьма Митрофан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Родился 14 ноября 1910 года. С начала войны до конца 1941 года учился в Пехотном училище. Начал воевать  в январе 1942 года под Харьковом политруком роты. За годы войны дослужил  до заместителя командира полка по политической работе. Его задача была поднять солдат в ата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нимал участие в Сталинградской битве. После взятия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инингсберга был ранен в голову. Осколок прошел в нескольких миллиметрах от виска. После выписки из госпиталя был отправлен на службу в 5-ю Армию Приморской группы войск,  где принимал участие в Советско-японской войне. Закончил службу в 1955 году подполковник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 годы войны был награжден одним орденом Красного знамени, двумя орденами Отечественной войны 1-ой степени, одним орденом Отечественной войны 2-ой степени, медалями за взятия город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приказ Ефименко 001.jpg"/>
          <p:cNvPicPr/>
          <p:nvPr/>
        </p:nvPicPr>
        <p:blipFill>
          <a:blip r:embed="rId1"/>
          <a:stretch/>
        </p:blipFill>
        <p:spPr>
          <a:xfrm>
            <a:off x="785880" y="285840"/>
            <a:ext cx="5432400" cy="1446120"/>
          </a:xfrm>
          <a:prstGeom prst="rect">
            <a:avLst/>
          </a:prstGeom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</p:pic>
      <p:sp>
        <p:nvSpPr>
          <p:cNvPr id="182" name="Rectangle 1"/>
          <p:cNvSpPr/>
          <p:nvPr/>
        </p:nvSpPr>
        <p:spPr>
          <a:xfrm>
            <a:off x="0" y="216936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никогда не видела вой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ужаса ее не представляю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то, что мир наш хочет тиш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годня очень ясно понимаю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, что нам не довело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ить и узнать такие мук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Вашу долю все это пришлось 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воги, голод, холод и разлук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 за солнца яркий све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радость жизни в каждом миге наше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трели соловья, и за рассве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за поля цветущие ромашек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! Позади остался страшный час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 войне узнали лишь из книжек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. Мы очень любим Вас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лон Вам от девчонок и мальчишек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5" descr="Приказ Власов 001.jpg"/>
          <p:cNvPicPr/>
          <p:nvPr/>
        </p:nvPicPr>
        <p:blipFill>
          <a:blip r:embed="rId2"/>
          <a:stretch/>
        </p:blipFill>
        <p:spPr>
          <a:xfrm>
            <a:off x="428760" y="7215120"/>
            <a:ext cx="59436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1:12:05Z</dcterms:created>
  <dc:creator>Александр</dc:creator>
  <dc:description/>
  <dc:language>en-US</dc:language>
  <cp:lastModifiedBy>user</cp:lastModifiedBy>
  <dcterms:modified xsi:type="dcterms:W3CDTF">2011-12-06T16:27:26Z</dcterms:modified>
  <cp:revision>5</cp:revision>
  <dc:subject/>
  <dc:title>Слайд 1</dc:title>
</cp:coreProperties>
</file>