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590-0F3C-4E47-B6CD-640A7575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1D7-F4C1-4209-B712-614A7E06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78A-1D89-452C-A197-867CFE1C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4E5-88B6-4BC9-97CC-FFACA2B5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77651-3499-4C6F-ABE9-98D00290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703CF-4C52-41E3-8E02-18D60536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F7F54-2D54-4C9D-BC6A-AF3E1E18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4D411-AABB-4569-BEA7-2EA43626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0050C-22C7-40A6-8128-35D6B8D1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EA51-DD98-488D-B3D3-AE107C3B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81BFE-BA33-4B77-A210-A934664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FF0-386A-4E4B-B74C-5A76B88D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42CDE-EF2E-4A29-A2F2-C4A6D2D7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CDA57-9CD9-448B-BA7F-66DCC09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36830-7E09-43B0-BB33-906E1488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CC63-7F70-45C6-9D91-20BE280F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C33D9-8CB4-4F9F-B2A7-6CA08CD6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D881-3C91-4FEB-A608-FD06F5D4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D34E-C306-4184-AD7E-51CE11F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EFCF-2E73-4D34-B624-F4E3322A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DE6B-1CD2-403A-B439-4C9EC702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A2E0-4DCA-43E3-98BB-FFAB4D0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C8F-320D-4F12-97AC-43E81BB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004D-2847-4F06-9D13-FAA1230A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7491-A97A-4C83-8CD0-42FDACF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3B52-A6BE-4D18-B224-3280F7D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AC639-C4C1-482F-991D-AE04B77C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4C1A-2B6E-4049-B1B6-D74A39BB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CE3FF-CD7F-4022-BB6F-F460B195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7E7E-DFBE-4C6C-BF53-E7CE9620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64832-BA8F-4122-9FC4-072F110D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C3075-B293-4CD6-B4D6-29C42302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2C425-029A-4AA6-BB93-94603CFE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ABD-4D7B-4C26-A2CE-C43F61E5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01D97-6F0D-4712-B731-C248CFA3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632CF-346D-4CAE-97F0-7818CEC0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F4FD8-7FF2-4BF8-975B-8466CCF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787E3-68D1-48D1-B876-02737C1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1E4DF-EB35-4D43-B9C2-3E57D6D9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BE179-833C-4AF7-B8E2-61198E31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8A4BF-AA9B-49DA-B2BB-D67ABD7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E6EDA-E6F2-42BD-AA7A-0CA6B145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42964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16560" y="1930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42964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516560" y="5188320"/>
            <a:ext cx="1987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A6F14-BD05-4025-B4E1-18BDFD78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DA2-929A-4510-B252-FD17891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03040"/>
            <a:ext cx="617220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136-B2CD-4661-B5C4-A7D592F7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9DE-51B4-48E3-9655-B86010C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188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650-8789-45A2-A81C-472F3856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930320"/>
            <a:ext cx="301176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188320"/>
            <a:ext cx="61722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8DF-9144-4C34-A0CD-D37BFCC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DEB-24B9-48E6-82DC-2FDD37B40A0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096920" y="4734000"/>
            <a:ext cx="22287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3532320" y="4734000"/>
            <a:ext cx="22287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3405240" y="4702320"/>
            <a:ext cx="34920" cy="601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1BD-3DEF-42BD-A1C2-67FC4B859AD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514440" y="6556320"/>
            <a:ext cx="594360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78D5-8F7B-4EA1-9422-69523C091F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422280" y="2906640"/>
            <a:ext cx="281160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3565440" y="2906640"/>
            <a:ext cx="28130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42720" y="1930320"/>
            <a:ext cx="61722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6307200" y="8242200"/>
            <a:ext cx="457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7478-0613-4A60-9829-29184095B19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599840" y="8271000"/>
            <a:ext cx="26859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4343400" y="8271000"/>
            <a:ext cx="19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0" y="3121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Calibri"/>
              </a:rPr>
              <a:t>Творческая раб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Calibri"/>
              </a:rPr>
              <a:t>ученицы 1-го класса МОУ «Никольская средняя школ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ласовой Улья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ГОРДОСТЬ МОЕЙ СЕМЬ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4" descr="09132ab5d210a65a73614a1c98293fcc.jpg"/>
          <p:cNvPicPr/>
          <p:nvPr/>
        </p:nvPicPr>
        <p:blipFill>
          <a:blip r:embed="rId1"/>
          <a:stretch/>
        </p:blipFill>
        <p:spPr>
          <a:xfrm>
            <a:off x="1000080" y="2071800"/>
            <a:ext cx="4954680" cy="3562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67082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>
              <a:lnSpc>
                <a:spcPct val="100000"/>
              </a:lnSpc>
              <a:tabLst>
                <a:tab algn="l" pos="0"/>
                <a:tab algn="l" pos="6362640"/>
                <a:tab algn="l" pos="65502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egoe Script"/>
                <a:ea typeface="Calibri"/>
              </a:rPr>
              <a:t>Великая Отечественная Война оставила свой след в судьбах миллионов семей. Я хотела бы рассказать о тех, кого помнят и кем гордятся в моей семье – моих прадедушках, принимавших участие в Великой отечественной Вой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3" descr="8295-3.jpg"/>
          <p:cNvPicPr/>
          <p:nvPr/>
        </p:nvPicPr>
        <p:blipFill>
          <a:blip r:embed="rId1"/>
          <a:stretch/>
        </p:blipFill>
        <p:spPr>
          <a:xfrm>
            <a:off x="1285920" y="357120"/>
            <a:ext cx="4572000" cy="2571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0" y="3300120"/>
            <a:ext cx="6643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Ефименко Михаил Кузьм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Родился 12.05.1924г. Начал воевать в августе 1943г. на Курской дуге                  гв. красноармейцем 2-ой Гвардейской воздушно-десантной дивизии Центрального фронта. Является участником Курской битвы, которая по своему ожесточению и упорству не имеет себе равных. Сокрушительный разгром гитлеровских войск на Курской дуге и последующий выход советских войск к Днепру завершили коренной перелом в ходе Великой Отечественной вой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ставе 2- ой Гвардейской воздушно-десантной дивизии дошел до Чехословацкой республики. В Праге встретил Победу. Затем до 1947 года принимал участие в борьбе с  бандеровцами  на Украи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 годы войны был награжден двумя медалями «За отвагу» и медалями за освобождения городов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5" descr="Фото0101.jpg"/>
          <p:cNvPicPr/>
          <p:nvPr/>
        </p:nvPicPr>
        <p:blipFill>
          <a:blip r:embed="rId2"/>
          <a:stretch/>
        </p:blipFill>
        <p:spPr>
          <a:xfrm>
            <a:off x="2000160" y="6286680"/>
            <a:ext cx="3390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42720" y="357120"/>
            <a:ext cx="6172200" cy="842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onstantia"/>
              </a:rPr>
              <a:t>Власов Алексей Николаевич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Родился в 1917 году. Начал воевать в 1942 году в 210 стрелковом полку 82 стрелковой Ярцевской краснознаменной дивизии 65 Армии. Летом 1942 года дивизия отличилась в боях на Гжатском направлении, хорошо показала себя при освобождении городов Ярцево, Смоленск и других. Личный состав дивизии героически сражался в боях за освобождение Белоруссии, Литовской ССР, Латвийской ССР, и в наступательных операциях на территории Польши и Германии. Алексей Николаевич встретил Победу на территории Германии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 годы войны был награжден медалью «За боевые заслуги» и медалями за освобождение городов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Рисунок 3" descr="Дед.jpg"/>
          <p:cNvPicPr/>
          <p:nvPr/>
        </p:nvPicPr>
        <p:blipFill>
          <a:blip r:embed="rId1"/>
          <a:stretch/>
        </p:blipFill>
        <p:spPr>
          <a:xfrm>
            <a:off x="500040" y="2928960"/>
            <a:ext cx="185724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011.JPG"/>
          <p:cNvPicPr/>
          <p:nvPr/>
        </p:nvPicPr>
        <p:blipFill>
          <a:blip r:embed="rId2"/>
          <a:stretch/>
        </p:blipFill>
        <p:spPr>
          <a:xfrm>
            <a:off x="2643120" y="3357720"/>
            <a:ext cx="1743120" cy="13064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012.JPG"/>
          <p:cNvPicPr/>
          <p:nvPr/>
        </p:nvPicPr>
        <p:blipFill>
          <a:blip r:embed="rId3"/>
          <a:stretch/>
        </p:blipFill>
        <p:spPr>
          <a:xfrm>
            <a:off x="4857840" y="3571920"/>
            <a:ext cx="1358640" cy="10191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214200" y="5482440"/>
            <a:ext cx="63579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Платонов Кузьма Митрофан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Родился 14 ноября 1910 года. С начала войны до конца 1941 года учился в Пехотном училище. Начал воевать  в январе 1942 года под Харьковом политруком роты. За годы войны дослужил  до заместителя командира полка по политической работе. Его задача была поднять солдат в ата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нимал участие в Сталинградской битве. После взятия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инингсберга был ранен в голову. Осколок прошел в нескольких миллиметрах от виска. После выписки из госпиталя был отправлен на службу в 5-ю Армию Приморской группы войск,  где принимал участие в Советско-японской войне. Закончил службу в 1955 году подполковник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2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 годы войны был награжден одним орденом Красного знамени, двумя орденами Отечественной войны 1-ой степени, одним орденом Отечественной войны 2-ой степени, медалями за взятия город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3" descr="приказ Ефименко 001.jpg"/>
          <p:cNvPicPr/>
          <p:nvPr/>
        </p:nvPicPr>
        <p:blipFill>
          <a:blip r:embed="rId1"/>
          <a:stretch/>
        </p:blipFill>
        <p:spPr>
          <a:xfrm>
            <a:off x="785880" y="285840"/>
            <a:ext cx="5432400" cy="1446120"/>
          </a:xfrm>
          <a:prstGeom prst="rect">
            <a:avLst/>
          </a:prstGeom>
          <a:ln w="0">
            <a:noFill/>
          </a:ln>
          <a:effectLst>
            <a:outerShdw dist="28496" dir="3825519" blurRad="0" rotWithShape="0">
              <a:srgbClr val="808080"/>
            </a:outerShdw>
          </a:effectLst>
        </p:spPr>
      </p:pic>
      <p:sp>
        <p:nvSpPr>
          <p:cNvPr id="182" name="Rectangle 1"/>
          <p:cNvSpPr/>
          <p:nvPr/>
        </p:nvSpPr>
        <p:spPr>
          <a:xfrm>
            <a:off x="0" y="216936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никогда не видела вой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ужаса ее не представляю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то, что мир наш хочет тиш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годня очень ясно понимаю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асибо Вам, что нам не довелос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ставить и узнать такие мук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Вашу долю все это пришлось -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воги, голод, холод и разлук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асибо Вам за солнца яркий свет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радость жизни в каждом миге наше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трели соловья, и за рассве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за поля цветущие ромашек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! Позади остался страшный час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 о войне узнали лишь из книжек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асибо Вам. Мы очень любим Вас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клон Вам от девчонок и мальчишек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5" descr="Приказ Власов 001.jpg"/>
          <p:cNvPicPr/>
          <p:nvPr/>
        </p:nvPicPr>
        <p:blipFill>
          <a:blip r:embed="rId2"/>
          <a:stretch/>
        </p:blipFill>
        <p:spPr>
          <a:xfrm>
            <a:off x="428760" y="7215120"/>
            <a:ext cx="59436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21:12:05Z</dcterms:created>
  <dc:creator>Александр</dc:creator>
  <dc:description/>
  <dc:language>en-US</dc:language>
  <cp:lastModifiedBy>user</cp:lastModifiedBy>
  <dcterms:modified xsi:type="dcterms:W3CDTF">2011-12-06T16:27:26Z</dcterms:modified>
  <cp:revision>5</cp:revision>
  <dc:subject/>
  <dc:title>Слайд 1</dc:title>
</cp:coreProperties>
</file>