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Женя" initials="Ж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<Relationship Id="rId3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4-05T14:45:14.828000000" idx="1">
    <p:pos x="10" y="10"/>
    <p:text/>
  </p:cm>
  <p:cm authorId="0" dt="2008-04-05T14:45:17.109000000" idx="2">
    <p:pos x="146" y="14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B8B-EFD3-4EE0-A987-68010D8F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1A7-1A71-4E52-A18C-FC6F5DB5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260-E708-452A-BD66-4F3E96F0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4FA-AB07-4580-93B0-D7FA4D2E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6DB69-37C3-4197-8E54-5D4AA576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DA8BB-6A9F-469E-8EAA-1823FC10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4882F-81E1-4D1C-B482-DCCC2EA9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49A63-4E60-4A14-81CD-812A51D6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6B647-4901-43C9-90BF-DA2BC646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9B60C-8678-4356-8267-BD3D2A32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8CD5C-CE1E-476C-A8B2-362CEB04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8CF-F02F-40C5-9AED-E0C583A7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1854C-592F-4A1D-A044-931BA06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2940F-25DB-4612-94B9-4728252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6E271-8270-4478-B84E-509D0DC5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E8AE2-2C2C-4781-91D8-98DC1D8C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A0BEC-42AD-4919-87EB-0D4C0902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F742-5D88-4BCB-B939-F556FF23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AC7D-9528-48A0-B168-1312D9F1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5733-3FC7-44E8-A6B7-5C213E4F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4B23-53BF-4399-A90F-7CE7C581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DE52-6E0C-4D69-872A-98B82F27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427-0158-4B77-86FF-F0863B96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9612-7CBF-48EE-8675-AC5DCD8A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64130-7228-4B7B-AF85-8F741A4E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A8F6-37F6-465A-8AA4-9765D54C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A946-41FB-4B38-977C-8B883192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C36C-A7B0-4118-9022-B4CA9305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CA42-FA67-4DDC-A8D5-1B5CFA03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4024-A66B-44FA-A893-FF5B9792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CAF-672E-437B-9F78-08B14EB6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DD6-C79B-4C88-A789-FC7E2583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97D-3D05-40BB-B145-E3741ADC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9C0-2995-4630-A72E-DDA24553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CA2-EDA1-45AD-8BC1-A925BB44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97D-EB1A-4403-B9DE-4DA63FF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5788-8398-464A-ADD8-6D5F788CC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1B46-D121-4CDD-834B-6B304A98DB2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B7E4-A099-4F72-926A-58981FDD126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упповой  проект творческой группы учащихся 10 «А» клас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ревянченко В., Картавченко В., Кутузов А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екретов Т., Смирнова О., Хвощев 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1692360" y="1628640"/>
            <a:ext cx="590400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 ли был Прометей,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вший людям огонь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Германия. 30-е г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XX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толе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страх на германских площадях горят книг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йне и Толстого, Шиллера и Гет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месте с ними горели труды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льберта Эйнштей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оздателя теории относительности, изменившей облик всей физической на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6" descr="1b03_07_02_c"/>
          <p:cNvPicPr/>
          <p:nvPr/>
        </p:nvPicPr>
        <p:blipFill>
          <a:blip r:embed="rId1"/>
          <a:stretch/>
        </p:blipFill>
        <p:spPr>
          <a:xfrm>
            <a:off x="468360" y="692280"/>
            <a:ext cx="3048120" cy="3024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8360" y="3801960"/>
            <a:ext cx="302400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259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NVEExport.0004.mpg" descr=""/>
          <p:cNvPicPr/>
          <p:nvPr/>
        </p:nvPicPr>
        <p:blipFill>
          <a:blip r:embed="rId1"/>
          <a:stretch/>
        </p:blipFill>
        <p:spPr>
          <a:xfrm>
            <a:off x="1143000" y="1700280"/>
            <a:ext cx="6858000" cy="447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124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7760" y="285840"/>
            <a:ext cx="49291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Япония. Август 1945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Хиросима и Нагас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взорвались первые атомные бомбы, превратившиеся в огненный шар, который вобрал в себя город, а затем поднялся над ним невиданным  грибообразным обла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Фильм.wmv" descr=""/>
          <p:cNvPicPr/>
          <p:nvPr/>
        </p:nvPicPr>
        <p:blipFill>
          <a:blip r:embed="rId1"/>
          <a:stretch/>
        </p:blipFill>
        <p:spPr>
          <a:xfrm>
            <a:off x="0" y="207180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8840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NVEExport.0007.mpg" descr=""/>
          <p:cNvPicPr/>
          <p:nvPr/>
        </p:nvPicPr>
        <p:blipFill>
          <a:blip r:embed="rId1"/>
          <a:stretch/>
        </p:blipFill>
        <p:spPr>
          <a:xfrm>
            <a:off x="1143000" y="1628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6500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США  1949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оберт Оппенгеймер, «отец атомной бомбы», высказался против программы создания термоядерной бомбы и отказался принять участие в ней. Эта и другие причины послужили основой для привлечения его в 1953 году к суду и обвинению в шпионаже в пользу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25398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590920" y="304920"/>
            <a:ext cx="6172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ladimir Script"/>
              </a:rPr>
              <a:t>Никакая цель не высока настолько, чтобы оправдывала недостойные средства для её дост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ladimir Script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Vladimir Script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Vladimir Script"/>
              </a:rPr>
              <a:t>Альберт Эйншт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едмет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равственный облик учёного на фоне эпохи в литератур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на примере повести Д. Гранина «Зубр» и ром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Дудинцева «Белые одежд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Цели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598400"/>
            <a:ext cx="74977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художественную литературу о судьбах учёны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ть влияние эпохи на нау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, есть ли место нравственности и благородству в нау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 rot="20746200">
            <a:off x="457200" y="5562360"/>
            <a:ext cx="486252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. Каверин "Открытая книга"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5486400" y="5562720"/>
            <a:ext cx="3657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 Гранин "Зубр"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9" name="Picture 4" descr="Открытая книга"/>
          <p:cNvPicPr/>
          <p:nvPr/>
        </p:nvPicPr>
        <p:blipFill>
          <a:blip r:embed="rId5"/>
          <a:stretch/>
        </p:blipFill>
        <p:spPr>
          <a:xfrm rot="20831400">
            <a:off x="990720" y="3047760"/>
            <a:ext cx="2209680" cy="2590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Дудинцев"/>
          <p:cNvPicPr/>
          <p:nvPr/>
        </p:nvPicPr>
        <p:blipFill>
          <a:blip r:embed="rId6"/>
          <a:stretch/>
        </p:blipFill>
        <p:spPr>
          <a:xfrm rot="21139200">
            <a:off x="3352680" y="914400"/>
            <a:ext cx="2506680" cy="3505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Гранин"/>
          <p:cNvPicPr/>
          <p:nvPr/>
        </p:nvPicPr>
        <p:blipFill>
          <a:blip r:embed="rId7"/>
          <a:stretch/>
        </p:blipFill>
        <p:spPr>
          <a:xfrm>
            <a:off x="6095880" y="609480"/>
            <a:ext cx="2765520" cy="4535640"/>
          </a:xfrm>
          <a:prstGeom prst="rect">
            <a:avLst/>
          </a:prstGeom>
          <a:ln w="0">
            <a:noFill/>
          </a:ln>
        </p:spPr>
      </p:pic>
      <p:sp>
        <p:nvSpPr>
          <p:cNvPr id="222" name="WordArt 7"/>
          <p:cNvSpPr txBox="1"/>
          <p:nvPr/>
        </p:nvSpPr>
        <p:spPr>
          <a:xfrm rot="20641200">
            <a:off x="0" y="990360"/>
            <a:ext cx="38862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. Дудинцев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Белые одежды"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2920" y="14997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омет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один из титанов. Когд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ев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ил людей огня и обрек их на вымирание,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омет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нул людям огонь, а вместе с ним и жиз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001.mpg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аниил Гран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псевдоним; настоящая фамилия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́рма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сский советский писатель. Член КПСС с 1942. Герой Социалистического Труда (1989). Почётный гражданин Санкт-Петербурга (2005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4" descr="granin"/>
          <p:cNvPicPr/>
          <p:nvPr/>
        </p:nvPicPr>
        <p:blipFill>
          <a:blip r:embed="rId1"/>
          <a:stretch/>
        </p:blipFill>
        <p:spPr>
          <a:xfrm>
            <a:off x="5029200" y="144792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Гранин2"/>
          <p:cNvPicPr/>
          <p:nvPr/>
        </p:nvPicPr>
        <p:blipFill>
          <a:blip r:embed="rId1"/>
          <a:stretch/>
        </p:blipFill>
        <p:spPr>
          <a:xfrm>
            <a:off x="1219320" y="2792520"/>
            <a:ext cx="6248160" cy="40654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40 окончил Ленинградский политехнический институт, работал на Кировском заводе. Оттуда ушёл на фронт и воевал до конца войны в танковых войс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ататься начал в 1949. Основная тема произведений Гранина — реализм и поэзия научно-технического творчества, борьба между ищущими, принципиальными учёными и людьми недаровитыми, карьеристами, бюрократами: романы «Искатели» (1954) и «Иду на грозу» (1962), «Зубр» (1987, о судьбе Н. В. Тимофеева-Ресовского), «Блокадная книга», ч.1-2 (1977—1981, вместе с А. М. Адамовичем). Награжден 3 орденами, а также медал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Зубр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00600" y="1523880"/>
            <a:ext cx="31543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ою повесть «Зубр» Д. Гранин посвятил русскому учёному-биологу Н. В. Тимофееву-Ресовск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zubr"/>
          <p:cNvPicPr/>
          <p:nvPr/>
        </p:nvPicPr>
        <p:blipFill>
          <a:blip r:embed="rId1"/>
          <a:stretch/>
        </p:blipFill>
        <p:spPr>
          <a:xfrm>
            <a:off x="762120" y="1447920"/>
            <a:ext cx="3219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zubr1"/>
          <p:cNvPicPr/>
          <p:nvPr/>
        </p:nvPicPr>
        <p:blipFill>
          <a:blip r:embed="rId1"/>
          <a:stretch/>
        </p:blipFill>
        <p:spPr>
          <a:xfrm>
            <a:off x="4952880" y="457200"/>
            <a:ext cx="2971800" cy="4038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Tr"/>
          <p:cNvPicPr/>
          <p:nvPr/>
        </p:nvPicPr>
        <p:blipFill>
          <a:blip r:embed="rId2"/>
          <a:stretch/>
        </p:blipFill>
        <p:spPr>
          <a:xfrm>
            <a:off x="1371600" y="457200"/>
            <a:ext cx="2749680" cy="40384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738648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сравнивает своего героя с зубром, редким древним животным, подчёркивая исключительность учёного, его превосходство над окружающи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3429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вести Тимофеев-Ресовский показан не только как талантливый учёный, но и как человек с активной жизненной позицией и яркой судьб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738648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ерой Д. Грани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еловек мужественный, благородный, бескорыстный и исключительно работоспособ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ладимир Дудинце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Белые одежды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ман, посвящённый трагичной судьбе первых российских учёных-генет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629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ии, облечённые в белые одежды, кто они и откуда пришли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/«Открове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а Богослова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Древняя Гре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III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век до нашей э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помощи жителей Сиракузы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рхимед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сжег римский флот Марцелла солнечными лучами, отраженными множеством зерк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7" descr="arhimed"/>
          <p:cNvPicPr/>
          <p:nvPr/>
        </p:nvPicPr>
        <p:blipFill>
          <a:blip r:embed="rId1"/>
          <a:stretch/>
        </p:blipFill>
        <p:spPr>
          <a:xfrm>
            <a:off x="785880" y="2071800"/>
            <a:ext cx="2286000" cy="302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738684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ои романа Дудинцева, учёные-генетики боролись за истинную науку в период 40-50-ых г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и подвергались гонениям со стороны лжеучёных, сторонников Лысенко, поддерживающих идеологию сталинской вл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14880" y="500040"/>
            <a:ext cx="485784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талия. 1600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им. Площадь Цв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костре инквизиции сожжен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жордано Брун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активный сторонник учени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перн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ысказавший идею обитаемости других миров, единства законов природы, идею о бесконечности Вселен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NVEExport.0008.mpg" descr=""/>
          <p:cNvPicPr/>
          <p:nvPr/>
        </p:nvPicPr>
        <p:blipFill>
          <a:blip r:embed="rId1"/>
          <a:stretch/>
        </p:blipFill>
        <p:spPr>
          <a:xfrm>
            <a:off x="0" y="1844640"/>
            <a:ext cx="397044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20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талия. 1633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уде инквизиции публично отрекается от своих космологических взглядов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алилео Галиле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человек, от  которого берет начало физика как на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6" descr="galileusz"/>
          <p:cNvPicPr/>
          <p:nvPr/>
        </p:nvPicPr>
        <p:blipFill>
          <a:blip r:embed="rId1"/>
          <a:stretch/>
        </p:blipFill>
        <p:spPr>
          <a:xfrm>
            <a:off x="900000" y="2205000"/>
            <a:ext cx="233676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встрия. В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Конец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XIX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кие нападки физиков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алистов, их нежелание признать работы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юдвига Больцма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рвали силы ученого и привели его к самоубий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i"/>
          <p:cNvPicPr/>
          <p:nvPr/>
        </p:nvPicPr>
        <p:blipFill>
          <a:blip r:embed="rId1"/>
          <a:stretch/>
        </p:blipFill>
        <p:spPr>
          <a:xfrm>
            <a:off x="826920" y="2133720"/>
            <a:ext cx="22798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zika</cp:lastModifiedBy>
  <dcterms:modified xsi:type="dcterms:W3CDTF">2008-04-07T10:19:15Z</dcterms:modified>
  <cp:revision>27</cp:revision>
  <dc:subject/>
  <dc:title>Прав ли был Прометей, давший людям огонь?</dc:title>
</cp:coreProperties>
</file>