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Женя" initials="Ж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<Relationship Id="rId3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4-05T14:45:14.828000000" idx="1">
    <p:pos x="10" y="10"/>
    <p:text/>
  </p:cm>
  <p:cm authorId="0" dt="2008-04-05T14:45:17.109000000" idx="2">
    <p:pos x="146" y="146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1343-6D65-4395-9699-19CAF4034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158B-16A0-4039-BAE8-C40B15D26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DD7C-974B-4736-8FDE-31F82318F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79BA-C7DB-4244-844B-470B01DCC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1118F5-5002-4BC1-9BDB-E0D589B14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47B70C-38F7-4A46-8E9D-923E8C327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017718-5E1C-4618-8DA0-C490E029E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78CBE1-2231-453D-B97B-6663A089E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BBC2A0-D92D-4CAB-A3AB-A382B9981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65B763-4E1E-4BD7-8714-8A3CD13FE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0D3641-9A29-4464-A08B-4647627A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8EF5-E47A-4BDA-9A29-68D5A7FF3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48E041-D222-4784-B42C-DE15BC6C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8DD317-274E-4A7E-BBA4-EDFB200B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1008E6-AA12-4249-A11A-817159011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D938EB-6FE6-4B21-83F1-733A0B631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81F284-CF37-4B71-8D74-8DA7F1367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BE234-6211-4978-A846-CEF69C267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A5E65-C31A-452C-9D92-C20E884F8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8A5AE-2D1C-488B-831E-E174CB794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EE6C5-0679-4651-B31D-63420AFCE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A0221-97B6-48E1-9D92-0A59B9EA1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0E86-93D4-446A-AA88-AA2D39BF6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97DAA-427D-4ACE-9635-58BAA6314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A5F10-1FD9-42F7-9FF6-AEB581A7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775DE-C485-4AA9-A5E9-AE2A206D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FDD4E-CC2D-4E79-AD69-57691663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F0D86-10D8-4BA4-85C2-89CB9BDAD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89590-6774-4C8A-8A3F-767BCC005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0B02F-7AC8-4450-8E53-BD75FC1AB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CF48-E78B-464C-B51F-6021F9C57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EC80-4843-4B63-B6CD-AF7210837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8959-3C57-4429-AFC0-E9AA99C27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6CAE-B5B5-42F6-83EC-439C11BF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51E1-16E8-4E1F-B26B-3C437B40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310E-1FD2-4D96-B861-CD2F29D9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C6C5E-5C95-41DF-BC69-739B7D0812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E9A1-A627-4BF8-8133-4B975745EA65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5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4CEC4-C185-4257-A2FF-8ECC14D5C102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3320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рупповой  проект творческой группы учащихся 10 «А» класс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Деревянченко В., Картавченко В., Кутузов А.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Секретов Т., Смирнова О., Хвощев 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WordArt 6"/>
          <p:cNvSpPr txBox="1"/>
          <p:nvPr/>
        </p:nvSpPr>
        <p:spPr>
          <a:xfrm>
            <a:off x="1692360" y="1628640"/>
            <a:ext cx="5904000" cy="20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ав ли был Прометей,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авший людям огонь?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5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Прав ли был Прометей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давший людям огонь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Германия. 30-е го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XX </a:t>
            </a: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столет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кострах на германских площадях горят книги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Гейне и Толстого, Шиллера и Гет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Вместе с ними горели труды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Альберта Эйнштейн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создателя теории относительности, изменившей облик всей физической нау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6" descr="1b03_07_02_c"/>
          <p:cNvPicPr/>
          <p:nvPr/>
        </p:nvPicPr>
        <p:blipFill>
          <a:blip r:embed="rId1"/>
          <a:stretch/>
        </p:blipFill>
        <p:spPr>
          <a:xfrm>
            <a:off x="468360" y="692280"/>
            <a:ext cx="3048120" cy="3024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68360" y="3801960"/>
            <a:ext cx="3024000" cy="2309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4360" y="25992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5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Прав ли был Прометей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давший людям огонь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NVEExport.0004.mpg" descr=""/>
          <p:cNvPicPr/>
          <p:nvPr/>
        </p:nvPicPr>
        <p:blipFill>
          <a:blip r:embed="rId1"/>
          <a:stretch/>
        </p:blipFill>
        <p:spPr>
          <a:xfrm>
            <a:off x="1143000" y="1700280"/>
            <a:ext cx="6858000" cy="4471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51241" fill="hold"/>
                                        <p:tgtEl>
                                          <p:spTgt spid="2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2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57760" y="285840"/>
            <a:ext cx="492912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Япония. Август 1945 го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Хиросима и Нагаса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десь взорвались первые атомные бомбы, превратившиеся в огненный шар, который вобрал в себя город, а затем поднялся над ним невиданным  грибообразным облак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Фильм.wmv" descr=""/>
          <p:cNvPicPr/>
          <p:nvPr/>
        </p:nvPicPr>
        <p:blipFill>
          <a:blip r:embed="rId1"/>
          <a:stretch/>
        </p:blipFill>
        <p:spPr>
          <a:xfrm>
            <a:off x="0" y="2071800"/>
            <a:ext cx="3619440" cy="2714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28840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9" dur="1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826920" y="18864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5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Прав ли был Прометей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давший людям огонь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NVEExport.0007.mpg" descr=""/>
          <p:cNvPicPr/>
          <p:nvPr/>
        </p:nvPicPr>
        <p:blipFill>
          <a:blip r:embed="rId1"/>
          <a:stretch/>
        </p:blipFill>
        <p:spPr>
          <a:xfrm>
            <a:off x="1143000" y="1628640"/>
            <a:ext cx="6858000" cy="45435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65001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0" dur="1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США  1949 г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Роберт Оппенгеймер, «отец атомной бомбы», высказался против программы создания термоядерной бомбы и отказался принять участие в ней. Эта и другие причины послужили основой для привлечения его в 1953 году к суду и обвинению в шпионаже в пользу Москв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684360" y="2205000"/>
            <a:ext cx="253980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2590920" y="304920"/>
            <a:ext cx="617220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Vladimir Script"/>
              </a:rPr>
              <a:t>Никакая цель не высока настолько, чтобы оправдывала недостойные средства для её дости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Vladimir Script"/>
              </a:rPr>
              <a:t>	</a:t>
            </a:r>
            <a:r>
              <a:rPr b="1" i="1" lang="ru-RU" sz="3200" spc="-1" strike="noStrike">
                <a:solidFill>
                  <a:srgbClr val="ffffff"/>
                </a:solidFill>
                <a:latin typeface="Vladimir Script"/>
              </a:rPr>
              <a:t>	</a:t>
            </a:r>
            <a:r>
              <a:rPr b="1" i="1" lang="ru-RU" sz="3200" spc="-1" strike="noStrike">
                <a:solidFill>
                  <a:srgbClr val="ffffff"/>
                </a:solidFill>
                <a:latin typeface="Vladimir Script"/>
              </a:rPr>
              <a:t>Альберт Эйнштей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Предмет исследования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равственный облик учёного на фоне эпохи в литературе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X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. на примере повести Д. Гранина «Зубр» и роман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. Дудинцева «Белые одежды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Цели исследования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51920" y="1598400"/>
            <a:ext cx="749772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учить художественную литературу о судьбах учёных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X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смотреть влияние эпохи на наук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яснить, есть ли место нравственности и благородству в наук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WordArt 2"/>
          <p:cNvSpPr txBox="1"/>
          <p:nvPr/>
        </p:nvSpPr>
        <p:spPr>
          <a:xfrm rot="20746200">
            <a:off x="457200" y="5562360"/>
            <a:ext cx="4862520" cy="74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. Каверин "Открытая книга"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8" name="WordArt 3"/>
          <p:cNvSpPr txBox="1"/>
          <p:nvPr/>
        </p:nvSpPr>
        <p:spPr>
          <a:xfrm>
            <a:off x="5486400" y="5562720"/>
            <a:ext cx="365760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. Гранин "Зубр"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9" name="Picture 4" descr="Открытая книга"/>
          <p:cNvPicPr/>
          <p:nvPr/>
        </p:nvPicPr>
        <p:blipFill>
          <a:blip r:embed="rId5"/>
          <a:stretch/>
        </p:blipFill>
        <p:spPr>
          <a:xfrm rot="20831400">
            <a:off x="990720" y="3047760"/>
            <a:ext cx="2209680" cy="25905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Дудинцев"/>
          <p:cNvPicPr/>
          <p:nvPr/>
        </p:nvPicPr>
        <p:blipFill>
          <a:blip r:embed="rId6"/>
          <a:stretch/>
        </p:blipFill>
        <p:spPr>
          <a:xfrm rot="21139200">
            <a:off x="3352680" y="914400"/>
            <a:ext cx="2506680" cy="35053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Гранин"/>
          <p:cNvPicPr/>
          <p:nvPr/>
        </p:nvPicPr>
        <p:blipFill>
          <a:blip r:embed="rId7"/>
          <a:stretch/>
        </p:blipFill>
        <p:spPr>
          <a:xfrm>
            <a:off x="6095880" y="609480"/>
            <a:ext cx="2765520" cy="4535640"/>
          </a:xfrm>
          <a:prstGeom prst="rect">
            <a:avLst/>
          </a:prstGeom>
          <a:ln w="0">
            <a:noFill/>
          </a:ln>
        </p:spPr>
      </p:pic>
      <p:sp>
        <p:nvSpPr>
          <p:cNvPr id="222" name="WordArt 7"/>
          <p:cNvSpPr txBox="1"/>
          <p:nvPr/>
        </p:nvSpPr>
        <p:spPr>
          <a:xfrm rot="20641200">
            <a:off x="0" y="990360"/>
            <a:ext cx="3886200" cy="74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. Дудинцев 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Белые одежды"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42920" y="149976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ромете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один из титанов. Когда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Зевс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ишил людей огня и обрек их на вымирание,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рометей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ернул людям огонь, а вместе с ним и жизн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001.mpg" descr=""/>
          <p:cNvPicPr/>
          <p:nvPr/>
        </p:nvPicPr>
        <p:blipFill>
          <a:blip r:embed="rId1"/>
          <a:stretch/>
        </p:blipFill>
        <p:spPr>
          <a:xfrm>
            <a:off x="3276720" y="0"/>
            <a:ext cx="58672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Даниил Гранин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343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псевдоним; настоящая фамилия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Ге́рман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усский советский писатель. Член КПСС с 1942. Герой Социалистического Труда (1989). Почётный гражданин Санкт-Петербурга (2005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5" name="Picture 4" descr="granin"/>
          <p:cNvPicPr/>
          <p:nvPr/>
        </p:nvPicPr>
        <p:blipFill>
          <a:blip r:embed="rId1"/>
          <a:stretch/>
        </p:blipFill>
        <p:spPr>
          <a:xfrm>
            <a:off x="5029200" y="1447920"/>
            <a:ext cx="35812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Гранин2"/>
          <p:cNvPicPr/>
          <p:nvPr/>
        </p:nvPicPr>
        <p:blipFill>
          <a:blip r:embed="rId1"/>
          <a:stretch/>
        </p:blipFill>
        <p:spPr>
          <a:xfrm>
            <a:off x="1219320" y="2792520"/>
            <a:ext cx="6248160" cy="40654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1940 окончил Ленинградский политехнический институт, работал на Кировском заводе. Оттуда ушёл на фронт и воевал до конца войны в танковых войсках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380520" y="8377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чататься начал в 1949. Основная тема произведений Гранина — реализм и поэзия научно-технического творчества, борьба между ищущими, принципиальными учёными и людьми недаровитыми, карьеристами, бюрократами: романы «Искатели» (1954) и «Иду на грозу» (1962), «Зубр» (1987, о судьбе Н. В. Тимофеева-Ресовского), «Блокадная книга», ч.1-2 (1977—1981, вместе с А. М. Адамовичем). Награжден 3 орденами, а также медаля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Зубр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800600" y="1523880"/>
            <a:ext cx="315432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вою повесть «Зубр» Д. Гранин посвятил русскому учёному-биологу Н. В. Тимофееву-Ресовском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1" name="Picture 4" descr="zubr"/>
          <p:cNvPicPr/>
          <p:nvPr/>
        </p:nvPicPr>
        <p:blipFill>
          <a:blip r:embed="rId1"/>
          <a:stretch/>
        </p:blipFill>
        <p:spPr>
          <a:xfrm>
            <a:off x="762120" y="1447920"/>
            <a:ext cx="321948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zubr1"/>
          <p:cNvPicPr/>
          <p:nvPr/>
        </p:nvPicPr>
        <p:blipFill>
          <a:blip r:embed="rId1"/>
          <a:stretch/>
        </p:blipFill>
        <p:spPr>
          <a:xfrm>
            <a:off x="4952880" y="457200"/>
            <a:ext cx="2971800" cy="40384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" descr="Tr"/>
          <p:cNvPicPr/>
          <p:nvPr/>
        </p:nvPicPr>
        <p:blipFill>
          <a:blip r:embed="rId2"/>
          <a:stretch/>
        </p:blipFill>
        <p:spPr>
          <a:xfrm>
            <a:off x="1371600" y="457200"/>
            <a:ext cx="2749680" cy="403848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57200" y="3962520"/>
            <a:ext cx="7386480" cy="27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втор сравнивает своего героя с зубром, редким древним животным, подчёркивая исключительность учёного, его превосходство над окружающи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304560" y="761760"/>
            <a:ext cx="3429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повести Тимофеев-Ресовский показан не только как талантливый учёный, но и как человек с активной жизненной позицией и яркой судьбо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738648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Герой Д. Гранин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человек мужественный, благородный, бескорыстный и исключительно работоспособны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ладимир Дудинцев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Белые одежды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оман, посвящённый трагичной судьбе первых российских учёных-генетик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2057040" y="1295280"/>
            <a:ext cx="66294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Сии, облечённые в белые одежды, кто они и откуда пришли?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/«Откровения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оанна Богослова/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Древняя Грец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      </a:t>
            </a: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III</a:t>
            </a: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 век до нашей эр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и помощи жителей Сиракузы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Архимед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сжег римский флот Марцелла солнечными лучами, отраженными множеством зерка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7" descr="arhimed"/>
          <p:cNvPicPr/>
          <p:nvPr/>
        </p:nvPicPr>
        <p:blipFill>
          <a:blip r:embed="rId1"/>
          <a:stretch/>
        </p:blipFill>
        <p:spPr>
          <a:xfrm>
            <a:off x="785880" y="2071800"/>
            <a:ext cx="2286000" cy="3022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51920" y="990720"/>
            <a:ext cx="7386840" cy="175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ерои романа Дудинцева, учёные-генетики боролись за истинную науку в период 40-50-ых год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ни подвергались гонениям со стороны лжеучёных, сторонников Лысенко, поддерживающих идеологию сталинской вла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5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Прав ли был Прометей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давший людям огонь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214880" y="500040"/>
            <a:ext cx="4857840" cy="57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Италия. 1600 го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Рим. Площадь Цвет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костре инквизиции сожжен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Джордано Бруно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активный сторонник учения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Коперник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высказавший идею обитаемости других миров, единства законов природы, идею о бесконечности Вселенн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NVEExport.0008.mpg" descr=""/>
          <p:cNvPicPr/>
          <p:nvPr/>
        </p:nvPicPr>
        <p:blipFill>
          <a:blip r:embed="rId1"/>
          <a:stretch/>
        </p:blipFill>
        <p:spPr>
          <a:xfrm>
            <a:off x="0" y="1844640"/>
            <a:ext cx="3970440" cy="5013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70201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5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Прав ли был Прометей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давший людям огонь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        </a:t>
            </a: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Италия. 1633 го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суде инквизиции публично отрекается от своих космологических взглядов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Галилео Галилей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человек, от  которого берет начало физика как нау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6" descr="galileusz"/>
          <p:cNvPicPr/>
          <p:nvPr/>
        </p:nvPicPr>
        <p:blipFill>
          <a:blip r:embed="rId1"/>
          <a:stretch/>
        </p:blipFill>
        <p:spPr>
          <a:xfrm>
            <a:off x="900000" y="2205000"/>
            <a:ext cx="2336760" cy="3009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5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Прав ли был Прометей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давший людям огонь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Австрия. Ве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Конец </a:t>
            </a: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XIX </a:t>
            </a: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ве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зкие нападки физиков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деалистов, их нежелание признать работы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Людвига Больцман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орвали силы ученого и привели его к самоубийств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6" descr="i"/>
          <p:cNvPicPr/>
          <p:nvPr/>
        </p:nvPicPr>
        <p:blipFill>
          <a:blip r:embed="rId1"/>
          <a:stretch/>
        </p:blipFill>
        <p:spPr>
          <a:xfrm>
            <a:off x="826920" y="2133720"/>
            <a:ext cx="2279880" cy="3240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izika</cp:lastModifiedBy>
  <dcterms:modified xsi:type="dcterms:W3CDTF">2008-04-07T10:19:15Z</dcterms:modified>
  <cp:revision>27</cp:revision>
  <dc:subject/>
  <dc:title>Прав ли был Прометей, давший людям огонь?</dc:title>
</cp:coreProperties>
</file>