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678-3BAE-4FE1-B6FF-5D2838AD63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41A-A42F-4134-AA6D-B48532905B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919-D9FE-4A65-8F2A-F7EAE67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770-4886-4351-850B-DC993B4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771-241E-496D-87F8-02566D65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07C-2B09-42C5-9415-CBC0F58E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091-B430-4248-9378-E85F735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50AF-5FDF-405E-88F2-C58486E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269-E64E-4E1D-87B3-C393A3E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59D-E20E-4098-94E6-B192085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40A-C74C-4638-BCF6-08814FE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4C87-605C-4ED1-85D5-9F3207A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B8AF-C3B6-4162-80D2-DDB0315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7C9-8751-45A7-9281-3F1A8EE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E17-6FD8-4A40-904B-19A761E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71DC-14C0-4DB9-A0C6-0034213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64EE-61AE-4C1E-9B79-FAD53B7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4C69-A485-4172-8E4C-A525B4DC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8108-98E1-4C5B-8358-7650AD07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CCC-9BC7-4BD7-9BEF-41769E7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CD7-6473-4CF1-B0EC-8FB2204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0F0-661B-443F-A40D-3F39DB2E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EE4-03E1-4EB3-A0EF-BAF9333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28A-C66B-48B2-AD5B-455C752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44E-2382-4002-BE93-AA678965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C1F-0CB5-45A2-BFF6-5450B15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266-AEF6-4AFA-B70D-49F85AD598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4B2-64A7-4D0F-8948-B3BF4FD7FE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6624360" cy="32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«МЫ – ЗА БЕЗОПАСНОСТЬ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Georgia"/>
              </a:rPr>
              <a:t>НА ДОРОГЕ»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4365360"/>
            <a:ext cx="6912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ФОТОАЛЬБОМ-ПРЕЗЕНТАЦИЯ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МУНИЦИПАЛЬНОГО БЮДЖЕТНОГО ДОШКОЛЬНОГО ОБРАЗОВАТЕЛЬНОГО УЧРЕЖДЕНИЯ «ДЕТСКИЙ САД КОМПЕНСИРУЮЩЕГО ВИДА № 25»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. Снежинск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067280" y="26028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КЦИЯ «Сберегите мою жизнь!»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 ВРЕМЯ ПРОГУЛОК ДЕТИ ИМЕЮТ ВОЗМОЖНОСТЬ ОРГАНИЗОВЫВАТЬ ИГРЫ ПО ПРАВИЛАМ ДОРОЖНОГО ДВИ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 rot="21218400">
            <a:off x="649440" y="1943280"/>
            <a:ext cx="3701880" cy="28587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 rot="480000">
            <a:off x="4859280" y="1915920"/>
            <a:ext cx="3960720" cy="29653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27" name="Rectangle 8"/>
          <p:cNvSpPr/>
          <p:nvPr/>
        </p:nvSpPr>
        <p:spPr>
          <a:xfrm>
            <a:off x="826920" y="5157720"/>
            <a:ext cx="7129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ктические навыки безопасного поведения на улице  в роли пешехода закрепляются с детьми и во время экскурсий по ближайшим улицам, походов в цирк и на спектакли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8000" y="115560"/>
            <a:ext cx="885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закрепления, уточнения знаний о правилах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едения пешеходов и водителей в условиях улицы широко использу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ольно-печатные игры «Час пик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збука пешеход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ак избежать неприятностей?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вые модули «Парковк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Автостоянка», «Автозаправка»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Гараж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енные и напольные игровые панно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флоприбор по развитию навыков ориентировки в пространстве «Ориенти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3203280" cy="23050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970360" cy="2171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31" name="Oval 7"/>
          <p:cNvSpPr/>
          <p:nvPr/>
        </p:nvSpPr>
        <p:spPr>
          <a:xfrm>
            <a:off x="6227640" y="6093000"/>
            <a:ext cx="25210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7956720" y="5877000"/>
            <a:ext cx="10080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179280" y="5013360"/>
            <a:ext cx="1008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0" y="2060640"/>
            <a:ext cx="118728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5796000" y="1125360"/>
            <a:ext cx="3060720" cy="22831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313080" cy="23493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313080" cy="262260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ДЕТЕЙ СТАРШЕГО ДОШКОЛЬНОГО ВОЗРАСТА ПРОВОДИТСЯ ТРАДИЦИОННЫЙ ПОЗНАВАТЕЛЬНО-ИГРОВОЙ ДОСУГ СВЕТОФОРИК В ГОСТЯХ У РЕБЯ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2843280" y="4076640"/>
            <a:ext cx="3168720" cy="25732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ульминационный момент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езд в гости экипажа ДПС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625920" cy="27795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4657680" y="1762200"/>
            <a:ext cx="3632400" cy="29271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43" name="Oval 10"/>
          <p:cNvSpPr/>
          <p:nvPr/>
        </p:nvSpPr>
        <p:spPr>
          <a:xfrm>
            <a:off x="2484360" y="4724280"/>
            <a:ext cx="4140360" cy="1584360"/>
          </a:xfrm>
          <a:prstGeom prst="ellipse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После дружеского  знакомства  – 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беседа  о правилах поведения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на  улицах города,  знакомство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Franklin Gothic Medium"/>
              </a:rPr>
              <a:t>с устройством автомобиля ДПС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2">
            <a:lum contrast="18000"/>
          </a:blip>
          <a:stretch/>
        </p:blipFill>
        <p:spPr>
          <a:xfrm rot="21193200">
            <a:off x="1116000" y="2276640"/>
            <a:ext cx="2173320" cy="290988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324000" y="189000"/>
            <a:ext cx="8496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-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репить у детей знание правил дорожного движения помогает совместная работа педагогов детского сада с семьями воспитанников, которая включает оформление информационных стендов, памяток, ширм для род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40360" y="1915920"/>
            <a:ext cx="47527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МИ ФОРМАМИ СОТРУДНИЧЕСТВА ДЕТСКОГО САДА И СЕМЬИ ПО ПРЕДУПРЕЖДЕНИЮ ДЕТСКОГО ДОРОЖНО-ТРАНСПОРТНОГО ТРАВМАТИЗМА ЯВЛЯЮТСЯ СОВМЕСТНЫЕ ТВОРЧЕСКИЕ ПРОЕКТЫ И КОНКУРСЫ, ПРОВОДИМЫЕ КАК В МАСШТАБАХ ГОРОДА ТАК И ВНУТРИ МДО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549360"/>
            <a:ext cx="8447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СТАВКА КОНКУРСНЫХ РАБО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ГРУПП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427640" y="1773360"/>
            <a:ext cx="4386240" cy="44733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717480" y="2292480"/>
            <a:ext cx="3303720" cy="24382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50" name="Oval 6"/>
          <p:cNvSpPr/>
          <p:nvPr/>
        </p:nvSpPr>
        <p:spPr>
          <a:xfrm>
            <a:off x="395280" y="4941720"/>
            <a:ext cx="3598920" cy="865440"/>
          </a:xfrm>
          <a:prstGeom prst="ellipse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учший безопасный маршрут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302360" cy="318924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52" name="Text Box 6"/>
          <p:cNvSpPr/>
          <p:nvPr/>
        </p:nvSpPr>
        <p:spPr>
          <a:xfrm>
            <a:off x="250920" y="115920"/>
            <a:ext cx="87138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Коллектив детского сада уверен: только в тесном содружестве ДОУ, семьи и социума у детей можно выработать навыки  культурного поведения на улице и ту дисциплинированность, которая побуждает их подчиняться порядку.  Тогда и привычка правильно ходить по улице станет у детей нормой поведения!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55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ИТЕЛЬ: СТАРШИЙ ВОСПИТАТЕЛЬ Е.Р. ЮЖАНИНОВА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ЭТАПЕ ДОШКОЛЬНОГО ДЕТСТВА ОДНА ИЗ НАИБОЛЕЕ  ВАЖНЫХ ЗАДАЧ ДЛЯ РЕБЕНКА – НАУЧИТЬСЯ ПРАВИЛАМ ЖИЗНИ ВО ВЗРОСЛОМ МИРЕ – МИРЕ СПЕШАЩИХ ЛЮДЕЙ И МАШИ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048040" cy="16412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8000" y="1916280"/>
            <a:ext cx="520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очь ребенку войти в этот мир с максимальными приобретениями и минимальным риском – обязанность взрослы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нно на этапе дошкольного детства важно сформировать у детей модель безопасного поведения на дорогах, улице и в транспорте, позволяющую действовать адекватно конкретной реальной дорожной ситу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РМИРОВАНИЕ У ДЕТЕЙ НАВЫКОВ БЕЗОПАСНОГО ПОВЕДЕНИЯ НА ДОРОГАХ  В   МБДОУ «ЗОЛОТОЙ КЛЮЧИК» ОСУЩЕСТВЛЯЕТСЯ В СООТВЕТСТВИИ С РЕАЛИЗУЕМЫМИ  ОБРАЗОВАТЕЛЬНЫМИ ПРОГРАММАМИ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40000" y="2060640"/>
            <a:ext cx="680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Программа воспитания и обучения в детском саду» под ред. М.А. Васильевой, В.В. Гербовой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.С. Комаров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Программы специальных (коррекционных) образовательных учреждений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вида (для детей  с нарушением зрения)» под ред. Л.И. Плаксино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рский коллектив тифлопедагогов детского сада под руководством к. п. н.,  заведующей кафедрой СПП и ПМ ЧГПУ Л.А. Дружининой разработал  и успешно реализует методические рекомендации, включающие тематическое планирование, примерные конспекты занятий и игр по развитию социально-бытовой ориентировки  с детьми, имеющими нарушения зр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дним из разделов данного пособия является –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«Наблюдение и поведение детей на улиц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 rot="21098400">
            <a:off x="323640" y="2204640"/>
            <a:ext cx="218916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48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РЕАЛИЗАЦИИ СОДЕРЖАНИЯ ДАННОГО РАЗДЕЛА РАБОТЫ В ДЕТСКОМ САДУ СОЗДАНЫ ВСЕ НЕОБХОДИМЫЕ УСЛОВИЯ: СОБРАН РАЗНООБРАЗНЫЙ МЕТОДИЧЕСКИЙ И  ДИДАКТИЧЕСКИЙ МАТЕРИАЛ, ДЕТСКАЯ ХУДОЖЕСТВЕННАЯ ЛИТЕРАТУРА, ПЛАКАТЫ, СЮЖЕТНЫЕ КАРТИНЫ, НАБОРЫ ДОРОЖНЫХ ЗНАКОВ, РАМКИ-ВКЛАДЫШИ «ТРАНСПОРТ НА УЛИЦАХ ГОРОДА», АТРИБУТЫ ДЛЯ СЮЖЕТНО-РОЛЕВЫХ ИГР «ПУТЕШЕСТВИЕ ПО ГОРОДУ», «УЛИЦА» И ДР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ДАГОГАМИ ДЕТСКОГО САДА РАЗРАБОТАНЫ АВТОРСКИЕ ПОСОБИЯ ДЛЯ ОБУЧЕНИЯ ДЕТЕЙ ПРАВИЛАМ ДОРОЖНОГО ДВИЖЕНИЯ, СЮЖЕТНЫЕ ИГРУШКИ, ПОМОГАЮЩИЕ ДЕТЯМ ЗАПОМНИТЬ ПРАВИЛА БЕЗОПАСНОГО И КУЛЬТУРНОГО ПОВЕДЕНИЯ НА УЛИЦАХ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1871640" cy="2198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184560" y="3130560"/>
            <a:ext cx="1890720" cy="18111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3" name="Picture 7" descr=""/>
          <p:cNvPicPr/>
          <p:nvPr/>
        </p:nvPicPr>
        <p:blipFill>
          <a:blip r:embed="rId4"/>
          <a:stretch/>
        </p:blipFill>
        <p:spPr>
          <a:xfrm>
            <a:off x="7020000" y="2708280"/>
            <a:ext cx="1846080" cy="217152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5651640" y="4303800"/>
            <a:ext cx="1841400" cy="214956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05" name="Rectangle 4"/>
          <p:cNvSpPr/>
          <p:nvPr/>
        </p:nvSpPr>
        <p:spPr>
          <a:xfrm>
            <a:off x="468360" y="5373720"/>
            <a:ext cx="497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Умный Жирафик и его друг Бычок, который часто нарушает правила дорожного движения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80000"/>
              </a:lnSpc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Колобок-светофор и Незнайка-постовой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8159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ХОДИТ НА ЗАНЯТИЯ К ДЕТЯМ И СИМВОЛ НАШЕГО ГОРОДА, ЛЮБИМЕЦ ДЕТВОРЫ – СНЕЖ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>
            <a:lum contrast="20000"/>
          </a:blip>
          <a:stretch/>
        </p:blipFill>
        <p:spPr>
          <a:xfrm rot="20900400">
            <a:off x="539640" y="2205000"/>
            <a:ext cx="2764080" cy="356076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1640" y="1916280"/>
            <a:ext cx="374508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Хороший друг наш – Снеж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ешит к нам в детский са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селый он , задорны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му здесь каждый ра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учит всех ребят он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к в детский сад ходить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нарушая прави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дорогою дружить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Краснова 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ФОРМИРОВАНИЯ НАВЫКОВ ОРИЕНТИРОВКИ В БОЛЬШОМ И МАЛОМ ПРОСТРАНСТВЕ  В ГРУППАХ ИМЕЮТСЯ МАКЕТЫ ДЕТСКОГО САДА, АДМИНИСТРАТИВНЫХ И ЖИЛЫХ ЗДАНИЙ, ТРАНСПОРТА, УЛИЦ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>
            <a:lum contrast="20000"/>
          </a:blip>
          <a:stretch/>
        </p:blipFill>
        <p:spPr>
          <a:xfrm rot="20965200">
            <a:off x="684000" y="2781000"/>
            <a:ext cx="2873160" cy="231624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1" name="Picture 6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16360" y="3141720"/>
            <a:ext cx="3456000" cy="28591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12" name="Text Box 9"/>
          <p:cNvSpPr/>
          <p:nvPr/>
        </p:nvSpPr>
        <p:spPr>
          <a:xfrm>
            <a:off x="3924360" y="1700280"/>
            <a:ext cx="439092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кеты, выполненные руками детей и родителей «Дом, в котором я живу»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ВСЕХ ГРУППАХ ОФОРМЛЕНЫ ТЕМАТИЧЕСКИЕ ЦЕНТРЫ «ДОРОЖНАЯ АЗБУКА»,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ДЕРЖАНИЕ КОТОРЫХ ПО ГОДАМ ОБУЧЕНИЯ УСЛОЖНЯ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3151080" cy="21031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5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11280" y="4149720"/>
            <a:ext cx="3456000" cy="22525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pic>
        <p:nvPicPr>
          <p:cNvPr id="116" name="Picture 12" descr=""/>
          <p:cNvPicPr/>
          <p:nvPr/>
        </p:nvPicPr>
        <p:blipFill>
          <a:blip r:embed="rId4"/>
          <a:stretch/>
        </p:blipFill>
        <p:spPr>
          <a:xfrm>
            <a:off x="4716360" y="1844640"/>
            <a:ext cx="4027680" cy="446400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17" name="Text Box 15"/>
          <p:cNvSpPr/>
          <p:nvPr/>
        </p:nvSpPr>
        <p:spPr>
          <a:xfrm>
            <a:off x="5600880" y="3691080"/>
            <a:ext cx="23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ОРОЖНАЯ АЗБУКА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СПИТАНИЕ У ДОШКОЛЬНИКОВ БЕЗОПАСНОГО ПОВЕДЕНИЯ НА ДОРОГАХ ОСУЩЕСТВЛЯЕТСЯ ПЕДАГОГАМИ «ЗОЛОТОГО КЛЮЧИКА» НЕСКОЛЬКИМИ ПУТЯМИ: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непосредственное восприятие окружающего мира, в процессе которого дети активно знакомятся с различными дорожными ситуациями, воспринимая и называя предметы, явления, действия людей, их взаимоотношения между собой, анализируя эти отношения и делая выводы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познание действительности посредством бесед,  чтения художественной литературы, просмотров   видеофильмов, подвижных игр, с помощью различных иллюстраций, атрибутов и личного примера  взрослы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ерез специально организованную образовательную деятельность по формированию у детей значимых для безопасного поведения двигательных навыков и установок восприят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 rot="21435000">
            <a:off x="572760" y="1888920"/>
            <a:ext cx="3527280" cy="2679480"/>
          </a:xfrm>
          <a:prstGeom prst="rect">
            <a:avLst/>
          </a:prstGeom>
          <a:ln w="9360">
            <a:solidFill>
              <a:srgbClr val="a3b2c1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ФЛОПЕДАГОГИ ИСПОЛЬЗУЮТ В РАБОТЕ ОБУЧАЮЩИЕ ИГРЫ С ИСПОЛЬЗОВАНИЕМ ЭЛЕКТРОННЫХ ОБРАЗОВАТЕЛЬНЫХ РЕСУРСОВ,  ИГР-ПРЕЗЕНТАЦИЙ «ПЕРЕКРЕСТОК», «СИГНАЛЫ СВЕТОФОРА», «ДОРОЖНЫЕ ЗНАК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!IMG_1963"/>
          <p:cNvPicPr/>
          <p:nvPr/>
        </p:nvPicPr>
        <p:blipFill>
          <a:blip r:embed="rId3"/>
          <a:stretch/>
        </p:blipFill>
        <p:spPr>
          <a:xfrm rot="255000">
            <a:off x="5021280" y="2184480"/>
            <a:ext cx="3427560" cy="2549520"/>
          </a:xfrm>
          <a:prstGeom prst="rect">
            <a:avLst/>
          </a:prstGeom>
          <a:ln w="50760">
            <a:solidFill>
              <a:srgbClr val="a3b2c1"/>
            </a:solidFill>
            <a:miter/>
          </a:ln>
        </p:spPr>
      </p:pic>
      <p:sp>
        <p:nvSpPr>
          <p:cNvPr id="123" name="Rectangle 2"/>
          <p:cNvSpPr/>
          <p:nvPr/>
        </p:nvSpPr>
        <p:spPr>
          <a:xfrm>
            <a:off x="684360" y="4941720"/>
            <a:ext cx="8135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Проводят интегрированные занятия по темам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«Городской транспорт», «Едет, летит, плывет», «Светофор Светофорович в гостях у ребят», где дети знакомятся с видами транспорта, правилами поведения в общественном транспорте и т.д.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0:09:31Z</dcterms:created>
  <dc:creator>Сашенька</dc:creator>
  <dc:description/>
  <cp:keywords/>
  <dc:language>en-US</dc:language>
  <cp:lastModifiedBy>Методист</cp:lastModifiedBy>
  <dcterms:modified xsi:type="dcterms:W3CDTF">2011-12-06T11:37:39Z</dcterms:modified>
  <cp:revision>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49</vt:lpwstr>
  </property>
</Properties>
</file>