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511-8E89-41D7-9DDC-B22F3691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57E-F316-4ADA-BB42-4DF68959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908-DE8D-4B4F-80DF-B123E9C7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516-43E9-472B-A8DC-8D9E3258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828-2A58-4803-A5DD-42B01B4D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0DD3-778C-4CB8-9B9C-F9017B2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2D2-38BD-4675-9A5B-BBD828DB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CEB-E96E-4804-B251-F922A9DE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F250-6F47-4D65-9AD8-0C8B049A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6215-201D-4BB0-9492-98F37F3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5BD9-1333-4DBE-8832-5B9213D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FD3-29DD-4732-9BB1-3C5D3DC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955-9DC1-4383-B314-B01DEB8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659E-FBED-4B09-8FF2-F81987C5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63C1-4B89-4D2A-856F-8E96E447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148-61D9-42CF-8AE8-DFFCAF22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4334-F50C-4EED-A6CB-CCE9C98A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6C9-7068-4282-BFF9-CEA09551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1FC-1704-43FA-887A-DBE49055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674-6CD7-40C2-BCD2-1110F374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D56-CB5E-4EDF-92FF-A8BCACC5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C7D-2328-4057-8CC5-054BB0E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E3E-4938-4A03-80F6-1F206DA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C1F-CFBE-42A0-B17F-BAEE782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2613-0839-4F41-8C4F-0DE59B2433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EE8B-6014-4772-B6CB-A4C4E5613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K.xml"/><Relationship Id="rId3" Type="http://schemas.openxmlformats.org/officeDocument/2006/relationships/slide" Target="slide&#1087;&#1083;&#1086;&#1089;&#1082;&#1086;&#1089;&#1090;&#1100;...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8.xml"/><Relationship Id="rId3" Type="http://schemas.openxmlformats.org/officeDocument/2006/relationships/slide" Target="slide9.xml"/><Relationship Id="rId4" Type="http://schemas.openxmlformats.org/officeDocument/2006/relationships/slide" Target="slide22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43196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одержание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Актуализ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Изучение нового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Закреп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Разноуровневая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 проверочная самостоятельная работа  с разбором реш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16000" y="3357720"/>
            <a:ext cx="57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50920" y="4941720"/>
            <a:ext cx="3168720" cy="50328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4000" y="5084640"/>
            <a:ext cx="251928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8000" y="4221000"/>
            <a:ext cx="2808360" cy="11527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419280" y="5445000"/>
            <a:ext cx="1223640" cy="2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76720" y="3357720"/>
            <a:ext cx="2016000" cy="86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38960" y="364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8160" y="42926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716000" y="3357720"/>
            <a:ext cx="57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50920" y="4941720"/>
            <a:ext cx="3168720" cy="50328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24000" y="5084640"/>
            <a:ext cx="251928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68000" y="4221000"/>
            <a:ext cx="2808360" cy="11527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4149720"/>
            <a:ext cx="7164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419280" y="5445000"/>
            <a:ext cx="1223640" cy="2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76720" y="3357720"/>
            <a:ext cx="2016000" cy="86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8960" y="364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8160" y="42926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3357720"/>
            <a:ext cx="1935360" cy="2325600"/>
          </a:xfrm>
          <a:custGeom>
            <a:avLst/>
            <a:gdLst/>
            <a:ahLst/>
            <a:rect l="l" t="t" r="r" b="b"/>
            <a:pathLst>
              <a:path w="1219" h="1465">
                <a:moveTo>
                  <a:pt x="42" y="1313"/>
                </a:moveTo>
                <a:lnTo>
                  <a:pt x="838" y="1465"/>
                </a:lnTo>
                <a:lnTo>
                  <a:pt x="1219" y="0"/>
                </a:lnTo>
                <a:lnTo>
                  <a:pt x="0" y="525"/>
                </a:lnTo>
                <a:lnTo>
                  <a:pt x="42" y="131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94720" y="414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3000" y="328464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35640" y="3716280"/>
            <a:ext cx="14436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4149720"/>
            <a:ext cx="14436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76040" y="34290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11280" y="3789360"/>
            <a:ext cx="1297080" cy="431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63640" y="3789000"/>
            <a:ext cx="647640" cy="431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63640" y="3789360"/>
            <a:ext cx="1871640" cy="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92360" y="3716280"/>
            <a:ext cx="14472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51280" y="220500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те периметр сечения, ес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, N, 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середины ребер и каждое ребро тетраэдра равно 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549600" y="3792600"/>
            <a:ext cx="1924200" cy="442800"/>
          </a:xfrm>
          <a:custGeom>
            <a:avLst/>
            <a:gdLst/>
            <a:ahLst/>
            <a:rect l="l" t="t" r="r" b="b"/>
            <a:pathLst>
              <a:path w="1212" h="279">
                <a:moveTo>
                  <a:pt x="0" y="0"/>
                </a:moveTo>
                <a:lnTo>
                  <a:pt x="415" y="279"/>
                </a:lnTo>
                <a:lnTo>
                  <a:pt x="1212" y="8"/>
                </a:lnTo>
                <a:lnTo>
                  <a:pt x="0" y="0"/>
                </a:lnTo>
                <a:close/>
              </a:path>
            </a:pathLst>
          </a:custGeom>
          <a:solidFill>
            <a:srgbClr val="009900">
              <a:alpha val="50000"/>
            </a:srgbClr>
          </a:solidFill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13200" y="58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3360" y="5373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148360" y="5373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4960" y="3789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13200" y="58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93360" y="5373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488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203640" y="5300280"/>
            <a:ext cx="2016000" cy="14436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03640" y="4220640"/>
            <a:ext cx="144360" cy="1079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276720" y="3573360"/>
            <a:ext cx="2087280" cy="64764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3564000"/>
            <a:ext cx="2151000" cy="1868400"/>
          </a:xfrm>
          <a:custGeom>
            <a:avLst/>
            <a:gdLst/>
            <a:ahLst/>
            <a:rect l="l" t="t" r="r" b="b"/>
            <a:pathLst>
              <a:path w="1355" h="1177">
                <a:moveTo>
                  <a:pt x="1355" y="0"/>
                </a:moveTo>
                <a:lnTo>
                  <a:pt x="85" y="398"/>
                </a:lnTo>
                <a:lnTo>
                  <a:pt x="0" y="1092"/>
                </a:lnTo>
                <a:lnTo>
                  <a:pt x="1279" y="1177"/>
                </a:lnTo>
                <a:lnTo>
                  <a:pt x="1355" y="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19640" y="3573000"/>
            <a:ext cx="144360" cy="1871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5373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78920" y="5013360"/>
            <a:ext cx="3024360" cy="287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5280" y="4221000"/>
            <a:ext cx="2881440" cy="9367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5084640"/>
            <a:ext cx="244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5229360"/>
            <a:ext cx="14472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4960" y="3789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920" y="436572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90240" y="5877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080" y="5157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3995640" y="537372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501336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15320" y="44370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0240" y="5877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14080" y="5157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652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708360" y="5084640"/>
            <a:ext cx="0" cy="1152720"/>
          </a:xfrm>
          <a:prstGeom prst="line">
            <a:avLst/>
          </a:prstGeom>
          <a:ln w="2844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08360" y="3573360"/>
            <a:ext cx="1655640" cy="237672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708000" y="3573360"/>
            <a:ext cx="1655640" cy="1511280"/>
          </a:xfrm>
          <a:prstGeom prst="line">
            <a:avLst/>
          </a:prstGeom>
          <a:ln w="2844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3697200" y="3549600"/>
            <a:ext cx="1668600" cy="2165400"/>
          </a:xfrm>
          <a:custGeom>
            <a:avLst/>
            <a:gdLst/>
            <a:ahLst/>
            <a:rect l="l" t="t" r="r" b="b"/>
            <a:pathLst>
              <a:path w="1051" h="1364">
                <a:moveTo>
                  <a:pt x="1051" y="0"/>
                </a:moveTo>
                <a:lnTo>
                  <a:pt x="0" y="974"/>
                </a:lnTo>
                <a:lnTo>
                  <a:pt x="9" y="1364"/>
                </a:lnTo>
                <a:lnTo>
                  <a:pt x="212" y="1212"/>
                </a:lnTo>
                <a:lnTo>
                  <a:pt x="1051" y="0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987640" y="5877000"/>
            <a:ext cx="1008000" cy="36036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537372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708360" y="5516640"/>
            <a:ext cx="287280" cy="2174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558972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501336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15320" y="44370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98640" y="59500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5877000"/>
            <a:ext cx="14472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00"/>
                </a:solidFill>
                <a:latin typeface="Tahoma"/>
              </a:rPr>
              <a:t>Вариант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ff"/>
                </a:solidFill>
                <a:latin typeface="Tahoma"/>
              </a:rPr>
              <a:t>Вариант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ahoma"/>
              </a:rPr>
              <a:t>Вариант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3780000" y="1484280"/>
            <a:ext cx="1368360" cy="432000"/>
          </a:xfrm>
          <a:prstGeom prst="wedgeRoundRectCallout">
            <a:avLst>
              <a:gd name="adj1" fmla="val -50925"/>
              <a:gd name="adj2" fmla="val 147060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35640" y="1628640"/>
            <a:ext cx="1368360" cy="432000"/>
          </a:xfrm>
          <a:prstGeom prst="wedgeRoundRectCallout">
            <a:avLst>
              <a:gd name="adj1" fmla="val -170300"/>
              <a:gd name="adj2" fmla="val 111763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51280" y="2997360"/>
            <a:ext cx="1441440" cy="360360"/>
          </a:xfrm>
          <a:prstGeom prst="wedgeRoundRectCallout">
            <a:avLst>
              <a:gd name="adj1" fmla="val -56717"/>
              <a:gd name="adj2" fmla="val 13590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59280" y="3141720"/>
            <a:ext cx="1549440" cy="358560"/>
          </a:xfrm>
          <a:prstGeom prst="wedgeRoundRectCallout">
            <a:avLst>
              <a:gd name="adj1" fmla="val -177152"/>
              <a:gd name="adj2" fmla="val 10176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51280" y="4076640"/>
            <a:ext cx="1441440" cy="360360"/>
          </a:xfrm>
          <a:prstGeom prst="wedgeRoundRectCallout">
            <a:avLst>
              <a:gd name="adj1" fmla="val -56717"/>
              <a:gd name="adj2" fmla="val 13590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59280" y="4221000"/>
            <a:ext cx="1549440" cy="358920"/>
          </a:xfrm>
          <a:prstGeom prst="wedgeRoundRectCallout">
            <a:avLst>
              <a:gd name="adj1" fmla="val -177152"/>
              <a:gd name="adj2" fmla="val 10176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5070600" y="508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92840" y="40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364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435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308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35640" y="364500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14960" y="37162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360" y="213840"/>
            <a:ext cx="44640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5070600" y="508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792840" y="40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383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35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35640" y="364500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30960" y="3141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92720" y="3573360"/>
            <a:ext cx="180036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580000" y="4653000"/>
            <a:ext cx="1513080" cy="504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3573360"/>
            <a:ext cx="21600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24400" y="3564000"/>
            <a:ext cx="1828800" cy="1639800"/>
          </a:xfrm>
          <a:custGeom>
            <a:avLst/>
            <a:gdLst/>
            <a:ahLst/>
            <a:rect l="l" t="t" r="r" b="b"/>
            <a:pathLst>
              <a:path w="1152" h="1033">
                <a:moveTo>
                  <a:pt x="0" y="0"/>
                </a:moveTo>
                <a:lnTo>
                  <a:pt x="119" y="1033"/>
                </a:lnTo>
                <a:lnTo>
                  <a:pt x="1152" y="677"/>
                </a:lnTo>
                <a:lnTo>
                  <a:pt x="0" y="0"/>
                </a:lnTo>
                <a:close/>
              </a:path>
            </a:pathLst>
          </a:custGeom>
          <a:solidFill>
            <a:srgbClr val="ff3399">
              <a:alpha val="50000"/>
            </a:srgbClr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36B-D729-46C3-92EE-0FF560091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228600" y="3048120"/>
            <a:ext cx="4191120" cy="1447560"/>
          </a:xfrm>
          <a:prstGeom prst="parallelogram">
            <a:avLst>
              <a:gd name="adj" fmla="val 72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А</a:t>
            </a:r>
            <a:r>
              <a:rPr b="0" lang="en-US" sz="4400" spc="-1" strike="noStrike" baseline="-25000">
                <a:solidFill>
                  <a:srgbClr val="ff5050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Через любые три точки, не лежащие на одной прямой, проходит одна и только одна плоскос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16765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7432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29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7302600" y="2708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05560" y="51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716360" y="1125360"/>
            <a:ext cx="3884400" cy="4829760"/>
            <a:chOff x="4716360" y="1125360"/>
            <a:chExt cx="3884400" cy="4829760"/>
          </a:xfrm>
        </p:grpSpPr>
        <p:sp>
          <p:nvSpPr>
            <p:cNvPr id="406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427640" y="4292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64360" y="299736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43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38600" y="3573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32360" y="4076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H="1" flipV="1">
            <a:off x="5003280" y="4868640"/>
            <a:ext cx="1513080" cy="36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516720" y="3141720"/>
            <a:ext cx="71928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35280" y="213840"/>
            <a:ext cx="39607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29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7302600" y="2708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05560" y="51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716360" y="1125360"/>
            <a:ext cx="3884400" cy="4829760"/>
            <a:chOff x="4716360" y="1125360"/>
            <a:chExt cx="3884400" cy="4829760"/>
          </a:xfrm>
        </p:grpSpPr>
        <p:sp>
          <p:nvSpPr>
            <p:cNvPr id="427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4427640" y="4292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64360" y="299736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43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38600" y="3573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32360" y="4076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076360" y="3141720"/>
            <a:ext cx="208764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419640" y="4149720"/>
            <a:ext cx="1512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492360" y="4653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3850920" y="4653000"/>
            <a:ext cx="1152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03640" y="4221000"/>
            <a:ext cx="7308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78000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03640" y="479736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3106800"/>
            <a:ext cx="2192400" cy="2097000"/>
          </a:xfrm>
          <a:custGeom>
            <a:avLst/>
            <a:gdLst/>
            <a:ahLst/>
            <a:rect l="l" t="t" r="r" b="b"/>
            <a:pathLst>
              <a:path w="1381" h="1321">
                <a:moveTo>
                  <a:pt x="1381" y="0"/>
                </a:moveTo>
                <a:lnTo>
                  <a:pt x="0" y="627"/>
                </a:lnTo>
                <a:lnTo>
                  <a:pt x="42" y="1126"/>
                </a:lnTo>
                <a:lnTo>
                  <a:pt x="915" y="1321"/>
                </a:lnTo>
                <a:lnTo>
                  <a:pt x="1381" y="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и С; В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D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6870960" y="184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9920" y="328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454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08720" y="3068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27640" y="342900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4368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 flipH="1">
            <a:off x="6084720" y="2421000"/>
            <a:ext cx="719280" cy="151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8000" y="213840"/>
            <a:ext cx="41767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и С; В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D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6870960" y="184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89920" y="328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474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08720" y="3068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342900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4368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651280" y="2349360"/>
            <a:ext cx="108108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80000" y="3213000"/>
            <a:ext cx="50472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82692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12000" y="3789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3000" y="2313000"/>
            <a:ext cx="1278000" cy="1600200"/>
          </a:xfrm>
          <a:custGeom>
            <a:avLst/>
            <a:gdLst/>
            <a:ahLst/>
            <a:rect l="l" t="t" r="r" b="b"/>
            <a:pathLst>
              <a:path w="805" h="1008">
                <a:moveTo>
                  <a:pt x="805" y="0"/>
                </a:moveTo>
                <a:lnTo>
                  <a:pt x="0" y="517"/>
                </a:lnTo>
                <a:lnTo>
                  <a:pt x="322" y="1008"/>
                </a:lnTo>
                <a:lnTo>
                  <a:pt x="805" y="0"/>
                </a:lnTo>
                <a:close/>
              </a:path>
            </a:pathLst>
          </a:custGeom>
          <a:solidFill>
            <a:srgbClr val="ffcf01">
              <a:alpha val="50000"/>
            </a:srgbClr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57880" y="220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00840" y="3933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498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651640" y="27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40360" y="4365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75680" y="4076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59636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012000" y="4508640"/>
            <a:ext cx="36036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4360" y="2924280"/>
            <a:ext cx="287640" cy="151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4653000"/>
            <a:ext cx="266400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227280" y="4941720"/>
            <a:ext cx="1079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308360" y="4653000"/>
            <a:ext cx="358920" cy="288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12000" y="4437000"/>
            <a:ext cx="12967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24360" y="2852640"/>
            <a:ext cx="1943280" cy="180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47527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5357880" y="220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00840" y="3933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8360" y="5373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185360" y="1125360"/>
            <a:ext cx="4415400" cy="4319640"/>
            <a:chOff x="4185360" y="1125360"/>
            <a:chExt cx="4415400" cy="4319640"/>
          </a:xfrm>
        </p:grpSpPr>
        <p:sp>
          <p:nvSpPr>
            <p:cNvPr id="525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651640" y="27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940360" y="4365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75680" y="4076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56360" y="5589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36000" y="486900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42000" y="2863800"/>
            <a:ext cx="1895400" cy="2071800"/>
          </a:xfrm>
          <a:custGeom>
            <a:avLst/>
            <a:gdLst/>
            <a:ahLst/>
            <a:rect l="l" t="t" r="r" b="b"/>
            <a:pathLst>
              <a:path w="1194" h="1305">
                <a:moveTo>
                  <a:pt x="0" y="0"/>
                </a:moveTo>
                <a:lnTo>
                  <a:pt x="186" y="991"/>
                </a:lnTo>
                <a:lnTo>
                  <a:pt x="991" y="1305"/>
                </a:lnTo>
                <a:lnTo>
                  <a:pt x="1194" y="1127"/>
                </a:lnTo>
                <a:lnTo>
                  <a:pt x="0" y="0"/>
                </a:lnTo>
                <a:close/>
              </a:path>
            </a:pathLst>
          </a:custGeom>
          <a:solidFill>
            <a:srgbClr val="00e4a8">
              <a:alpha val="50000"/>
            </a:srgbClr>
          </a:solidFill>
          <a:ln w="1260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4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 и С; С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4421160" y="37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729560" y="33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546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859280" y="4149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596360" y="371628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51640" y="3284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19680" y="3141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 flipV="1">
            <a:off x="4932360" y="3789000"/>
            <a:ext cx="2735280" cy="431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932360" y="2781360"/>
            <a:ext cx="129528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27640" y="2781360"/>
            <a:ext cx="1440000" cy="100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35280" y="214200"/>
            <a:ext cx="4176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 и С; С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4421160" y="37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729560" y="33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568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859280" y="4149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96360" y="371628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651640" y="3284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19680" y="3141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56360" y="270828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35600" y="2770200"/>
            <a:ext cx="2728800" cy="1452600"/>
          </a:xfrm>
          <a:custGeom>
            <a:avLst/>
            <a:gdLst/>
            <a:ahLst/>
            <a:rect l="l" t="t" r="r" b="b"/>
            <a:pathLst>
              <a:path w="1719" h="915">
                <a:moveTo>
                  <a:pt x="830" y="0"/>
                </a:moveTo>
                <a:lnTo>
                  <a:pt x="0" y="915"/>
                </a:lnTo>
                <a:lnTo>
                  <a:pt x="1719" y="644"/>
                </a:lnTo>
                <a:lnTo>
                  <a:pt x="830" y="0"/>
                </a:lnTo>
                <a:close/>
              </a:path>
            </a:pathLst>
          </a:custGeom>
          <a:solidFill>
            <a:srgbClr val="cc00cc">
              <a:alpha val="50000"/>
            </a:srgbClr>
          </a:solidFill>
          <a:ln w="126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6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6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6870960" y="19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7320" y="4653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589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4869000"/>
            <a:ext cx="14472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92840" y="40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03640" y="458136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5435640" y="4941720"/>
            <a:ext cx="50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6720" y="2349360"/>
            <a:ext cx="1727280" cy="230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5076360" y="4653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003640" y="5444640"/>
            <a:ext cx="86364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5435280" y="5157360"/>
            <a:ext cx="576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435640" y="4941720"/>
            <a:ext cx="504720" cy="11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940000" y="2349360"/>
            <a:ext cx="863640" cy="25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08000" y="214200"/>
            <a:ext cx="3888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6870960" y="19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07320" y="4653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23440" y="5300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185360" y="1125360"/>
            <a:ext cx="4415400" cy="4319640"/>
            <a:chOff x="4185360" y="1125360"/>
            <a:chExt cx="4415400" cy="4319640"/>
          </a:xfrm>
        </p:grpSpPr>
        <p:sp>
          <p:nvSpPr>
            <p:cNvPr id="616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4869000"/>
            <a:ext cx="14472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48480" y="4076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03640" y="458136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51640" y="544500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64000" y="508464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10200" y="2340000"/>
            <a:ext cx="1708200" cy="2797200"/>
          </a:xfrm>
          <a:custGeom>
            <a:avLst/>
            <a:gdLst/>
            <a:ahLst/>
            <a:rect l="l" t="t" r="r" b="b"/>
            <a:pathLst>
              <a:path w="1076" h="1762">
                <a:moveTo>
                  <a:pt x="1076" y="0"/>
                </a:moveTo>
                <a:lnTo>
                  <a:pt x="0" y="1448"/>
                </a:lnTo>
                <a:lnTo>
                  <a:pt x="212" y="1762"/>
                </a:lnTo>
                <a:lnTo>
                  <a:pt x="517" y="1635"/>
                </a:lnTo>
                <a:lnTo>
                  <a:pt x="1076" y="0"/>
                </a:lnTo>
                <a:close/>
              </a:path>
            </a:pathLst>
          </a:custGeom>
          <a:solidFill>
            <a:srgbClr val="ffcf01">
              <a:alpha val="50000"/>
            </a:srgbClr>
          </a:solidFill>
          <a:ln w="1260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6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6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6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5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6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6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5480-17BD-4280-A422-D0B6A71F2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0" y="2743200"/>
            <a:ext cx="4876920" cy="2286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А</a:t>
            </a:r>
            <a:r>
              <a:rPr b="0" lang="en-US" sz="4400" spc="-1" strike="noStrike" baseline="-25000">
                <a:solidFill>
                  <a:srgbClr val="ff505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15238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28954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838080" y="3276720"/>
            <a:ext cx="26672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029200" y="2362320"/>
            <a:ext cx="36576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две точки прямой лежат в плоскости, то и вся прямая лежит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Творческое домашнее задание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оставить 2-3 задачи на построение сечений многогран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ыполнить решения в форме презентации или в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WORDE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ритерии оценки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e2a00"/>
                </a:solidFill>
                <a:latin typeface="Tahoma"/>
              </a:rPr>
              <a:t>Слож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e2a00"/>
                </a:solidFill>
                <a:latin typeface="Tahoma"/>
              </a:rPr>
              <a:t>Правильность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e2a00"/>
                </a:solidFill>
                <a:latin typeface="Tahoma"/>
              </a:rPr>
              <a:t>Дизай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2a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de2a00"/>
                </a:solidFill>
                <a:latin typeface="Tahoma"/>
              </a:rPr>
              <a:t>Подведение                            итогов работы на урок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2a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Критерии самооценки</a:t>
            </a: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«5» - 15 баллов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Устная работа  1-2 балла                      «4» - 10-14 балл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Решение задач 3-4бал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Сам. работа  3</a:t>
            </a:r>
            <a:r>
              <a:rPr b="1" i="1" lang="en-US" sz="2000" spc="-1" strike="noStrike">
                <a:solidFill>
                  <a:srgbClr val="0000ff"/>
                </a:solidFill>
                <a:latin typeface="Tahoma"/>
              </a:rPr>
              <a:t>; </a:t>
            </a: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В чём я вижу результат своей работы</a:t>
            </a: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Что мне помогло достичь результата</a:t>
            </a: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2a00"/>
                </a:solidFill>
                <a:latin typeface="Tahoma"/>
              </a:rPr>
              <a:t>Китайская послов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e2a00"/>
                </a:solidFill>
                <a:latin typeface="Tahoma"/>
              </a:rPr>
              <a:t>    </a:t>
            </a:r>
            <a:r>
              <a:rPr b="1" i="1" lang="en-US" sz="4400" spc="-1" strike="noStrike">
                <a:solidFill>
                  <a:srgbClr val="de2a00"/>
                </a:solidFill>
                <a:latin typeface="Tahoma"/>
              </a:rPr>
              <a:t>Не бойся, что не знаешь -  бойся, что не учишься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588-D57C-4DC9-8076-D8EC9D10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А</a:t>
            </a:r>
            <a:r>
              <a:rPr b="0" lang="en-US" sz="4400" spc="-1" strike="noStrike" baseline="-25000">
                <a:solidFill>
                  <a:srgbClr val="ff505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380880" y="3352680"/>
            <a:ext cx="3962520" cy="946440"/>
          </a:xfrm>
          <a:prstGeom prst="parallelogram">
            <a:avLst>
              <a:gd name="adj" fmla="val 1046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H="1">
            <a:off x="2057040" y="33526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2514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952880" y="1523880"/>
            <a:ext cx="29718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две плоскости имеют общую точку, то они пересекаются по прямой, проходящей через эту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914400" y="4572000"/>
            <a:ext cx="78487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8400" y="1438200"/>
            <a:ext cx="981000" cy="2838600"/>
          </a:xfrm>
          <a:custGeom>
            <a:avLst/>
            <a:gdLst/>
            <a:ahLst/>
            <a:rect l="l" t="t" r="r" b="b"/>
            <a:pathLst>
              <a:path w="618" h="1788">
                <a:moveTo>
                  <a:pt x="0" y="1788"/>
                </a:moveTo>
                <a:lnTo>
                  <a:pt x="593" y="1220"/>
                </a:lnTo>
                <a:lnTo>
                  <a:pt x="618" y="0"/>
                </a:lnTo>
                <a:lnTo>
                  <a:pt x="8" y="534"/>
                </a:lnTo>
                <a:lnTo>
                  <a:pt x="0" y="178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15080" y="342900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8440" y="386064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5002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3573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280" y="2276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 на построение сечений тетраэд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34936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: научиться                        строить сечения   тетраэдр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16000" y="3357720"/>
            <a:ext cx="57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50920" y="4941720"/>
            <a:ext cx="3168720" cy="50328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4000" y="5084640"/>
            <a:ext cx="251928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419280" y="5445000"/>
            <a:ext cx="1223640" cy="2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8160" y="42926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6:41Z</dcterms:created>
  <dc:creator>Admin</dc:creator>
  <dc:description/>
  <dc:language>en-US</dc:language>
  <cp:lastModifiedBy>admin</cp:lastModifiedBy>
  <dcterms:modified xsi:type="dcterms:W3CDTF">2011-11-17T13:58:46Z</dcterms:modified>
  <cp:revision>25</cp:revision>
  <dc:subject/>
  <dc:title>Построение  сечений тетраэдра </dc:title>
</cp:coreProperties>
</file>