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2038-CAEC-419F-9BD2-82D1C942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874E-F779-4350-8803-56272611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11F8-D916-423F-A8A6-4A3EF5D1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792-3F3A-42AB-832E-E844D55E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579C-B240-46FC-88E7-C7B051D7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6A71-D17C-4AF4-802A-B797E887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A66A-E0CD-49BC-BDB1-DBD0B6BA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5395-D413-4014-8EF0-C32A0981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70BF-E779-46EC-B1A0-A884A6B9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0162-66FE-48C9-A3B8-377D7D6F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C30D-383A-48D6-92F5-84D751B7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386C-CBCE-402B-8425-E54BD8DA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C823-4744-46D7-8828-B4860004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3789-E305-47B7-A643-BCA69208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986E-2652-4530-AC93-11864B57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5635-DEDA-4712-9134-CDFEB3B4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E346-0428-4AC9-B9C1-1D999E24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8E9C-EAA9-4B2E-AB9E-1A330D6B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DD4-E3BC-4E65-A55D-9CD768EE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164F-D676-48EC-9429-0D0A3506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EAC6-F116-4EEC-8059-F76EDDBE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BAF-9D37-4768-A3F9-F09CA188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E99-AC54-4858-9F9B-1051720C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6E9-6558-43EE-B398-91115F97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A832-218D-4EBA-822C-E0C15E406E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2C15-FB51-4BBD-93C2-4648910045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K.xml"/><Relationship Id="rId3" Type="http://schemas.openxmlformats.org/officeDocument/2006/relationships/slide" Target="slide&#1087;&#1083;&#1086;&#1089;&#1082;&#1086;&#1089;&#1090;&#1100;...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8.xml"/><Relationship Id="rId3" Type="http://schemas.openxmlformats.org/officeDocument/2006/relationships/slide" Target="slide9.xml"/><Relationship Id="rId4" Type="http://schemas.openxmlformats.org/officeDocument/2006/relationships/slide" Target="slide22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84000" y="475920"/>
            <a:ext cx="43196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Содержание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Актуализац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Изучение нового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Закреплени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Разноуровневая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5" action="ppaction://hlinksldjump"/>
              </a:rPr>
              <a:t> проверочная самостоятельная работа  с разбором реше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строение сечения тетраэдра через  точки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, N, 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2844720" y="5084640"/>
            <a:ext cx="11527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44720" y="5084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844720" y="2060640"/>
            <a:ext cx="1656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997440" y="5084280"/>
            <a:ext cx="230328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00720" y="2060640"/>
            <a:ext cx="1800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997440" y="2060280"/>
            <a:ext cx="50328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78240" y="4437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56120" y="595008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20440" y="1557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96040" y="4581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15080" y="558972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22080" y="558972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32846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558972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48000" y="537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31320" y="278136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716000" y="3357720"/>
            <a:ext cx="576360" cy="22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250920" y="4941720"/>
            <a:ext cx="3168720" cy="50328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24000" y="5084640"/>
            <a:ext cx="2519280" cy="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68000" y="4221000"/>
            <a:ext cx="2808360" cy="115272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3419280" y="5445000"/>
            <a:ext cx="1223640" cy="216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276720" y="3357720"/>
            <a:ext cx="2016000" cy="863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38960" y="3645000"/>
            <a:ext cx="3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5013360"/>
            <a:ext cx="14436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149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8160" y="429264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строение сечения тетраэдра через  точки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, N, 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844720" y="5084640"/>
            <a:ext cx="11527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44720" y="5084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844720" y="2060640"/>
            <a:ext cx="1656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997440" y="5084280"/>
            <a:ext cx="230328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2060640"/>
            <a:ext cx="1800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997440" y="2060280"/>
            <a:ext cx="50328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78240" y="4437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56120" y="595008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0440" y="1557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96040" y="4581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15080" y="558972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22080" y="558972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19640" y="32846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43280" y="558972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537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31320" y="278136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716000" y="3357720"/>
            <a:ext cx="576360" cy="22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250920" y="4941720"/>
            <a:ext cx="3168720" cy="50328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24000" y="5084640"/>
            <a:ext cx="2519280" cy="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68000" y="4221000"/>
            <a:ext cx="2808360" cy="115272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48000" y="4149720"/>
            <a:ext cx="71640" cy="136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3419280" y="5445000"/>
            <a:ext cx="1223640" cy="216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276720" y="3357720"/>
            <a:ext cx="2016000" cy="863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38960" y="3645000"/>
            <a:ext cx="3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16000" y="5013360"/>
            <a:ext cx="14436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149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18160" y="429264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48000" y="3357720"/>
            <a:ext cx="1935360" cy="2325600"/>
          </a:xfrm>
          <a:custGeom>
            <a:avLst/>
            <a:gdLst/>
            <a:ahLst/>
            <a:rect l="l" t="t" r="r" b="b"/>
            <a:pathLst>
              <a:path w="1219" h="1465">
                <a:moveTo>
                  <a:pt x="42" y="1313"/>
                </a:moveTo>
                <a:lnTo>
                  <a:pt x="838" y="1465"/>
                </a:lnTo>
                <a:lnTo>
                  <a:pt x="1219" y="0"/>
                </a:lnTo>
                <a:lnTo>
                  <a:pt x="0" y="525"/>
                </a:lnTo>
                <a:lnTo>
                  <a:pt x="42" y="1313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844720" y="5084640"/>
            <a:ext cx="11527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44720" y="5084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844720" y="2060640"/>
            <a:ext cx="1656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997440" y="5084280"/>
            <a:ext cx="230328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00720" y="2060640"/>
            <a:ext cx="1800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997440" y="2060280"/>
            <a:ext cx="50328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78240" y="4437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56120" y="595008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07720" y="184464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296040" y="4581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94720" y="414972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33000" y="328464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35640" y="3716280"/>
            <a:ext cx="144360" cy="142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40360" y="4149720"/>
            <a:ext cx="144360" cy="142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76040" y="342900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211280" y="3789360"/>
            <a:ext cx="1297080" cy="431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563640" y="3789000"/>
            <a:ext cx="647640" cy="431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563640" y="3789360"/>
            <a:ext cx="1871640" cy="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92360" y="3716280"/>
            <a:ext cx="144720" cy="142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77932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бъясните, как построить сечение тетраэдра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BC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плоскостью, проходящей через точки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M,N,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51280" y="2205000"/>
            <a:ext cx="259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йдите периметр сечения, есл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, N, K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середины ребер и каждое ребро тетраэдра равно 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3549600" y="3792600"/>
            <a:ext cx="1924200" cy="442800"/>
          </a:xfrm>
          <a:custGeom>
            <a:avLst/>
            <a:gdLst/>
            <a:ahLst/>
            <a:rect l="l" t="t" r="r" b="b"/>
            <a:pathLst>
              <a:path w="1212" h="279">
                <a:moveTo>
                  <a:pt x="0" y="0"/>
                </a:moveTo>
                <a:lnTo>
                  <a:pt x="415" y="279"/>
                </a:lnTo>
                <a:lnTo>
                  <a:pt x="1212" y="8"/>
                </a:lnTo>
                <a:lnTo>
                  <a:pt x="0" y="0"/>
                </a:lnTo>
                <a:close/>
              </a:path>
            </a:pathLst>
          </a:custGeom>
          <a:solidFill>
            <a:srgbClr val="009900">
              <a:alpha val="50000"/>
            </a:srgbClr>
          </a:solidFill>
          <a:ln w="126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844720" y="5084640"/>
            <a:ext cx="11527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44720" y="5084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844720" y="2060640"/>
            <a:ext cx="1656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997440" y="5084280"/>
            <a:ext cx="230328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00720" y="2060640"/>
            <a:ext cx="1800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997440" y="2060280"/>
            <a:ext cx="50328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4400" y="5013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13200" y="580536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07720" y="184464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22960" y="4797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18360" y="306864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3360" y="537372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92720" y="3500280"/>
            <a:ext cx="144360" cy="1429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4149720"/>
            <a:ext cx="144360" cy="1429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77932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бъясните, как построить сечение тетраэдра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BC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плоскостью, проходящей через точки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M,N,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5148360" y="5373720"/>
            <a:ext cx="144360" cy="1429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54960" y="378936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844720" y="5084640"/>
            <a:ext cx="11527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44720" y="5084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844720" y="2060640"/>
            <a:ext cx="1656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997440" y="5084280"/>
            <a:ext cx="230328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00720" y="2060640"/>
            <a:ext cx="1800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997440" y="2060280"/>
            <a:ext cx="50328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24400" y="5013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13200" y="580536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07720" y="184464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222960" y="4797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18360" y="306864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93360" y="537372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92720" y="3500280"/>
            <a:ext cx="144360" cy="1429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4880" y="537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3203640" y="5300280"/>
            <a:ext cx="2016000" cy="14436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03640" y="4220640"/>
            <a:ext cx="144360" cy="1079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276720" y="3573360"/>
            <a:ext cx="2087280" cy="64764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6720" y="4149720"/>
            <a:ext cx="144360" cy="1429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77932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бъясните, как построить сечение тетраэдра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BC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плоскостью, проходящей через точки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M,N,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3200400" y="3564000"/>
            <a:ext cx="2151000" cy="1868400"/>
          </a:xfrm>
          <a:custGeom>
            <a:avLst/>
            <a:gdLst/>
            <a:ahLst/>
            <a:rect l="l" t="t" r="r" b="b"/>
            <a:pathLst>
              <a:path w="1355" h="1177">
                <a:moveTo>
                  <a:pt x="1355" y="0"/>
                </a:moveTo>
                <a:lnTo>
                  <a:pt x="85" y="398"/>
                </a:lnTo>
                <a:lnTo>
                  <a:pt x="0" y="1092"/>
                </a:lnTo>
                <a:lnTo>
                  <a:pt x="1279" y="1177"/>
                </a:lnTo>
                <a:lnTo>
                  <a:pt x="1355" y="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219640" y="3573000"/>
            <a:ext cx="144360" cy="1871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48360" y="5373720"/>
            <a:ext cx="144360" cy="1429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178920" y="5013360"/>
            <a:ext cx="3024360" cy="287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5280" y="4221000"/>
            <a:ext cx="2881440" cy="93672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5280" y="5084640"/>
            <a:ext cx="244800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5013360"/>
            <a:ext cx="14436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32000" y="5229360"/>
            <a:ext cx="144720" cy="1429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54960" y="378936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29920" y="436572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844720" y="5084640"/>
            <a:ext cx="11527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44720" y="5084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844720" y="2060640"/>
            <a:ext cx="1656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997440" y="5084280"/>
            <a:ext cx="230328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0720" y="2060640"/>
            <a:ext cx="1800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997440" y="2060280"/>
            <a:ext cx="50328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24400" y="5013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90240" y="5877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07720" y="184464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22960" y="4797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418360" y="306864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14080" y="515772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92720" y="3500280"/>
            <a:ext cx="144360" cy="142920"/>
          </a:xfrm>
          <a:prstGeom prst="ellipse">
            <a:avLst/>
          </a:prstGeom>
          <a:solidFill>
            <a:srgbClr val="cc00cc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77932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бъясните, как построить сечение тетраэдра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BC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плоскостью, проходящей через точки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M,N,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3995640" y="5373720"/>
            <a:ext cx="144720" cy="142920"/>
          </a:xfrm>
          <a:prstGeom prst="ellipse">
            <a:avLst/>
          </a:prstGeom>
          <a:solidFill>
            <a:srgbClr val="cc00cc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35280" y="5013360"/>
            <a:ext cx="144720" cy="142920"/>
          </a:xfrm>
          <a:prstGeom prst="ellipse">
            <a:avLst/>
          </a:prstGeom>
          <a:solidFill>
            <a:srgbClr val="cc00cc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15320" y="443700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844720" y="5084640"/>
            <a:ext cx="11527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44720" y="5084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844720" y="2060640"/>
            <a:ext cx="1656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997440" y="5084280"/>
            <a:ext cx="230328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00720" y="2060640"/>
            <a:ext cx="1800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997440" y="2060280"/>
            <a:ext cx="50328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4400" y="5013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90240" y="5877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707720" y="184464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222960" y="4797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18360" y="306864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114080" y="515772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92720" y="3500280"/>
            <a:ext cx="144360" cy="142920"/>
          </a:xfrm>
          <a:prstGeom prst="ellipse">
            <a:avLst/>
          </a:prstGeom>
          <a:solidFill>
            <a:srgbClr val="cc00cc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6520" y="537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708360" y="5084640"/>
            <a:ext cx="0" cy="1152720"/>
          </a:xfrm>
          <a:prstGeom prst="line">
            <a:avLst/>
          </a:prstGeom>
          <a:ln w="2844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08360" y="3573360"/>
            <a:ext cx="1655640" cy="237672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708000" y="3573360"/>
            <a:ext cx="1655640" cy="1511280"/>
          </a:xfrm>
          <a:prstGeom prst="line">
            <a:avLst/>
          </a:prstGeom>
          <a:ln w="2844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77932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бъясните, как построить сечение тетраэдра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BC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плоскостью, проходящей через точки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M,N,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3697200" y="3549600"/>
            <a:ext cx="1668600" cy="2165400"/>
          </a:xfrm>
          <a:custGeom>
            <a:avLst/>
            <a:gdLst/>
            <a:ahLst/>
            <a:rect l="l" t="t" r="r" b="b"/>
            <a:pathLst>
              <a:path w="1051" h="1364">
                <a:moveTo>
                  <a:pt x="1051" y="0"/>
                </a:moveTo>
                <a:lnTo>
                  <a:pt x="0" y="974"/>
                </a:lnTo>
                <a:lnTo>
                  <a:pt x="9" y="1364"/>
                </a:lnTo>
                <a:lnTo>
                  <a:pt x="212" y="1212"/>
                </a:lnTo>
                <a:lnTo>
                  <a:pt x="1051" y="0"/>
                </a:lnTo>
                <a:close/>
              </a:path>
            </a:pathLst>
          </a:custGeom>
          <a:solidFill>
            <a:srgbClr val="ff99ff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987640" y="5877000"/>
            <a:ext cx="1008000" cy="36036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95640" y="5373720"/>
            <a:ext cx="144720" cy="142920"/>
          </a:xfrm>
          <a:prstGeom prst="ellipse">
            <a:avLst/>
          </a:prstGeom>
          <a:solidFill>
            <a:srgbClr val="cc00cc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708360" y="5516640"/>
            <a:ext cx="287280" cy="21744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635280" y="5589720"/>
            <a:ext cx="144720" cy="142920"/>
          </a:xfrm>
          <a:prstGeom prst="ellipse">
            <a:avLst/>
          </a:prstGeom>
          <a:solidFill>
            <a:srgbClr val="cc00cc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635280" y="5013360"/>
            <a:ext cx="144720" cy="142920"/>
          </a:xfrm>
          <a:prstGeom prst="ellipse">
            <a:avLst/>
          </a:prstGeom>
          <a:solidFill>
            <a:srgbClr val="cc00cc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15320" y="443700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98640" y="595008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35280" y="5877000"/>
            <a:ext cx="144720" cy="1429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338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900"/>
                </a:solidFill>
                <a:latin typeface="Tahoma"/>
              </a:rPr>
              <a:t>Вариант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99ff"/>
                </a:solidFill>
                <a:latin typeface="Tahoma"/>
              </a:rPr>
              <a:t>Вариант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99"/>
                </a:solidFill>
                <a:latin typeface="Tahoma"/>
              </a:rPr>
              <a:t>Вариант 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3780000" y="1484280"/>
            <a:ext cx="1368360" cy="432000"/>
          </a:xfrm>
          <a:prstGeom prst="wedgeRoundRectCallout">
            <a:avLst>
              <a:gd name="adj1" fmla="val -50925"/>
              <a:gd name="adj2" fmla="val 147060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Задан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435640" y="1628640"/>
            <a:ext cx="1368360" cy="432000"/>
          </a:xfrm>
          <a:prstGeom prst="wedgeRoundRectCallout">
            <a:avLst>
              <a:gd name="adj1" fmla="val -170300"/>
              <a:gd name="adj2" fmla="val 111763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Задан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51280" y="2997360"/>
            <a:ext cx="1441440" cy="360360"/>
          </a:xfrm>
          <a:prstGeom prst="wedgeRoundRectCallout">
            <a:avLst>
              <a:gd name="adj1" fmla="val -56717"/>
              <a:gd name="adj2" fmla="val 135902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Задан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59280" y="3141720"/>
            <a:ext cx="1549440" cy="358560"/>
          </a:xfrm>
          <a:prstGeom prst="wedgeRoundRectCallout">
            <a:avLst>
              <a:gd name="adj1" fmla="val -177152"/>
              <a:gd name="adj2" fmla="val 101768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Задан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51280" y="4076640"/>
            <a:ext cx="1441440" cy="360360"/>
          </a:xfrm>
          <a:prstGeom prst="wedgeRoundRectCallout">
            <a:avLst>
              <a:gd name="adj1" fmla="val -56717"/>
              <a:gd name="adj2" fmla="val 135902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5" action="ppaction://hlinksldjump"/>
              </a:rPr>
              <a:t>Задан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59280" y="4221000"/>
            <a:ext cx="1549440" cy="358920"/>
          </a:xfrm>
          <a:prstGeom prst="wedgeRoundRectCallout">
            <a:avLst>
              <a:gd name="adj1" fmla="val -177152"/>
              <a:gd name="adj2" fmla="val 101768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6" action="ppaction://hlinksldjump"/>
              </a:rPr>
              <a:t>Задан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ариант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338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Задача №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тройте сечение тетраэдра плоскостью, проходящей через точки А, 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С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N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5070600" y="508464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792840" y="400536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185360" y="1125360"/>
            <a:ext cx="4415400" cy="4829760"/>
            <a:chOff x="4185360" y="1125360"/>
            <a:chExt cx="4415400" cy="4829760"/>
          </a:xfrm>
        </p:grpSpPr>
        <p:sp>
          <p:nvSpPr>
            <p:cNvPr id="364" name=""/>
            <p:cNvSpPr/>
            <p:nvPr/>
          </p:nvSpPr>
          <p:spPr>
            <a:xfrm>
              <a:off x="4716360" y="4653000"/>
              <a:ext cx="11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16360" y="465300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4716360" y="1628280"/>
              <a:ext cx="1656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869080" y="4653000"/>
              <a:ext cx="2303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72360" y="1628640"/>
              <a:ext cx="1800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5869080" y="1628280"/>
              <a:ext cx="50328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92080" y="1125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68400" y="422100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07440" y="5373720"/>
              <a:ext cx="4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85360" y="436572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435640" y="515772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93080" y="458136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35640" y="364500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14960" y="371628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360" y="213840"/>
            <a:ext cx="44640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Вариант 1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отве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338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Задача №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тройте сечение тетраэдра плоскостью, проходящей через точки А, 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С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N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5070600" y="508464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792840" y="400536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185360" y="1125360"/>
            <a:ext cx="4415400" cy="4829760"/>
            <a:chOff x="4185360" y="1125360"/>
            <a:chExt cx="4415400" cy="4829760"/>
          </a:xfrm>
        </p:grpSpPr>
        <p:sp>
          <p:nvSpPr>
            <p:cNvPr id="383" name=""/>
            <p:cNvSpPr/>
            <p:nvPr/>
          </p:nvSpPr>
          <p:spPr>
            <a:xfrm>
              <a:off x="4716360" y="4653000"/>
              <a:ext cx="11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16360" y="465300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716360" y="1628280"/>
              <a:ext cx="1656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5869080" y="4653000"/>
              <a:ext cx="2303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72360" y="1628640"/>
              <a:ext cx="1800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5869080" y="1628280"/>
              <a:ext cx="50328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92080" y="1125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68400" y="422100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07440" y="5373720"/>
              <a:ext cx="4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185360" y="436572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435640" y="515772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93080" y="458136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435640" y="364500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430960" y="31417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292720" y="3573360"/>
            <a:ext cx="1800360" cy="1008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580000" y="4653000"/>
            <a:ext cx="1513080" cy="504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92720" y="3573360"/>
            <a:ext cx="216000" cy="158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24400" y="3564000"/>
            <a:ext cx="1828800" cy="1639800"/>
          </a:xfrm>
          <a:custGeom>
            <a:avLst/>
            <a:gdLst/>
            <a:ahLst/>
            <a:rect l="l" t="t" r="r" b="b"/>
            <a:pathLst>
              <a:path w="1152" h="1033">
                <a:moveTo>
                  <a:pt x="0" y="0"/>
                </a:moveTo>
                <a:lnTo>
                  <a:pt x="119" y="1033"/>
                </a:lnTo>
                <a:lnTo>
                  <a:pt x="1152" y="677"/>
                </a:lnTo>
                <a:lnTo>
                  <a:pt x="0" y="0"/>
                </a:lnTo>
                <a:close/>
              </a:path>
            </a:pathLst>
          </a:custGeom>
          <a:solidFill>
            <a:srgbClr val="ff3399">
              <a:alpha val="50000"/>
            </a:srgbClr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EA6F-8310-4728-AA19-F077308B0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228600" y="3048120"/>
            <a:ext cx="4191120" cy="1447560"/>
          </a:xfrm>
          <a:prstGeom prst="parallelogram">
            <a:avLst>
              <a:gd name="adj" fmla="val 7238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А</a:t>
            </a:r>
            <a:r>
              <a:rPr b="0" lang="en-US" sz="4400" spc="-1" strike="noStrike" baseline="-25000">
                <a:solidFill>
                  <a:srgbClr val="ff5050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Через любые три точки, не лежащие на одной прямой, проходит одна и только одна плоскость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Oval 3"/>
          <p:cNvSpPr/>
          <p:nvPr/>
        </p:nvSpPr>
        <p:spPr>
          <a:xfrm>
            <a:off x="16765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"/>
          <p:cNvSpPr/>
          <p:nvPr/>
        </p:nvSpPr>
        <p:spPr>
          <a:xfrm>
            <a:off x="22860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27432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ариант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295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Задача №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тройте сечение тетраэдра плоскостью, проходящей через точк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, В, 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7302600" y="27082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05560" y="51577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4716360" y="1125360"/>
            <a:ext cx="3884400" cy="4829760"/>
            <a:chOff x="4716360" y="1125360"/>
            <a:chExt cx="3884400" cy="4829760"/>
          </a:xfrm>
        </p:grpSpPr>
        <p:sp>
          <p:nvSpPr>
            <p:cNvPr id="406" name=""/>
            <p:cNvSpPr/>
            <p:nvPr/>
          </p:nvSpPr>
          <p:spPr>
            <a:xfrm>
              <a:off x="4716360" y="4653000"/>
              <a:ext cx="11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716360" y="465300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716360" y="1628280"/>
              <a:ext cx="1656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5869080" y="4653000"/>
              <a:ext cx="2303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72360" y="1628640"/>
              <a:ext cx="1800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869080" y="1628280"/>
              <a:ext cx="50328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92080" y="1125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68400" y="422100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07440" y="5373720"/>
              <a:ext cx="4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427640" y="4292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164360" y="2997360"/>
            <a:ext cx="144360" cy="142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43640" y="515772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638600" y="3573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932360" y="407664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 flipH="1" flipV="1">
            <a:off x="5003280" y="4868640"/>
            <a:ext cx="1513080" cy="360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6516720" y="3141720"/>
            <a:ext cx="719280" cy="20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835280" y="213840"/>
            <a:ext cx="396072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Вариант 1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отве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295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Задача №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тройте сечение тетраэдра плоскостью, проходящей через точк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, В, 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7302600" y="27082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505560" y="51577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4716360" y="1125360"/>
            <a:ext cx="3884400" cy="4829760"/>
            <a:chOff x="4716360" y="1125360"/>
            <a:chExt cx="3884400" cy="4829760"/>
          </a:xfrm>
        </p:grpSpPr>
        <p:sp>
          <p:nvSpPr>
            <p:cNvPr id="427" name=""/>
            <p:cNvSpPr/>
            <p:nvPr/>
          </p:nvSpPr>
          <p:spPr>
            <a:xfrm>
              <a:off x="4716360" y="4653000"/>
              <a:ext cx="11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716360" y="465300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4716360" y="1628280"/>
              <a:ext cx="1656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5869080" y="4653000"/>
              <a:ext cx="2303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72360" y="1628640"/>
              <a:ext cx="1800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5869080" y="1628280"/>
              <a:ext cx="50328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292080" y="1125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168400" y="422100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07440" y="5373720"/>
              <a:ext cx="4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4427640" y="4292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164360" y="2997360"/>
            <a:ext cx="144360" cy="142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443640" y="515772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638600" y="3573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932360" y="407664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5076360" y="3141720"/>
            <a:ext cx="2087640" cy="93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3419640" y="4149720"/>
            <a:ext cx="151272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3492360" y="46530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3850920" y="4653000"/>
            <a:ext cx="1152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003640" y="4221000"/>
            <a:ext cx="7308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780000" y="458136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03640" y="4797360"/>
            <a:ext cx="14472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3106800"/>
            <a:ext cx="2192400" cy="2097000"/>
          </a:xfrm>
          <a:custGeom>
            <a:avLst/>
            <a:gdLst/>
            <a:ahLst/>
            <a:rect l="l" t="t" r="r" b="b"/>
            <a:pathLst>
              <a:path w="1381" h="1321">
                <a:moveTo>
                  <a:pt x="1381" y="0"/>
                </a:moveTo>
                <a:lnTo>
                  <a:pt x="0" y="627"/>
                </a:lnTo>
                <a:lnTo>
                  <a:pt x="42" y="1126"/>
                </a:lnTo>
                <a:lnTo>
                  <a:pt x="915" y="1321"/>
                </a:lnTo>
                <a:lnTo>
                  <a:pt x="1381" y="0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3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500"/>
                            </p:stCondLst>
                            <p:childTnLst>
                              <p:par>
                                <p:cTn id="2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8000"/>
                            </p:stCondLst>
                            <p:childTnLst>
                              <p:par>
                                <p:cTn id="2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риант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331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Задача №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ройте сечени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траэдра плоскостью, проходящей через точ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и С; В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Є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DK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6870960" y="184464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289920" y="328464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185360" y="1125360"/>
            <a:ext cx="4415400" cy="4829760"/>
            <a:chOff x="4185360" y="1125360"/>
            <a:chExt cx="4415400" cy="4829760"/>
          </a:xfrm>
        </p:grpSpPr>
        <p:sp>
          <p:nvSpPr>
            <p:cNvPr id="454" name=""/>
            <p:cNvSpPr/>
            <p:nvPr/>
          </p:nvSpPr>
          <p:spPr>
            <a:xfrm>
              <a:off x="4716360" y="4653000"/>
              <a:ext cx="11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16360" y="465300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4716360" y="1628280"/>
              <a:ext cx="1656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5869080" y="4653000"/>
              <a:ext cx="2303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72360" y="1628640"/>
              <a:ext cx="1800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5869080" y="1628280"/>
              <a:ext cx="50328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92080" y="1125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168400" y="422100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07440" y="5373720"/>
              <a:ext cx="4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85360" y="436572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6732720" y="2276640"/>
            <a:ext cx="144360" cy="142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508720" y="306864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227640" y="3429000"/>
            <a:ext cx="14472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143680" y="263700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 flipH="1">
            <a:off x="6084720" y="2421000"/>
            <a:ext cx="719280" cy="151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08000" y="213840"/>
            <a:ext cx="417672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Вариант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2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отве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331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Задача №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ройте сечени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траэдра плоскостью, проходящей через точ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и С; В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Є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DK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6870960" y="184464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289920" y="328464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185360" y="1125360"/>
            <a:ext cx="4415400" cy="4829760"/>
            <a:chOff x="4185360" y="1125360"/>
            <a:chExt cx="4415400" cy="4829760"/>
          </a:xfrm>
        </p:grpSpPr>
        <p:sp>
          <p:nvSpPr>
            <p:cNvPr id="474" name=""/>
            <p:cNvSpPr/>
            <p:nvPr/>
          </p:nvSpPr>
          <p:spPr>
            <a:xfrm>
              <a:off x="4716360" y="4653000"/>
              <a:ext cx="11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716360" y="465300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4716360" y="1628280"/>
              <a:ext cx="1656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5869080" y="4653000"/>
              <a:ext cx="2303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72360" y="1628640"/>
              <a:ext cx="1800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5869080" y="1628280"/>
              <a:ext cx="50328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92080" y="1125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168400" y="422100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07440" y="5373720"/>
              <a:ext cx="4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85360" y="436572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6732720" y="2276640"/>
            <a:ext cx="144360" cy="142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508720" y="306864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227640" y="3429000"/>
            <a:ext cx="14472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143680" y="263700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5651280" y="2349360"/>
            <a:ext cx="108108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580000" y="3213000"/>
            <a:ext cx="50472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>
            <a:hlinkClick r:id="rId1" action="ppaction://hlinksldjump"/>
          </p:cNvPr>
          <p:cNvSpPr/>
          <p:nvPr/>
        </p:nvSpPr>
        <p:spPr>
          <a:xfrm>
            <a:off x="826920" y="623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12000" y="378936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53000" y="2313000"/>
            <a:ext cx="1278000" cy="1600200"/>
          </a:xfrm>
          <a:custGeom>
            <a:avLst/>
            <a:gdLst/>
            <a:ahLst/>
            <a:rect l="l" t="t" r="r" b="b"/>
            <a:pathLst>
              <a:path w="805" h="1008">
                <a:moveTo>
                  <a:pt x="805" y="0"/>
                </a:moveTo>
                <a:lnTo>
                  <a:pt x="0" y="517"/>
                </a:lnTo>
                <a:lnTo>
                  <a:pt x="322" y="1008"/>
                </a:lnTo>
                <a:lnTo>
                  <a:pt x="805" y="0"/>
                </a:lnTo>
                <a:close/>
              </a:path>
            </a:pathLst>
          </a:custGeom>
          <a:solidFill>
            <a:srgbClr val="ffcf01">
              <a:alpha val="50000"/>
            </a:srgbClr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риант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331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Задача №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ройте сечени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траэдра плоскостью, проходящей через точ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, В, 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>
            <a:off x="5357880" y="2205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000840" y="39337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4185360" y="1125360"/>
            <a:ext cx="4415400" cy="4829760"/>
            <a:chOff x="4185360" y="1125360"/>
            <a:chExt cx="4415400" cy="4829760"/>
          </a:xfrm>
        </p:grpSpPr>
        <p:sp>
          <p:nvSpPr>
            <p:cNvPr id="498" name=""/>
            <p:cNvSpPr/>
            <p:nvPr/>
          </p:nvSpPr>
          <p:spPr>
            <a:xfrm>
              <a:off x="4716360" y="4653000"/>
              <a:ext cx="11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716360" y="465300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4716360" y="1628280"/>
              <a:ext cx="1656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5869080" y="4653000"/>
              <a:ext cx="2303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372360" y="1628640"/>
              <a:ext cx="1800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5869080" y="1628280"/>
              <a:ext cx="50328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92080" y="1125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168400" y="422100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07440" y="5373720"/>
              <a:ext cx="4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85360" y="436572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651640" y="278136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940360" y="436572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375680" y="407664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596360" y="458136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6012000" y="4508640"/>
            <a:ext cx="36036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24360" y="2924280"/>
            <a:ext cx="287640" cy="151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716360" y="4653000"/>
            <a:ext cx="266400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6227280" y="4941720"/>
            <a:ext cx="107964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7308360" y="4653000"/>
            <a:ext cx="358920" cy="288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012000" y="4437000"/>
            <a:ext cx="129672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724360" y="2852640"/>
            <a:ext cx="1943280" cy="1800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332000" y="213840"/>
            <a:ext cx="475272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Вариант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2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отве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331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Задача №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ройте сечени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траэдра плоскостью, проходящей через точ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, В, 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>
            <a:off x="5357880" y="2205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00840" y="39337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8360" y="537372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4185360" y="1125360"/>
            <a:ext cx="4415400" cy="4319640"/>
            <a:chOff x="4185360" y="1125360"/>
            <a:chExt cx="4415400" cy="4319640"/>
          </a:xfrm>
        </p:grpSpPr>
        <p:sp>
          <p:nvSpPr>
            <p:cNvPr id="525" name=""/>
            <p:cNvSpPr/>
            <p:nvPr/>
          </p:nvSpPr>
          <p:spPr>
            <a:xfrm>
              <a:off x="4716360" y="4653000"/>
              <a:ext cx="11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16360" y="465300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4716360" y="1628280"/>
              <a:ext cx="1656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5869080" y="4653000"/>
              <a:ext cx="2303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72360" y="1628640"/>
              <a:ext cx="1800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5869080" y="1628280"/>
              <a:ext cx="50328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292080" y="1125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168400" y="422100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85360" y="436572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5651640" y="278136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940360" y="436572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375680" y="407664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596360" y="458136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156360" y="558972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236000" y="4869000"/>
            <a:ext cx="144360" cy="142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42000" y="2863800"/>
            <a:ext cx="1895400" cy="2071800"/>
          </a:xfrm>
          <a:custGeom>
            <a:avLst/>
            <a:gdLst/>
            <a:ahLst/>
            <a:rect l="l" t="t" r="r" b="b"/>
            <a:pathLst>
              <a:path w="1194" h="1305">
                <a:moveTo>
                  <a:pt x="0" y="0"/>
                </a:moveTo>
                <a:lnTo>
                  <a:pt x="186" y="991"/>
                </a:lnTo>
                <a:lnTo>
                  <a:pt x="991" y="1305"/>
                </a:lnTo>
                <a:lnTo>
                  <a:pt x="1194" y="1127"/>
                </a:lnTo>
                <a:lnTo>
                  <a:pt x="0" y="0"/>
                </a:lnTo>
                <a:close/>
              </a:path>
            </a:pathLst>
          </a:custGeom>
          <a:solidFill>
            <a:srgbClr val="00e4a8">
              <a:alpha val="50000"/>
            </a:srgbClr>
          </a:solidFill>
          <a:ln w="1260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000"/>
                            </p:stCondLst>
                            <p:childTnLst>
                              <p:par>
                                <p:cTn id="3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4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4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4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8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000"/>
                            </p:stCondLst>
                            <p:childTnLst>
                              <p:par>
                                <p:cTn id="3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8000"/>
                            </p:stCondLst>
                            <p:childTnLst>
                              <p:par>
                                <p:cTn id="3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ариант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331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Задача №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ройте сечение тетраэдра плоскостью, проходящей через точки А, В и С; С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Є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D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"/>
          <p:cNvSpPr/>
          <p:nvPr/>
        </p:nvSpPr>
        <p:spPr>
          <a:xfrm>
            <a:off x="4421160" y="37162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729560" y="33577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4185360" y="1125360"/>
            <a:ext cx="4415400" cy="4829760"/>
            <a:chOff x="4185360" y="1125360"/>
            <a:chExt cx="4415400" cy="4829760"/>
          </a:xfrm>
        </p:grpSpPr>
        <p:sp>
          <p:nvSpPr>
            <p:cNvPr id="546" name=""/>
            <p:cNvSpPr/>
            <p:nvPr/>
          </p:nvSpPr>
          <p:spPr>
            <a:xfrm>
              <a:off x="4716360" y="4653000"/>
              <a:ext cx="11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716360" y="465300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716360" y="1628280"/>
              <a:ext cx="1656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5869080" y="4653000"/>
              <a:ext cx="2303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72360" y="1628640"/>
              <a:ext cx="1800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869080" y="1628280"/>
              <a:ext cx="50328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92080" y="1125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168400" y="422100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707440" y="5373720"/>
              <a:ext cx="4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85360" y="436572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4859280" y="414972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596360" y="371628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51640" y="328464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19680" y="31417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 flipV="1">
            <a:off x="4932360" y="3789000"/>
            <a:ext cx="2735280" cy="431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4932360" y="2781360"/>
            <a:ext cx="1295280" cy="143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227640" y="2781360"/>
            <a:ext cx="1440000" cy="100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835280" y="214200"/>
            <a:ext cx="4176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ариант 3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тв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331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Задача №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ройте сечение тетраэдра плоскостью, проходящей через точки А, В и С; С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Є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D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"/>
          <p:cNvSpPr/>
          <p:nvPr/>
        </p:nvSpPr>
        <p:spPr>
          <a:xfrm>
            <a:off x="4421160" y="37162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729560" y="33577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4185360" y="1125360"/>
            <a:ext cx="4415400" cy="4829760"/>
            <a:chOff x="4185360" y="1125360"/>
            <a:chExt cx="4415400" cy="4829760"/>
          </a:xfrm>
        </p:grpSpPr>
        <p:sp>
          <p:nvSpPr>
            <p:cNvPr id="568" name=""/>
            <p:cNvSpPr/>
            <p:nvPr/>
          </p:nvSpPr>
          <p:spPr>
            <a:xfrm>
              <a:off x="4716360" y="4653000"/>
              <a:ext cx="11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16360" y="465300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4716360" y="1628280"/>
              <a:ext cx="1656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5869080" y="4653000"/>
              <a:ext cx="2303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72360" y="1628640"/>
              <a:ext cx="1800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869080" y="1628280"/>
              <a:ext cx="50328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92080" y="1125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168400" y="422100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07440" y="5373720"/>
              <a:ext cx="4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185360" y="436572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4859280" y="414972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596360" y="371628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651640" y="328464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719680" y="31417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56360" y="270828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935600" y="2770200"/>
            <a:ext cx="2728800" cy="1452600"/>
          </a:xfrm>
          <a:custGeom>
            <a:avLst/>
            <a:gdLst/>
            <a:ahLst/>
            <a:rect l="l" t="t" r="r" b="b"/>
            <a:pathLst>
              <a:path w="1719" h="915">
                <a:moveTo>
                  <a:pt x="830" y="0"/>
                </a:moveTo>
                <a:lnTo>
                  <a:pt x="0" y="915"/>
                </a:lnTo>
                <a:lnTo>
                  <a:pt x="1719" y="644"/>
                </a:lnTo>
                <a:lnTo>
                  <a:pt x="830" y="0"/>
                </a:lnTo>
                <a:close/>
              </a:path>
            </a:pathLst>
          </a:custGeom>
          <a:solidFill>
            <a:srgbClr val="cc00cc">
              <a:alpha val="50000"/>
            </a:srgbClr>
          </a:solidFill>
          <a:ln w="126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6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6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000"/>
                            </p:stCondLst>
                            <p:childTnLst>
                              <p:par>
                                <p:cTn id="45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ариант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331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Задача №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тройте сечение тетраэдра плоскостью, проходящей через точк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, В, 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6870960" y="19162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07320" y="465300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4185360" y="1125360"/>
            <a:ext cx="4415400" cy="4829760"/>
            <a:chOff x="4185360" y="1125360"/>
            <a:chExt cx="4415400" cy="4829760"/>
          </a:xfrm>
        </p:grpSpPr>
        <p:sp>
          <p:nvSpPr>
            <p:cNvPr id="589" name=""/>
            <p:cNvSpPr/>
            <p:nvPr/>
          </p:nvSpPr>
          <p:spPr>
            <a:xfrm>
              <a:off x="4716360" y="4653000"/>
              <a:ext cx="11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716360" y="465300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4716360" y="1628280"/>
              <a:ext cx="1656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5869080" y="4653000"/>
              <a:ext cx="2303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72360" y="1628640"/>
              <a:ext cx="1800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869080" y="1628280"/>
              <a:ext cx="50328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292080" y="1125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168400" y="422100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707440" y="5373720"/>
              <a:ext cx="4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85360" y="436572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6732720" y="2276640"/>
            <a:ext cx="144360" cy="142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867280" y="4869000"/>
            <a:ext cx="144720" cy="142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992840" y="400536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003640" y="4581360"/>
            <a:ext cx="14472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flipH="1">
            <a:off x="5435640" y="4941720"/>
            <a:ext cx="50472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5076720" y="2349360"/>
            <a:ext cx="1727280" cy="2303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5076360" y="4653000"/>
            <a:ext cx="35892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5003640" y="5444640"/>
            <a:ext cx="86364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5435280" y="5157360"/>
            <a:ext cx="57636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435640" y="4941720"/>
            <a:ext cx="504720" cy="115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5940000" y="2349360"/>
            <a:ext cx="863640" cy="259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908000" y="214200"/>
            <a:ext cx="3888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ариант 3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тв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331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Задача №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тройте сечение тетраэдра плоскостью, проходящей через точк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, В, С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6870960" y="19162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007320" y="465300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923440" y="530064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4185360" y="1125360"/>
            <a:ext cx="4415400" cy="4319640"/>
            <a:chOff x="4185360" y="1125360"/>
            <a:chExt cx="4415400" cy="4319640"/>
          </a:xfrm>
        </p:grpSpPr>
        <p:sp>
          <p:nvSpPr>
            <p:cNvPr id="616" name=""/>
            <p:cNvSpPr/>
            <p:nvPr/>
          </p:nvSpPr>
          <p:spPr>
            <a:xfrm>
              <a:off x="4716360" y="4653000"/>
              <a:ext cx="115272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716360" y="465300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4716360" y="1628280"/>
              <a:ext cx="1656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5869080" y="4653000"/>
              <a:ext cx="2303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72360" y="1628640"/>
              <a:ext cx="1800000" cy="302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5869080" y="1628280"/>
              <a:ext cx="503280" cy="38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92080" y="112536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168400" y="422100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85360" y="436572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6732720" y="2276640"/>
            <a:ext cx="144360" cy="142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867280" y="4869000"/>
            <a:ext cx="144720" cy="142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848480" y="407664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03640" y="4581360"/>
            <a:ext cx="14472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651640" y="5445000"/>
            <a:ext cx="14436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364000" y="5084640"/>
            <a:ext cx="144720" cy="142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110200" y="2340000"/>
            <a:ext cx="1708200" cy="2797200"/>
          </a:xfrm>
          <a:custGeom>
            <a:avLst/>
            <a:gdLst/>
            <a:ahLst/>
            <a:rect l="l" t="t" r="r" b="b"/>
            <a:pathLst>
              <a:path w="1076" h="1762">
                <a:moveTo>
                  <a:pt x="1076" y="0"/>
                </a:moveTo>
                <a:lnTo>
                  <a:pt x="0" y="1448"/>
                </a:lnTo>
                <a:lnTo>
                  <a:pt x="212" y="1762"/>
                </a:lnTo>
                <a:lnTo>
                  <a:pt x="517" y="1635"/>
                </a:lnTo>
                <a:lnTo>
                  <a:pt x="1076" y="0"/>
                </a:lnTo>
                <a:close/>
              </a:path>
            </a:pathLst>
          </a:custGeom>
          <a:solidFill>
            <a:srgbClr val="ffcf01">
              <a:alpha val="50000"/>
            </a:srgbClr>
          </a:solidFill>
          <a:ln w="1260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6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6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6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6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6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000"/>
                            </p:stCondLst>
                            <p:childTnLst>
                              <p:par>
                                <p:cTn id="4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9000"/>
                            </p:stCondLst>
                            <p:childTnLst>
                              <p:par>
                                <p:cTn id="5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6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6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3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D6FE-B7E3-4773-97CF-BEAEC1AF7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0" y="2743200"/>
            <a:ext cx="4876920" cy="22860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А</a:t>
            </a:r>
            <a:r>
              <a:rPr b="0" lang="en-US" sz="4400" spc="-1" strike="noStrike" baseline="-25000">
                <a:solidFill>
                  <a:srgbClr val="ff5050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Oval 3"/>
          <p:cNvSpPr/>
          <p:nvPr/>
        </p:nvSpPr>
        <p:spPr>
          <a:xfrm>
            <a:off x="15238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"/>
          <p:cNvSpPr/>
          <p:nvPr/>
        </p:nvSpPr>
        <p:spPr>
          <a:xfrm>
            <a:off x="28954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 flipV="1">
            <a:off x="838080" y="3276720"/>
            <a:ext cx="26672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5029200" y="2362320"/>
            <a:ext cx="36576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сли две точки прямой лежат в плоскости, то и вся прямая лежит в это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76360" y="62064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ahoma"/>
              </a:rPr>
              <a:t>Творческое домашнее задание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Составить 2-3 задачи на построение сечений многогранни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Выполнить решения в форме презентации или в </a:t>
            </a:r>
            <a:r>
              <a:rPr b="1" i="1" lang="en-US" sz="2400" spc="-1" strike="noStrike">
                <a:solidFill>
                  <a:srgbClr val="0000ff"/>
                </a:solidFill>
                <a:latin typeface="Tahoma"/>
              </a:rPr>
              <a:t>WORDE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Критерии оценки</a:t>
            </a:r>
            <a:r>
              <a:rPr b="1" i="1" lang="en-US" sz="2400" spc="-1" strike="noStrike">
                <a:solidFill>
                  <a:srgbClr val="0000ff"/>
                </a:solidFill>
                <a:latin typeface="Tahoma"/>
              </a:rPr>
              <a:t>: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e2a00"/>
                </a:solidFill>
                <a:latin typeface="Tahoma"/>
              </a:rPr>
              <a:t>Слож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e2a00"/>
                </a:solidFill>
                <a:latin typeface="Tahoma"/>
              </a:rPr>
              <a:t>Правильность реш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e2a00"/>
                </a:solidFill>
                <a:latin typeface="Tahoma"/>
              </a:rPr>
              <a:t>Дизай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e2a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de2a00"/>
                </a:solidFill>
                <a:latin typeface="Tahoma"/>
              </a:rPr>
              <a:t>Подведение                            итогов работы на урок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e2a00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de2a00"/>
                </a:solidFill>
                <a:latin typeface="Tahoma"/>
              </a:rPr>
              <a:t>Критерии самооценки</a:t>
            </a:r>
            <a:r>
              <a:rPr b="1" i="1" lang="en-US" sz="2800" spc="-1" strike="noStrike">
                <a:solidFill>
                  <a:srgbClr val="de2a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ahoma"/>
              </a:rPr>
              <a:t>                                                                   </a:t>
            </a:r>
            <a:r>
              <a:rPr b="1" i="1" lang="ru-RU" sz="2000" spc="-1" strike="noStrike">
                <a:solidFill>
                  <a:srgbClr val="0000ff"/>
                </a:solidFill>
                <a:latin typeface="Tahoma"/>
              </a:rPr>
              <a:t>«5» - 15 баллов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ahoma"/>
              </a:rPr>
              <a:t>Устная работа  1-2 балла                      «4» - 10-14 балл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ahoma"/>
              </a:rPr>
              <a:t>Решение задач 3-4бал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ahoma"/>
              </a:rPr>
              <a:t>Сам. работа  3</a:t>
            </a:r>
            <a:r>
              <a:rPr b="1" i="1" lang="en-US" sz="2000" spc="-1" strike="noStrike">
                <a:solidFill>
                  <a:srgbClr val="0000ff"/>
                </a:solidFill>
                <a:latin typeface="Tahoma"/>
              </a:rPr>
              <a:t>; </a:t>
            </a:r>
            <a:r>
              <a:rPr b="1" i="1" lang="ru-RU" sz="2000" spc="-1" strike="noStrike">
                <a:solidFill>
                  <a:srgbClr val="0000ff"/>
                </a:solidFill>
                <a:latin typeface="Tahoma"/>
              </a:rPr>
              <a:t>6 балл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e2a00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de2a00"/>
                </a:solidFill>
                <a:latin typeface="Tahoma"/>
              </a:rPr>
              <a:t>В чём я вижу результат своей работы</a:t>
            </a:r>
            <a:r>
              <a:rPr b="1" i="1" lang="en-US" sz="2800" spc="-1" strike="noStrike">
                <a:solidFill>
                  <a:srgbClr val="de2a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e2a00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de2a00"/>
                </a:solidFill>
                <a:latin typeface="Tahoma"/>
              </a:rPr>
              <a:t>Что мне помогло достичь результата</a:t>
            </a:r>
            <a:r>
              <a:rPr b="1" i="1" lang="en-US" sz="2800" spc="-1" strike="noStrike">
                <a:solidFill>
                  <a:srgbClr val="de2a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2a00"/>
                </a:solidFill>
                <a:latin typeface="Tahoma"/>
              </a:rPr>
              <a:t>Китайская пословиц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e2a00"/>
                </a:solidFill>
                <a:latin typeface="Tahoma"/>
              </a:rPr>
              <a:t>    </a:t>
            </a:r>
            <a:r>
              <a:rPr b="1" i="1" lang="en-US" sz="4400" spc="-1" strike="noStrike">
                <a:solidFill>
                  <a:srgbClr val="de2a00"/>
                </a:solidFill>
                <a:latin typeface="Tahoma"/>
              </a:rPr>
              <a:t>Не бойся, что не знаешь -  бойся, что не учишься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1675-B6A6-46AC-8F5C-9DA62C334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А</a:t>
            </a:r>
            <a:r>
              <a:rPr b="0" lang="en-US" sz="4400" spc="-1" strike="noStrike" baseline="-25000">
                <a:solidFill>
                  <a:srgbClr val="ff5050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380880" y="3352680"/>
            <a:ext cx="3962520" cy="946440"/>
          </a:xfrm>
          <a:prstGeom prst="parallelogram">
            <a:avLst>
              <a:gd name="adj" fmla="val 10466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 flipH="1">
            <a:off x="2057040" y="3352680"/>
            <a:ext cx="10666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9"/>
          <p:cNvSpPr/>
          <p:nvPr/>
        </p:nvSpPr>
        <p:spPr>
          <a:xfrm>
            <a:off x="25146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4952880" y="1523880"/>
            <a:ext cx="29718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две плоскости имеют общую точку, то они пересекаются по прямой, проходящей через эту то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914400" y="4572000"/>
            <a:ext cx="784872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8400" y="1438200"/>
            <a:ext cx="981000" cy="2838600"/>
          </a:xfrm>
          <a:custGeom>
            <a:avLst/>
            <a:gdLst/>
            <a:ahLst/>
            <a:rect l="l" t="t" r="r" b="b"/>
            <a:pathLst>
              <a:path w="618" h="1788">
                <a:moveTo>
                  <a:pt x="0" y="1788"/>
                </a:moveTo>
                <a:lnTo>
                  <a:pt x="593" y="1220"/>
                </a:lnTo>
                <a:lnTo>
                  <a:pt x="618" y="0"/>
                </a:lnTo>
                <a:lnTo>
                  <a:pt x="8" y="534"/>
                </a:lnTo>
                <a:lnTo>
                  <a:pt x="0" y="1788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500"/>
                            </p:stCondLst>
                            <p:childTnLst>
                              <p:par>
                                <p:cTn id="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844720" y="5084640"/>
            <a:ext cx="11527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44720" y="5084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844720" y="2060640"/>
            <a:ext cx="1656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997440" y="5084280"/>
            <a:ext cx="230328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0720" y="2060640"/>
            <a:ext cx="1800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97440" y="2060280"/>
            <a:ext cx="50328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78240" y="4437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56120" y="595008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20440" y="1557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96040" y="4581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15080" y="342900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58440" y="386064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64000" y="350028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4036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4000" y="3573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1320" y="278136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строение сечения тетраэдра через  точки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, N, 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844720" y="5084640"/>
            <a:ext cx="11527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4720" y="5084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844720" y="2060640"/>
            <a:ext cx="1656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997440" y="5084280"/>
            <a:ext cx="230328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2060640"/>
            <a:ext cx="1800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997440" y="2060280"/>
            <a:ext cx="50328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78240" y="4437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595008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0440" y="1557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96040" y="4581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15080" y="558972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22080" y="558972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32846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558972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0" y="537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31320" y="278136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79280" y="22762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шение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задач на построение сечений тетраэд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50720" y="234936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Цель: научиться                        строить сечения   тетраэдра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строение сечения тетраэдра через  точки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, N, 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2844720" y="5084640"/>
            <a:ext cx="115272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5084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844720" y="2060640"/>
            <a:ext cx="1656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997440" y="5084280"/>
            <a:ext cx="230328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00720" y="2060640"/>
            <a:ext cx="180000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997440" y="2060280"/>
            <a:ext cx="50328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78240" y="44370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56120" y="595008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20440" y="1557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96040" y="458136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15080" y="558972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22080" y="558972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19640" y="32846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3280" y="558972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537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1320" y="278136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716000" y="3357720"/>
            <a:ext cx="576360" cy="22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50920" y="4941720"/>
            <a:ext cx="3168720" cy="50328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4000" y="5084640"/>
            <a:ext cx="2519280" cy="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3419280" y="5445000"/>
            <a:ext cx="1223640" cy="216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16000" y="5013360"/>
            <a:ext cx="14436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8160" y="429264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5:46:41Z</dcterms:created>
  <dc:creator>Admin</dc:creator>
  <dc:description/>
  <dc:language>en-US</dc:language>
  <cp:lastModifiedBy>admin</cp:lastModifiedBy>
  <dcterms:modified xsi:type="dcterms:W3CDTF">2011-11-17T13:58:46Z</dcterms:modified>
  <cp:revision>25</cp:revision>
  <dc:subject/>
  <dc:title>Построение  сечений тетраэдра </dc:title>
</cp:coreProperties>
</file>