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6.gif" ContentType="image/gif"/>
  <Override PartName="/ppt/media/image20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5.gif" ContentType="image/gif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1.jpeg" ContentType="image/jpeg"/>
  <Override PartName="/ppt/media/image4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33.gif" ContentType="image/gif"/>
  <Override PartName="/ppt/media/image34.gif" ContentType="image/gif"/>
  <Override PartName="/ppt/media/image37.gif" ContentType="image/gif"/>
  <Override PartName="/ppt/media/image2.jpeg" ContentType="image/jpeg"/>
  <Override PartName="/ppt/media/image23.jpeg" ContentType="image/jpeg"/>
  <Override PartName="/ppt/media/image25.gif" ContentType="image/gif"/>
  <Override PartName="/ppt/media/image6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E29-9238-4463-A9D9-3F63DEB9A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5912-1AA6-42CB-9AB2-CE08F67B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E74-DD7C-495F-9F70-3E6278236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177-E796-4236-99DC-0005FE87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8DD-8B33-48D7-AE06-793CDCD2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613-3B13-448F-B25E-D705D26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F3D-5AE1-47C5-9C3E-6225116C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AD3-C1B8-4BF2-803D-AAC1D696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EF4-FBCD-4592-9943-AEDF4B05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B8C-986F-40D5-89FB-FF5099E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D3D-EF0A-4A7E-9F0E-684F807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69F-4799-4874-9E2A-6E79EA5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0F3-D09C-4D36-946C-EE101A29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BF6-78BA-45CC-B4EC-3B1006C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E5B-A167-4EDC-B791-3F26C35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15E-833F-47E2-9E0F-AFFF5AD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60B4-FF4A-420F-82ED-9670F10EE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foto.nakhodka.info/data/media/1/forest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gorod.dp.ua/photo/2006/a/ash/oktp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nakhodka.info/data/media/1/forest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Обои\Nature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900000" y="549360"/>
            <a:ext cx="7488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 - многоэтажный дом</a:t>
            </a:r>
            <a:endParaRPr b="0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071800" y="37861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0" y="4857840"/>
            <a:ext cx="5786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полнила Асанова Н.И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ль МОУ «НШ-Д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 - к Железновод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1285920" y="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рап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500800" y="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ле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14280" y="3214800"/>
            <a:ext cx="27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ланды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143680" y="3357720"/>
            <a:ext cx="35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ороний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гл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i?id=11627553&amp;tov=2"/>
          <p:cNvPicPr/>
          <p:nvPr/>
        </p:nvPicPr>
        <p:blipFill>
          <a:blip r:embed="rId2"/>
          <a:stretch/>
        </p:blipFill>
        <p:spPr>
          <a:xfrm>
            <a:off x="1285920" y="78588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i?id=9195376&amp;tov=0"/>
          <p:cNvPicPr/>
          <p:nvPr/>
        </p:nvPicPr>
        <p:blipFill>
          <a:blip r:embed="rId3"/>
          <a:stretch/>
        </p:blipFill>
        <p:spPr>
          <a:xfrm>
            <a:off x="5214960" y="78588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i?id=56596881&amp;tov=3"/>
          <p:cNvPicPr/>
          <p:nvPr/>
        </p:nvPicPr>
        <p:blipFill>
          <a:blip r:embed="rId4"/>
          <a:stretch/>
        </p:blipFill>
        <p:spPr>
          <a:xfrm>
            <a:off x="1214280" y="4000680"/>
            <a:ext cx="2286000" cy="264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i?id=52818917&amp;tov=6"/>
          <p:cNvPicPr/>
          <p:nvPr/>
        </p:nvPicPr>
        <p:blipFill>
          <a:blip r:embed="rId5"/>
          <a:stretch/>
        </p:blipFill>
        <p:spPr>
          <a:xfrm>
            <a:off x="5214960" y="4000680"/>
            <a:ext cx="2286000" cy="264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C:\Documents and Settings\Elena\Рабочий стол\Татьяна\ан картинки\1f1.gif"/>
          <p:cNvPicPr/>
          <p:nvPr/>
        </p:nvPicPr>
        <p:blipFill>
          <a:blip r:embed="rId6"/>
          <a:stretch/>
        </p:blipFill>
        <p:spPr>
          <a:xfrm>
            <a:off x="3929040" y="307188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C:\Documents and Settings\Elena\Рабочий стол\Татьяна\ан картинки\1f5.gif"/>
          <p:cNvPicPr/>
          <p:nvPr/>
        </p:nvPicPr>
        <p:blipFill>
          <a:blip r:embed="rId7"/>
          <a:stretch/>
        </p:blipFill>
        <p:spPr>
          <a:xfrm>
            <a:off x="7858080" y="4643280"/>
            <a:ext cx="1000080" cy="1643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C:\Documents and Settings\Elena\Рабочий стол\Татьяна\ан картинки\21m2.gif"/>
          <p:cNvPicPr/>
          <p:nvPr/>
        </p:nvPicPr>
        <p:blipFill>
          <a:blip r:embed="rId2"/>
          <a:stretch/>
        </p:blipFill>
        <p:spPr>
          <a:xfrm>
            <a:off x="6858000" y="3571920"/>
            <a:ext cx="1571760" cy="2000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2143080" y="4287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ff"/>
                </a:solidFill>
                <a:latin typeface="Calibri"/>
              </a:rPr>
              <a:t>Если вы пришли в лес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0" y="200016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c02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081c02"/>
                </a:solidFill>
                <a:latin typeface="Calibri"/>
              </a:rPr>
              <a:t>Не разоряйте муравейники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3071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Не ломайте  ветки  деревьев и кустарнико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0" y="43578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Не уноси  животных  из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0" y="5429160"/>
            <a:ext cx="856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 Не оставляй  мусор  после отдыха  в лесу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Documents and Settings\Elena\Рабочий стол\Татьяна\ан картинки\3c4.gif"/>
          <p:cNvPicPr/>
          <p:nvPr/>
        </p:nvPicPr>
        <p:blipFill>
          <a:blip r:embed="rId3"/>
          <a:stretch/>
        </p:blipFill>
        <p:spPr>
          <a:xfrm>
            <a:off x="428760" y="500040"/>
            <a:ext cx="1761840" cy="142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429240" y="571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6357960" y="207180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500880" y="35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т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357960" y="4857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Картинка 24 из 158809"/>
          <p:cNvPicPr/>
          <p:nvPr/>
        </p:nvPicPr>
        <p:blipFill>
          <a:blip r:embed="rId2"/>
          <a:stretch/>
        </p:blipFill>
        <p:spPr>
          <a:xfrm>
            <a:off x="1785960" y="285840"/>
            <a:ext cx="3233880" cy="557208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право 6"/>
          <p:cNvSpPr/>
          <p:nvPr/>
        </p:nvSpPr>
        <p:spPr>
          <a:xfrm rot="9450000">
            <a:off x="3755520" y="1301400"/>
            <a:ext cx="2776680" cy="39204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7"/>
          <p:cNvSpPr/>
          <p:nvPr/>
        </p:nvSpPr>
        <p:spPr>
          <a:xfrm rot="9752400">
            <a:off x="3311280" y="2729880"/>
            <a:ext cx="3100320" cy="39060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8"/>
          <p:cNvSpPr/>
          <p:nvPr/>
        </p:nvSpPr>
        <p:spPr>
          <a:xfrm rot="10047600">
            <a:off x="3435480" y="3984120"/>
            <a:ext cx="3193920" cy="40320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9"/>
          <p:cNvSpPr/>
          <p:nvPr/>
        </p:nvSpPr>
        <p:spPr>
          <a:xfrm rot="10295400">
            <a:off x="4087080" y="5094000"/>
            <a:ext cx="2281320" cy="39060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:\Documents and Settings\Elena\Рабочий стол\Татьяна\ан картинки\teacher.gif"/>
          <p:cNvPicPr/>
          <p:nvPr/>
        </p:nvPicPr>
        <p:blipFill>
          <a:blip r:embed="rId3"/>
          <a:stretch/>
        </p:blipFill>
        <p:spPr>
          <a:xfrm>
            <a:off x="357120" y="421488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4500720" y="1214280"/>
            <a:ext cx="35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alibri"/>
              </a:rPr>
              <a:t>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143680" y="1928880"/>
            <a:ext cx="264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апор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и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барба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928800" y="2714760"/>
            <a:ext cx="16430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6"/>
          <p:cNvSpPr/>
          <p:nvPr/>
        </p:nvSpPr>
        <p:spPr>
          <a:xfrm>
            <a:off x="785880" y="1571760"/>
            <a:ext cx="2000160" cy="114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1214280" y="3000240"/>
            <a:ext cx="1000440" cy="642960"/>
          </a:xfrm>
          <a:prstGeom prst="rect">
            <a:avLst/>
          </a:prstGeom>
          <a:solidFill>
            <a:srgbClr val="2588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1214280" y="4000680"/>
            <a:ext cx="100044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1214280" y="5072040"/>
            <a:ext cx="100044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10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8381880" cy="1096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7"/>
          <p:cNvSpPr/>
          <p:nvPr/>
        </p:nvSpPr>
        <p:spPr>
          <a:xfrm>
            <a:off x="642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c02"/>
                </a:solidFill>
                <a:latin typeface="Arial"/>
              </a:rPr>
              <a:t>верх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>
            <a:off x="642960" y="3643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9"/>
          <p:cNvSpPr/>
          <p:nvPr/>
        </p:nvSpPr>
        <p:spPr>
          <a:xfrm>
            <a:off x="714240" y="471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C:\Documents and Settings\Elena\Рабочий стол\Татьяна\ан картинки\s8.gif"/>
          <p:cNvPicPr/>
          <p:nvPr/>
        </p:nvPicPr>
        <p:blipFill>
          <a:blip r:embed="rId3"/>
          <a:stretch/>
        </p:blipFill>
        <p:spPr>
          <a:xfrm>
            <a:off x="3071880" y="1500120"/>
            <a:ext cx="1257120" cy="105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1500120" y="20001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500720" y="1214280"/>
            <a:ext cx="35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alibri"/>
              </a:rPr>
              <a:t>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5143680" y="1928880"/>
            <a:ext cx="264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alibri"/>
              </a:rPr>
              <a:t>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Папор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К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alibri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alibri"/>
              </a:rPr>
              <a:t>О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alibri"/>
              </a:rPr>
              <a:t>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Шип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Си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барба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928800" y="2714760"/>
            <a:ext cx="16430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6"/>
          <p:cNvSpPr/>
          <p:nvPr/>
        </p:nvSpPr>
        <p:spPr>
          <a:xfrm>
            <a:off x="714240" y="1571760"/>
            <a:ext cx="2000520" cy="114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214280" y="3000240"/>
            <a:ext cx="1000440" cy="642960"/>
          </a:xfrm>
          <a:prstGeom prst="rect">
            <a:avLst/>
          </a:prstGeom>
          <a:solidFill>
            <a:srgbClr val="2588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1214280" y="4071960"/>
            <a:ext cx="1000440" cy="714240"/>
          </a:xfrm>
          <a:prstGeom prst="rect">
            <a:avLst/>
          </a:prstGeom>
          <a:solidFill>
            <a:srgbClr val="00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1214280" y="5143680"/>
            <a:ext cx="1000440" cy="7142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10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8381880" cy="1096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7"/>
          <p:cNvSpPr/>
          <p:nvPr/>
        </p:nvSpPr>
        <p:spPr>
          <a:xfrm>
            <a:off x="642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c02"/>
                </a:solidFill>
                <a:latin typeface="Arial"/>
              </a:rPr>
              <a:t>верх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8"/>
          <p:cNvSpPr/>
          <p:nvPr/>
        </p:nvSpPr>
        <p:spPr>
          <a:xfrm>
            <a:off x="642960" y="3571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9"/>
          <p:cNvSpPr/>
          <p:nvPr/>
        </p:nvSpPr>
        <p:spPr>
          <a:xfrm>
            <a:off x="714240" y="471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2" descr="PINN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07 Дорожка 7.wma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:\ан картинки\1a5.gif"/>
          <p:cNvPicPr/>
          <p:nvPr/>
        </p:nvPicPr>
        <p:blipFill>
          <a:blip r:embed="rId4"/>
          <a:stretch/>
        </p:blipFill>
        <p:spPr>
          <a:xfrm>
            <a:off x="5786280" y="528624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G:\ан картинки\1b3.gif"/>
          <p:cNvPicPr/>
          <p:nvPr/>
        </p:nvPicPr>
        <p:blipFill>
          <a:blip r:embed="rId5"/>
          <a:stretch/>
        </p:blipFill>
        <p:spPr>
          <a:xfrm>
            <a:off x="6429240" y="0"/>
            <a:ext cx="2143440" cy="122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G:\ан картинки\29m3.gif"/>
          <p:cNvPicPr/>
          <p:nvPr/>
        </p:nvPicPr>
        <p:blipFill>
          <a:blip r:embed="rId6"/>
          <a:stretch/>
        </p:blipFill>
        <p:spPr>
          <a:xfrm rot="20107800">
            <a:off x="1731960" y="4735440"/>
            <a:ext cx="291456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G:\ан картинки\33m2.gif"/>
          <p:cNvPicPr/>
          <p:nvPr/>
        </p:nvPicPr>
        <p:blipFill>
          <a:blip r:embed="rId7"/>
          <a:stretch/>
        </p:blipFill>
        <p:spPr>
          <a:xfrm>
            <a:off x="-285840" y="4500720"/>
            <a:ext cx="2247840" cy="197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j0283572"/>
          <p:cNvPicPr/>
          <p:nvPr/>
        </p:nvPicPr>
        <p:blipFill>
          <a:blip r:embed="rId8"/>
          <a:stretch/>
        </p:blipFill>
        <p:spPr>
          <a:xfrm rot="3142800">
            <a:off x="2628000" y="3058200"/>
            <a:ext cx="2663640" cy="1814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5786280" y="17146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500120" y="541188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Чем похожи лес и 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2"/>
          <a:stretch/>
        </p:blipFill>
        <p:spPr>
          <a:xfrm>
            <a:off x="268200" y="255600"/>
            <a:ext cx="852804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Картинка 30 из 967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150012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Картинка 19 из 39695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14840" y="1500120"/>
            <a:ext cx="4952880" cy="3810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30 из 967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214200"/>
            <a:ext cx="7643880" cy="6429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3357720" y="857160"/>
            <a:ext cx="33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ЛЕ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143000" y="20001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alibri"/>
              </a:rPr>
              <a:t>Верхний этаж (ярус) - деревья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6429240" y="571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357960" y="207180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500880" y="35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т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357960" y="4857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Картинка 24 из 158809"/>
          <p:cNvPicPr/>
          <p:nvPr/>
        </p:nvPicPr>
        <p:blipFill>
          <a:blip r:embed="rId2"/>
          <a:stretch/>
        </p:blipFill>
        <p:spPr>
          <a:xfrm>
            <a:off x="1785960" y="285840"/>
            <a:ext cx="323388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право 6"/>
          <p:cNvSpPr/>
          <p:nvPr/>
        </p:nvSpPr>
        <p:spPr>
          <a:xfrm rot="9450000">
            <a:off x="3755520" y="1301400"/>
            <a:ext cx="2776680" cy="39204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7"/>
          <p:cNvSpPr/>
          <p:nvPr/>
        </p:nvSpPr>
        <p:spPr>
          <a:xfrm rot="9752400">
            <a:off x="3311280" y="2729880"/>
            <a:ext cx="3100320" cy="39060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8"/>
          <p:cNvSpPr/>
          <p:nvPr/>
        </p:nvSpPr>
        <p:spPr>
          <a:xfrm rot="10047600">
            <a:off x="3435480" y="3984120"/>
            <a:ext cx="3193920" cy="40320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9"/>
          <p:cNvSpPr/>
          <p:nvPr/>
        </p:nvSpPr>
        <p:spPr>
          <a:xfrm rot="10295400">
            <a:off x="4087080" y="5094000"/>
            <a:ext cx="2281320" cy="39060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Elena\Рабочий стол\Татьяна\ан картинки\teacher.gif"/>
          <p:cNvPicPr/>
          <p:nvPr/>
        </p:nvPicPr>
        <p:blipFill>
          <a:blip r:embed="rId3"/>
          <a:stretch/>
        </p:blipFill>
        <p:spPr>
          <a:xfrm>
            <a:off x="357120" y="421488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785880" y="21420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572160" y="2858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500280" y="285840"/>
            <a:ext cx="15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332000" y="5072040"/>
            <a:ext cx="20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i?id=24207820&amp;tov=0"/>
          <p:cNvPicPr/>
          <p:nvPr/>
        </p:nvPicPr>
        <p:blipFill>
          <a:blip r:embed="rId2"/>
          <a:stretch/>
        </p:blipFill>
        <p:spPr>
          <a:xfrm>
            <a:off x="428760" y="1000080"/>
            <a:ext cx="2214360" cy="271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i?id=30554277&amp;tov=5"/>
          <p:cNvPicPr/>
          <p:nvPr/>
        </p:nvPicPr>
        <p:blipFill>
          <a:blip r:embed="rId3"/>
          <a:stretch/>
        </p:blipFill>
        <p:spPr>
          <a:xfrm>
            <a:off x="3429000" y="407196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i?id=31886309&amp;tov=4"/>
          <p:cNvPicPr/>
          <p:nvPr/>
        </p:nvPicPr>
        <p:blipFill>
          <a:blip r:embed="rId4"/>
          <a:stretch/>
        </p:blipFill>
        <p:spPr>
          <a:xfrm>
            <a:off x="6143760" y="1000080"/>
            <a:ext cx="2071440" cy="26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i?id=52586817&amp;tov=0"/>
          <p:cNvPicPr/>
          <p:nvPr/>
        </p:nvPicPr>
        <p:blipFill>
          <a:blip r:embed="rId5"/>
          <a:stretch/>
        </p:blipFill>
        <p:spPr>
          <a:xfrm>
            <a:off x="3286080" y="1000080"/>
            <a:ext cx="2000160" cy="2714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Картинка 11 из 13"/>
          <p:cNvPicPr/>
          <p:nvPr/>
        </p:nvPicPr>
        <p:blipFill>
          <a:blip r:embed="rId2"/>
          <a:stretch/>
        </p:blipFill>
        <p:spPr>
          <a:xfrm>
            <a:off x="5786280" y="1571760"/>
            <a:ext cx="2928960" cy="4524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Картинка 12 из 13"/>
          <p:cNvPicPr/>
          <p:nvPr/>
        </p:nvPicPr>
        <p:blipFill>
          <a:blip r:embed="rId3"/>
          <a:stretch/>
        </p:blipFill>
        <p:spPr>
          <a:xfrm>
            <a:off x="571680" y="214200"/>
            <a:ext cx="4929120" cy="4071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Elena\Рабочий стол\Татьяна\ан картинки\Post-10-1147542242.gif"/>
          <p:cNvPicPr/>
          <p:nvPr/>
        </p:nvPicPr>
        <p:blipFill>
          <a:blip r:embed="rId4"/>
          <a:stretch/>
        </p:blipFill>
        <p:spPr>
          <a:xfrm>
            <a:off x="2571840" y="4357800"/>
            <a:ext cx="1714320" cy="2000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428840" y="500040"/>
            <a:ext cx="61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Средний этаж (ярус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857680" y="128592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alibri"/>
              </a:rPr>
              <a:t>кустар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52862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Много тонких деревянистых  стеблей (стволик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?id=26712764&amp;tov=4"/>
          <p:cNvPicPr/>
          <p:nvPr/>
        </p:nvPicPr>
        <p:blipFill>
          <a:blip r:embed="rId2"/>
          <a:stretch/>
        </p:blipFill>
        <p:spPr>
          <a:xfrm>
            <a:off x="2000160" y="207180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285920" y="21420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 flipV="1" rot="10800000">
            <a:off x="857160" y="335736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шип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857920" y="2142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си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5429160" y="3429000"/>
            <a:ext cx="228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жас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0275002&amp;tov=6"/>
          <p:cNvPicPr/>
          <p:nvPr/>
        </p:nvPicPr>
        <p:blipFill>
          <a:blip r:embed="rId2"/>
          <a:stretch/>
        </p:blipFill>
        <p:spPr>
          <a:xfrm>
            <a:off x="500040" y="1000080"/>
            <a:ext cx="321480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?id=11826787&amp;tov=3"/>
          <p:cNvPicPr/>
          <p:nvPr/>
        </p:nvPicPr>
        <p:blipFill>
          <a:blip r:embed="rId3"/>
          <a:stretch/>
        </p:blipFill>
        <p:spPr>
          <a:xfrm>
            <a:off x="5000760" y="1000080"/>
            <a:ext cx="3143160" cy="221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i?id=17542827&amp;tov=6"/>
          <p:cNvPicPr/>
          <p:nvPr/>
        </p:nvPicPr>
        <p:blipFill>
          <a:blip r:embed="rId4"/>
          <a:stretch/>
        </p:blipFill>
        <p:spPr>
          <a:xfrm>
            <a:off x="5072040" y="4143240"/>
            <a:ext cx="3071880" cy="235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i?id=29077708&amp;tov=6"/>
          <p:cNvPicPr/>
          <p:nvPr/>
        </p:nvPicPr>
        <p:blipFill>
          <a:blip r:embed="rId5"/>
          <a:stretch/>
        </p:blipFill>
        <p:spPr>
          <a:xfrm>
            <a:off x="571680" y="4071960"/>
            <a:ext cx="3357360" cy="2357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57200" y="260280"/>
            <a:ext cx="6094440" cy="7642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Нижний этаж (ярус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71680" y="542916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 них один или несколько  мягких стеб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85840" y="142884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травянистые растения и гри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?id=60652502&amp;tov=2"/>
          <p:cNvPicPr/>
          <p:nvPr/>
        </p:nvPicPr>
        <p:blipFill>
          <a:blip r:embed="rId2"/>
          <a:stretch/>
        </p:blipFill>
        <p:spPr>
          <a:xfrm>
            <a:off x="357120" y="2421000"/>
            <a:ext cx="3710160" cy="272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i?id=28892276&amp;tov=5"/>
          <p:cNvPicPr/>
          <p:nvPr/>
        </p:nvPicPr>
        <p:blipFill>
          <a:blip r:embed="rId3"/>
          <a:stretch/>
        </p:blipFill>
        <p:spPr>
          <a:xfrm>
            <a:off x="4786200" y="242892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05:59Z</dcterms:created>
  <dc:creator>Elena</dc:creator>
  <dc:description/>
  <dc:language>en-US</dc:language>
  <cp:lastModifiedBy>Андрей</cp:lastModifiedBy>
  <dcterms:modified xsi:type="dcterms:W3CDTF">2008-10-31T08:56:11Z</dcterms:modified>
  <cp:revision>36</cp:revision>
  <dc:subject/>
  <dc:title>Слайд 1</dc:title>
</cp:coreProperties>
</file>