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F1F-871B-4A81-AF28-075B291F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75C-D50C-468A-BAB6-E19AF924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167-6D9F-406F-9350-C89DBEA6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43E-EE3B-43B0-BA88-6F54E127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BC0A-8AD6-4C61-BC85-ABF6DF24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6E4-DC52-4DCB-AEA1-3BEC2459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3FE-6543-47C9-BD13-D6A2BD02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B3D8-5C40-4E58-AEB4-1E3AD660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B7D-B5BE-49AD-8C88-1CCD4018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B44-A63A-4F04-8373-22366630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543F-B218-4E2C-9A59-555C10BE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3CB6-94D8-4E5A-B5F4-8BA17F89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4A2F-0437-40A0-A8C5-F669CBB998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e0f02"/>
                </a:solidFill>
                <a:latin typeface="Arial"/>
              </a:rPr>
              <a:t>Презентация работы над методической тем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я би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 СОШ № 16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 Солнечнодоль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ильнен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вропольского кр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cc"/>
                </a:solidFill>
                <a:latin typeface="Arial"/>
              </a:rPr>
              <a:t>МОСТОВОЙ АЛЛЫ НИКОЛАЕВ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 формирования групп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решению учителя. Можно выровнять группы по силе учеников, в них входящих (ценой разной силы груп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знакам Зодиака. Необычное решение, обычно впечатляющее учеников; неожиданные сочетания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абору лидеров (первым по рейтингу 5–7 ученикам предоставляется право набрать себе групп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илю интеллектуальной деятельности (эрудит – критик – генератор ид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Arial"/>
              </a:rPr>
              <a:t>Этапы изучения темы при работе в групп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В. Пасечник выделил четыре этапа изучения учебной темы  в групп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инструктаж или ле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самостоятельная работа школьников с  обсуждением результатов внутри каждой групп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систематизация и коррекция зн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обобщение и оценка знаний уча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4" descr="7-2"/>
          <p:cNvPicPr/>
          <p:nvPr/>
        </p:nvPicPr>
        <p:blipFill>
          <a:blip r:embed="rId1"/>
          <a:stretch/>
        </p:blipFill>
        <p:spPr>
          <a:xfrm>
            <a:off x="4572000" y="1700280"/>
            <a:ext cx="3959280" cy="2878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5"/>
          <p:cNvSpPr/>
          <p:nvPr/>
        </p:nvSpPr>
        <p:spPr>
          <a:xfrm>
            <a:off x="4643280" y="4076640"/>
            <a:ext cx="40388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7" descr="j0217698"/>
          <p:cNvPicPr/>
          <p:nvPr/>
        </p:nvPicPr>
        <p:blipFill>
          <a:blip r:embed="rId2"/>
          <a:stretch/>
        </p:blipFill>
        <p:spPr>
          <a:xfrm>
            <a:off x="5724360" y="4797360"/>
            <a:ext cx="1748160" cy="1693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Какие роли должны быть в групп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тор – отвечает за работу группы в цело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кер – выступает перед классом с готовым решением групп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кретарь – записывает высказанные идеи и реш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ик – высказывает противоположную точку зрения, провоцирует возраж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ер – проверяет все ли поняли принятое реш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Алгоритм движения при выполнении задания в групп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ение задания, которое будет выполняться, для более осознанного его поним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условия (разграничение границ знаний для нахождения способа решения поставленной задач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вижение версий всеми членами группы (формулировка собственной точки зрения, выяснение точек зрения партнеров, выявление разниц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нование версий, их проверка, исключение неподходящих для выполнения зад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ное принятие ре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решения задания, его оформл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оваривание в группе выступления спике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ие решения спикеро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рганизация групповой деятельности на различных видах урок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в группах на уроке- семинаре, уроке-зач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 в группах на уроке –практику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работа на уроке-дисску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работа на уроке-консульт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работа на уроке-соревно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работа на уроке  «деловая игра», «ролевая –иг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труктура работы на уроке-практику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Organization Chart 6"/>
          <p:cNvGrpSpPr/>
          <p:nvPr/>
        </p:nvGrpSpPr>
        <p:grpSpPr>
          <a:xfrm>
            <a:off x="468360" y="1557360"/>
            <a:ext cx="8208360" cy="4102560"/>
            <a:chOff x="468360" y="1557360"/>
            <a:chExt cx="8208360" cy="4102560"/>
          </a:xfrm>
        </p:grpSpPr>
        <p:cxnSp>
          <p:nvCxnSpPr>
            <p:cNvPr id="81" name="_s1028"/>
            <p:cNvCxnSpPr>
              <a:stCxn id="82" idx="3"/>
              <a:endCxn id="83" idx="2"/>
            </p:cNvCxnSpPr>
            <p:nvPr/>
          </p:nvCxnSpPr>
          <p:spPr>
            <a:xfrm flipV="1">
              <a:off x="7201440" y="4118760"/>
              <a:ext cx="208800" cy="102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1029"/>
            <p:cNvCxnSpPr>
              <a:stCxn id="85" idx="3"/>
              <a:endCxn id="86" idx="2"/>
            </p:cNvCxnSpPr>
            <p:nvPr/>
          </p:nvCxnSpPr>
          <p:spPr>
            <a:xfrm flipV="1">
              <a:off x="4458600" y="4118760"/>
              <a:ext cx="208800" cy="102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030"/>
            <p:cNvCxnSpPr>
              <a:stCxn id="88" idx="3"/>
              <a:endCxn id="89" idx="2"/>
            </p:cNvCxnSpPr>
            <p:nvPr/>
          </p:nvCxnSpPr>
          <p:spPr>
            <a:xfrm flipV="1">
              <a:off x="1715400" y="4118760"/>
              <a:ext cx="208800" cy="102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1031"/>
            <p:cNvCxnSpPr>
              <a:stCxn id="83" idx="0"/>
              <a:endCxn id="91" idx="2"/>
            </p:cNvCxnSpPr>
            <p:nvPr/>
          </p:nvCxnSpPr>
          <p:spPr>
            <a:xfrm flipV="1" rot="16200000">
              <a:off x="5781240" y="1465920"/>
              <a:ext cx="513000" cy="2743560"/>
            </a:xfrm>
            <a:prstGeom prst="bentConnector3">
              <a:avLst>
                <a:gd name="adj1" fmla="val 222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1032"/>
            <p:cNvCxnSpPr>
              <a:stCxn id="86" idx="0"/>
              <a:endCxn id="91" idx="2"/>
            </p:cNvCxnSpPr>
            <p:nvPr/>
          </p:nvCxnSpPr>
          <p:spPr>
            <a:xfrm flipV="1">
              <a:off x="4666320" y="2581200"/>
              <a:ext cx="3240" cy="513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033"/>
            <p:cNvCxnSpPr>
              <a:stCxn id="89" idx="0"/>
              <a:endCxn id="91" idx="2"/>
            </p:cNvCxnSpPr>
            <p:nvPr/>
          </p:nvCxnSpPr>
          <p:spPr>
            <a:xfrm flipH="1" flipV="1" rot="5400000">
              <a:off x="3038760" y="1465920"/>
              <a:ext cx="513000" cy="2743560"/>
            </a:xfrm>
            <a:prstGeom prst="bentConnector3">
              <a:avLst>
                <a:gd name="adj1" fmla="val 222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1034"/>
            <p:cNvSpPr/>
            <p:nvPr/>
          </p:nvSpPr>
          <p:spPr>
            <a:xfrm>
              <a:off x="3399480" y="1557360"/>
              <a:ext cx="2534400" cy="1024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Arial"/>
                </a:rPr>
                <a:t>учит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5"/>
            <p:cNvSpPr/>
            <p:nvPr/>
          </p:nvSpPr>
          <p:spPr>
            <a:xfrm>
              <a:off x="656280" y="3094200"/>
              <a:ext cx="2534400" cy="1024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1 консультан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6"/>
            <p:cNvSpPr/>
            <p:nvPr/>
          </p:nvSpPr>
          <p:spPr>
            <a:xfrm>
              <a:off x="3399480" y="3094200"/>
              <a:ext cx="2534400" cy="1024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2 консультан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37"/>
            <p:cNvSpPr/>
            <p:nvPr/>
          </p:nvSpPr>
          <p:spPr>
            <a:xfrm>
              <a:off x="6142320" y="3094200"/>
              <a:ext cx="2534400" cy="1024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3 консультан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8"/>
            <p:cNvSpPr/>
            <p:nvPr/>
          </p:nvSpPr>
          <p:spPr>
            <a:xfrm>
              <a:off x="468360" y="4631400"/>
              <a:ext cx="1247040" cy="1028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1 груп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9"/>
            <p:cNvSpPr/>
            <p:nvPr/>
          </p:nvSpPr>
          <p:spPr>
            <a:xfrm>
              <a:off x="3211920" y="4631400"/>
              <a:ext cx="1246680" cy="1028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2 груп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0"/>
            <p:cNvSpPr/>
            <p:nvPr/>
          </p:nvSpPr>
          <p:spPr>
            <a:xfrm>
              <a:off x="5954760" y="4631400"/>
              <a:ext cx="1246680" cy="1028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3 груп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2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о  мнению Л.С.Выготск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усвоение  понятий - процесс творческий, продуктивный.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еобходимость  функционального  употребления  появляется только тогда,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огда  среда  ставит  соответствующие  цели,  задачи,  выдвигает новые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требования, стимулирующие развитие интеллекта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612720" y="7650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МЕТОДИЧЕСКАЯ ТЕМА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«РАБОТА В ГРУППАХ КАК СРЕДСТВО ПОВЫШЕНИЯ ЭФФЕКТИВНОСТИ ОБУЧЕНИЯ НА УРОКАХ БИОЛОГИ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Цели и задачи 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приобретение учащимися более высокого качества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: повысить усвоение учеником информации, развивать познавательную самостоятетельность,за счет возникающего в группе эмоционального контакт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j0299171"/>
          <p:cNvPicPr/>
          <p:nvPr/>
        </p:nvPicPr>
        <p:blipFill>
          <a:blip r:embed="rId1"/>
          <a:stretch/>
        </p:blipFill>
        <p:spPr>
          <a:xfrm>
            <a:off x="1042920" y="1916280"/>
            <a:ext cx="231480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e0f02"/>
                </a:solidFill>
                <a:latin typeface="Arial"/>
              </a:rPr>
              <a:t>Необходимость нового подхода к обуч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ое общество ставит перед школой новые требования по модернизации и совершенствованию учебно-воспитательного процесса. Учителю, работающему в школе XXI века постоянно приходится задумываться о том, как сделать процесс обучения более результативны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В чем преимущества группового метода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ает глубина понимания учебного материала, познавательная активность и творческая самостоятельность учащих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яется характер взаимоотношений между детьми: исчезает безразличие, приобретается теплота, человеч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лоченность класса резко возрастает, дети начинают лучше понимать друг друга и самих себ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ет самокритичность, дети более точно оценивают свои возможности, лучше себя контролирую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щиеся приобретают навыки, необходимые для жизни в обществе: откровенность, такт, умение строить свое поведение с учетом позиции других лю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ый принцип эффективной групповой работы- позитивная взаимозавис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e0f02"/>
                </a:solidFill>
                <a:latin typeface="Arial"/>
              </a:rPr>
              <a:t>Различают пять видов взаимозависим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заимозависимость по результату. У всех общая цель: подготовить отчёт, написать рассказ, изготовить при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олевая взаимозависимость. В группе распределены взаимодополняющие и необходимые для выполнения работы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Взаимозависимость по ресурс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Взаимозависимость по успеху (оценке). Оценка работы группы учитывает вклад каждого из участ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Взаимозависимость по задаче. Распределение работы даёт больший эффект, каждый делает одну из важных под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Групповая работа повышает качество усвоения учебного материала, активизирует деятельность всего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S3020040"/>
          <p:cNvPicPr/>
          <p:nvPr/>
        </p:nvPicPr>
        <p:blipFill>
          <a:blip r:embed="rId1"/>
          <a:stretch/>
        </p:blipFill>
        <p:spPr>
          <a:xfrm>
            <a:off x="4648320" y="2352600"/>
            <a:ext cx="4038480" cy="302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S3020042"/>
          <p:cNvPicPr/>
          <p:nvPr/>
        </p:nvPicPr>
        <p:blipFill>
          <a:blip r:embed="rId2"/>
          <a:stretch/>
        </p:blipFill>
        <p:spPr>
          <a:xfrm>
            <a:off x="457200" y="2352600"/>
            <a:ext cx="4038480" cy="302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e0f02"/>
                </a:solidFill>
                <a:latin typeface="Arial"/>
              </a:rPr>
              <a:t>Структура работы по методической те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29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В ГРУППАХ КАК СРЕДСТВО ЭФФЕКТИВНОСТИ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56240" y="1600200"/>
            <a:ext cx="40305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ГРУППОВОЙ РАБОТЫ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936600"/>
            <a:ext cx="40291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ГРУППОВОЙ ДЕЯТЕЛЬНОСТИ НА РАЗНЫХ ВИДАХ УРО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56240" y="3936600"/>
            <a:ext cx="403056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КИ КООПЕРАЦИИ КАК СПОСОБ ОРГАНИЗАЦИИ ГРУППОВОЙ РАБОТЫ УЧА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ГАНИЗАЦИЯ ГРУППОВОЙ РАБОТЫ УЧАЩИХСЯ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ется оптимальным состав не более 5 человек. Психологи рекомендуют в группах избирать командира, которому учитель выдает задания и просит его взять руководство их выполн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DSC0019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8:30:15Z</dcterms:created>
  <dc:creator>я</dc:creator>
  <dc:description/>
  <dc:language>en-US</dc:language>
  <cp:lastModifiedBy>Елена</cp:lastModifiedBy>
  <dcterms:modified xsi:type="dcterms:W3CDTF">2011-12-06T17:59:17Z</dcterms:modified>
  <cp:revision>11</cp:revision>
  <dc:subject/>
  <dc:title>Слайд 1</dc:title>
</cp:coreProperties>
</file>