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1FF-C9DE-47AC-8EE7-1381BBC6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47C-DF42-4B71-96F9-77AA8675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C81-6E65-4BA7-933F-C0667940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F38-64A0-4981-9D3D-E5F794BA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FB4-7F77-40E6-B369-8D28AFBA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468-F668-4F26-9281-4AED1927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6B6-A2FF-441F-B4F8-FC79C31E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A0E-BF3C-4F7A-85B9-C7A28DC6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568-5454-4FD5-906A-8E05B779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D90-9034-4CC5-ACAC-F077173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797-0883-4B30-A7AA-D64E49B7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ADD-1CE7-4230-8A97-E7CD5576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7D28-FD97-4841-8229-CC11E20C1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e0f02"/>
                </a:solidFill>
                <a:latin typeface="Arial"/>
              </a:rPr>
              <a:t>Презентация работы над методической тем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я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 СОШ № 16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Солнечнодоль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ильнен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вропольского к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Arial"/>
              </a:rPr>
              <a:t>МОСТОВОЙ АЛЛЫ НИКОЛАЕВ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формирования групп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шению учителя. Можно выровнять группы по силе учеников, в них входящих (ценой разной силы груп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знакам Зодиака. Необычное решение, обычно впечатляющее учеников; неожиданные сочетания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бору лидеров (первым по рейтингу 5–7 ученикам предоставляется право набрать себе групп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илю интеллектуальной деятельности (эрудит – критик – генератор и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Arial"/>
              </a:rPr>
              <a:t>Этапы изучения темы при работе в групп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В. Пасечник выделил четыре этапа изучения учебной темы  в груп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инструктаж или ле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самостоятельная работа школьников с  обсуждением результатов внутри каждой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систематизация и коррекция зн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обобщение и оценка знаний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4" descr="7-2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2878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5"/>
          <p:cNvSpPr/>
          <p:nvPr/>
        </p:nvSpPr>
        <p:spPr>
          <a:xfrm>
            <a:off x="4643280" y="4076640"/>
            <a:ext cx="40388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7" descr="j0217698"/>
          <p:cNvPicPr/>
          <p:nvPr/>
        </p:nvPicPr>
        <p:blipFill>
          <a:blip r:embed="rId2"/>
          <a:stretch/>
        </p:blipFill>
        <p:spPr>
          <a:xfrm>
            <a:off x="5724360" y="4797360"/>
            <a:ext cx="1748160" cy="1693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кие роли должны быть в групп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тор – отвечает за работу группы в цел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кер – выступает перед классом с готовым решением групп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кретарь – записывает высказанные идеи и реш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к – высказывает противоположную точку зрения, провоцирует возраж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ер – проверяет все ли поняли принятое реш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Алгоритм движения при выполнении задания в групп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ение задания, которое будет выполняться, для более осознанного его поним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условия (разграничение границ знаний для нахождения способа решения поставленной задач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вижение версий всеми членами группы (формулировка собственной точки зрения, выяснение точек зрения партнеров, выявление разниц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ие версий, их проверка, исключение неподходящих для выполнения зад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ное приняти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решения задания, его оформ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оваривание в группе выступления спик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е решения спикеро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рганизация групповой деятельности на различных видах урок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в группах на уроке- семинаре, уроке-зач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 в группах на уроке –практику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работа на уроке-дисску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работа на уроке-консульт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работа на уроке-соревн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работа на уроке  «деловая игра», «ролевая –иг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труктура работы на уроке-практику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Organization Chart 6"/>
          <p:cNvGrpSpPr/>
          <p:nvPr/>
        </p:nvGrpSpPr>
        <p:grpSpPr>
          <a:xfrm>
            <a:off x="468360" y="1557360"/>
            <a:ext cx="8208360" cy="4102560"/>
            <a:chOff x="468360" y="1557360"/>
            <a:chExt cx="8208360" cy="4102560"/>
          </a:xfrm>
        </p:grpSpPr>
        <p:cxnSp>
          <p:nvCxnSpPr>
            <p:cNvPr id="81" name="_s1028"/>
            <p:cNvCxnSpPr>
              <a:stCxn id="82" idx="3"/>
              <a:endCxn id="83" idx="2"/>
            </p:cNvCxnSpPr>
            <p:nvPr/>
          </p:nvCxnSpPr>
          <p:spPr>
            <a:xfrm flipV="1">
              <a:off x="7201440" y="4118760"/>
              <a:ext cx="20880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029"/>
            <p:cNvCxnSpPr>
              <a:stCxn id="85" idx="3"/>
              <a:endCxn id="86" idx="2"/>
            </p:cNvCxnSpPr>
            <p:nvPr/>
          </p:nvCxnSpPr>
          <p:spPr>
            <a:xfrm flipV="1">
              <a:off x="4458600" y="4118760"/>
              <a:ext cx="20880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30"/>
            <p:cNvCxnSpPr>
              <a:stCxn id="88" idx="3"/>
              <a:endCxn id="89" idx="2"/>
            </p:cNvCxnSpPr>
            <p:nvPr/>
          </p:nvCxnSpPr>
          <p:spPr>
            <a:xfrm flipV="1">
              <a:off x="1715400" y="4118760"/>
              <a:ext cx="208800" cy="102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031"/>
            <p:cNvCxnSpPr>
              <a:stCxn id="83" idx="0"/>
              <a:endCxn id="91" idx="2"/>
            </p:cNvCxnSpPr>
            <p:nvPr/>
          </p:nvCxnSpPr>
          <p:spPr>
            <a:xfrm flipV="1" rot="16200000">
              <a:off x="5781240" y="1465920"/>
              <a:ext cx="513000" cy="2743560"/>
            </a:xfrm>
            <a:prstGeom prst="bentConnector3">
              <a:avLst>
                <a:gd name="adj1" fmla="val 22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1032"/>
            <p:cNvCxnSpPr>
              <a:stCxn id="86" idx="0"/>
              <a:endCxn id="91" idx="2"/>
            </p:cNvCxnSpPr>
            <p:nvPr/>
          </p:nvCxnSpPr>
          <p:spPr>
            <a:xfrm flipV="1">
              <a:off x="4666320" y="2581200"/>
              <a:ext cx="3240" cy="51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33"/>
            <p:cNvCxnSpPr>
              <a:stCxn id="89" idx="0"/>
              <a:endCxn id="91" idx="2"/>
            </p:cNvCxnSpPr>
            <p:nvPr/>
          </p:nvCxnSpPr>
          <p:spPr>
            <a:xfrm flipH="1" flipV="1" rot="5400000">
              <a:off x="3038760" y="1465920"/>
              <a:ext cx="513000" cy="2743560"/>
            </a:xfrm>
            <a:prstGeom prst="bentConnector3">
              <a:avLst>
                <a:gd name="adj1" fmla="val 222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034"/>
            <p:cNvSpPr/>
            <p:nvPr/>
          </p:nvSpPr>
          <p:spPr>
            <a:xfrm>
              <a:off x="3399480" y="1557360"/>
              <a:ext cx="2534400" cy="102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учи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5"/>
            <p:cNvSpPr/>
            <p:nvPr/>
          </p:nvSpPr>
          <p:spPr>
            <a:xfrm>
              <a:off x="656280" y="3094200"/>
              <a:ext cx="2534400" cy="102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1 консульта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6"/>
            <p:cNvSpPr/>
            <p:nvPr/>
          </p:nvSpPr>
          <p:spPr>
            <a:xfrm>
              <a:off x="3399480" y="3094200"/>
              <a:ext cx="2534400" cy="102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2 консульта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7"/>
            <p:cNvSpPr/>
            <p:nvPr/>
          </p:nvSpPr>
          <p:spPr>
            <a:xfrm>
              <a:off x="6142320" y="3094200"/>
              <a:ext cx="2534400" cy="102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3 консульта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8"/>
            <p:cNvSpPr/>
            <p:nvPr/>
          </p:nvSpPr>
          <p:spPr>
            <a:xfrm>
              <a:off x="468360" y="4631400"/>
              <a:ext cx="1247040" cy="1028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1 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9"/>
            <p:cNvSpPr/>
            <p:nvPr/>
          </p:nvSpPr>
          <p:spPr>
            <a:xfrm>
              <a:off x="3211920" y="4631400"/>
              <a:ext cx="1246680" cy="1028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2 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0"/>
            <p:cNvSpPr/>
            <p:nvPr/>
          </p:nvSpPr>
          <p:spPr>
            <a:xfrm>
              <a:off x="5954760" y="4631400"/>
              <a:ext cx="1246680" cy="1028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3 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2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о  мнению Л.С.Выготск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усвоение  понятий - процесс творческий, продуктивный.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еобходимость  функционального  употребления  появляется только тогда,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огда  среда  ставит  соответствующие  цели,  задачи,  выдвигает новые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требования, стимулирующие развитие интеллекта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612720" y="76500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МЕТОДИЧЕСКАЯ ТЕМ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«РАБОТА В ГРУППАХ КАК СРЕДСТВО ПОВЫШЕНИЯ ЭФФЕКТИВНОСТИ ОБУЧЕНИЯ НА УРОКАХ БИОЛОГИ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Цели и задачи 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приобретение учащимися более высокого качества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 повысить усвоение учеником информации, развивать познавательную самостоятетельность,за счет возникающего в группе эмоционального контакт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j0299171"/>
          <p:cNvPicPr/>
          <p:nvPr/>
        </p:nvPicPr>
        <p:blipFill>
          <a:blip r:embed="rId1"/>
          <a:stretch/>
        </p:blipFill>
        <p:spPr>
          <a:xfrm>
            <a:off x="1042920" y="1916280"/>
            <a:ext cx="231480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e0f02"/>
                </a:solidFill>
                <a:latin typeface="Arial"/>
              </a:rPr>
              <a:t>Необходимость нового подхода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общество ставит перед школой новые требования по модернизации и совершенствованию учебно-воспитательного процесса. Учителю, работающему в школе XXI века постоянно приходится задумываться о том, как сделать процесс обучения более результативны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В чем преимущества группового метода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ает глубина понимания учебного материала, познавательная активность и творческая самостоятельность учащих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яется характер взаимоотношений между детьми: исчезает безразличие, приобретается теплота, человеч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лоченность класса резко возрастает, дети начинают лучше понимать друг друга и самих себ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т самокритичность, дети более точно оценивают свои возможности, лучше себя контролирую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щиеся приобретают навыки, необходимые для жизни в обществе: откровенность, такт, умение строить свое поведение с учетом позиции других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й принцип эффективной групповой работы- позитивная взаимозавис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e0f02"/>
                </a:solidFill>
                <a:latin typeface="Arial"/>
              </a:rPr>
              <a:t>Различают пять видов взаимозависим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заимозависимость по результату. У всех общая цель: подготовить отчёт, написать рассказ, изготовить при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олевая взаимозависимость. В группе распределены взаимодополняющие и необходимые для выполнения работы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Взаимозависимость по ресур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Взаимозависимость по успеху (оценке). Оценка работы группы учитывает вклад каждого из уча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Взаимозависимость по задаче. Распределение работы даёт больший эффект, каждый делает одну из важных под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рупповая работа повышает качество усвоения учебного материала, активизирует деятельность всего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3020040"/>
          <p:cNvPicPr/>
          <p:nvPr/>
        </p:nvPicPr>
        <p:blipFill>
          <a:blip r:embed="rId1"/>
          <a:stretch/>
        </p:blipFill>
        <p:spPr>
          <a:xfrm>
            <a:off x="4648320" y="235260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S3020042"/>
          <p:cNvPicPr/>
          <p:nvPr/>
        </p:nvPicPr>
        <p:blipFill>
          <a:blip r:embed="rId2"/>
          <a:stretch/>
        </p:blipFill>
        <p:spPr>
          <a:xfrm>
            <a:off x="457200" y="235260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e0f02"/>
                </a:solidFill>
                <a:latin typeface="Arial"/>
              </a:rPr>
              <a:t>Структура работы по методической т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29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 ГРУППАХ КАК СРЕДСТВО ЭФФЕКТИВНОСТ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56240" y="1600200"/>
            <a:ext cx="40305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ГРУППОВОЙ РАБОТЫ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936600"/>
            <a:ext cx="40291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ГРУППОВОЙ ДЕЯТЕЛЬНОСТИ НА РАЗНЫХ ВИДАХ УРО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56240" y="3936600"/>
            <a:ext cx="403056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И КООПЕРАЦИИ КАК СПОСОБ ОРГАНИЗАЦИИ ГРУППОВОЙ РАБОТЫ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АЦИЯ ГРУППОВОЙ РАБОТЫ УЧАЩИХС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ется оптимальным состав не более 5 человек. Психологи рекомендуют в группах избирать командира, которому учитель выдает задания и просит его взять руководство их выполн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DSC0019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8:30:15Z</dcterms:created>
  <dc:creator>я</dc:creator>
  <dc:description/>
  <dc:language>en-US</dc:language>
  <cp:lastModifiedBy>Елена</cp:lastModifiedBy>
  <dcterms:modified xsi:type="dcterms:W3CDTF">2011-12-06T17:59:17Z</dcterms:modified>
  <cp:revision>11</cp:revision>
  <dc:subject/>
  <dc:title>Слайд 1</dc:title>
</cp:coreProperties>
</file>