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20.png" ContentType="image/png"/>
  <Override PartName="/ppt/media/image19.jpeg" ContentType="image/jpeg"/>
  <Override PartName="/ppt/media/image7.png" ContentType="image/png"/>
  <Override PartName="/ppt/media/image1.jpeg" ContentType="image/jpeg"/>
  <Override PartName="/ppt/media/image18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3.png" ContentType="image/png"/>
  <Override PartName="/ppt/media/image17.jpeg" ContentType="image/jpeg"/>
  <Override PartName="/ppt/media/image2.png" ContentType="image/png"/>
  <Override PartName="/ppt/media/image4.jpeg" ContentType="image/jpeg"/>
  <Override PartName="/ppt/media/image6.png" ContentType="image/png"/>
  <Override PartName="/ppt/media/image12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5E1F9-F66C-47EA-A48B-C27EC250E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02D80-966B-4288-A33E-888FE6F53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71995C-88DC-43B6-AAC0-7BF6E9A61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ABB426-0037-480F-ACBC-D06F1AB04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08F374-D5C7-43FB-9196-502C8763D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DAD4D5-5CEB-4C99-B5C4-72C6F9CD9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6B61A5-56D8-4A4C-90E2-1C23D50F5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ABDBFF-9EB9-46F4-9704-A5EF347EB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3D47BA-BB4F-4C47-9F12-AAB11109D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12CD93-992E-4927-9750-92752F5F0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CED3F0-4735-4688-9A5E-0DC35FF18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DF1C2-F76E-49D8-BFD7-183A2EB73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EAB2F-70CC-4366-885F-F900E8426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27A8D-91E3-4BFA-B628-1D94D0A00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C2889-0D13-45E1-87F5-F976A400C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031C9-499D-4E4F-99ED-56A4A1416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7AAED-2E41-4E24-BEAF-D0057AABF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11FAB-52FF-459A-9190-2BCAF513F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3D5FA-5539-4B74-B07F-48FAA3C43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FEF09-739B-431B-90E5-E87D96FC1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7A13C-3AF3-4B0E-940B-263D6106A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0E3CF-A28D-433A-8BDC-664FF1B01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E96FE-242F-4280-A7B9-41D48E4E9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8BF0A-B350-4308-BD3B-2CC7CC8F0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02EDA-63B5-4883-9FD3-E0DECCA97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ED923-F879-4126-947C-53C8CC47F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0E9DA5-CDA8-4EA5-96E3-2A1998B6B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A34ED4-C00F-474D-9659-D85CD4198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0246C0-CCAD-400E-8BEF-36C72DCAB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B80169-8304-4050-892B-2495BD939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19535C-1EB6-4F5E-AA37-7748FCB92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46197-4669-44DE-840B-E5A758154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A87AE5-8233-4D8C-B872-1793BBB45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A0E5CB-0830-4F3D-930E-B2A0BF300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BB3B07-EC11-4878-B588-9D88BA7A8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E7C554-B726-4E4D-AD34-038784799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8D40C0-8591-4F88-A717-0DC5D83C9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D64B85-F3E7-4A1D-8147-5CA4D7392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55BB49-712E-4DD5-8AD6-D08AA0746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D40AFF-C32B-4650-8945-D8F9F5347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DAE8F0-8BAB-446D-AB74-E181A8C6E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2830CE-F1BE-4AEE-9A41-13ABDC2AF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1DF0A-FE51-4A63-B45B-A3D4ABA06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0796E6-D2FD-41AD-B5D4-6B80D9FE2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B1D53A-04BC-404F-9F9D-8C2403769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255407-BAFB-4451-81FA-573DF62F8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9E3EC4-2803-408C-AC92-CFA2105C0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315CAA-FACF-44A6-8FA2-B39228D8E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71AB7E-00BB-4CD1-BD9B-B8AC26841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95C2EF-EC04-40EA-BEFD-F15E1B00C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86F628-9FE3-41C3-8DD8-0185AE8FC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3FDEBB-1D75-4344-AE84-B99CA1295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0A0ECF-E807-40CA-A4A4-534154D0B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EC067-910E-424D-BEFB-CA408D3C9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BEB1F8-CEBD-4DBB-B40A-2098BB75B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16F1F7-1511-49A3-92D8-303218A6B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A55076-9BAA-4620-BD4C-06EA9CA2E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23DBCF-7037-4E00-AEA2-38926CF02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058C26-E5DF-4A71-8832-9266D4432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FB6724-87CA-4820-BFFC-20240D021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C3ABF1-EAF8-40FE-8236-CDB5D16D8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1BD239-525B-43D6-B90A-AC9810156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C04EDF-045C-443D-8549-C57C1E1BE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24A1D7-0034-4D9C-A781-7C39F6199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DDB50-CE5C-4A40-96B1-DC7DE0DFF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514607-78EF-4E3B-9988-11C63C921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66C923-E7AB-4E7F-849E-EA42ED6F4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B2BE81-39D0-4727-AFD3-BA7832D5A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5EE903-6388-425C-9C31-C2B6C8F5B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3EA9FE-0589-429F-9DAE-FD430FE9E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3ACBF8-E9A4-4F73-AB0A-A0A54E7F0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283A81-5A64-45FD-ADAA-3C82BD0B9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CE2453-8FA3-4D91-8811-8480D0724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05D01F-3676-4230-8E79-8A7CBEEDF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BF895A-4193-4003-84D8-A22ED4211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9CD90-089F-4A78-8CBC-4262F1C2A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266E22-D773-4565-B891-9FC673D34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19294E-EB5C-431A-AF76-E52C2F2ED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BD4486-D9A7-4B5F-9135-AD6BA2BDF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2DB1A0-4E99-47C7-B489-318F28ACC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974302-2DFF-4F41-8A0E-8C294230A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1C8C65-B9E1-45DE-8F3C-0C76B8083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5DA39C-EF1C-4496-9937-8CDDABD0D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95D0D2-6F50-4BC5-8DB7-F548C4455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6FC51C-9662-470D-8307-5E2183BD6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19596F-64A4-4235-9768-D6ECA7655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98256-F2A5-4C08-8051-6751329DB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64C2F4-3BEE-4192-975A-D7183C063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F44B54-6A57-4164-A39E-E1A3D9147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37F69E-2C53-4AE4-AF71-29F4E2D90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E99412-A148-4A35-AA45-0C38C0B9E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BDA454-4EAA-4748-A418-FAD6D1076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2657D8-8B06-4A4C-BFE2-3B3F79708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5653CE-E422-4F73-A69C-0C5B969F0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91A4CC-7362-4C59-86CD-057A71D5F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D0BDB3-2D48-4F98-90DB-4E30DB783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FBD552-4D06-47C9-BB36-9F7CE89B2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D4A6A-D867-4FA2-82EC-95F69B311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2DFB41-E702-47CC-AC1D-3553DD6C7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3B2CCA-7CD3-451E-B159-1EA7BFE85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844E9F-8ADC-411F-8867-B0345DE7B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ED7A30-B8B0-485D-AA71-672157A0B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BB77AE-D180-4D5D-8B20-0CB4DF4D2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18E4B4-8BC2-419E-90F6-621A2EEEF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EB1D8F-7BA1-4565-8808-5EA91F202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D14FB1-F2EF-4074-B228-0F542B862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E27899-1CDA-42BE-9739-0D65808CF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F36D5B-2C0A-4DDC-B389-D2CDBBBA4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8832E-7963-4BE1-8C29-4169F5D730ED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DC256-C4AE-41DC-AF53-BA36347DB1B1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B63A5-307A-4B88-9DA1-148E6E215EEB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BF983-C620-4E08-8752-1C92AC238C54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7B619-F976-443D-B674-EB84C9F8A46A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D2D9B-9F9E-48BA-91B4-013E55D54A80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010F7-0C10-4D07-A3CA-7175AC15B1A7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AD750-9BE5-4626-902A-0EB49FB25D6C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50D44-50BD-4F56-88D1-BFF8954A117F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varvar.ru/arhiv/gallery/baroque/nikitin/index.html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pda.echo.msk.ru/att/element-570746-misc-0.jpg" TargetMode="Externa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belygorod.ru/img2/1000_rushud/Used/m66vitsky%20pt%20demidova.jpg" TargetMode="Externa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sch714-romanov.narod.ru/PEIIlaw.jpg" TargetMode="External"/><Relationship Id="rId3" Type="http://schemas.openxmlformats.org/officeDocument/2006/relationships/image" Target="../media/image13.jpeg"/><Relationship Id="rId4" Type="http://schemas.openxmlformats.org/officeDocument/2006/relationships/hyperlink" Target="http://album.foto.ru:8080/photos/pr0/141148/201882.jpg" TargetMode="External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image" Target="../media/image16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Заголовок 1" descr=""/>
          <p:cNvPicPr/>
          <p:nvPr/>
        </p:nvPicPr>
        <p:blipFill>
          <a:blip r:embed="rId2"/>
          <a:stretch/>
        </p:blipFill>
        <p:spPr>
          <a:xfrm>
            <a:off x="12600" y="92160"/>
            <a:ext cx="8985240" cy="1517400"/>
          </a:xfrm>
          <a:prstGeom prst="rect">
            <a:avLst/>
          </a:prstGeom>
          <a:ln w="0">
            <a:noFill/>
          </a:ln>
        </p:spPr>
      </p:pic>
      <p:pic>
        <p:nvPicPr>
          <p:cNvPr id="400" name="Заголовок 1" descr=""/>
          <p:cNvPicPr/>
          <p:nvPr/>
        </p:nvPicPr>
        <p:blipFill>
          <a:blip r:embed="rId3"/>
          <a:stretch/>
        </p:blipFill>
        <p:spPr>
          <a:xfrm>
            <a:off x="298440" y="1292400"/>
            <a:ext cx="8699400" cy="901440"/>
          </a:xfrm>
          <a:prstGeom prst="rect">
            <a:avLst/>
          </a:prstGeom>
          <a:ln w="0">
            <a:noFill/>
          </a:ln>
        </p:spPr>
      </p:pic>
      <p:pic>
        <p:nvPicPr>
          <p:cNvPr id="401" name="Заголовок 1" descr=""/>
          <p:cNvPicPr/>
          <p:nvPr/>
        </p:nvPicPr>
        <p:blipFill>
          <a:blip r:embed="rId4"/>
          <a:stretch/>
        </p:blipFill>
        <p:spPr>
          <a:xfrm>
            <a:off x="3121200" y="3498840"/>
            <a:ext cx="6065640" cy="336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Заголовок 1" descr=""/>
          <p:cNvPicPr/>
          <p:nvPr/>
        </p:nvPicPr>
        <p:blipFill>
          <a:blip r:embed="rId2"/>
          <a:stretch/>
        </p:blipFill>
        <p:spPr>
          <a:xfrm>
            <a:off x="103320" y="-648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27" name=""/>
          <p:cNvSpPr txBox="1"/>
          <p:nvPr/>
        </p:nvSpPr>
        <p:spPr>
          <a:xfrm>
            <a:off x="0" y="990360"/>
            <a:ext cx="9144000" cy="508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1 – Иван Никитин «Портрет напольного гетмана»(1720)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2 – Алексей Антропов «Портрет статс-дамы А.М.Измайловой»(1759)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3 – Дмитрий Левицкий «Портрет П.А.Демидова» Прокофий Акинфиевич Демидов – один из богатейших людей России, знаменитый чудак и меценат, основал первое Коммерческое училище,Пожертвовал большие суммы на строительство Воспитательного дома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4 – Дмитрий Левицкий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5 – Федор Рокотов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6 – 1)Алексей Антропов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       </a:t>
            </a: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2)Федор Рокотов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       </a:t>
            </a: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3)Дмитрий Левицкий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7 - Дмитрий Левицкий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8 – Иван Никитин «Портрет Петра </a:t>
            </a: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I</a:t>
            </a: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»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 txBox="1"/>
          <p:nvPr/>
        </p:nvSpPr>
        <p:spPr>
          <a:xfrm>
            <a:off x="456840" y="160020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1)Укажите автора и название картины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Можно ли считать этот портрет психологическим?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03" name="Picture 4" descr="Портрет напольного гетмана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181480" y="1295280"/>
            <a:ext cx="349092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 txBox="1"/>
          <p:nvPr/>
        </p:nvSpPr>
        <p:spPr>
          <a:xfrm>
            <a:off x="456840" y="1600200"/>
            <a:ext cx="4419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2)Укажите автора и название картины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Что вы можете сказать о характере этой дамы?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05" name="Picture 5" descr="Картинка 6 из 178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724280" y="1219320"/>
            <a:ext cx="401652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 txBox="1"/>
          <p:nvPr/>
        </p:nvSpPr>
        <p:spPr>
          <a:xfrm>
            <a:off x="45720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3)Кто является автором «Портрета П.А. Демидова»?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Чем привлекает внимание этот портрет?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Что вам известно о П.А.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 Демидов</a:t>
            </a: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е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?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07" name="Picture 7" descr="Картинка 65 из 414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724280" y="609480"/>
            <a:ext cx="431352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 txBox="1"/>
          <p:nvPr/>
        </p:nvSpPr>
        <p:spPr>
          <a:xfrm>
            <a:off x="151920" y="990360"/>
            <a:ext cx="44197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4)Назовите автора «Портрета архитектора А.Ф. Кокоринова»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Какие детали указывают на профессию портретируемого?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09" name="Picture 5" descr="lev3"/>
          <p:cNvPicPr/>
          <p:nvPr/>
        </p:nvPicPr>
        <p:blipFill>
          <a:blip r:embed="rId2"/>
          <a:stretch/>
        </p:blipFill>
        <p:spPr>
          <a:xfrm>
            <a:off x="4724280" y="685800"/>
            <a:ext cx="37720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ubTitle"/>
          </p:nvPr>
        </p:nvSpPr>
        <p:spPr>
          <a:xfrm>
            <a:off x="4571640" y="990720"/>
            <a:ext cx="4267080" cy="457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43329"/>
                </a:solidFill>
                <a:latin typeface="Franklin Gothic Book"/>
              </a:rPr>
              <a:t>5)Кто из русских художников является автором «Портрета неизвестной в голубом платье с желтой отделкой»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43329"/>
                </a:solidFill>
                <a:latin typeface="Franklin Gothic Book"/>
              </a:rPr>
              <a:t>Почему вы так думаете?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11" name="Picture 6" descr="rokotov3"/>
          <p:cNvPicPr/>
          <p:nvPr/>
        </p:nvPicPr>
        <p:blipFill>
          <a:blip r:embed="rId2"/>
          <a:stretch/>
        </p:blipFill>
        <p:spPr>
          <a:xfrm>
            <a:off x="609480" y="762120"/>
            <a:ext cx="363240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Picture 11" descr="Картинка 110 из 414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095880" y="2057400"/>
            <a:ext cx="2884680" cy="434340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13" descr="Картинка 43 из 6522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276720" y="2057400"/>
            <a:ext cx="2705040" cy="411480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15" descr="Картинка 1 из 2901"/>
          <p:cNvPicPr/>
          <p:nvPr/>
        </p:nvPicPr>
        <p:blipFill>
          <a:blip r:embed="rId6"/>
          <a:stretch/>
        </p:blipFill>
        <p:spPr>
          <a:xfrm>
            <a:off x="152280" y="2057400"/>
            <a:ext cx="3067200" cy="3809880"/>
          </a:xfrm>
          <a:prstGeom prst="rect">
            <a:avLst/>
          </a:prstGeom>
          <a:ln w="0">
            <a:noFill/>
          </a:ln>
        </p:spPr>
      </p:pic>
      <p:sp>
        <p:nvSpPr>
          <p:cNvPr id="415" name="Rectangle 17"/>
          <p:cNvSpPr/>
          <p:nvPr/>
        </p:nvSpPr>
        <p:spPr>
          <a:xfrm>
            <a:off x="382680" y="15231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Rectangle 18"/>
          <p:cNvSpPr/>
          <p:nvPr/>
        </p:nvSpPr>
        <p:spPr>
          <a:xfrm>
            <a:off x="3278160" y="14472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19"/>
          <p:cNvSpPr/>
          <p:nvPr/>
        </p:nvSpPr>
        <p:spPr>
          <a:xfrm>
            <a:off x="6097680" y="15231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8" name="Rectangle 20" descr=""/>
          <p:cNvPicPr/>
          <p:nvPr/>
        </p:nvPicPr>
        <p:blipFill>
          <a:blip r:embed="rId7"/>
          <a:stretch/>
        </p:blipFill>
        <p:spPr>
          <a:xfrm>
            <a:off x="255600" y="268200"/>
            <a:ext cx="8437680" cy="11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 txBox="1"/>
          <p:nvPr/>
        </p:nvSpPr>
        <p:spPr>
          <a:xfrm>
            <a:off x="152280" y="228600"/>
            <a:ext cx="37339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7)Являются ли эти картины работами одного художника или разных?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Обоснуйте свою точку зрения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Укажите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автора(- ов)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20" name="Picture 5" descr="Картинка 1 из 4102"/>
          <p:cNvPicPr/>
          <p:nvPr/>
        </p:nvPicPr>
        <p:blipFill>
          <a:blip r:embed="rId2"/>
          <a:stretch/>
        </p:blipFill>
        <p:spPr>
          <a:xfrm>
            <a:off x="3124080" y="2362320"/>
            <a:ext cx="2725920" cy="411480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7" descr="Картинка 4 из 4102"/>
          <p:cNvPicPr/>
          <p:nvPr/>
        </p:nvPicPr>
        <p:blipFill>
          <a:blip r:embed="rId3"/>
          <a:stretch/>
        </p:blipFill>
        <p:spPr>
          <a:xfrm>
            <a:off x="5943600" y="304920"/>
            <a:ext cx="2855880" cy="4343400"/>
          </a:xfrm>
          <a:prstGeom prst="rect">
            <a:avLst/>
          </a:prstGeom>
          <a:ln w="0">
            <a:noFill/>
          </a:ln>
        </p:spPr>
      </p:pic>
      <p:sp>
        <p:nvSpPr>
          <p:cNvPr id="422" name="Rectangle 8"/>
          <p:cNvSpPr/>
          <p:nvPr/>
        </p:nvSpPr>
        <p:spPr>
          <a:xfrm>
            <a:off x="2516400" y="54856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Rectangle 9"/>
          <p:cNvSpPr/>
          <p:nvPr/>
        </p:nvSpPr>
        <p:spPr>
          <a:xfrm>
            <a:off x="5488200" y="4564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 txBox="1"/>
          <p:nvPr/>
        </p:nvSpPr>
        <p:spPr>
          <a:xfrm>
            <a:off x="-360" y="228600"/>
            <a:ext cx="716292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8)Кто является автором данного портрета? Кого изобразил художник?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25" name="Picture 7" descr="Картинка 4 из 2790"/>
          <p:cNvPicPr/>
          <p:nvPr/>
        </p:nvPicPr>
        <p:blipFill>
          <a:blip r:embed="rId2"/>
          <a:stretch/>
        </p:blipFill>
        <p:spPr>
          <a:xfrm>
            <a:off x="914400" y="1828800"/>
            <a:ext cx="4648320" cy="47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таня</cp:lastModifiedBy>
  <dcterms:modified xsi:type="dcterms:W3CDTF">2011-12-02T19:31:36Z</dcterms:modified>
  <cp:revision>1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