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9A4-6A3B-4BE6-B9CD-2D2B93F9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E16-FDDB-4562-B14B-9706D7F2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12110-4214-49AF-9439-F8937423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237E0-F982-4EC2-9279-1832296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32B66-3902-4F11-A7A5-0F47A312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DFE85-E025-4775-93C8-BB817F82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C9E17-4CD3-4AD5-B984-6FA1621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2E74F-301F-458F-B0A1-DC8E235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205FB-04B4-4AAA-A603-6D3D01CA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44A82-3BF0-4848-8ED3-0FA5AD83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A3560-3554-437A-975A-2C9FA3E9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B2E-B796-4FBA-9B0F-33BA1C45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2D7-5F04-4BB5-97E8-9B013A12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F1BA-6730-4CC9-8164-5119EBFB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CEDD-D8E8-4030-A15E-CC9A06A7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B5BE-A7B5-4B89-83AE-95309AD4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CF62-DDD6-45E6-8982-EE88AE30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4582-923F-4480-B671-85D57F4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13BB-AF1D-48FB-B05E-0F190209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5560-11B9-44DF-826D-F5DBD15E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5E7-BD26-4785-8B86-DE20DABC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2967-3CC8-4E13-9E27-8366245E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448A-9DEB-42AD-8AA5-322A8DF7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7B06-FF20-4B3A-8D14-9AF2A36D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BAF1-2F18-49DD-B690-96BE554B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E8A8-BE2E-4803-892F-E5685465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1143-2B5A-4434-A4B1-2638B5DB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E1F4-2A43-4424-9E1B-26760762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5D79-2871-48E8-8BFC-48A0102C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CEBA-CF5A-4A15-8E75-E9956EEE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185B-9DFA-4431-943C-40123A71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58D-F120-42BE-A829-21D91294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C62C-617B-41C4-B392-0FF7F543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EA58-0721-416F-9171-B30551C0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DBA0-4305-48A2-A03A-C4888430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1815-97CA-4BC2-BA78-8AD7606B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2C11-7947-45C4-A9BB-7B38EB59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6D8F7-C749-466F-8103-DBC269C5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FED24-72BE-47FF-9B20-E983DE1D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539E-BEE6-439A-8BFE-071106AD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EA125-5AFA-4A67-8430-738599D9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65ACC-EA68-4C79-AEF1-C89B8ADE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16B-0C89-4F4F-8BB9-4A0478A9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B525-3160-4463-B200-8143D1D0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E24B-B119-4A94-9F52-0AF70B08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E18A-6E17-4F80-AB9E-71487558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CF2AA-04C9-4F75-BD71-1262702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D1DA8-30ED-470F-BF5A-4D9D51B3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3C3D-C5F4-4ED5-A16A-61FCCAD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B5C7F-640E-4761-975F-82179593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139E-3936-4B1E-90CB-2FDECE82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939FF-5C8B-477F-86E9-DC2D3082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607B8-36D9-4454-B447-0A4811F1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7AA-E487-4CA5-BBBD-77B01D2B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422E-5073-4A50-92A2-3A9678C5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F258-73D0-42AD-867B-C18AA735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80724-5C64-49CB-8A41-7F8C54A4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5BDE-492B-47A9-952D-AA2A441A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2E9B-E645-4987-83DC-EE1A3AB5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29640-51CC-4A8B-A10F-7F3EC0A0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174B-8548-46C6-BFDE-75B53C0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CF29A-EF64-464F-A817-407A2B16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CE798-579E-4FC0-9BBB-66490DEE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849E0-E126-4689-A22B-F3A6CE01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8AD-A692-405B-B58F-79B2FCF8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0690F-1E8A-4589-A715-D7017D1F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7A467-65A4-4E14-A429-554F3F00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8CFB-78C9-4E95-A199-387222AA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CB40F-DC42-4AA1-A8D0-67941210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DCF42-F464-48DD-A895-5A5D9845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92732-1545-4178-BA0F-9291DD98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8627-00EA-4BBD-BF43-5B20CC98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29759-A803-4DC8-BFF1-9792B77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F8B5-6C0F-4C3F-91B6-9BC3DD9B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BCFF0-7D62-4E90-887D-2AAF3B1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B16-7A46-4794-8B42-9A8DB2D2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A0307-AE04-41A6-8BEF-10D04AC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EE3F-AC27-4209-B884-E69F0514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950B4-1514-4435-95F0-EDA72E43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6054D-010C-452F-B0B4-DBC2EEC9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77D3C-F872-4DB8-A2B8-AF111998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E95D-5B2A-4AEE-8A87-54449970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724F0-50F8-4375-83B4-0EB51759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B58FA-997C-4301-8BF0-596D831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685B1-1FF4-48EB-A3D2-438FFAD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8D98-29AE-4D6A-8E50-93EE642D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37C-9441-47C6-B5A6-1DA65F5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82908-9092-4269-9F06-B3E6BCB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2FD82-41F1-47F9-AA5E-D43DCA8F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9D582-80A7-48E0-8D9B-940208F7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709F4-8761-4A86-A8DE-917E91F5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C1A59-0CDE-4854-8DB7-53168312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C93EC-D523-4F3D-BECF-85675C7A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4EAD7-DBB4-47F2-ACA8-868B653F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9772D-B684-49F6-995E-376296B5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B0D1C-BC4A-48AF-B19E-F98C4398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50BDF-F7DB-4BA0-92C7-E701628C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9AC-C0CD-465B-9454-F5B17A6C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3829B-7CFA-4CA6-A92B-B01EA072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4C3E1-7B86-495D-90FD-013E13D9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4E90E-CCA7-4F39-A872-1C279E0E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DAE79-6303-4389-AD35-ED847D1C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0487A-97E9-4178-BD67-199B03E3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16E64-C31A-424C-9AA4-1A27E818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46EFF-D0D2-492D-A2EB-F09BC06F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65C10-9143-455C-B828-08ACEDBC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12C22-5AE2-4E02-BF66-7E3CF223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52CAD-EE6F-4E9F-9EA2-14B6E8C9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D968-A654-4056-B976-4E9826AC86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72B9-31B5-4CAC-9CEE-13AD6AA297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B2E6-AF88-40A4-8848-0A7B03A0B8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59E-E7FC-40CE-B62B-1D1E9C11DF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9ADC-F087-4A8A-8FC5-12EDD631D61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46CD-E1DF-4CDD-A2B5-82325883DA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7109-CB3F-4584-929B-9A556FDC207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BB37-B629-4067-9A7E-41C9E67384D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57B0-F0E4-4E61-BF08-8CC140DA765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rvar.ru/arhiv/gallery/baroque/nikitin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da.echo.msk.ru/att/element-570746-misc-0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elygorod.ru/img2/1000_rushud/Used/m66vitsky%20pt%20demidova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714-romanov.narod.ru/PEIIlaw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album.foto.ru:8080/photos/pr0/141148/201882.jpg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12600" y="9216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3"/>
          <a:stretch/>
        </p:blipFill>
        <p:spPr>
          <a:xfrm>
            <a:off x="298440" y="1292400"/>
            <a:ext cx="8699400" cy="901440"/>
          </a:xfrm>
          <a:prstGeom prst="rect">
            <a:avLst/>
          </a:prstGeom>
          <a:ln w="0">
            <a:noFill/>
          </a:ln>
        </p:spPr>
      </p:pic>
      <p:pic>
        <p:nvPicPr>
          <p:cNvPr id="401" name="Заголовок 1" descr=""/>
          <p:cNvPicPr/>
          <p:nvPr/>
        </p:nvPicPr>
        <p:blipFill>
          <a:blip r:embed="rId4"/>
          <a:stretch/>
        </p:blipFill>
        <p:spPr>
          <a:xfrm>
            <a:off x="3121200" y="3498840"/>
            <a:ext cx="60656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103320" y="-648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0" y="990360"/>
            <a:ext cx="91440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 – Иван Никитин «Портрет напольного гетмана»(1720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 – Алексей Антропов «Портрет статс-дамы А.М.Измайловой»(1759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 – Дмитрий Левицкий «Портрет П.А.Демидова» Прокофий Акинфиевич Демидов – один из богатейших людей России, знаменитый чудак и меценат, основал первое Коммерческое училище,Пожертвовал большие суммы на строительство Воспитательного дом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 – Дмитрий Левицкий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5 – Федор Рокот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6 – 1)Алексей Антроп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)Федор Рокот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)Дмитрий Левицки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7 - Дмитрий Левицки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8 – Иван Никитин «Портрет Петра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)Укажите автора и название карти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Можно ли считать этот портрет психологически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4" descr="Портрет напольного гетма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1295280"/>
            <a:ext cx="3490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)Укажите автора и название карти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Что вы можете сказать о характере этой дамы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5" descr="Картинка 6 из 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219320"/>
            <a:ext cx="4016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)Кто является автором «Портрета П.А. Демидова»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Чем привлекает внимание этот портре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Что вам известно о П.А.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Демидов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7" descr="Картинка 65 из 4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609480"/>
            <a:ext cx="431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51920" y="9903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Назовите автора «Портрета архитектора А.Ф. Кокоринова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ие детали указывают на профессию портретируемог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Picture 5" descr="lev3"/>
          <p:cNvPicPr/>
          <p:nvPr/>
        </p:nvPicPr>
        <p:blipFill>
          <a:blip r:embed="rId2"/>
          <a:stretch/>
        </p:blipFill>
        <p:spPr>
          <a:xfrm>
            <a:off x="4724280" y="685800"/>
            <a:ext cx="3772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1640" y="9907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5)Кто из русских художников является автором «Портрета неизвестной в голубом платье с желтой отделкой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Почему вы так думает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6" descr="rokotov3"/>
          <p:cNvPicPr/>
          <p:nvPr/>
        </p:nvPicPr>
        <p:blipFill>
          <a:blip r:embed="rId2"/>
          <a:stretch/>
        </p:blipFill>
        <p:spPr>
          <a:xfrm>
            <a:off x="609480" y="762120"/>
            <a:ext cx="363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1" descr="Картинка 110 из 4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057400"/>
            <a:ext cx="2884680" cy="4343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3" descr="Картинка 43 из 65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2057400"/>
            <a:ext cx="2705040" cy="4114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Картинка 1 из 2901"/>
          <p:cNvPicPr/>
          <p:nvPr/>
        </p:nvPicPr>
        <p:blipFill>
          <a:blip r:embed="rId6"/>
          <a:stretch/>
        </p:blipFill>
        <p:spPr>
          <a:xfrm>
            <a:off x="152280" y="2057400"/>
            <a:ext cx="3067200" cy="38098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7"/>
          <p:cNvSpPr/>
          <p:nvPr/>
        </p:nvSpPr>
        <p:spPr>
          <a:xfrm>
            <a:off x="382680" y="1523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8"/>
          <p:cNvSpPr/>
          <p:nvPr/>
        </p:nvSpPr>
        <p:spPr>
          <a:xfrm>
            <a:off x="3278160" y="1447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6097680" y="1523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Rectangle 20" descr=""/>
          <p:cNvPicPr/>
          <p:nvPr/>
        </p:nvPicPr>
        <p:blipFill>
          <a:blip r:embed="rId7"/>
          <a:stretch/>
        </p:blipFill>
        <p:spPr>
          <a:xfrm>
            <a:off x="255600" y="268200"/>
            <a:ext cx="8437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52280" y="22860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7)Являются ли эти картины работами одного художника или разных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оснуйте свою точку зр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Укажит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тора(- ов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5" descr="Картинка 1 из 4102"/>
          <p:cNvPicPr/>
          <p:nvPr/>
        </p:nvPicPr>
        <p:blipFill>
          <a:blip r:embed="rId2"/>
          <a:stretch/>
        </p:blipFill>
        <p:spPr>
          <a:xfrm>
            <a:off x="3124080" y="2362320"/>
            <a:ext cx="2725920" cy="4114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Картинка 4 из 4102"/>
          <p:cNvPicPr/>
          <p:nvPr/>
        </p:nvPicPr>
        <p:blipFill>
          <a:blip r:embed="rId3"/>
          <a:stretch/>
        </p:blipFill>
        <p:spPr>
          <a:xfrm>
            <a:off x="5943600" y="304920"/>
            <a:ext cx="2855880" cy="43434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8"/>
          <p:cNvSpPr/>
          <p:nvPr/>
        </p:nvSpPr>
        <p:spPr>
          <a:xfrm>
            <a:off x="2516400" y="548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5488200" y="456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-360" y="228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8)Кто является автором данного портрета? Кого изобразил художник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7" descr="Картинка 4 из 2790"/>
          <p:cNvPicPr/>
          <p:nvPr/>
        </p:nvPicPr>
        <p:blipFill>
          <a:blip r:embed="rId2"/>
          <a:stretch/>
        </p:blipFill>
        <p:spPr>
          <a:xfrm>
            <a:off x="914400" y="1828800"/>
            <a:ext cx="46483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11-12-02T19:31:3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