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E1F-BFD9-472D-9624-EDCA5291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BAB-3B68-4E07-B7E7-B7BA8F70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7DD-97FC-46F1-8C00-514E061E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7AA-B10D-4AA0-BB7E-E0FACC71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549-CAAD-4740-A92C-5706F79E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AB3E-14C8-4CF1-A322-2CD95B86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7EF-86AF-471D-96A9-1E231B20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0DD-5946-49CF-8F70-E82BD42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F61F-696A-45E4-AB12-B628F06C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7209-A6AE-4F9E-99AD-DE8C3495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A14C-92F6-4715-ABAC-60C9A69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3C5-C8AF-4FDF-B6CF-CC8756E1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5AF1-8380-46B5-9B84-3064C77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2262-EDE8-4812-BE1D-BB11D37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B86-B8CA-4FFA-AA72-6F0B02AA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D169-786C-4B5F-AFE6-823EC37C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1B4E-C5C1-4A02-9D5A-BF3D62A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4C2-761E-4B63-9D8F-DDCE6EB0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0A8-F375-4F1C-B88C-D7D26C0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1DE-82D5-4C9A-888A-9B351D6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377-F70B-4CAF-AEEF-C37B9B53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5B8-FAC5-47EB-A6DD-A887C59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446-4C4C-4AC3-88E5-AA7BAB5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CCA-0B71-4570-8AC2-C0B36E4A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68A1-4C65-4420-A2F6-726F13AC97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7E64-DA96-4CC8-A03E-00F2CD670A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986400">
            <a:off x="2050560" y="981000"/>
            <a:ext cx="4969080" cy="41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Сочинение-рассу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Showcard Gothic"/>
              </a:rPr>
              <a:t>на лингвистическую те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Showcard Gothic"/>
              <a:ea typeface="Showcard Gothic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-2331720" y="3347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дготовка   к   ГИ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93960" cy="189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48360" y="4991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всегда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одиночн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знаки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Lucida Calligraphy"/>
              </a:rPr>
              <a:t>т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очка, вопросительный и восклицательный знаки, запятая, точка с запятой, многоточие, двоеточие, тир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служат для отделения одних отрезков речи от друг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 –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</a:rPr>
              <a:t>парные зна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1" i="1" lang="en-US" sz="2800" spc="-1" strike="noStrike">
                <a:solidFill>
                  <a:srgbClr val="000000"/>
                </a:solidFill>
                <a:latin typeface="Lucida Calligraphy"/>
              </a:rPr>
              <a:t>скобки, кавычки, двойное тире, двойные запяты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64064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ТРУКТУРА  СОЧИНЕНИЯ-  РАССУЖДЕНИЯ  НА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ЛИНГВИСТИЧЕСКУЮ  ТЕМУ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674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Задание С2.1 – это сочинение-рассуждение на лингвистическую тему. Его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цель – раскрыть важность того лингвистического материала, о котором идет речь  в задани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Сочинение-рассуждение  должно быть композиционно оформлено, т.е. содержать </a:t>
            </a:r>
            <a:r>
              <a:rPr b="1" i="1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тезис, аргументы и вывод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Вступлени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Прямая актуализация проблемы: формулировка основного тезиса по указанной проблеме («Знаки препинания в русском языке играют важную роль»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Основная ча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Формулирование тезиса, который предстоит доказывать. («Я считаю, что….»), его обоснование с помощью примеров из исходного текс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 u="sng">
                <a:solidFill>
                  <a:srgbClr val="ff0000"/>
                </a:solidFill>
                <a:uFillTx/>
                <a:latin typeface="Verdana"/>
              </a:rPr>
              <a:t>Заключение.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Вывод о справедливости высказывания о сущности данного языкового явления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ипичные ошибки в сочинении данного типа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тезиса;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логики в расположении частей сочинени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сутствие переходов от общих положений к приведению примеров из текст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употреблять в сочинении средства связи между предложениям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выстраивать доказательную часть сочин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умение использовать текст как способ аргумент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езис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7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это кратко сформулированная мысль, истинность которой требуется доказать и в которой последовательно раскрывается его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тема и основная мысл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зи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формулируется как простое двусоставное предложение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Подлежаще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это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тем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текс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Сказуемое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то главное, важно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(основная мысль)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что будет говориться по данн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Тезис – э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МА  +   ОСНОВНАЯ  МЫСЛЬ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Примеры тезисов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83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       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      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Многоточи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ставится для обозначения незаконченности высказывания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Фразеологизмы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делают нашу речь более яркой и выразительной и поэтому широко используются в литературном языке.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Запятые</a:t>
            </a:r>
            <a:r>
              <a:rPr b="1" i="1" lang="ru-RU" sz="2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Lucida Calligraphy"/>
              </a:rPr>
              <a:t>не только расставляют эмоциональные акценты, но и помогают передать смысл предло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данных тезисах подлежащие называ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тему -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ноготочие, фразеологизмы, запятые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атем следуе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сновная мысл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ая  поясняет содержание темы, выделяет самое главное в н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Аргументы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АРГУМЕНТ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– это суждение, приводимое в подтверждение истинности высказыв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авила аргументаци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) аргументы не должны противоречить друг дру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) аргументы должны быть достаточными для данного тезиса ( не менее двух аргументов 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)аргументы должны соотноситься с темой и основной мыслью (тезисом), а не быть мнением вообщ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Характерные ошибки при аргументировании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) нечеткое словесное оформлени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б)однотипность аргументов   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4991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 примере самостоятельно выбранного текста докажите следующие положе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    пунктуация создаёт экспрессивность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    знаки препинания являются помощниками писателя в создании художественной выразительности текс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    знаки препинания способны скрыть глубину смыс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знакомьтесь с информацией и выполните задание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примере данного текста убедитесь, что знаки препинания служат средством выражения мыслей и чувств в письменном тексте.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оготочие передает эмоциональное состояние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бки выделяют коммуникативно важные сл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клицательный знак передает взволнованность, недосказанность реп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просительный знак приглашает читателя к разгово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ре привлекает и акцентирует внимание читател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08720" y="-38736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РЕДСТВА СВЯЗИ ПРЕДЛОЖЕНИЙ В ТЕКСТЕ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Слова одной тематической групп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Однокорен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Синонимы, антонимы ( в том числе контекстны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Лексический повто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Союз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. Местои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. Ввод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. Синтаксический параллелиз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. Вопросительные или неполные предложения и т.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125360"/>
            <a:ext cx="7313400" cy="48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Выпишите слова и предложения в следующем порядк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) слова и предложения, связывающие тезис и доказательств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б) средства связи доказательства и вывод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. Приведем доказательства этого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Б. Это можно доказать таким образом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. Почему? А вот почему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Г.Обобщим сказанное: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. Итак; таким образом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. Это можно объяснить так: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Ж. Следовательно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  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римерный вариант сочинения- рассуждения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«Зачем нужна пунктуация?»</a:t>
            </a:r>
            <a:br>
              <a:rPr sz="24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439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письме без знания пунктуационных правил невозможно обойтись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необходимы и автору текста, чтобы выразить определенный смысл, и читателю, чтобы правильно воспринять этот смысл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Для этог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используются определенные знаки препинания, подходящие по своей функции в том или ином высказывании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правило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ыделяют разделительные и выделительные знаки препинания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встречаются почти в каждом тексте, в том числе и в предложенном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Раз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точка, вопросительный и восклицательный знаки, запятая, точка с запятой, многоточие, двоеточие, тире) служат для отделения одних отрезков речи от других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Так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с этой целью они используются в предложениях № 3, 5,7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Выделительные знаки препин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 скобки, кавычки, двойное тире, двойные запятые) - парные знак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ни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яют различные отрезки речи,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, например,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едложениях № 23, 3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      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Как видим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ри помощи знаков препинания происходит смысловое членение речи, что, несомненно, помогает  нам понять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51640" y="55022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нципы пунктуаци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981000"/>
          <a:ext cx="8569080" cy="4953240"/>
        </p:xfrm>
        <a:graphic>
          <a:graphicData uri="http://schemas.openxmlformats.org/drawingml/2006/table">
            <a:tbl>
              <a:tblPr/>
              <a:tblGrid>
                <a:gridCol w="2221560"/>
                <a:gridCol w="216000"/>
                <a:gridCol w="613152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уктурный (синтаксичес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дущий принцип с точки зрен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 пунктуации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нём строятся правила расстановки знаков препинания в простом и в сложном предложении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большая часть правил опирается именно на нег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едущий принци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 точки зрения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начения пунктуац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цель любого высказывания есть выражение смысл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нные принцип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смысл заключается в определенную синтаксическую форму, или грамматическая структура передает заданный смыс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Рассказчик замолчал  и,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тобы успокоиться</a:t>
                      </a:r>
                      <a:r>
                        <a:rPr b="1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, быстро вышел на веранд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а придаточная часть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труктурный принцип)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месте с тем с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и зрения смысла акцентируется обозначение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сопутствующей названному действ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онацио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путствует семантико-структурном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 точка в предложени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меет не только структурн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предложения) 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ыслову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конец мысли,  высказывания) значимость: о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овременно указывает на понижение то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35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кройте смысл приведенного ниже высказы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чь- удивительно сильное средство, но нужно иметь много ума, чтобы  пользоваться им (Гегель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перв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-вторых,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-третьих,_____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едовательно,_________________________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65964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Памятка для работы над сочинением на лингвистическую тему.</a:t>
            </a:r>
            <a:br>
              <a:rPr sz="2000"/>
            </a:b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88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ка для работы над сочинением на лингвистическую т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Внимательно прочитайте утверждение лингвистического полож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Сформулируйте тезис и подберите в тексте примеры, доказывающие справедливость вашего утверж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иводя примеры, цитируйте текст или указывайте в скобках номера предложений, на которые делаются ссылки в ходе аргумент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не было логических ошибок, можно использовать следующие речевые 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Чтобы доказать сказанное, обратимся к … предложению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Пример использования ….. можно найти в предложении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В подтверждение собственных выводов можно привести пример из … предложения текс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Lucida Calligraphy"/>
              </a:rPr>
              <a:t>Рассмотрим … предложение (слово). В нем использован (-а, -о) …, который (-ая, -ое)… . Это подтверждает вывод о том, что …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Назначение пунктуации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а) служить средством расчленения письменной реч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б) указывать на расчленение смысловое, структурное и интонационно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Нынче совсем ничего не мог писать утром - заснул (Л. Т.)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ире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 только отделяет сказуемое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заснул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помогая передать причинное обоснование действия, обозначенного в сказуемом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не мог писат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но и указывает, что временной определитель </a:t>
            </a:r>
            <a:r>
              <a:rPr b="0" i="1" lang="en-US" sz="1700" spc="-1" strike="noStrike">
                <a:solidFill>
                  <a:srgbClr val="ff0000"/>
                </a:solidFill>
                <a:latin typeface="Verdana"/>
              </a:rPr>
              <a:t>утром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характеризует первое действие, а не второе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</a:rPr>
              <a:t>(ср.: Нынче совсем ничего не мог писать - утром заснул)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фиксирует  наличие паузы и, следовательно, соответствующее интонационное оформление, передающее смысловое соотношение данных слов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Расчленение текста при помощи знаков препинания помогает донести до читающего смысл написанного таким, каким он представляется пишущему.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Знаки препинания – «ноты при чтении» (А.П.Чехов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32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в восприятии текс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могают понять авторскую мысл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не только подчеркнуть значение, выраженное словами словами, но и резко изменить ег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разорвать смысловые и грамматические связи сл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15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То что есть есть того чего нет нет это не то это т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. Стивене. «Математика, измерение и психофизика») 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То, что есть, есть; того, чего нет, нет. Это не то? Это то.</a:t>
            </a:r>
            <a:br>
              <a:rPr sz="1800"/>
            </a:b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Этот человек не раз говорил брату Антон никогда не был учителем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1. «Этот человек, — не раз говорил брату Антон, — никогда не был учителем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2. Этот человек не раз говорил брату: «Антон никогда не был учителем»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И шла она легко, назад Изгибы длинные чадры Откинув.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    </a:t>
            </a: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( И шла она легко назад, изгибы длинные чадры откину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Я занимался с братом, который был болен английским языком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Verdana"/>
              </a:rPr>
              <a:t>Хватит жевать давайте чита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! Жевать давайте, читат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. Жевать? Давайте! Чит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Verdana"/>
              </a:rPr>
              <a:t>Хватит жевать – давайте чита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 тропинке к дому шли дедушка Иван Петрович девочка Маша дядя Андрей тетя Анна Ильинична бабушка Да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ставлю статую золотую пику держащ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Пример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620640"/>
            <a:ext cx="7313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 зале находились Антон три его приятеля Степан Андрей Михаил Ирина сестра Антона и Мария Петров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Очень-очень странный вид: речка за окном гори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Чей-то дом хвостом виляет, пёсик из ружья стреля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Мальчик чуть не слопал мышку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Кот в очках читает книжку, старый дед влетел в ок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Воробей схватил зер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0" i="1" lang="ru-RU" sz="2000" spc="-1" strike="noStrike">
                <a:solidFill>
                  <a:srgbClr val="0000cc"/>
                </a:solidFill>
                <a:latin typeface="Verdana"/>
              </a:rPr>
              <a:t>Да как крикнет, улетая: «Вот что значит запята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ежать нельзя стоять на ме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ететь невозможно жд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Шибанов молчал. Их пронзённой но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ровь алым струилася током… (А.Толсто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готовьтесь боксеры гимнасты борцы на вых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Verdan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93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5872320"/>
            <a:ext cx="1112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125360"/>
          <a:ext cx="8359560" cy="5214960"/>
        </p:xfrm>
        <a:graphic>
          <a:graphicData uri="http://schemas.openxmlformats.org/drawingml/2006/table">
            <a:tbl>
              <a:tblPr/>
              <a:tblGrid>
                <a:gridCol w="2303280"/>
                <a:gridCol w="6056280"/>
              </a:tblGrid>
              <a:tr h="11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склица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A. Передают соответствующую интонацию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B. Указывают на целевое назначение предложения или его эмоциональную окраск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ительный 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ноготоч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тделительна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Знак эмоционального напряже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одчеркивает многозначность передаваемого содержания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Сигнал преднамеренного пропуска часте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7313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836640"/>
          <a:ext cx="8577360" cy="5644800"/>
        </p:xfrm>
        <a:graphic>
          <a:graphicData uri="http://schemas.openxmlformats.org/drawingml/2006/table">
            <a:tbl>
              <a:tblPr/>
              <a:tblGrid>
                <a:gridCol w="1171800"/>
                <a:gridCol w="740556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я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Членение текста на значимые в грамматическом и смысловом отношении част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ка с запя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ленение текста на значимые в грамматическом и смысловом отношении ч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. Означает пропуск связки в сказуемом (подлежащее и сказуемое выражены существительным, числительным, инфинитивом, словосочетанием с существительным в и.п.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. Означает пропуск членов предложени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Передача значений условия, времени, сравнения, следствия, сопоставления в БСП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. Отделяет однородные члены от обобщающего сло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. Означает композиционную, интонационную, смысловую неожиданност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. Выделение в предложении особо значимых частей (обособление, выделение слов и сочетаний, грамматически не связанных с членами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522936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Функции знаков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пина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907920"/>
          <a:ext cx="8432640" cy="5113080"/>
        </p:xfrm>
        <a:graphic>
          <a:graphicData uri="http://schemas.openxmlformats.org/drawingml/2006/table">
            <a:tbl>
              <a:tblPr/>
              <a:tblGrid>
                <a:gridCol w="1917720"/>
                <a:gridCol w="6514920"/>
              </a:tblGrid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еточ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ъяснительно-пояснительная (отделяет однородные члены от обобщающего слова, слова автора от прямой речи, части БСП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б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в предложении особо значимых частей (обособление, выделение слов и сочетаний, грамматически не связанных с членами предложени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вы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еление цитат, «чужой реч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403280" cy="141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01:09Z</dcterms:created>
  <dc:creator>Евгения</dc:creator>
  <dc:description/>
  <dc:language>en-US</dc:language>
  <cp:lastModifiedBy>Admin</cp:lastModifiedBy>
  <dcterms:modified xsi:type="dcterms:W3CDTF">2010-09-20T09:24:43Z</dcterms:modified>
  <cp:revision>30</cp:revision>
  <dc:subject/>
  <dc:title>Слайд 1</dc:title>
</cp:coreProperties>
</file>