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BBB3-94D8-41D4-885A-797B0E4A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AEDF-E456-462B-B019-70B1ADD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A588-0C1A-4B5F-9E07-613C90AA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4093-A56D-48BF-8FE9-71F72453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3FBA-9AF6-4E75-805E-E6EAE252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296-0FED-4DCA-B9F5-AEF9E46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E51A-5D8B-4F4D-B247-316AC8ED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192-1CA4-46A1-960B-5AFBC4A1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66B-7A02-4EB9-95D0-270E3D3E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FE9-A85E-40C4-8844-BBABE0FE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D80B-A32A-42B9-B510-9EFD38B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6884-1F78-4ED5-80D6-54D6D81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D4F9-4C6E-4252-A2F2-5603AF7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750F-3087-4BDD-AE15-2FC033E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8F34-D3B5-4572-B325-D91C3D5A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956A-52AE-44F9-80AC-A7600AAC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521A-884C-475F-8227-114545B3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8D18-ECB4-4CE4-8252-58AC9E34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CE3E-59CC-4B64-92ED-B8EB0E2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AF25-1521-402B-8D21-976D4B3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1876-0950-40D5-9223-6A9BFA4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4ADF-A4D6-4FD2-A032-74E5207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9EDD-7CC7-4E9A-954F-0E441C6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4BDC-3B83-425A-97FB-824EB57C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5A8E-D265-474E-B768-8E013298F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9A65-5B34-45C4-810A-2979DE9BC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Сохрани свою и мою жизнь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Денисюк Г.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528920"/>
            <a:ext cx="4752720" cy="380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ше едешь – дальше будеш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езд на велосипед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35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так произош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8676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ведь этого можно было избеж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о же не проезжая час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1668600"/>
            <a:ext cx="617220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пешишь – себе и другим навредиш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за безопасное движение на дор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ь внимание на  конкретные действия для предотвращения опасных ситуаций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́жно-тра́нспортное происше́ствие (ДТП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обытие, возникшее в процессе движения по дороге транспортного средства и с его участием, при котором погибли или ранены люди, повреждены транспортные средства, сооружения, грузы либо причинён иной материальный ущер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349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диционно к списку «опасных для здоровья водителя факторов» относят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равил дорожного движения, в том чис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когольное опья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ышение допустимой скорости дви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оворы по мобильному телефо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ия показали, что водители, которые во время езды слушают музыку, более склонны к превышению скорости и чаще попадают в ДТП, так как становятся невнимательны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800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олкнов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498680"/>
            <a:ext cx="6000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дитель, подумай о моей и своей жиз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5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00080" y="133200"/>
            <a:ext cx="714384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528920"/>
            <a:ext cx="4752720" cy="3800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окиды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1-11-06T13:13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