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6E4B-70D1-4724-98F8-BF34AF9D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A24E-8120-47AA-A188-DD77358D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8555-E63B-43C8-AD2D-A9EDA8A7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031F-178F-4F14-9F2F-CD7259B5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EE0-5D11-4956-9BD6-72D1FA16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61AF-48EB-42BE-95FD-4E596E5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14D-FA43-445D-9DC3-ED6B71D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BA73-2FD0-494F-BF72-1D99AA4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640-04C2-4CAC-BB69-225AE1F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175B-63C6-4BFE-B7BE-CAA39917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5020-FA96-4D96-BB9D-B907F99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60D9-B262-4DF3-BF99-A6BC58D3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790-836B-4AC7-971F-CAA17FE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728-FA32-4E61-B320-1957346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26DA-D4F1-4C89-8742-4C9491D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98BB-A865-47B1-B7AC-1961EF2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E293-F94D-41E4-A083-A2FA9C8E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E670-BBE6-46A8-8944-A097B586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C1E2-775B-48AA-B324-A2B58B7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C97E-5C1F-499B-A54E-88F46194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3B6A-0CC9-4CD6-812F-FC76A94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CA94-65E9-4C59-88F7-BABB828C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82B9-FC30-4704-ADFD-6C60F23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39A2-1969-4BE8-9CF5-2A66C0D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77C7-F30C-4342-B713-AC655600D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B851-187C-4F9D-A97A-09B561961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Сохрани свою и мою жизнь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Денисюк Г.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528920"/>
            <a:ext cx="4752720" cy="380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ше едешь – дальше будеш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езд на велосипед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35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так произош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8676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ведь этого можно было избеж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же не проезжая час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1668600"/>
            <a:ext cx="617220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пешишь – себе и другим навредиш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за безопасное движение на дор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ь внимание на  конкретные действия для предотвращения опасных ситуаций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́жно-тра́нспортное происше́ствие (ДТП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обытие, возникшее в процессе движения по дороге транспортного средства и с его участием, при котором погибли или ранены люди, повреждены транспортные средства, сооружения, грузы либо причинён иной материальный ущер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349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диционно к списку «опасных для здоровья водителя факторов» относят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равил дорожного движения, в том чис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когольное опья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ышение допустимой скорости дви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оворы по мобильному телеф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ия показали, что водители, которые во время езды слушают музыку, более склонны к превышению скорости и чаще попадают в ДТП, так как становятся невнимательны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800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кнов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498680"/>
            <a:ext cx="6000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дитель, подумай о моей и своей жиз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5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00080" y="133200"/>
            <a:ext cx="714384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528920"/>
            <a:ext cx="4752720" cy="3800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окиды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1-11-06T13:13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