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4.jpeg" ContentType="image/jpeg"/>
  <Override PartName="/ppt/media/image23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27.jpeg" ContentType="image/jpeg"/>
  <Override PartName="/ppt/media/image30.wmf" ContentType="image/x-wmf"/>
  <Override PartName="/ppt/media/image7.wmf" ContentType="image/x-wmf"/>
  <Override PartName="/ppt/media/image32.wmf" ContentType="image/x-wmf"/>
  <Override PartName="/ppt/media/image9.wmf" ContentType="image/x-wmf"/>
  <Override PartName="/ppt/media/image11.gif" ContentType="image/gif"/>
  <Override PartName="/ppt/media/image12.jpeg" ContentType="image/jpeg"/>
  <Override PartName="/ppt/media/image33.wmf" ContentType="image/x-wmf"/>
  <Override PartName="/ppt/media/image28.wmf" ContentType="image/x-wmf"/>
  <Override PartName="/ppt/media/image37.jpeg" ContentType="image/jpeg"/>
  <Override PartName="/ppt/media/image13.jpeg" ContentType="image/jpeg"/>
  <Override PartName="/ppt/media/image34.jpeg" ContentType="image/jpeg"/>
  <Override PartName="/ppt/media/image40.wmf" ContentType="image/x-wmf"/>
  <Override PartName="/ppt/media/image36.jpeg" ContentType="image/jpeg"/>
  <Override PartName="/ppt/media/image39.jpeg" ContentType="image/jpeg"/>
  <Override PartName="/ppt/media/image38.jpeg" ContentType="image/jpeg"/>
  <Override PartName="/ppt/media/image31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.gif" ContentType="image/gif"/>
  <Override PartName="/ppt/media/image14.wmf" ContentType="image/x-wmf"/>
  <Override PartName="/ppt/media/image10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428-68B2-4C82-A461-FECE781E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A3E-45D1-40FC-A06E-E4079B1E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07B-4695-4636-B533-6CA9ACEE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F3C-63B8-4F49-821E-5697473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DA4-CD37-4E7E-8004-649558A8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1BE-BDE3-4963-912C-C2FF4B5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2B8-C2A3-4AF1-B293-B6FBCFE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59C-433D-49AC-8971-5204DAB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154-174B-47DB-80E7-F404DB9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7F9-857A-4E3B-8577-3E3FBBE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6E2-593B-44B2-853E-29BB6A5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D6F-6C45-4EF1-A0F8-975A4AA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B6C0-160C-4323-8CC8-FE0E5A4B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72880"/>
            <a:ext cx="554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ew word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98480"/>
            <a:ext cx="61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.S. Census Burea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юро переписи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6760" y="323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76640"/>
            <a:ext cx="20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tork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3120" y="3090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5264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wift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ыст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mooth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глад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520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rabapple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ябло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84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mperfection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есоверш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89600"/>
            <a:ext cx="21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Gasoline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бен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089080" cy="1944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13413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Showcard Gothic"/>
              </a:rPr>
              <a:t>Jewel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292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de Latin"/>
              </a:rPr>
              <a:t>11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692280"/>
            <a:ext cx="820908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oper Black"/>
              </a:rPr>
              <a:t>The English language has scores of phrases that make reference to love.</a:t>
            </a:r>
            <a:r>
              <a:rPr b="0" lang="en-US" sz="1800" spc="-1" strike="noStrike">
                <a:solidFill>
                  <a:srgbClr val="660066"/>
                </a:solidFill>
                <a:latin typeface="Harringto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3500280"/>
            <a:ext cx="76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Do you know what of the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                      ‘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LOVE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                              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hrases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56400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88000" y="333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04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oper Black"/>
              </a:rPr>
              <a:t>There’s an old saying that goes “When _______ comes in the door, love flies out of the window.” What is that wretched 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3357720"/>
            <a:ext cx="302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) The st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) Pov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) Jealo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) Har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176120" cy="10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195640" y="0"/>
            <a:ext cx="2260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Cooper Black"/>
              </a:rPr>
              <a:t>What was referred to as a love ap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244520" cy="15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72260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628640"/>
            <a:ext cx="540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Berlin Sans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Red Delicious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b) Sweet crab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c) 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d) Apric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6146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oper Black"/>
              </a:rPr>
              <a:t>We say love is blind and there’s a mythological source for the saying. What is it?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425600"/>
            <a:ext cx="676764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) Oetesh, the Egyptian goddess of love and beauty, was blind to the imperfections of those she lo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b) Venus, the Roman goddess of love, blinded Adonis to the beauty of all other women so that he would see only 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) Eros, the Roman god of love, was blinded at birth by the beauty of his mother Aphrod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) Cupid, the Greek god of love, wears a blind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8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7" dur="1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0200" y="90792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Who wrote “My love is like a red,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                                                   </a:t>
            </a:r>
            <a:r>
              <a:rPr b="0" lang="en-US" sz="3600" spc="-1" strike="noStrike">
                <a:solidFill>
                  <a:srgbClr val="000066"/>
                </a:solidFill>
                <a:latin typeface="Berlin Sans FB"/>
              </a:rPr>
              <a:t>red rose”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708280"/>
            <a:ext cx="47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Berlin Sans FB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Robert Bu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b) Richard Love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c) Andrew Mar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d) William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108900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156360" y="494172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4360" y="2001960"/>
            <a:ext cx="12668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7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8" dur="1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47628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oper Black"/>
              </a:rPr>
              <a:t>If you declare love for someone from selfish motives, you can be accused of showing…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oper Black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2276640"/>
            <a:ext cx="53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a) Shel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b) Cupboard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c) Self - interes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Berlin Sans FB"/>
              </a:rPr>
              <a:t>d) Indulgen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780920" cy="178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20847000">
            <a:off x="1187280" y="5373360"/>
            <a:ext cx="114156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16797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1884240" cy="172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924360" y="5589720"/>
            <a:ext cx="1081080" cy="103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443640" y="4076640"/>
            <a:ext cx="2274840" cy="2382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877080" y="2492280"/>
            <a:ext cx="176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8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9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1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1268280"/>
            <a:ext cx="820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Edwardian Script ITC"/>
              </a:rPr>
              <a:t>Love Tips For the Gu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34136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902400">
            <a:off x="4066920" y="4436640"/>
            <a:ext cx="479088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ay,       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“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I’d give you the moon,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but Bill Gates bought it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long ago." 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46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rot="21115200">
            <a:off x="394920" y="1773000"/>
            <a:ext cx="5292720" cy="414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615400">
            <a:off x="324000" y="260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Conserve gasolin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227000">
            <a:off x="6732720" y="404640"/>
            <a:ext cx="26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…</a:t>
            </a:r>
            <a:r>
              <a:rPr b="0" lang="en-US" sz="3600" spc="-1" strike="noStrike">
                <a:solidFill>
                  <a:srgbClr val="ffff00"/>
                </a:solidFill>
                <a:latin typeface="Bodoni MT Black"/>
              </a:rPr>
              <a:t>take a long walk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77080" y="2205000"/>
            <a:ext cx="2631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3531960" cy="295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4149720"/>
            <a:ext cx="2735280" cy="244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84720" y="981000"/>
            <a:ext cx="42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Berlin Sans FB"/>
              </a:rPr>
              <a:t>“</a:t>
            </a:r>
            <a:r>
              <a:rPr b="0" lang="en-US" sz="4800" spc="-1" strike="noStrike">
                <a:solidFill>
                  <a:srgbClr val="ccccff"/>
                </a:solidFill>
                <a:latin typeface="Berlin Sans FB"/>
              </a:rPr>
              <a:t>Hold her tig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4632480"/>
            <a:ext cx="56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when you watch SCREAM, Part 2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40464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The      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“car way”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     of telling how far the relationshi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5589720"/>
            <a:ext cx="2664000" cy="1030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2565360"/>
            <a:ext cx="8893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ating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guy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unlocks the door and then goes   around to his side to ge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erlin Sans FB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645000"/>
            <a:ext cx="849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Engaged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man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opens his door, leans over and unlocks  her door and open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erlin Sans FB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65300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rried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the man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gets in to the driver’s seat, unlocks the doors, and says “ Aren’t you getting i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26828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Trying to impress the woman 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erlin Sans FB"/>
              </a:rPr>
              <a:t>he</a:t>
            </a:r>
            <a:r>
              <a:rPr b="0" lang="en-US" sz="2800" spc="-1" strike="noStrike">
                <a:solidFill>
                  <a:srgbClr val="0000ff"/>
                </a:solidFill>
                <a:latin typeface="Berlin Sans FB"/>
              </a:rPr>
              <a:t> unlocks and opens the door, waits for her to get inside, closes the door behind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0"/>
            <a:ext cx="86425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"/>
              </a:rPr>
              <a:t>How do Americans celebrate Valentine’s Day?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24000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00" y="4724280"/>
            <a:ext cx="6697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Franklin Gothic Heavy"/>
              </a:rPr>
              <a:t>U.S. Census Bureau has the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942600">
            <a:off x="2987640" y="1700280"/>
            <a:ext cx="3259080" cy="3384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9980000">
            <a:off x="395280" y="98100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Showcard Gothic"/>
              </a:rPr>
              <a:t>Greeting Ca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042400">
            <a:off x="5389560" y="4947840"/>
            <a:ext cx="341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Wide Latin"/>
              </a:rPr>
              <a:t>65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20482200">
            <a:off x="755640" y="148392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Showcard Gothic"/>
              </a:rPr>
              <a:t>Date   N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522936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de Latin"/>
              </a:rPr>
              <a:t>4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321080" cy="37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9992600">
            <a:off x="971640" y="980640"/>
            <a:ext cx="40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Showcard Gothic"/>
              </a:rPr>
              <a:t>Ca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5229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54640" cy="611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9641600">
            <a:off x="0" y="126792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33"/>
                </a:solidFill>
                <a:latin typeface="Showcard Gothic"/>
              </a:rPr>
              <a:t>Flo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7340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Wide Latin"/>
              </a:rPr>
              <a:t>32</a:t>
            </a:r>
            <a:r>
              <a:rPr b="0" lang="en-US" sz="3600" spc="-1" strike="noStrike">
                <a:solidFill>
                  <a:srgbClr val="ff0000"/>
                </a:solidFill>
                <a:latin typeface="Wide Lati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93080" y="3500280"/>
            <a:ext cx="18716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981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Showcard Gothic"/>
              </a:rPr>
              <a:t>Pl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5300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74328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20268000">
            <a:off x="539640" y="126792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howcard Gothic"/>
              </a:rPr>
              <a:t>Perfu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4581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de Latin"/>
              </a:rPr>
              <a:t>1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7:16:44Z</dcterms:created>
  <dc:creator>Наташа</dc:creator>
  <dc:description/>
  <dc:language>en-US</dc:language>
  <cp:lastModifiedBy>Прохор</cp:lastModifiedBy>
  <dcterms:modified xsi:type="dcterms:W3CDTF">2011-12-06T15:13:10Z</dcterms:modified>
  <cp:revision>37</cp:revision>
  <dc:subject/>
  <dc:title>Слайд 1</dc:title>
</cp:coreProperties>
</file>