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D2E-EB59-47D2-B02A-7021A2C3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D16-D9F6-4F92-A0E7-0C7B23CA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FF0-6BF4-4330-8BE5-4A166F45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84D-2AF0-481F-8F43-DBC07334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CE1-6645-407C-B543-31AA18F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E34-4D5D-4162-8883-6AC5EAA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B6B-2037-437E-84FA-1E5E2A19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C70-F16E-4FC9-9667-A75EE8CA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69C-F549-427C-8AEC-6F154D74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FC8-EE4D-47FE-AF6E-55595C8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32E-145A-4CA4-8032-C50D38D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F1B-9FE9-4310-978F-6B3462C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24AB-1ED9-4BBF-9F74-F29863878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Надя\школа1\Работы детей Подлеснова\работы\семенова\Изображение 002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Надя\школа1\Работы детей Подлеснова\работы\семенова\Изображение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Надя\школа1\Работы детей Подлеснова\работы\семенова\Изображение 004.jpg"/>
          <p:cNvPicPr/>
          <p:nvPr/>
        </p:nvPicPr>
        <p:blipFill>
          <a:blip r:embed="rId1"/>
          <a:stretch/>
        </p:blipFill>
        <p:spPr>
          <a:xfrm>
            <a:off x="-357120" y="34920"/>
            <a:ext cx="950112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:\Надя\школа1\Работы детей Подлеснова\работы\семенова\Изображение 005.jpg"/>
          <p:cNvPicPr/>
          <p:nvPr/>
        </p:nvPicPr>
        <p:blipFill>
          <a:blip r:embed="rId1"/>
          <a:stretch/>
        </p:blipFill>
        <p:spPr>
          <a:xfrm>
            <a:off x="-571680" y="0"/>
            <a:ext cx="9715680" cy="70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5:59:14Z</dcterms:created>
  <dc:creator>user</dc:creator>
  <dc:description/>
  <dc:language>en-US</dc:language>
  <cp:lastModifiedBy>user</cp:lastModifiedBy>
  <dcterms:modified xsi:type="dcterms:W3CDTF">2011-12-06T16:02:39Z</dcterms:modified>
  <cp:revision>1</cp:revision>
  <dc:subject/>
  <dc:title>Слайд 1</dc:title>
</cp:coreProperties>
</file>