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9CC-E80F-4687-9AC9-6BF0FF90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A9A-E438-43B7-A54E-713BD00C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0BD-3FD9-4CE5-A6D2-240078D3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77C-D806-4F68-A92C-C7237A82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154-B2B9-41BC-A540-BE562CA2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5DE-8803-4FBF-9489-FC903F90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EEF-9934-480B-9F8C-FED99E68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7A4-00A1-4635-96B2-590F2096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9A1-399B-487F-9D5C-D14CD0A8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AA4-9474-47AC-BB5D-B8533C13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306-D515-4242-9D80-3FCF8553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E6D-2CB1-4BAF-AE78-0E9F7F2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1266-4C07-4180-B430-8463DD155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Надя\школа1\Работы детей Подлеснова\работы\семенова\Изображение 002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Надя\школа1\Работы детей Подлеснова\работы\семенова\Изображение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Надя\школа1\Работы детей Подлеснова\работы\семенова\Изображение 004.jpg"/>
          <p:cNvPicPr/>
          <p:nvPr/>
        </p:nvPicPr>
        <p:blipFill>
          <a:blip r:embed="rId1"/>
          <a:stretch/>
        </p:blipFill>
        <p:spPr>
          <a:xfrm>
            <a:off x="-357120" y="34920"/>
            <a:ext cx="950112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:\Надя\школа1\Работы детей Подлеснова\работы\семенова\Изображение 005.jpg"/>
          <p:cNvPicPr/>
          <p:nvPr/>
        </p:nvPicPr>
        <p:blipFill>
          <a:blip r:embed="rId1"/>
          <a:stretch/>
        </p:blipFill>
        <p:spPr>
          <a:xfrm>
            <a:off x="-571680" y="0"/>
            <a:ext cx="9715680" cy="70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5:59:14Z</dcterms:created>
  <dc:creator>user</dc:creator>
  <dc:description/>
  <dc:language>en-US</dc:language>
  <cp:lastModifiedBy>user</cp:lastModifiedBy>
  <dcterms:modified xsi:type="dcterms:W3CDTF">2011-12-06T16:02:39Z</dcterms:modified>
  <cp:revision>1</cp:revision>
  <dc:subject/>
  <dc:title>Слайд 1</dc:title>
</cp:coreProperties>
</file>