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5248-BEA9-49AD-BCAE-EEA58C834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656-9E48-4C84-B3C5-45EB68077C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3C2-A02A-4B30-A094-720FBF50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AFB-7EA2-4312-A2ED-74897A26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E85-69F5-4015-97B3-FB769AC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713-34FF-4488-BCDD-14C298D2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A8B-CB96-49C2-9196-7F101573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709-A6D4-4ACC-AE59-46803551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691-892C-48F0-B283-70DC2883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2F7E-E44F-4E28-9481-C63F415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A12-1D7F-40F2-AD06-0344C8A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3CE5-2FE2-42EB-A7D4-83304992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C04F-DA46-489D-A0B0-A2FC31F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B93-2385-4786-AB25-B167B90D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8E6A-2A4F-421B-8F20-9AEDD72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0854-F855-453E-AA03-8274CB6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4DA-0AC4-42C8-9E54-0780E2D6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BF30-6D49-4261-8D8D-40FD29D4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0623-18CF-4633-884C-AE2E1F46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E2C-3A72-4CCB-8F4B-BC749521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509-A1F0-48B7-B4C1-8070C412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170-21A0-481E-B12B-4A7786E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3D8-033B-4F53-AD8F-5962655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B84-F43B-4E05-9641-AF0CB25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FB0-651B-4DF7-90AB-78FA406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78B-72A6-41CB-B84E-3CAEC90D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E45-AFA3-4B6E-B3A3-659EB5B4E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AE5-DCD8-4286-A612-AECB4A6983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цветы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4495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2133360"/>
            <a:ext cx="3711600" cy="1463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прекрасны все цвет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о мной согласен т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я природа дивным ц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цвела. Спасибо, лет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C:\Documents and Settings\Admin\Мои документы\МАМУлик\Для Любушки\ирисы.jpg"/>
          <p:cNvPicPr/>
          <p:nvPr/>
        </p:nvPicPr>
        <p:blipFill>
          <a:blip r:embed="rId1"/>
          <a:stretch/>
        </p:blipFill>
        <p:spPr>
          <a:xfrm>
            <a:off x="304920" y="1828800"/>
            <a:ext cx="2925720" cy="21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Admin\Мои документы\МАМУлик\Для Любушки\flowers066.jpg"/>
          <p:cNvPicPr/>
          <p:nvPr/>
        </p:nvPicPr>
        <p:blipFill>
          <a:blip r:embed="rId2"/>
          <a:stretch/>
        </p:blipFill>
        <p:spPr>
          <a:xfrm>
            <a:off x="3276720" y="3809880"/>
            <a:ext cx="258912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Admin\Мои документы\МАМУлик\Для Любушки\одуванчик.jpg"/>
          <p:cNvPicPr/>
          <p:nvPr/>
        </p:nvPicPr>
        <p:blipFill>
          <a:blip r:embed="rId3"/>
          <a:stretch/>
        </p:blipFill>
        <p:spPr>
          <a:xfrm>
            <a:off x="304920" y="4267080"/>
            <a:ext cx="3205080" cy="23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Documents and Settings\Admin\Мои документы\МАМУлик\Для Любушки\цветы\цветы\незабудка.jpg"/>
          <p:cNvPicPr/>
          <p:nvPr/>
        </p:nvPicPr>
        <p:blipFill>
          <a:blip r:embed="rId4"/>
          <a:stretch/>
        </p:blipFill>
        <p:spPr>
          <a:xfrm>
            <a:off x="7238880" y="205740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\Рабочий стол\цветы\цветы\мать и мачеха.jpg"/>
          <p:cNvPicPr/>
          <p:nvPr/>
        </p:nvPicPr>
        <p:blipFill>
          <a:blip r:embed="rId5"/>
          <a:stretch/>
        </p:blipFill>
        <p:spPr>
          <a:xfrm>
            <a:off x="5486400" y="41148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83851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Не рвите цветы, не рвите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Пусть будет нарядней Земля!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А вместо букетов дарит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Васильковые, незабудковы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И ромашковые поля!»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C:\Documents and Settings\Admin\Мои документы\МАМУлик\Для Любушки\flowers122.jpg"/>
          <p:cNvPicPr/>
          <p:nvPr/>
        </p:nvPicPr>
        <p:blipFill>
          <a:blip r:embed="rId1"/>
          <a:stretch/>
        </p:blipFill>
        <p:spPr>
          <a:xfrm>
            <a:off x="1600200" y="2362320"/>
            <a:ext cx="61196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земляника с ягодкой"/>
          <p:cNvPicPr/>
          <p:nvPr/>
        </p:nvPicPr>
        <p:blipFill>
          <a:blip r:embed="rId1"/>
          <a:stretch/>
        </p:blipFill>
        <p:spPr>
          <a:xfrm>
            <a:off x="152280" y="1752480"/>
            <a:ext cx="4038840" cy="3100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2666880" y="228600"/>
            <a:ext cx="4077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ляника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267080" y="4156200"/>
            <a:ext cx="4535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белый и нежный цветок земляник             Сегодня мне некогда с вами игра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ы через месяц сюда заглянит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ягодкой красной здесь буду сия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пользуюсь нынче прекрасной погодой,                 Чтоб ягоду вкусную вырастить в сро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лю я тепло, что даёт мне природ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товлю свой сладкий питательный с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2" descr="C:\Documents and Settings\Admin\Мои документы\МАМУлик\Для Любушки\цветы\цветы\ягодка.jpg"/>
          <p:cNvPicPr/>
          <p:nvPr/>
        </p:nvPicPr>
        <p:blipFill>
          <a:blip r:embed="rId4"/>
          <a:stretch/>
        </p:blipFill>
        <p:spPr>
          <a:xfrm>
            <a:off x="838080" y="4876920"/>
            <a:ext cx="2570400" cy="1763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457880" y="1688040"/>
            <a:ext cx="93726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.  Знаю: каждый из ребя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стретиться со мною р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ому что я крас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полезна, и вкус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.  Подмигнёт тебе украд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травы фонарик слад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  Ловит солнышко лучистое, зрея на опуш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раснеет и душистая попадает в круж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Arial Black"/>
                <a:ea typeface="Arial Unicode MS"/>
              </a:rPr>
              <a:t>ирис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905120"/>
            <a:ext cx="3632040" cy="291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1" name="Rectangle 4"/>
          <p:cNvSpPr/>
          <p:nvPr/>
        </p:nvSpPr>
        <p:spPr>
          <a:xfrm>
            <a:off x="5105520" y="2144160"/>
            <a:ext cx="3733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1. Я  - травянистое раст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 цветком сиреневого ц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Но переставьте ударени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И превращаюсь я в конфе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2.  Я расту в садах, леса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У болот и на пру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Я цвету почти всё ле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А зовусь я, как конфета!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 Black"/>
              </a:rPr>
              <a:t>колокольчик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7" descr="C:\Documents and Settings\Admin\Рабочий стол\цветы\цветы\Копия Копия Копия Копия 20.jpg"/>
          <p:cNvPicPr/>
          <p:nvPr/>
        </p:nvPicPr>
        <p:blipFill>
          <a:blip r:embed="rId1"/>
          <a:stretch/>
        </p:blipFill>
        <p:spPr>
          <a:xfrm>
            <a:off x="304920" y="2133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4267080" y="1890720"/>
            <a:ext cx="88394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 фиолетовый, то голуб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 на опушке встречался с т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вание ему очень тонкое д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о только звенеть он умеет едва 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Эй, звоночки, синий цв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 язычком, а звона н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Колокол колыш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 звонок не слыш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окольчик голу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грай-ка ты со м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ни мне в свой звоноч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омный луговой цветочек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338440"/>
            <a:ext cx="94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окольчик имеет много имён – балаболки, звонцы, бубны, но во всех этих названиях звучит любовь к нему. В самом облике этог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ка и в назва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лышится нежная музы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вание «колокольчик» обусловлено фор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ка. Некоторые виды колокольчиков занесены в Красную книгу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609480" y="2492280"/>
            <a:ext cx="8077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ак чаши, на глади речного зал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Раскрылись кувшинки в июльские д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орою волна покачнёт их лениво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И вновь без движения застынут о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увшинки, глядящие в высь голубу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сегда неподвижные, словно во сн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ы сами родились глубоко на д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И выйдя на свет, где всё ярче и краш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Где лес, убаюканный зноем, зати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Раскрыли свои белоснежные чаш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ад тихой водою, в затонах родн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 Древней Греции этот цветок считали символом красоты и красноречия. Молодые девушки плели из них гирлянды и украшали свои головы и туники. Согласно легенде, этот цветок возник из тела прелестной молодой нимфы, погибшей от любви и ревности к оставшемуся холодным к ней Геркулесу. Древние германцы называли этот цветок лебединым и считали, что человек, поместивший семь таких цветков на своём гербе, становится непобеди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C:\Documents and Settings\Admin\Рабочий стол\цветы\цветы\enc_2380.jpg"/>
          <p:cNvPicPr/>
          <p:nvPr/>
        </p:nvPicPr>
        <p:blipFill>
          <a:blip r:embed="rId1"/>
          <a:stretch/>
        </p:blipFill>
        <p:spPr>
          <a:xfrm>
            <a:off x="380880" y="1828800"/>
            <a:ext cx="3983040" cy="298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838080" y="5400"/>
            <a:ext cx="691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  <a:ea typeface="Calibri"/>
              </a:rPr>
              <a:t>ку</a:t>
            </a:r>
            <a:r>
              <a:rPr b="1" lang="ru-RU" sz="8000" spc="-1" strike="noStrike">
                <a:solidFill>
                  <a:srgbClr val="ffc000"/>
                </a:solidFill>
                <a:latin typeface="Calibri"/>
                <a:ea typeface="Calibri"/>
              </a:rPr>
              <a:t>вшинк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435560" y="1939680"/>
            <a:ext cx="231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Чашечки и блюд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Не тонут и не бьютс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ландыш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2" descr="C:\Documents and Settings\Admin\Мои документы\МАМУлик\Для Любушки\flowers143.jpg"/>
          <p:cNvPicPr/>
          <p:nvPr/>
        </p:nvPicPr>
        <p:blipFill>
          <a:blip r:embed="rId1"/>
          <a:stretch/>
        </p:blipFill>
        <p:spPr>
          <a:xfrm>
            <a:off x="380880" y="1828800"/>
            <a:ext cx="31449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685800" y="1944720"/>
            <a:ext cx="10287000" cy="48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м запах свежести л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носит позднею в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ок душистый, неж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кисти белоснеж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ился ландыш в майский ден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лес его хран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не кажется, его задень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н тихо зазвени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этот звон услышал луг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птицы, и цветы вокру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Ландыш – травянистое растение с ки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ых душистых колокольчиков. Летом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е цветков – красная ягода, но нельз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рать её в рот – она ядови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ания утверждают, что цветок этот – счастливый смех русалки Мавк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ыпавшейся по весеннему лесу, когда она впервые узнала любо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мать-и-мачех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5" descr="C:\Documents and Settings\Admin\Рабочий стол\цветы\цветы\мать и мачеха 1.jpg"/>
          <p:cNvPicPr/>
          <p:nvPr/>
        </p:nvPicPr>
        <p:blipFill>
          <a:blip r:embed="rId1"/>
          <a:stretch/>
        </p:blipFill>
        <p:spPr>
          <a:xfrm>
            <a:off x="380880" y="1828800"/>
            <a:ext cx="3927600" cy="2973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 И матушка родная, и мачеха зла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к о бок живут – через стеноч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На  откосе на луг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сиком на снег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вые цветоч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ёлтые глазоч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рко- жёлтый цветок неказисты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ерху листьев  холодная глад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зу – ласковый слой бархатист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овно тронет приветливо  мать.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веты мать-и-мачехи очень похожи на цветы одуванчика. Они такие же жёлтые. У одуванчика сначала листья вырастают, а уж  потом  появляются цветы. А у мать-и-мачехи наоборот. Она и весну порой под снегом встретить  может. Раскопаешь сугроб,  а под ним жёлтый  глазок выглядывает.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незабудк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C:\Documents and Settings\Admin\Рабочий стол\цветы\цветы\незабудка 1.jpg"/>
          <p:cNvPicPr/>
          <p:nvPr/>
        </p:nvPicPr>
        <p:blipFill>
          <a:blip r:embed="rId1"/>
          <a:stretch/>
        </p:blipFill>
        <p:spPr>
          <a:xfrm>
            <a:off x="457200" y="1828800"/>
            <a:ext cx="3927600" cy="294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5440" y="1371600"/>
            <a:ext cx="827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летом на болот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жные цветы найдёт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теряйте ни минут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ерцайте ...(незабудк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в садике тесном малют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мятся весёлой гурьб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 между камней незабуд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снились семьёй голуб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абудка – это самый маленький цветочек, но сколько стихов сложили о нём поэты, сколько  легенд и народных сказаний! Вот одно из них. Однажды богиня цветов Флора спустилась на землю и стала одаривать цветы именами. Одарила всех и хотела удалитьс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 услышала слабый голосок: «Ты забыла меня, Флора, дай мне, пожалуйста, имя». Флора еле разглядела в разнотравье маленький цветочек. «Хорошо, - сказала Флора, - вот тебе имя. А ещё я наделю тебя чудесной силой: ты будешь возвращать память т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юдям, которые начнут забывать своих близких или свою Родину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одуванчик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Шарик мой пушистый сдул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усть невзрачен ви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 моих корней пилюл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удет аппет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Такого модника, как это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щё не видела зем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очень любит среди л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уховой шапке щеголять.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жный жёлтый одуванч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ы красив и мил, как мальчик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 обидишь, вдруг, сорвёшь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и враз не ототрёшь.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уванчик – это травянистое растение с горьким млечным соком. Оно до рассвета   чувствует, каким будет наступающий день. Если хмурым и дождливым, то цветок – солнышко так и не раскроется. А если погода обещает быть хорошей, цветки одуванчика откроются уже к 6 часам утра.  В народе говорят: «Глазок золотой на солнце глядит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солнце хмурится, глазок прищурится.» Из цветков растения варят варень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C:\Documents and Settings\Admin\Мои документы\МАМУлик\Для Любушки\одуванчик.jpg"/>
          <p:cNvPicPr/>
          <p:nvPr/>
        </p:nvPicPr>
        <p:blipFill>
          <a:blip r:embed="rId1"/>
          <a:stretch/>
        </p:blipFill>
        <p:spPr>
          <a:xfrm>
            <a:off x="380880" y="1905120"/>
            <a:ext cx="3638520" cy="269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mhtml:file://C:\Documents%20and%20Settings\Admin\Рабочий%20стол\цветы\цветы%20фото\Цветы%20картинки%20и%20фото,%20букеты8.mht!http://foto-cvety.narod.ru/images/flowers037.jpg"/>
          <p:cNvPicPr/>
          <p:nvPr/>
        </p:nvPicPr>
        <p:blipFill>
          <a:blip r:embed="rId2"/>
          <a:stretch/>
        </p:blipFill>
        <p:spPr>
          <a:xfrm>
            <a:off x="2819520" y="3581280"/>
            <a:ext cx="230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W4PY</cp:lastModifiedBy>
  <dcterms:modified xsi:type="dcterms:W3CDTF">2010-05-03T20:13:44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