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jpeg" ContentType="image/jpeg"/>
  <Override PartName="/ppt/media/image15.jpeg" ContentType="image/jpeg"/>
  <Override PartName="/ppt/media/image14.wmf" ContentType="image/x-wmf"/>
  <Override PartName="/ppt/media/image6.gif" ContentType="image/gif"/>
  <Override PartName="/ppt/media/image11.gif" ContentType="image/gif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gif" ContentType="image/gif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D7C5-78CF-42C4-B774-369DEC97B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B8B6-F4A2-4292-9FB4-D7AF43B83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E40C-DDA3-41BD-8E58-62923AE3F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B318-C865-42C8-B5F1-7AE4DD0CC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CC04-6E2B-4B0F-B3DF-17F78BA2A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AEBD-49A7-4FE8-8474-D0B4FC6FA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3EAF-5D53-4A9F-9EC9-E4C26A97A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B72A-42AB-45C7-8915-CDFD213F7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7B73-8E70-4691-AE19-CE2A3FF39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AA70-4159-4B14-9EFA-CE75E214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CD30-1124-4C59-AD58-2D0DD235F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A98E-2518-494D-A53E-EDBFF97B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3A71A-3EEC-419F-93F9-5E54CCDCC1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Движение крови по сосудам. Причины движения крови по сосуд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овяное давление – давление крови на стенки кровеносных сосу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ность давления в артериях и венах, является основной причиной непрерывного движения крови по сосуд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овь перемещается к месту наименьшего дав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64000" y="4653000"/>
            <a:ext cx="2735280" cy="1871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иболее высокое давление в аорте, меньше в крупных артериях, еще меньше в капиллярах и самое низкое в вен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Артериальный пульс – ритмичные колебания стенок артерий в результате поступления крови в аорту при систоле левого желудоч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Arial"/>
              </a:rPr>
              <a:t>Пульс можно обнаружить на ощупь там, где артерии лежат ближе к поверхности тела: в области лучевой артерии нижней трети предплечья, в поверхностно-височной артерии и тыльной артерии стоп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Картинка 7 из 21"/>
          <p:cNvPicPr/>
          <p:nvPr/>
        </p:nvPicPr>
        <p:blipFill>
          <a:blip r:embed="rId2"/>
          <a:stretch/>
        </p:blipFill>
        <p:spPr>
          <a:xfrm>
            <a:off x="958680" y="1600200"/>
            <a:ext cx="3033720" cy="21859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4067280" y="1557360"/>
            <a:ext cx="4825800" cy="2286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Измерение пульса на лучевой артерии (практическая работа в пара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3848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жмите артерию в точке В, так чтобы движение крови прекратило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бедимся, что в точке А пульс не пропадает, хотя кровь остановле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жмем артерию в точке 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мкнем ее стенки и остановим пульсовую вол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ff"/>
                </a:solidFill>
                <a:uFillTx/>
                <a:latin typeface="Arial"/>
              </a:rPr>
              <a:t>Вывод – Чтобы узнать, остановлена ли кровь, надо прощупывать пульс ниже перетя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859280" y="1600200"/>
          <a:ext cx="361656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1600200"/>
                    <a:ext cx="36165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4572000" y="1341360"/>
            <a:ext cx="4103640" cy="51832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понятия т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ртериальное кровяное да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рхнее (систолическо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ижнее (диастолическо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иперто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ипото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суль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фар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ота пульса (сердечных сокращен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580000" y="2205000"/>
            <a:ext cx="3024360" cy="28083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Движение крови по сосудам возможно благодаря разности давлений в начале и в конце круга кровообращения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00"/>
                </a:solidFill>
                <a:latin typeface="Arial"/>
              </a:rPr>
              <a:t>Кровяное давление в аорте и крупных артериях составляет 110-120 мм.рт.ст. (т.е. на 110-120- мм.рт.ст. выше атмосферного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00"/>
                </a:solidFill>
                <a:latin typeface="Arial"/>
              </a:rPr>
              <a:t>В артериях 60-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00"/>
                </a:solidFill>
                <a:latin typeface="Arial"/>
              </a:rPr>
              <a:t>В артериальном и венозном концах капилляра – 30-15 соответствен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00"/>
                </a:solidFill>
                <a:latin typeface="Arial"/>
              </a:rPr>
              <a:t>В венах конечностей 5-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орость кров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в аорте (наибольшая)- 0,5 м/с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в полых венах –      0,2 м/с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в капиллярах (наименьшая) –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,5-1,2 мм/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8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Кровяное давление у человека измеряют с помощью ртутного или пружинного тонометра в плечевой артерии (артериальное давлени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cccc"/>
                </a:solidFill>
                <a:uFillTx/>
                <a:latin typeface="Arial"/>
              </a:rPr>
              <a:t>Максимальное (систолическое) давление</a:t>
            </a:r>
            <a:r>
              <a:rPr b="1" lang="en-US" sz="2400" spc="-1" strike="noStrike">
                <a:solidFill>
                  <a:srgbClr val="33cccc"/>
                </a:solidFill>
                <a:latin typeface="Arial"/>
              </a:rPr>
              <a:t> – давление во время систолы желудочков                (110-120мм.рт.ст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cccc"/>
                </a:solidFill>
                <a:uFillTx/>
                <a:latin typeface="Arial"/>
              </a:rPr>
              <a:t>Минимальное (диастолическое) давление</a:t>
            </a:r>
            <a:r>
              <a:rPr b="1" lang="en-US" sz="2400" spc="-1" strike="noStrike">
                <a:solidFill>
                  <a:srgbClr val="33cccc"/>
                </a:solidFill>
                <a:latin typeface="Arial"/>
              </a:rPr>
              <a:t> – давление во время диастолы желудочков         (60-80 мм.рт.ст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cccc"/>
                </a:solidFill>
                <a:uFillTx/>
                <a:latin typeface="Arial"/>
              </a:rPr>
              <a:t>Пульсовое давление</a:t>
            </a:r>
            <a:r>
              <a:rPr b="1" lang="en-US" sz="2400" spc="-1" strike="noStrike">
                <a:solidFill>
                  <a:srgbClr val="33cccc"/>
                </a:solidFill>
                <a:latin typeface="Arial"/>
              </a:rPr>
              <a:t> – разность между систолическим и диастолическим давл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4149720"/>
            <a:ext cx="8229600" cy="2519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11280" y="4149720"/>
            <a:ext cx="3382920" cy="2519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4788000" y="4149720"/>
            <a:ext cx="3743280" cy="25192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Давление мало зависит от пола, но зато изменяется с возрастом. Ученые опытным путем установили формулу, по которой каждый человек до 20 лет может рассчитать свое нормальное давление в состоянии покоя. (Людям старше этого возраста эта формула не подходит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414936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АД верхнее = 1,7 х возраст + 8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АД нижнее = 1,6 х возраст + 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(АД –артериальное давление, возраст берется в целых годах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5050"/>
                </a:solidFill>
                <a:uFillTx/>
                <a:latin typeface="Arial"/>
              </a:rPr>
              <a:t>Для 14 л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460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6600"/>
                </a:solidFill>
                <a:uFillTx/>
                <a:latin typeface="Arial"/>
              </a:rPr>
              <a:t>АД верхнее = 106,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6600"/>
                </a:solidFill>
                <a:uFillTx/>
                <a:latin typeface="Arial"/>
              </a:rPr>
              <a:t>АД нижнее = 64,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6600"/>
                </a:solidFill>
                <a:uFillTx/>
                <a:latin typeface="Arial"/>
              </a:rPr>
              <a:t>АД = 106,8 </a:t>
            </a:r>
            <a:r>
              <a:rPr b="1" i="1" lang="en-US" sz="3200" spc="-1" strike="noStrike" u="sng">
                <a:solidFill>
                  <a:srgbClr val="006600"/>
                </a:solidFill>
                <a:uFillTx/>
                <a:latin typeface="Arial"/>
              </a:rPr>
              <a:t>/</a:t>
            </a:r>
            <a:r>
              <a:rPr b="1" i="1" lang="ru-RU" sz="3200" spc="-1" strike="noStrike" u="sng">
                <a:solidFill>
                  <a:srgbClr val="006600"/>
                </a:solidFill>
                <a:uFillTx/>
                <a:latin typeface="Arial"/>
              </a:rPr>
              <a:t> 64,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1944720" cy="1079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148360" y="1628640"/>
            <a:ext cx="3456000" cy="38163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Колебания давления должны изменяться в определенных границах. Если колебания превышают норму, сосуды могут не выдержать, разорваться, что нередко приводит к гибели больн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Инсуль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поражение сосудов моз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Инфаркт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поражение определенного участка сердечной мышц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сле инфаркта, пораженный участок не функционирует, т.к. мышечная ткань замещена рубцовой соединительной тканью, которая не способна сокраща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Гипертония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– 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повышение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кровяного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дав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80"/>
                </a:solidFill>
                <a:latin typeface="Arial"/>
              </a:rPr>
              <a:t>Повышение артериального давления происходит при тяжелой физической нагруз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80"/>
                </a:solidFill>
                <a:latin typeface="Arial"/>
              </a:rPr>
              <a:t>С возрастом эластичность стенок артерий уменьшается, поэтому давление в них становится вы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643280" y="1628640"/>
            <a:ext cx="4105440" cy="2160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643280" y="3933720"/>
            <a:ext cx="1729080" cy="2159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6502320" y="3938760"/>
            <a:ext cx="1957320" cy="21873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Гипотония – понижение кровяного давл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43164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ипотония симптомы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слабость и усталость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раздражительность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повышенная чувствительность к жаре (в частности — плохое самочувствие в бане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при физической деятельности самочувствие лучше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сердцебиение при физических нагрузках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Понижение наблюдается при больших кровопотерях, сильных травмах, отравлениях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тонометр"/>
          <p:cNvPicPr/>
          <p:nvPr/>
        </p:nvPicPr>
        <p:blipFill>
          <a:blip r:embed="rId1"/>
          <a:stretch/>
        </p:blipFill>
        <p:spPr>
          <a:xfrm>
            <a:off x="5292720" y="3284640"/>
            <a:ext cx="3024360" cy="3384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619280" y="5445000"/>
            <a:ext cx="1305000" cy="12384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ff"/>
                </a:solidFill>
                <a:uFillTx/>
                <a:latin typeface="Arial"/>
              </a:rPr>
              <a:t>После физических нагрузок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ff"/>
                </a:solidFill>
                <a:latin typeface="Arial"/>
              </a:rPr>
              <a:t>У тренированного и здорового человека верхнее давление поднимается высоко, а нижнее – н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ff"/>
                </a:solidFill>
                <a:latin typeface="Arial"/>
              </a:rPr>
              <a:t>Если нижнее тоже поднимается, то это указывает о низкой динамической актив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07:22:28Z</dcterms:created>
  <dc:creator>аве5</dc:creator>
  <dc:description/>
  <dc:language>en-US</dc:language>
  <cp:lastModifiedBy>PC</cp:lastModifiedBy>
  <dcterms:modified xsi:type="dcterms:W3CDTF">2011-03-15T02:29:45Z</dcterms:modified>
  <cp:revision>16</cp:revision>
  <dc:subject/>
  <dc:title>Движение крови по сосудам. Причины движения крови по сосудам.</dc:title>
</cp:coreProperties>
</file>