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5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A1E-D15D-40E9-BA10-43D1CE84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FA2-0979-4C16-8312-6680FFDB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0E2-8973-4D37-BDAC-9763F1F1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55C-065D-4AEA-A455-2A5BF569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CC4-B8CE-447E-8AB8-61F50E9F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5A1-2B06-4CF9-B2D6-247ECD0A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B41-D2AA-4C7E-AA14-D9E46047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B4E-D615-41C5-9BC9-B543927F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A59-D9AE-4B57-BFA1-B488F949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546-C73D-4A48-9151-F8CD54F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636-3B0D-481F-B607-070C43B8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233-7ACF-47A1-AEA9-89C6AD7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D79C-3398-43A0-BEC5-B68E75ABA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вижение крови по сосудам. Причины движения крови по сосу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яное давление – давление крови на стенки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ость давления в артериях и венах, является основной причиной непрерывного движения крови по сосу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перемещается к месту наименьше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высокое давление в аорте, меньше в крупных артериях, еще меньше в капиллярах и самое низкое в ве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Артериальный пульс – ритмичные колебания стенок артерий в результате поступления крови в аорту при систоле левого желу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Пульс можно обнаружить на ощупь там, где артерии лежат ближе к поверхности тела: в области лучевой артерии нижней трети предплечья, в поверхностно-височной артерии и тыльной артерии ст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7 из 21"/>
          <p:cNvPicPr/>
          <p:nvPr/>
        </p:nvPicPr>
        <p:blipFill>
          <a:blip r:embed="rId2"/>
          <a:stretch/>
        </p:blipFill>
        <p:spPr>
          <a:xfrm>
            <a:off x="958680" y="1600200"/>
            <a:ext cx="303372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067280" y="1557360"/>
            <a:ext cx="482580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Измерение пульса на лучевой артерии (практическая работа в па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мите артерию в точке В, так чтобы движение крови прекрат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мся, что в точке А пульс не пропадает, хотя кровь о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жмем артерию в точке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мкнем ее стенки и остановим пульсовую вол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ывод – Чтобы узнать, остановлена ли кровь, надо прощупывать пульс ниже перетя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59280" y="1600200"/>
          <a:ext cx="3616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00200"/>
                    <a:ext cx="3616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0" y="1341360"/>
            <a:ext cx="4103640" cy="518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ериальное кровя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нее (систолическ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жнее (диастолическ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т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ар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пульса (сердечных сокращ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ижение крови по сосудам возможно благодаря разности давлений в начале и в конце круга кровообращ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Кровяное давление в аорте и крупных артериях составляет 110-120 мм.рт.ст. (т.е. на 110-120- мм.рт.ст. выше атмосферн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артериях 60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артериальном и венозном концах капилляра – 30-15 соответств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венах конечностей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 кро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аорте (наибольшая)- 0,5 м/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полых венах –      0,2 м/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капиллярах (наименьшая) –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5-1,2 м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Кровяное давление у человека измеряют с помощью ртутного или пружинного тонометра в плечевой артерии (артериальное да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Максимальное (систолическое)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давление во время систолы желудочков                (110-120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Минимальное (диастолическое)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давление во время диастолы желудочков         (60-80 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Пульсовое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разность между систолическим и диастолическим да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4149720"/>
            <a:ext cx="822960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38292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743280" cy="2519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авление мало зависит от пола, но зато изменяется с возрастом. Ученые опытным путем установили формулу, по которой каждый человек до 20 лет может рассчитать свое нормальное давление в состоянии покоя. (Людям старше этого возраста эта формула не подходи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 верхнее = 1,7 х возраст +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 нижнее = 1,6 х возраст +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АД –артериальное давление, возраст берется в целых год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5050"/>
                </a:solidFill>
                <a:uFillTx/>
                <a:latin typeface="Arial"/>
              </a:rPr>
              <a:t>Для 14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верхнее = 106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нижнее = 6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= 106,8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/</a:t>
            </a: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 6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94472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олебания давления должны изменяться в определенных границах. Если колебания превышают норму, сосуды могут не выдержать, разорваться, что нередко приводит к гибели бо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суль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ражение сосудов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фарк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поражение определенного участка сердечной мыш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инфаркта, пораженный участок не функционирует, т.к. мышечная ткань замещена рубцовой соединительной тканью, которая не способна сокращ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Гипертони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овышени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ровяног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овышение артериального давления происходит при тяжелой физической нагру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 возрастом эластичность стенок артерий уменьшается, поэтому давление в них становится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1729080" cy="215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502320" y="3938760"/>
            <a:ext cx="195732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Гипотония – понижение кровя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316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ония симптомы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лабость и устал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дражительн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овышенная чувствительность к жаре (в частности — плохое самочувствие в бане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ри физической деятельности самочувствие лучше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ердцебиение при физических нагрузка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нижение наблюдается при больших кровопотерях, сильных травмах, отравлениях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тонометр"/>
          <p:cNvPicPr/>
          <p:nvPr/>
        </p:nvPicPr>
        <p:blipFill>
          <a:blip r:embed="rId1"/>
          <a:stretch/>
        </p:blipFill>
        <p:spPr>
          <a:xfrm>
            <a:off x="5292720" y="3284640"/>
            <a:ext cx="3024360" cy="33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5445000"/>
            <a:ext cx="1305000" cy="1238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После физических нагруз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У тренированного и здорового человека верхнее давление поднимается высоко, а нижнее –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Если нижнее тоже поднимается, то это указывает о низкой динамической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7:22:28Z</dcterms:created>
  <dc:creator>аве5</dc:creator>
  <dc:description/>
  <dc:language>en-US</dc:language>
  <cp:lastModifiedBy>PC</cp:lastModifiedBy>
  <dcterms:modified xsi:type="dcterms:W3CDTF">2011-03-15T02:29:45Z</dcterms:modified>
  <cp:revision>16</cp:revision>
  <dc:subject/>
  <dc:title>Движение крови по сосудам. Причины движения крови по сосудам.</dc:title>
</cp:coreProperties>
</file>