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AB7-5882-4231-8C67-D3B5970F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2A2-B768-4CED-ACBC-EF3CADC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69A-4D91-44B0-B563-C5380181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311-B1AD-4CD3-B418-6186ACEC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97C-31EC-4E48-A5D3-CCC5A0A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162-1F42-4E2A-98AD-FE4AF46B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BF1-E7E4-4FD8-AE6D-D5CF01F5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ED8-393A-4A52-A386-3674BD63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F96-1A29-4506-92C8-D6DAEC6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1B3-B91A-414D-B86E-6E3AAC6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669-9183-4591-A7DD-FB7EF82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171-079A-46D0-BCD3-0126EDA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5F14-342E-4F41-BEF1-7E9C8D22A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8190023"/>
          <p:cNvPicPr/>
          <p:nvPr/>
        </p:nvPicPr>
        <p:blipFill>
          <a:blip r:embed="rId1"/>
          <a:stretch/>
        </p:blipFill>
        <p:spPr>
          <a:xfrm>
            <a:off x="0" y="3348000"/>
            <a:ext cx="6858000" cy="57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94920"/>
            <a:ext cx="58291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Фоторепортаж </a:t>
            </a:r>
            <a:br>
              <a:rPr sz="5400"/>
            </a:b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«Удивительное рядом с н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01304.gif"/>
          <p:cNvPicPr/>
          <p:nvPr/>
        </p:nvPicPr>
        <p:blipFill>
          <a:blip r:embed="rId2"/>
          <a:stretch/>
        </p:blipFill>
        <p:spPr>
          <a:xfrm rot="19708200">
            <a:off x="5257440" y="0"/>
            <a:ext cx="1600200" cy="12114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01304.gif"/>
          <p:cNvPicPr/>
          <p:nvPr/>
        </p:nvPicPr>
        <p:blipFill>
          <a:blip r:embed="rId3"/>
          <a:stretch/>
        </p:blipFill>
        <p:spPr>
          <a:xfrm rot="3049200">
            <a:off x="-720" y="1909080"/>
            <a:ext cx="160020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Фото-0002"/>
          <p:cNvPicPr/>
          <p:nvPr/>
        </p:nvPicPr>
        <p:blipFill>
          <a:blip r:embed="rId1"/>
          <a:stretch/>
        </p:blipFill>
        <p:spPr>
          <a:xfrm>
            <a:off x="0" y="0"/>
            <a:ext cx="4221000" cy="493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P38_8"/>
          <p:cNvPicPr/>
          <p:nvPr/>
        </p:nvPicPr>
        <p:blipFill>
          <a:blip r:embed="rId2"/>
          <a:stretch/>
        </p:blipFill>
        <p:spPr>
          <a:xfrm>
            <a:off x="4221000" y="0"/>
            <a:ext cx="2637000" cy="43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sland-shore"/>
          <p:cNvPicPr/>
          <p:nvPr/>
        </p:nvPicPr>
        <p:blipFill>
          <a:blip r:embed="rId3"/>
          <a:stretch/>
        </p:blipFill>
        <p:spPr>
          <a:xfrm>
            <a:off x="0" y="4894200"/>
            <a:ext cx="3241800" cy="424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8190023"/>
          <p:cNvPicPr/>
          <p:nvPr/>
        </p:nvPicPr>
        <p:blipFill>
          <a:blip r:embed="rId4"/>
          <a:stretch/>
        </p:blipFill>
        <p:spPr>
          <a:xfrm>
            <a:off x="3213000" y="6012000"/>
            <a:ext cx="3645000" cy="3132000"/>
          </a:xfrm>
          <a:prstGeom prst="rect">
            <a:avLst/>
          </a:prstGeom>
          <a:ln w="0">
            <a:noFill/>
          </a:ln>
        </p:spPr>
      </p:pic>
      <p:sp>
        <p:nvSpPr>
          <p:cNvPr id="85" name="Oval 10"/>
          <p:cNvSpPr/>
          <p:nvPr/>
        </p:nvSpPr>
        <p:spPr>
          <a:xfrm>
            <a:off x="0" y="3348000"/>
            <a:ext cx="4797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люблю свой край за то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прекрасен, хотя в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лесть его раскрывается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, а очень медле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еп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2708280" y="4500720"/>
            <a:ext cx="4149720" cy="158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зья мо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советую 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юбоваться род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ими простор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0394 L -0.20851 -0.00394 E">
                                      <p:cBhvr>
                                        <p:cTn id="4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254640" cy="838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у выполнил ученик 4 класса МБОУ «Бурундуковская основная школа им. Р.Калимулли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йбицкого района РТ Хузин Булат Ирек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04280" y="2123640"/>
            <a:ext cx="61722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ите я вам расскажу о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еньких прогулках с отц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се-все зн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уем, наблюдаем, иног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овимся свидете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ительных  историй. В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207054"/>
          <p:cNvPicPr/>
          <p:nvPr/>
        </p:nvPicPr>
        <p:blipFill>
          <a:blip r:embed="rId1"/>
          <a:stretch/>
        </p:blipFill>
        <p:spPr>
          <a:xfrm>
            <a:off x="0" y="0"/>
            <a:ext cx="6858000" cy="32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Фото-0001"/>
          <p:cNvPicPr/>
          <p:nvPr/>
        </p:nvPicPr>
        <p:blipFill>
          <a:blip r:embed="rId2"/>
          <a:stretch/>
        </p:blipFill>
        <p:spPr>
          <a:xfrm>
            <a:off x="3500280" y="0"/>
            <a:ext cx="33577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Фото-0018"/>
          <p:cNvPicPr/>
          <p:nvPr/>
        </p:nvPicPr>
        <p:blipFill>
          <a:blip r:embed="rId1"/>
          <a:stretch/>
        </p:blipFill>
        <p:spPr>
          <a:xfrm>
            <a:off x="0" y="0"/>
            <a:ext cx="683748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1258560"/>
            <a:ext cx="6172200" cy="69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о сказать, отец – заяд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олов. Хочет, чтобы и я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хож на него. Но у меня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овсем получается. Во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годня рыболов – неуда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я, утешал себя мысл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ть и не поймал ничего, 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у под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8900" r="-2684" b="21790"/>
          <a:stretch/>
        </p:blipFill>
        <p:spPr>
          <a:xfrm>
            <a:off x="0" y="0"/>
            <a:ext cx="278136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рыбные  приме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хорошо изучил. Ес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2050560"/>
            <a:ext cx="619128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сный, сухой, безоблач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вдруг соверш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щается клев рыб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 затяжного ненаст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ером рыба играе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щется – к хорошей пог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сле теплого дн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ы вечером много круж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покойной воде, это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му же теплому д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ерите? Тогда проверьте. 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никогда не обманыв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рыба"/>
          <p:cNvPicPr/>
          <p:nvPr/>
        </p:nvPicPr>
        <p:blipFill>
          <a:blip r:embed="rId1"/>
          <a:stretch/>
        </p:blipFill>
        <p:spPr>
          <a:xfrm>
            <a:off x="3141720" y="7164360"/>
            <a:ext cx="3716280" cy="197964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55" name="Picture 5" descr="малина"/>
          <p:cNvPicPr/>
          <p:nvPr/>
        </p:nvPicPr>
        <p:blipFill>
          <a:blip r:embed="rId2"/>
          <a:stretch/>
        </p:blipFill>
        <p:spPr>
          <a:xfrm>
            <a:off x="0" y="0"/>
            <a:ext cx="4076640" cy="2411280"/>
          </a:xfrm>
          <a:prstGeom prst="rect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627280"/>
            <a:ext cx="685800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тица птице помогает. А вот видели вы, что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тица рыбе помогала? Сидел я на берегу у тих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оди, а на песке играли пескари. Мелко, теп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да, на мель, и сердитая тетя щука не загля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меня в кармане завалялись крошки хле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и я хотел угостить малышей. Но рука так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стыла в кармане: на соседнем пло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шке сидели две маленькие птички, а из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вика торчали мелкие белые личинки. Пти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устили головки к самой воде. Представляе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 как будто закипела. Стайка песка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нулась с открытыми ротиками угощ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вяки всем достались. Я и пошевелитьс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л, как птички с звонкой радостной тр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орхнули и исчезли в кустах. Так повтори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раз: вода кипела, серебря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востики взбивали ее, жадные ротики хват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ы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42720" y="250560"/>
            <a:ext cx="6172200" cy="79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я дома рассказал об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е родителям, папа узнал в этих птиц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иновок. Оказывается, мали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дко хлопочут о чужих беспризо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енцах. Но здесь-то рыбы. Что случилось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енцами этой пары?  Бродячая ли ко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а, мальчишка с рогаткой? С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нктивное стремление положить в чей-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ик принесенную добычу птахи с малин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дью перенесли  рыбам. Как ми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ма говорит, что давно уже читал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м-то журнале рассказ о тропической яр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ке кардинале в Америке. Она в пру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ила золотых рыбок. Я от души радую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у, что и у нас нашлись такие удив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огруд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250920"/>
          <a:ext cx="6191280" cy="864216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86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кубышка"/>
          <p:cNvPicPr/>
          <p:nvPr/>
        </p:nvPicPr>
        <p:blipFill>
          <a:blip r:embed="rId1"/>
          <a:stretch/>
        </p:blipFill>
        <p:spPr>
          <a:xfrm>
            <a:off x="0" y="2147760"/>
            <a:ext cx="6858000" cy="6996240"/>
          </a:xfrm>
          <a:prstGeom prst="rect">
            <a:avLst/>
          </a:prstGeom>
          <a:ln w="0">
            <a:noFill/>
          </a:ln>
        </p:spPr>
      </p:pic>
      <p:sp>
        <p:nvSpPr>
          <p:cNvPr id="61" name="Oval 8"/>
          <p:cNvSpPr/>
          <p:nvPr/>
        </p:nvSpPr>
        <p:spPr>
          <a:xfrm>
            <a:off x="765000" y="0"/>
            <a:ext cx="5832720" cy="3851280"/>
          </a:xfrm>
          <a:prstGeom prst="ellipse">
            <a:avLst/>
          </a:prstGeom>
          <a:solidFill>
            <a:srgbClr val="0000ff"/>
          </a:solidFill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цветет, все зеленеет в ию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вода в прудах, в озе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больших речках, где не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го течения, воды даже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но: листики покрыли ее. Н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листики это, а цветы жел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бышки.  Красивы-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я 3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2852640" y="7308720"/>
            <a:ext cx="4005360" cy="1835280"/>
          </a:xfrm>
          <a:prstGeom prst="ellipse">
            <a:avLst/>
          </a:prstGeom>
          <a:solidFill>
            <a:srgbClr val="99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 отец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шил сорвать ее. Говорит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умных собирателей бук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столько, что уже редк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а у нас желтая кубышка. 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ся в списке раст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раняемых на территории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88"/>
          <p:cNvPicPr/>
          <p:nvPr/>
        </p:nvPicPr>
        <p:blipFill>
          <a:blip r:embed="rId2"/>
          <a:stretch/>
        </p:blipFill>
        <p:spPr>
          <a:xfrm>
            <a:off x="0" y="971640"/>
            <a:ext cx="16765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J0213513"/>
          <p:cNvPicPr/>
          <p:nvPr/>
        </p:nvPicPr>
        <p:blipFill>
          <a:blip r:embed="rId3"/>
          <a:stretch/>
        </p:blipFill>
        <p:spPr>
          <a:xfrm>
            <a:off x="-243000" y="6300720"/>
            <a:ext cx="2060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пчела"/>
          <p:cNvPicPr/>
          <p:nvPr/>
        </p:nvPicPr>
        <p:blipFill>
          <a:blip r:embed="rId1"/>
          <a:stretch/>
        </p:blipFill>
        <p:spPr>
          <a:xfrm>
            <a:off x="4653000" y="7093080"/>
            <a:ext cx="2205000" cy="20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липа"/>
          <p:cNvPicPr/>
          <p:nvPr/>
        </p:nvPicPr>
        <p:blipFill>
          <a:blip r:embed="rId2"/>
          <a:stretch/>
        </p:blipFill>
        <p:spPr>
          <a:xfrm>
            <a:off x="0" y="0"/>
            <a:ext cx="3860640" cy="2484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87280"/>
            <a:ext cx="6515280" cy="698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удесный запах!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азыва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а цве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тцу лезу со сво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, а почему липа цветет так позд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цветочные почки у нее заклад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на молодых побегах. Сначала они выраст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ятся, тогда и распустятся, зацве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бе она нрав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. Всем хороша липа: красива, долговеч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того, почву улучшает для соседей – дуба, 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венницы, сос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-то народные приметы, связанные 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ением липы,  зна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, например, такая примета: отцвела лип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т, перевалило лето на вторую полов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маешь –сердце защемит: как недолга на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няя радость,- добавил 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мамы я потом узнал, что славянское наз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юля – липень. Это название сохранилос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аинском языке. А еще мама говорит, что настой цветов липы помогает снизить  температуру. Для людей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уснее и целитель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ового м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86"/>
          <p:cNvPicPr/>
          <p:nvPr/>
        </p:nvPicPr>
        <p:blipFill>
          <a:blip r:embed="rId3"/>
          <a:stretch/>
        </p:blipFill>
        <p:spPr>
          <a:xfrm rot="1964400">
            <a:off x="2595240" y="464760"/>
            <a:ext cx="717480" cy="50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86"/>
          <p:cNvPicPr/>
          <p:nvPr/>
        </p:nvPicPr>
        <p:blipFill>
          <a:blip r:embed="rId4"/>
          <a:stretch/>
        </p:blipFill>
        <p:spPr>
          <a:xfrm rot="1395600">
            <a:off x="328320" y="1360440"/>
            <a:ext cx="841320" cy="5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86"/>
          <p:cNvPicPr/>
          <p:nvPr/>
        </p:nvPicPr>
        <p:blipFill>
          <a:blip r:embed="rId5"/>
          <a:stretch/>
        </p:blipFill>
        <p:spPr>
          <a:xfrm rot="1395600">
            <a:off x="404640" y="8028000"/>
            <a:ext cx="11034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01304.gif"/>
          <p:cNvPicPr/>
          <p:nvPr/>
        </p:nvPicPr>
        <p:blipFill>
          <a:blip r:embed="rId1"/>
          <a:stretch/>
        </p:blipFill>
        <p:spPr>
          <a:xfrm>
            <a:off x="0" y="3780000"/>
            <a:ext cx="1600200" cy="146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Фото-0010"/>
          <p:cNvPicPr/>
          <p:nvPr/>
        </p:nvPicPr>
        <p:blipFill>
          <a:blip r:embed="rId2"/>
          <a:stretch/>
        </p:blipFill>
        <p:spPr>
          <a:xfrm>
            <a:off x="20520" y="0"/>
            <a:ext cx="6837480" cy="378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684360"/>
            <a:ext cx="6172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000" y="3924360"/>
            <a:ext cx="6172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это да! Вот это я люблю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и кустарников покрасн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шистая земляника! М–м-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аромат! Какой вкус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ые головки уже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чутся, среди зеле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тиков, как прят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пелые, еще зеленые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птицы раньше времени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тили и не склевали. А в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скушайте на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, папа, не жадничай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 поделимся по-братски! Дав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01304.gif"/>
          <p:cNvPicPr/>
          <p:nvPr/>
        </p:nvPicPr>
        <p:blipFill>
          <a:blip r:embed="rId3"/>
          <a:stretch/>
        </p:blipFill>
        <p:spPr>
          <a:xfrm>
            <a:off x="5257800" y="7682040"/>
            <a:ext cx="1600200" cy="14619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01304.gif"/>
          <p:cNvPicPr/>
          <p:nvPr/>
        </p:nvPicPr>
        <p:blipFill>
          <a:blip r:embed="rId4"/>
          <a:stretch/>
        </p:blipFill>
        <p:spPr>
          <a:xfrm rot="17527200">
            <a:off x="5340240" y="1820880"/>
            <a:ext cx="1152720" cy="828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01304.gif"/>
          <p:cNvPicPr/>
          <p:nvPr/>
        </p:nvPicPr>
        <p:blipFill>
          <a:blip r:embed="rId5"/>
          <a:stretch/>
        </p:blipFill>
        <p:spPr>
          <a:xfrm>
            <a:off x="5473800" y="7897680"/>
            <a:ext cx="1600200" cy="14623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01304.gif"/>
          <p:cNvPicPr/>
          <p:nvPr/>
        </p:nvPicPr>
        <p:blipFill>
          <a:blip r:embed="rId6"/>
          <a:stretch/>
        </p:blipFill>
        <p:spPr>
          <a:xfrm rot="17527200">
            <a:off x="4017240" y="8640"/>
            <a:ext cx="10717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6:53:50Z</dcterms:created>
  <dc:creator>Bill Gates</dc:creator>
  <dc:description/>
  <dc:language>en-US</dc:language>
  <cp:lastModifiedBy>Хузина</cp:lastModifiedBy>
  <dcterms:modified xsi:type="dcterms:W3CDTF">2011-11-26T12:49:47Z</dcterms:modified>
  <cp:revision>8</cp:revision>
  <dc:subject/>
  <dc:title>Фоторепортаж  литературный конкурс «Удивительное рядом с нами»</dc:title>
</cp:coreProperties>
</file>