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010-9E90-4EA3-A1D8-E096981B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798-E8C3-4899-B5E9-39A5850F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8CD-73D5-4FF2-B1E6-8B828899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CCC-B761-428B-8A9C-970F776C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8C6-C7E4-47BF-92D7-152DF5E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231-DFA9-4B59-B74C-CF71D7AF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8BC-183D-4B16-AE92-E0D8F3C2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A83-41F7-4889-8D5B-4F4CFB85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B07-0838-4CE7-B336-AFB335FF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97B-A9DD-47BD-A72D-DA4B9862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FC1-0BA5-4992-9E6C-A9000A7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773-B929-4E8D-B2E0-A670A8D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CCB3-2FD3-40C5-921A-7C2C6727E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.damochka.ru/images/dnevnik/758/2106758/5.122029325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hildren.claw.ru/2_plants/Content/002/4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/marina142.0/0_1ab1_2206d49e_X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andphoto.ru/stock/photo1/914/7729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all.alphacoders.com/images/150/320-480-150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ГРИ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894 из 64000"/>
          <p:cNvPicPr/>
          <p:nvPr/>
        </p:nvPicPr>
        <p:blipFill>
          <a:blip r:embed="rId1"/>
          <a:stretch/>
        </p:blipFill>
        <p:spPr>
          <a:xfrm>
            <a:off x="611280" y="1484280"/>
            <a:ext cx="7848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БЕЛЫЙ ГРИ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пригорка на дорожке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риб стоит на толстой ножке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дождя немного влажный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елый гриб - большой и важный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27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628640"/>
            <a:ext cx="4427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ОДОСИН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рациозно выгнув спину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 солнцу тянется осина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ядом, если повезет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досиновик растет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442 из 4128"/>
          <p:cNvPicPr/>
          <p:nvPr/>
        </p:nvPicPr>
        <p:blipFill>
          <a:blip r:embed="rId1"/>
          <a:stretch/>
        </p:blipFill>
        <p:spPr>
          <a:xfrm>
            <a:off x="250920" y="1628640"/>
            <a:ext cx="46800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ОДБЕРЕЗ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де березовая роща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риб найти намного проще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д березками сидят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дберезовики в ряд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33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120" y="1484280"/>
            <a:ext cx="3679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ЫРОЕЖ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лянь, кругом цветные шляпки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 играют с вами в прятки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от стоят, ты только срежь-ка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ам попалась сыроежка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276 из 2565"/>
          <p:cNvPicPr/>
          <p:nvPr/>
        </p:nvPicPr>
        <p:blipFill>
          <a:blip r:embed="rId1"/>
          <a:stretch/>
        </p:blipFill>
        <p:spPr>
          <a:xfrm>
            <a:off x="179280" y="1484280"/>
            <a:ext cx="496908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ЛИСИ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 опушке три сестрички 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Ярких, рыженьких лисички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Шляпки в капельках росы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Три сестренки - три лис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53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06064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П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 пеньке сидят опята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еселые ребята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Ах, какие дружные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Здесь не меньше дюжины!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5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84280"/>
            <a:ext cx="3527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ПОГА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жаркий полдень на полянке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стомились две поганки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чень бледные от зноя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ходи их стороною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759 из 64000"/>
          <p:cNvPicPr/>
          <p:nvPr/>
        </p:nvPicPr>
        <p:blipFill>
          <a:blip r:embed="rId1"/>
          <a:stretch/>
        </p:blipFill>
        <p:spPr>
          <a:xfrm>
            <a:off x="184320" y="1557360"/>
            <a:ext cx="4238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МУХОМ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илый гриб красивый, яркий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ыл бы каждому подарком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ухомор красив, но злобен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тому и не съедоб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9880" y="1125360"/>
            <a:ext cx="3984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5:22:36Z</dcterms:created>
  <dc:creator>admin</dc:creator>
  <dc:description/>
  <dc:language>en-US</dc:language>
  <cp:lastModifiedBy>admin</cp:lastModifiedBy>
  <dcterms:modified xsi:type="dcterms:W3CDTF">2010-09-28T17:21:18Z</dcterms:modified>
  <cp:revision>16</cp:revision>
  <dc:subject/>
  <dc:title>МУХОМОР</dc:title>
</cp:coreProperties>
</file>