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camera.wav" ContentType="audio/x-wav"/>
  <Override PartName="/ppt/media/image1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738-648B-4703-9B90-049AD1E8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598-AFB4-4E0E-9C0D-419DE3FE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F1F-0E62-4124-8695-998476F5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CCC-30AE-4BCE-B177-11B10B49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D41D-D9F0-4760-834D-33CE3E57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8C62-4C66-429D-B8C3-8F9F1355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B69D-2C07-476C-9E8E-4ECD95EE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62EB-54A3-4734-9DC4-75324004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BFF0-0267-4E46-9D60-05747BE3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0EB6-6E03-4DD0-B410-C928733B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DC71-C8EE-4FAB-9BB2-E8583B7F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489-EA0A-4B2C-A5F8-BE32A273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966A-E65A-47C3-A3D8-C510993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2AD1-0D61-4BDB-B289-8A29C32A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62DD-301C-4AEF-8557-2B557FCA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B4EC-6295-4541-9E25-1DA974CF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0C11-93C2-4F06-94CB-58511A29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682-F322-4428-BB28-396B00D1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DE3-8670-47C4-AD7D-72CE2845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A3A-7B3E-4AF9-BC8B-BB898C90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3D8-1B6A-4960-B3CC-CBBEAB5D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83F-3633-45D6-AD19-E017FEFC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451-D250-4726-A561-1E92BAD9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1DB-4099-4F33-97E2-A2B66AFD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E75E-2C29-4581-92FC-4F68C578F4D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EEB1-71FD-485F-B2A4-D3B9B02EB80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6;&#1086;&#1076;&#1080;&#1085;&#1072;%20&#1092;&#1080;&#1075;&#1091;&#1088;&#1085;&#1086;&#1075;&#1086;%20&#1082;&#1072;&#1090;&#1072;&#1085;&#1080;&#1103;.doc" TargetMode="External"/><Relationship Id="rId2" Type="http://schemas.openxmlformats.org/officeDocument/2006/relationships/hyperlink" Target="file:///&#1057;&#1072;&#1084;&#1099;&#1077;%20&#1087;&#1077;&#1088;&#1074;&#1099;&#1077;%20&#1082;&#1086;&#1085;&#1100;&#1082;&#1080;.doc" TargetMode="External"/><Relationship Id="rId3" Type="http://schemas.openxmlformats.org/officeDocument/2006/relationships/hyperlink" Target="file:///&#1057;&#1072;&#1084;&#1086;&#1077;%20&#1088;&#1072;&#1085;&#1085;&#1077;&#1077;%20&#1091;&#1087;&#1086;&#1084;&#1080;&#1085;&#1072;&#1085;&#1080;&#1077;%20&#1089;&#1083;&#1086;&#1074;&#1072;.doc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66"/>
                </a:solidFill>
                <a:latin typeface="Arial"/>
              </a:rPr>
              <a:t>КОНЬК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4005360"/>
            <a:ext cx="41767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иходько Л.А., учитель начальных класс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МОУ «СОШ №8 г. Выборг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86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9293" y="3794"/>
                </a:moveTo>
                <a:lnTo>
                  <a:pt x="23306" y="10800"/>
                </a:lnTo>
                <a:lnTo>
                  <a:pt x="92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491920"/>
            <a:ext cx="76932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олковый словарь русского языка С.И. Ожогов  Н.Ю.Шведо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нимательное азбукаведение В.В. Вол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асковое слово, что солнышко в ненастье (народное образное слово) Г. Науменк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Большая детская энциклопедия» - дис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Большая энциклопедия Кирилла и Мефодия» - дис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терн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Загадк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Мчусь, как пуля, я вперёд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Лишь поскрипывает лёд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Да мелькают огоньки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Кто несёт меня? …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AutoShape 4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4"/>
          <p:cNvGraphicFramePr/>
          <p:nvPr/>
        </p:nvGraphicFramePr>
        <p:xfrm>
          <a:off x="1547640" y="333360"/>
          <a:ext cx="604872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33360"/>
                    <a:ext cx="604872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6" descr="Изображение 017"/>
          <p:cNvPicPr/>
          <p:nvPr/>
        </p:nvPicPr>
        <p:blipFill>
          <a:blip r:embed="rId3"/>
          <a:stretch/>
        </p:blipFill>
        <p:spPr>
          <a:xfrm>
            <a:off x="1619280" y="2362320"/>
            <a:ext cx="6697800" cy="3946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7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AutoShape 8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4" name="camera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3"/>
          <p:cNvGraphicFramePr/>
          <p:nvPr/>
        </p:nvGraphicFramePr>
        <p:xfrm>
          <a:off x="1692360" y="2349360"/>
          <a:ext cx="64800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6480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AutoShape 6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AutoShape 7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3" name="camera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Родственные слов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Organization Chart 7"/>
          <p:cNvGrpSpPr/>
          <p:nvPr/>
        </p:nvGrpSpPr>
        <p:grpSpPr>
          <a:xfrm>
            <a:off x="611280" y="2792520"/>
            <a:ext cx="8208000" cy="2514600"/>
            <a:chOff x="611280" y="2792520"/>
            <a:chExt cx="8208000" cy="2514600"/>
          </a:xfrm>
        </p:grpSpPr>
        <p:cxnSp>
          <p:nvCxnSpPr>
            <p:cNvPr id="113" name="_s3076"/>
            <p:cNvCxnSpPr>
              <a:stCxn id="114" idx="1"/>
              <a:endCxn id="115" idx="2"/>
            </p:cNvCxnSpPr>
            <p:nvPr/>
          </p:nvCxnSpPr>
          <p:spPr>
            <a:xfrm rot="10800000">
              <a:off x="4085640" y="4620600"/>
              <a:ext cx="314280" cy="4579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6" name="_s3077"/>
            <p:cNvCxnSpPr>
              <a:stCxn id="115" idx="0"/>
              <a:endCxn id="117" idx="2"/>
            </p:cNvCxnSpPr>
            <p:nvPr/>
          </p:nvCxnSpPr>
          <p:spPr>
            <a:xfrm flipV="1" rot="16200000">
              <a:off x="3654360" y="3733200"/>
              <a:ext cx="229320" cy="63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8" name="_s3078"/>
            <p:cNvCxnSpPr>
              <a:stCxn id="119" idx="1"/>
              <a:endCxn id="120" idx="2"/>
            </p:cNvCxnSpPr>
            <p:nvPr/>
          </p:nvCxnSpPr>
          <p:spPr>
            <a:xfrm rot="10800000">
              <a:off x="1559160" y="4620600"/>
              <a:ext cx="314280" cy="4579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1" name="_s3079"/>
            <p:cNvCxnSpPr>
              <a:stCxn id="122" idx="1"/>
              <a:endCxn id="123" idx="2"/>
            </p:cNvCxnSpPr>
            <p:nvPr/>
          </p:nvCxnSpPr>
          <p:spPr>
            <a:xfrm rot="10800000">
              <a:off x="6611040" y="4620600"/>
              <a:ext cx="313920" cy="4579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4" name="_s3080"/>
            <p:cNvCxnSpPr>
              <a:stCxn id="123" idx="0"/>
              <a:endCxn id="125" idx="2"/>
            </p:cNvCxnSpPr>
            <p:nvPr/>
          </p:nvCxnSpPr>
          <p:spPr>
            <a:xfrm flipH="1" flipV="1" rot="5400000">
              <a:off x="7128000" y="3418560"/>
              <a:ext cx="229320" cy="126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6" name="_s3081"/>
            <p:cNvCxnSpPr>
              <a:stCxn id="120" idx="0"/>
              <a:endCxn id="117" idx="2"/>
            </p:cNvCxnSpPr>
            <p:nvPr/>
          </p:nvCxnSpPr>
          <p:spPr>
            <a:xfrm flipH="1" flipV="1" rot="5400000">
              <a:off x="2391480" y="3102120"/>
              <a:ext cx="229320" cy="189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7" name="_s3082"/>
            <p:cNvCxnSpPr>
              <a:stCxn id="125" idx="0"/>
              <a:endCxn id="128" idx="2"/>
            </p:cNvCxnSpPr>
            <p:nvPr/>
          </p:nvCxnSpPr>
          <p:spPr>
            <a:xfrm flipV="1" rot="16200000">
              <a:off x="6179400" y="1784520"/>
              <a:ext cx="229320" cy="3158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9" name="_s3083"/>
            <p:cNvCxnSpPr>
              <a:stCxn id="117" idx="0"/>
              <a:endCxn id="128" idx="2"/>
            </p:cNvCxnSpPr>
            <p:nvPr/>
          </p:nvCxnSpPr>
          <p:spPr>
            <a:xfrm flipH="1" flipV="1" rot="5400000">
              <a:off x="3970080" y="2732400"/>
              <a:ext cx="229320" cy="126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28" name="_s3084"/>
            <p:cNvSpPr/>
            <p:nvPr/>
          </p:nvSpPr>
          <p:spPr>
            <a:xfrm>
              <a:off x="3767400" y="2792520"/>
              <a:ext cx="189612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ь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_s3085"/>
            <p:cNvSpPr/>
            <p:nvPr/>
          </p:nvSpPr>
          <p:spPr>
            <a:xfrm>
              <a:off x="2505240" y="34783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ёк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_s3086"/>
            <p:cNvSpPr/>
            <p:nvPr/>
          </p:nvSpPr>
          <p:spPr>
            <a:xfrm>
              <a:off x="6925320" y="34783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ьки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_s3087"/>
            <p:cNvSpPr/>
            <p:nvPr/>
          </p:nvSpPr>
          <p:spPr>
            <a:xfrm>
              <a:off x="611280" y="41641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юшня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_s3088"/>
            <p:cNvSpPr/>
            <p:nvPr/>
          </p:nvSpPr>
          <p:spPr>
            <a:xfrm>
              <a:off x="5663880" y="4164120"/>
              <a:ext cx="189360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ькобежец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_s3089"/>
            <p:cNvSpPr/>
            <p:nvPr/>
          </p:nvSpPr>
          <p:spPr>
            <a:xfrm>
              <a:off x="6925320" y="48499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ьковый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3090"/>
            <p:cNvSpPr/>
            <p:nvPr/>
          </p:nvSpPr>
          <p:spPr>
            <a:xfrm>
              <a:off x="1873440" y="48499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юх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_s3091"/>
            <p:cNvSpPr/>
            <p:nvPr/>
          </p:nvSpPr>
          <p:spPr>
            <a:xfrm>
              <a:off x="3137400" y="41641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ный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_s3092"/>
            <p:cNvSpPr/>
            <p:nvPr/>
          </p:nvSpPr>
          <p:spPr>
            <a:xfrm>
              <a:off x="4399560" y="4849920"/>
              <a:ext cx="189360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ский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0" name="AutoShape 31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AutoShape 32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Этимология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79819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Родина фигурного кат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Самые первые конь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Самое раннее упоминание слов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8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AutoShape 9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4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разеологиз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852280"/>
            <a:ext cx="7693200" cy="32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ыть на кон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ыть впереди всех, лучше все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е в коня кор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 том, что не идёт на пользу кому-нибуд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нь не валял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ичего ещё не готов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AutoShape 4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AutoShape 5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ловицы поговорки и 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дел коньки – ходи здоров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ы лыжи и коньки надел –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 в год ни разу не бол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встав на коньки - на лёд не выход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ть, ребята, у мен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ва серебряных кон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зжу сразу на обои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то за кони у меня?          (Коньк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ьётся речка – мы лежим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ёд на речке – мы бежим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Коньк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AutoShape 4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нциклопедические свед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ньк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узкие стальные полозья, прикрепляемые к обуви для катания на льд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ывают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еговые, фигурные, роликовы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оликовые коньк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портивный снаряд на колёсиках, прикрепляемые к ноге для катания по гладкой, нескользкой поверх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5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6:58:14Z</dcterms:created>
  <dc:creator>1</dc:creator>
  <dc:description/>
  <dc:language>en-US</dc:language>
  <cp:lastModifiedBy>FIRST</cp:lastModifiedBy>
  <dcterms:modified xsi:type="dcterms:W3CDTF">2011-11-30T16:42:32Z</dcterms:modified>
  <cp:revision>8</cp:revision>
  <dc:subject/>
  <dc:title>КОНЬКИ</dc:title>
</cp:coreProperties>
</file>