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C88-BD18-4021-A57E-A5EDA101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840-91F7-4D94-965E-8D0A454D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C28-6A87-4A54-BD7F-38BE2C6B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CAB-810E-4DF8-B5E0-07F1D82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0BA-9784-47B4-B478-4733CDAE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717A-3208-4D92-898F-1BDD6F7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6013-7A1E-4CA7-A908-6A3411D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30E-6110-4652-9D53-4084FDCB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4BCC-B855-46BA-BCFE-8CBDD988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162D-DC50-4736-B363-37343EA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E8D-E189-4CB2-8E4A-EF54239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F61-65FF-4D32-936E-6ADA9675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5D7-26D4-41D9-B9BC-15D9A1D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C8E0-4347-4A50-86EB-9A45F4F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EB50-09C8-46F1-99E3-B260FEF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364-0446-453C-AB59-2427F421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A11-028F-4F49-B150-D5C1279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1C5-481A-4E38-AADA-1CB1488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5C0-AFD9-4B68-A829-2FCECF80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FD7-AFBD-4D99-9814-455ABD9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6C0-ED25-4730-A0CB-FD41F3F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FE9-4B3F-4225-8837-4CD6081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D92-4808-4633-A122-6871C5D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BA7-5F88-43CF-BFF1-EF0B127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0AE6-9C41-4ECB-A781-686AB99FC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9E6A-34FD-4F86-A38C-B52C347D57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россворд </a:t>
            </a:r>
            <a:br>
              <a:rPr sz="40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«НЕБО, ЗЕМЛЯ, ЯВЛЕНИЯ ПРИРОДЫ»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24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77171"/>
              <a:gd name="adj2" fmla="val 4010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убой шат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сь мир накрыл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87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AutoShape 125"/>
          <p:cNvSpPr/>
          <p:nvPr/>
        </p:nvSpPr>
        <p:spPr>
          <a:xfrm rot="16200000">
            <a:off x="70236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124"/>
          <p:cNvSpPr/>
          <p:nvPr/>
        </p:nvSpPr>
        <p:spPr>
          <a:xfrm>
            <a:off x="4356000" y="0"/>
            <a:ext cx="4788000" cy="1773360"/>
          </a:xfrm>
          <a:prstGeom prst="wedgeRectCallout">
            <a:avLst>
              <a:gd name="adj1" fmla="val -116944"/>
              <a:gd name="adj2" fmla="val 2777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известно, где жив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етит – деревья гн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свистит – по речке дрожь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орник, а не уймёш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649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AutoShape 125"/>
          <p:cNvSpPr/>
          <p:nvPr/>
        </p:nvSpPr>
        <p:spPr>
          <a:xfrm rot="16200000">
            <a:off x="73728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64"/>
          <p:cNvSpPr/>
          <p:nvPr/>
        </p:nvSpPr>
        <p:spPr>
          <a:xfrm>
            <a:off x="4356000" y="0"/>
            <a:ext cx="4788000" cy="1484280"/>
          </a:xfrm>
          <a:prstGeom prst="wedgeRectCallout">
            <a:avLst>
              <a:gd name="adj1" fmla="val -102486"/>
              <a:gd name="adj2" fmla="val 23919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братц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ку глядятся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век не сойдутся. (Ед.ч.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11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AutoShape 65"/>
          <p:cNvSpPr/>
          <p:nvPr/>
        </p:nvSpPr>
        <p:spPr>
          <a:xfrm>
            <a:off x="1584360" y="396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64"/>
          <p:cNvSpPr/>
          <p:nvPr/>
        </p:nvSpPr>
        <p:spPr>
          <a:xfrm>
            <a:off x="5364000" y="0"/>
            <a:ext cx="3780000" cy="1773360"/>
          </a:xfrm>
          <a:prstGeom prst="wedgeRectCallout">
            <a:avLst>
              <a:gd name="adj1" fmla="val -71754"/>
              <a:gd name="adj2" fmla="val 19118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, угадай-к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дая хозяйка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яхнёт перинки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миром пушинк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73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AutoShape 65"/>
          <p:cNvSpPr/>
          <p:nvPr/>
        </p:nvSpPr>
        <p:spPr>
          <a:xfrm>
            <a:off x="42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AutoShape 64"/>
          <p:cNvSpPr/>
          <p:nvPr/>
        </p:nvSpPr>
        <p:spPr>
          <a:xfrm>
            <a:off x="4500720" y="0"/>
            <a:ext cx="4643280" cy="1089000"/>
          </a:xfrm>
          <a:prstGeom prst="wedgeRectCallout">
            <a:avLst>
              <a:gd name="adj1" fmla="val -47537"/>
              <a:gd name="adj2" fmla="val 39417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нег и не лёд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еребром деревья убер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35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AutoShape 65"/>
          <p:cNvSpPr/>
          <p:nvPr/>
        </p:nvSpPr>
        <p:spPr>
          <a:xfrm rot="16200000">
            <a:off x="376164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AutoShape 64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96296"/>
              <a:gd name="adj2" fmla="val 248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опчут её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ежут её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не серчае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рном привеча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97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" name="AutoShape 65"/>
          <p:cNvSpPr/>
          <p:nvPr/>
        </p:nvSpPr>
        <p:spPr>
          <a:xfrm rot="16200000">
            <a:off x="336636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64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52027"/>
              <a:gd name="adj2" fmla="val 1740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ет снежок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ил лужок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ь прибыва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это бывает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59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8" name="AutoShape 65"/>
          <p:cNvSpPr/>
          <p:nvPr/>
        </p:nvSpPr>
        <p:spPr>
          <a:xfrm>
            <a:off x="51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020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9" name="WordArt 64"/>
          <p:cNvSpPr txBox="1"/>
          <p:nvPr/>
        </p:nvSpPr>
        <p:spPr>
          <a:xfrm rot="231000">
            <a:off x="1834920" y="728280"/>
            <a:ext cx="5292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3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Молодцы !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9"/>
          <p:cNvSpPr/>
          <p:nvPr/>
        </p:nvSpPr>
        <p:spPr>
          <a:xfrm>
            <a:off x="2879640" y="1557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0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76416"/>
              <a:gd name="adj2" fmla="val 546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крыльев лет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ног бежит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паруса плыв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2" name="Rectangle 72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75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76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79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80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84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85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89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90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94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95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98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99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00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01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02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3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04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05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06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107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08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09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10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11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112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13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14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16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17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18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19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0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21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22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23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24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125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126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27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28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29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30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52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AutoShape 125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122675"/>
              <a:gd name="adj2" fmla="val 12033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ый Ти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ой на улице сид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сте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26"/>
          <p:cNvSpPr/>
          <p:nvPr/>
        </p:nvSpPr>
        <p:spPr>
          <a:xfrm rot="16200000">
            <a:off x="268920" y="2510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184"/>
          <p:cNvSpPr/>
          <p:nvPr/>
        </p:nvSpPr>
        <p:spPr>
          <a:xfrm>
            <a:off x="4246560" y="0"/>
            <a:ext cx="4897440" cy="1736640"/>
          </a:xfrm>
          <a:prstGeom prst="wedgeRectCallout">
            <a:avLst>
              <a:gd name="adj1" fmla="val -113953"/>
              <a:gd name="adj2" fmla="val 1429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ады и огор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й округе полил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12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15" name="Rectangle 12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2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2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2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2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3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3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3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3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3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3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3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3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3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3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4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4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4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4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Rectangle 14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14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14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14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14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14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15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15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15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15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15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5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15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15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15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15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16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16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6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16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16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6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16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16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16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16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7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17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7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7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7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17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17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17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17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7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8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8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8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8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AutoShape 185"/>
          <p:cNvSpPr/>
          <p:nvPr/>
        </p:nvSpPr>
        <p:spPr>
          <a:xfrm rot="16200000">
            <a:off x="666000" y="3483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24"/>
          <p:cNvSpPr/>
          <p:nvPr/>
        </p:nvSpPr>
        <p:spPr>
          <a:xfrm>
            <a:off x="4248000" y="0"/>
            <a:ext cx="4896000" cy="1916280"/>
          </a:xfrm>
          <a:prstGeom prst="wedgeRectCallout">
            <a:avLst>
              <a:gd name="adj1" fmla="val -84759"/>
              <a:gd name="adj2" fmla="val 1787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видимкой, осторожн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является ко мн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исует, как художник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узоры на окн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77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AutoShape 125"/>
          <p:cNvSpPr/>
          <p:nvPr/>
        </p:nvSpPr>
        <p:spPr>
          <a:xfrm rot="16200000">
            <a:off x="2069280" y="449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338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AutoShape 124"/>
          <p:cNvSpPr/>
          <p:nvPr/>
        </p:nvSpPr>
        <p:spPr>
          <a:xfrm>
            <a:off x="4248000" y="0"/>
            <a:ext cx="4896000" cy="1484280"/>
          </a:xfrm>
          <a:prstGeom prst="wedgeRectCallout">
            <a:avLst>
              <a:gd name="adj1" fmla="val -51587"/>
              <a:gd name="adj2" fmla="val 7438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да и не суша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лодке не уплывёш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огами не пройдёш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125"/>
          <p:cNvSpPr/>
          <p:nvPr/>
        </p:nvSpPr>
        <p:spPr>
          <a:xfrm>
            <a:off x="3780000" y="152100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00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AutoShape 124"/>
          <p:cNvSpPr/>
          <p:nvPr/>
        </p:nvSpPr>
        <p:spPr>
          <a:xfrm>
            <a:off x="3384720" y="0"/>
            <a:ext cx="5759280" cy="1125360"/>
          </a:xfrm>
          <a:prstGeom prst="wedgeRectCallout">
            <a:avLst>
              <a:gd name="adj1" fmla="val -37018"/>
              <a:gd name="adj2" fmla="val 1598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д ли, снег идут с дождём 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х вместе назовём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25"/>
          <p:cNvSpPr/>
          <p:nvPr/>
        </p:nvSpPr>
        <p:spPr>
          <a:xfrm rot="16200000">
            <a:off x="3366360" y="254664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utoShape 124"/>
          <p:cNvSpPr/>
          <p:nvPr/>
        </p:nvSpPr>
        <p:spPr>
          <a:xfrm>
            <a:off x="4427640" y="0"/>
            <a:ext cx="4716360" cy="1015920"/>
          </a:xfrm>
          <a:prstGeom prst="wedgeRectCallout">
            <a:avLst>
              <a:gd name="adj1" fmla="val -55351"/>
              <a:gd name="adj2" fmla="val 2796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ородной почвы вра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ывается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63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AutoShape 125"/>
          <p:cNvSpPr/>
          <p:nvPr/>
        </p:nvSpPr>
        <p:spPr>
          <a:xfrm rot="16200000">
            <a:off x="3366360" y="351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124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36189"/>
              <a:gd name="adj2" fmla="val 35772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гом вод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 питьём бед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25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AutoShape 125"/>
          <p:cNvSpPr/>
          <p:nvPr/>
        </p:nvSpPr>
        <p:spPr>
          <a:xfrm>
            <a:off x="2448000" y="404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1:33:29Z</dcterms:created>
  <dc:creator>Света</dc:creator>
  <dc:description/>
  <dc:language>en-US</dc:language>
  <cp:lastModifiedBy>DNA7 X86</cp:lastModifiedBy>
  <dcterms:modified xsi:type="dcterms:W3CDTF">2011-12-07T04:53:43Z</dcterms:modified>
  <cp:revision>20</cp:revision>
  <dc:subject/>
  <dc:title>Возможности использования ПРЕЗЕНТАЦИИ PowerPoint   при проведении  дидактических игр  на уроках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