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F35-FB00-4C3E-B5F4-701E0091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C73-F702-4D27-8389-CD7C19C7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B50-7092-4E76-AF7C-221E465E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D91-0BD1-466B-9BCC-DCD7CC04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322-86AC-4A1D-9534-85C357A1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ED1-700D-40EA-BD8C-9131F9DB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6C2-8601-4C0B-BEC7-3D259A11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2DD-3473-49E5-A0E7-EA01B0F3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D62-6BB0-487E-BA94-90B1CC35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EBC-797C-4CFB-A282-77A3CAF9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4C3-85E8-4A58-AE63-040A1C31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67F-2ADC-4288-B196-B9664735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5FD1-3157-4916-A411-E8709EAE18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Творческий проект</a:t>
            </a:r>
            <a:br>
              <a:rPr sz="4000"/>
            </a:b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Тема: Моя маленькая Родин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: ученица 4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 Степановской НОШ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хорова Я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: Сысоева Л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10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алкин Валерий Дмитриевич 1941 г.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лся в г.Хабаровске, проживал в нем с 1941 по 1943 год. В 1943 году переехали в Степановку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0" descr="сканирование0004"/>
          <p:cNvPicPr/>
          <p:nvPr/>
        </p:nvPicPr>
        <p:blipFill>
          <a:blip r:embed="rId1"/>
          <a:stretch/>
        </p:blipFill>
        <p:spPr>
          <a:xfrm>
            <a:off x="4716360" y="765000"/>
            <a:ext cx="348480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ишибарова Мария Асекретовна 1927 г.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ла в г.Старототьма (Вологодская обл.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тепановку приехала в 1950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ишибаров Василий Прокопьевич 1934 г.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л в г.Старототьма (Вологодская обл.). В Степановку приехал в 1950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8" descr="Шишибаровы"/>
          <p:cNvPicPr/>
          <p:nvPr/>
        </p:nvPicPr>
        <p:blipFill>
          <a:blip r:embed="rId1"/>
          <a:stretch/>
        </p:blipFill>
        <p:spPr>
          <a:xfrm>
            <a:off x="4648320" y="490680"/>
            <a:ext cx="4038480" cy="5360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Достопримечательности деревн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6" name="Picture 8" descr="Магазин"/>
          <p:cNvPicPr/>
          <p:nvPr/>
        </p:nvPicPr>
        <p:blipFill>
          <a:blip r:embed="rId1"/>
          <a:stretch/>
        </p:blipFill>
        <p:spPr>
          <a:xfrm>
            <a:off x="1231920" y="1981080"/>
            <a:ext cx="2908440" cy="1976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Клуб"/>
          <p:cNvPicPr/>
          <p:nvPr/>
        </p:nvPicPr>
        <p:blipFill>
          <a:blip r:embed="rId2"/>
          <a:stretch/>
        </p:blipFill>
        <p:spPr>
          <a:xfrm>
            <a:off x="4573440" y="1981080"/>
            <a:ext cx="3338640" cy="1976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Школа 1"/>
          <p:cNvPicPr/>
          <p:nvPr/>
        </p:nvPicPr>
        <p:blipFill>
          <a:blip r:embed="rId3"/>
          <a:stretch/>
        </p:blipFill>
        <p:spPr>
          <a:xfrm>
            <a:off x="1231920" y="4119480"/>
            <a:ext cx="2908440" cy="1976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Школа 2"/>
          <p:cNvPicPr/>
          <p:nvPr/>
        </p:nvPicPr>
        <p:blipFill>
          <a:blip r:embed="rId4"/>
          <a:stretch/>
        </p:blipFill>
        <p:spPr>
          <a:xfrm>
            <a:off x="4502160" y="4119480"/>
            <a:ext cx="3409920" cy="1976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История школы дерев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ая школа была в доме священнослуж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976г. Открылась новая шко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6" descr="Школа 2"/>
          <p:cNvPicPr/>
          <p:nvPr/>
        </p:nvPicPr>
        <p:blipFill>
          <a:blip r:embed="rId1"/>
          <a:stretch/>
        </p:blipFill>
        <p:spPr>
          <a:xfrm>
            <a:off x="4646520" y="2435400"/>
            <a:ext cx="4040280" cy="3206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Выпуск 1979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79г начальную школу окончили 8 человек. Всего в школе обучалось 16 человек.                        4 из них живут и трудятся в дерев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6" descr="сканирование0011"/>
          <p:cNvPicPr/>
          <p:nvPr/>
        </p:nvPicPr>
        <p:blipFill>
          <a:blip r:embed="rId1"/>
          <a:stretch/>
        </p:blipFill>
        <p:spPr>
          <a:xfrm>
            <a:off x="4648320" y="1844640"/>
            <a:ext cx="4495680" cy="3548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Природа моей Родин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7" name="Picture 4" descr="SDC11030"/>
          <p:cNvPicPr/>
          <p:nvPr/>
        </p:nvPicPr>
        <p:blipFill>
          <a:blip r:embed="rId1"/>
          <a:stretch/>
        </p:blipFill>
        <p:spPr>
          <a:xfrm>
            <a:off x="1116000" y="1844640"/>
            <a:ext cx="6702480" cy="4541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3322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березка, то осинка. Куст ракиты над рекой. Край родной, навек любимый, где найдешь еще та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10" descr="SDC11148"/>
          <p:cNvPicPr/>
          <p:nvPr/>
        </p:nvPicPr>
        <p:blipFill>
          <a:blip r:embed="rId1"/>
          <a:stretch/>
        </p:blipFill>
        <p:spPr>
          <a:xfrm>
            <a:off x="4932360" y="404640"/>
            <a:ext cx="3495600" cy="2621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SDC11129"/>
          <p:cNvPicPr/>
          <p:nvPr/>
        </p:nvPicPr>
        <p:blipFill>
          <a:blip r:embed="rId2"/>
          <a:stretch/>
        </p:blipFill>
        <p:spPr>
          <a:xfrm>
            <a:off x="4932360" y="3429000"/>
            <a:ext cx="3638520" cy="2728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Анализ выполненной раб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ечении нескольких месяцев я собирала материалы по истории моей деревни. Из источников я узнала много нового и интересного о жизни людей, об истории происхождения и этапах развития своей маленькой Родины. Очень многое я узнала от жителей деревни: встречалась со старейшими жителями, они рассказали о своей жизни; о радостях и трудностях. Я рассмотрела много фотографий, посвященных жизни и развитию дерев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ело сибирское, моё любимо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закончить свой проект хочу стихотворением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ело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ибирско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оё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юбим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дес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н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наком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аждая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роп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есной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астае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нег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еплом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вее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ирен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аспусти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жно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епестки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емляки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шеницу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нов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сею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""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зеленею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лях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остки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ето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расно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ветками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ахне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Блести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олнц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еченьки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од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то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бывал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с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жалет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тане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быт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еревню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икогд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ружится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б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яркий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ис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ябины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ускай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вет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раше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ест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артины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о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олько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дес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уша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оя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ё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вычно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сен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вершает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од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7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Список использованной литератур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История Новосибирской области с древности до наших времен.- Новосибирск: из-во «Горница», 1996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Районы Новосибирской области: Справочник.-кн.из-во, 1998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Нам здесь жить. ЦЭРИС, Новосибирск,2005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Цель проекта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истории деревни, этапов ее с развития, а также особенностей жизни ж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971640" y="1700280"/>
            <a:ext cx="7632720" cy="19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Задачи исследован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вить особенности развития посе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еть этапы развития дерев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историю отдельных людей, связанных с историей дерев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Обоснованность выбора темы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е захотелось узнать побольше о истории своей деревни. Узнать: почему так называется, кто первым приехал и остался здесь жить, сколько было дворов, какой была школа и многое другое. Изучение истории села мне пригодится при изучении новых предметов в шко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Источники и материал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осы жителей, старожилов дерев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ение материалов по книге «Нам здесь жит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периодической печати (районная газет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ение фото материа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История возникновения деревн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словам старожилов, в 1903г на месте 2 Степановки стояло всего три дома, а первым сюда пришел Степан Грудянкин, потому и назвали деревню Степановкой. Ехали сюда люди из Украины, Белоруссии, из Курской губернии. Построили церковь. Первый колхоз назывался «Вперед». Позже его соединяли с Платоновкой, Неудачино, Безбожником, совхозом «Первомайский», в конце концов закрепили за совхозом «Дмитриевский». В 1976г. Построили новую школу, в 1982 новый клу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Tahoma"/>
              </a:rPr>
              <a:t>Схема деревни Степановк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1476360" y="1341360"/>
          <a:ext cx="6767640" cy="47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1360"/>
                    <a:ext cx="676764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Tahoma"/>
              </a:rPr>
              <a:t>Жители дерев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зрослые: от 30 до 50 лет-59 челов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сионеры: от 55 и старше – 29 челов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лодые: с 18 до 25 лет – 41 челов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школьники: с 0 до 7- 19 челов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ьники: с 7 до 17 – 26 челов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го взрослого населения – 126 челов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Рассказывают жители деревн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уфренко Ирина Ионовна 1938г.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начальной школы в деревне Степанов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6" descr="сканирование0011"/>
          <p:cNvPicPr/>
          <p:nvPr/>
        </p:nvPicPr>
        <p:blipFill>
          <a:blip r:embed="rId1"/>
          <a:stretch/>
        </p:blipFill>
        <p:spPr>
          <a:xfrm>
            <a:off x="4827600" y="1992240"/>
            <a:ext cx="319896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4:56:58Z</dcterms:created>
  <dc:creator>школьная библиотека</dc:creator>
  <dc:description/>
  <dc:language>en-US</dc:language>
  <cp:lastModifiedBy>Admin</cp:lastModifiedBy>
  <dcterms:modified xsi:type="dcterms:W3CDTF">2005-01-01T01:15:25Z</dcterms:modified>
  <cp:revision>14</cp:revision>
  <dc:subject/>
  <dc:title>Маленькая деревня большой страны</dc:title>
</cp:coreProperties>
</file>