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1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9FA-28EE-4F01-A0BA-12A3071D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982-DB1F-43EB-815E-610A861F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617-D716-40DC-B4BA-73B2361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C19-E190-4746-AA66-C545759D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72A8-14B2-43B5-B5B4-9772CFE3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9A14-8B6B-4B74-9E00-6004328E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49AD-51DD-480E-9D0A-BC9A63CB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0BF3-4075-4AE4-BBD8-2543D30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6143-B766-4E5B-8DE0-9904EE4D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F8D3-F989-4814-9B95-1F98D74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65C-D730-4F7D-866A-AAEB5ED3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C86-F2AD-41D0-8D77-FADA8CD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6038-1A42-4A1F-9EE7-050F588C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C039-CCF2-457F-884F-1F8F99CA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959-EA2F-4933-80BC-8DEB9603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EFC-C103-4FD1-9816-1AE02F38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E7F7-F641-40E9-AAF8-A2B19E1D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510-1580-40CF-BE2E-41AEACA4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B97-9D90-4BF8-8F09-3FEE167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A93-2AAB-45C6-8318-CBB3B74E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5F2-ADB0-44C5-BD24-F7761F7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65A-E98F-4A1E-AAC0-E82EA49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9FD-0CB8-45B3-8650-57C2D93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29A-18E1-4BD8-8CE6-A6A2465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D4DF-408E-4244-94C0-5BF684101C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0DBB-D522-45A8-BA8B-88BB96F2FA0B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64108"/>
                </a:solidFill>
                <a:latin typeface="Arial Black"/>
              </a:rPr>
              <a:t>Мастер – класс</a:t>
            </a:r>
            <a:br>
              <a:rPr sz="4800"/>
            </a:br>
            <a:r>
              <a:rPr b="0" lang="ru-RU" sz="4800" spc="-1" strike="noStrike">
                <a:solidFill>
                  <a:srgbClr val="f64108"/>
                </a:solidFill>
                <a:latin typeface="Arial Black"/>
              </a:rPr>
              <a:t>«Логопедические пятиминутки»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537336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узнецова С.А. - учитель-логопед МДОУ д/с № 1 «Родничок» п. Горный Кранопартизанского района, Саратовской области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Black"/>
              </a:rPr>
              <a:t>Роль «Логопедических пятиминуток»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228600" y="1676520"/>
          <a:ext cx="86868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686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4108"/>
                </a:solidFill>
                <a:latin typeface="Arial Black"/>
              </a:rPr>
              <a:t>Структура «Логопедических пятиминуток»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01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абота по развитию артикуляционного аппара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чевая гимнастик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2" name="Содержимое 7" descr="IMG_7267.JPG"/>
          <p:cNvPicPr/>
          <p:nvPr/>
        </p:nvPicPr>
        <p:blipFill>
          <a:blip r:embed="rId2"/>
          <a:stretch/>
        </p:blipFill>
        <p:spPr>
          <a:xfrm>
            <a:off x="785880" y="1857240"/>
            <a:ext cx="6357960" cy="47689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8" descr="IMG_7266.JPG"/>
          <p:cNvPicPr/>
          <p:nvPr/>
        </p:nvPicPr>
        <p:blipFill>
          <a:blip r:embed="rId3"/>
          <a:stretch/>
        </p:blipFill>
        <p:spPr>
          <a:xfrm>
            <a:off x="785880" y="1857240"/>
            <a:ext cx="6381720" cy="47865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7" descr="IMG_7267.JPG"/>
          <p:cNvPicPr/>
          <p:nvPr/>
        </p:nvPicPr>
        <p:blipFill>
          <a:blip r:embed="rId4"/>
          <a:stretch/>
        </p:blipFill>
        <p:spPr>
          <a:xfrm>
            <a:off x="785880" y="1857240"/>
            <a:ext cx="6381720" cy="4786560"/>
          </a:xfrm>
          <a:prstGeom prst="rect">
            <a:avLst/>
          </a:prstGeom>
          <a:ln w="0">
            <a:noFill/>
          </a:ln>
        </p:spPr>
      </p:pic>
      <p:sp>
        <p:nvSpPr>
          <p:cNvPr id="105" name="Трапеция 7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6" name="Прямоугольник 8" descr=""/>
          <p:cNvPicPr/>
          <p:nvPr/>
        </p:nvPicPr>
        <p:blipFill>
          <a:blip r:embed="rId5"/>
          <a:stretch/>
        </p:blipFill>
        <p:spPr>
          <a:xfrm>
            <a:off x="7242120" y="4761000"/>
            <a:ext cx="2084400" cy="219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4" descr="IMG_7273.JPG"/>
          <p:cNvPicPr/>
          <p:nvPr/>
        </p:nvPicPr>
        <p:blipFill>
          <a:blip r:embed="rId2"/>
          <a:stretch/>
        </p:blipFill>
        <p:spPr>
          <a:xfrm>
            <a:off x="571680" y="1000080"/>
            <a:ext cx="7323120" cy="5492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абота над общей и мелкой моторикой;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09" name="Содержимое 4" descr="IMG_7273.JPG"/>
          <p:cNvPicPr/>
          <p:nvPr/>
        </p:nvPicPr>
        <p:blipFill>
          <a:blip r:embed="rId3"/>
          <a:stretch/>
        </p:blipFill>
        <p:spPr>
          <a:xfrm>
            <a:off x="428760" y="1000080"/>
            <a:ext cx="7394400" cy="55468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IMG_7273.JPG"/>
          <p:cNvPicPr/>
          <p:nvPr/>
        </p:nvPicPr>
        <p:blipFill>
          <a:blip r:embed="rId4"/>
          <a:stretch/>
        </p:blipFill>
        <p:spPr>
          <a:xfrm>
            <a:off x="428760" y="1000080"/>
            <a:ext cx="7466040" cy="559908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4" descr="IMG_7273.JPG"/>
          <p:cNvPicPr/>
          <p:nvPr/>
        </p:nvPicPr>
        <p:blipFill>
          <a:blip r:embed="rId5"/>
          <a:stretch/>
        </p:blipFill>
        <p:spPr>
          <a:xfrm>
            <a:off x="428760" y="10000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112" name="Трапеция 6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Прямоугольник 7" descr=""/>
          <p:cNvPicPr/>
          <p:nvPr/>
        </p:nvPicPr>
        <p:blipFill>
          <a:blip r:embed="rId6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5" descr="IMG_7336.JPG"/>
          <p:cNvPicPr/>
          <p:nvPr/>
        </p:nvPicPr>
        <p:blipFill>
          <a:blip r:embed="rId2"/>
          <a:stretch/>
        </p:blipFill>
        <p:spPr>
          <a:xfrm>
            <a:off x="4286160" y="3571920"/>
            <a:ext cx="4108680" cy="308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еодоление лексико-грамматического недоразвития речи на определённой лексической теме;</a:t>
            </a:r>
            <a:br>
              <a:rPr sz="2400"/>
            </a:b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16" name="Содержимое 4" descr="IMG_7308.JPG"/>
          <p:cNvPicPr/>
          <p:nvPr/>
        </p:nvPicPr>
        <p:blipFill>
          <a:blip r:embed="rId3"/>
          <a:stretch/>
        </p:blipFill>
        <p:spPr>
          <a:xfrm>
            <a:off x="428760" y="157176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7336.JPG"/>
          <p:cNvPicPr/>
          <p:nvPr/>
        </p:nvPicPr>
        <p:blipFill>
          <a:blip r:embed="rId4"/>
          <a:stretch/>
        </p:blipFill>
        <p:spPr>
          <a:xfrm>
            <a:off x="928800" y="1571760"/>
            <a:ext cx="7037280" cy="527832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5" descr="IMG_7336.JPG"/>
          <p:cNvPicPr/>
          <p:nvPr/>
        </p:nvPicPr>
        <p:blipFill>
          <a:blip r:embed="rId5"/>
          <a:stretch/>
        </p:blipFill>
        <p:spPr>
          <a:xfrm>
            <a:off x="214200" y="1500120"/>
            <a:ext cx="4000680" cy="3000600"/>
          </a:xfrm>
          <a:prstGeom prst="rect">
            <a:avLst/>
          </a:prstGeom>
          <a:ln w="0">
            <a:noFill/>
          </a:ln>
        </p:spPr>
      </p:pic>
      <p:sp>
        <p:nvSpPr>
          <p:cNvPr id="119" name="Трапеция 6"/>
          <p:cNvSpPr/>
          <p:nvPr/>
        </p:nvSpPr>
        <p:spPr>
          <a:xfrm rot="7992600">
            <a:off x="6724080" y="556092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Прямоугольник 7" descr=""/>
          <p:cNvPicPr/>
          <p:nvPr/>
        </p:nvPicPr>
        <p:blipFill>
          <a:blip r:embed="rId6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звитие правильного речевого дыхания;</a:t>
            </a:r>
            <a:br>
              <a:rPr sz="2400"/>
            </a:b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22" name="Содержимое 10" descr="IMG_7287.JPG"/>
          <p:cNvPicPr/>
          <p:nvPr/>
        </p:nvPicPr>
        <p:blipFill>
          <a:blip r:embed="rId2"/>
          <a:stretch/>
        </p:blipFill>
        <p:spPr>
          <a:xfrm>
            <a:off x="1071720" y="150012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11" descr="IMG_7290.JPG"/>
          <p:cNvPicPr/>
          <p:nvPr/>
        </p:nvPicPr>
        <p:blipFill>
          <a:blip r:embed="rId3"/>
          <a:stretch/>
        </p:blipFill>
        <p:spPr>
          <a:xfrm>
            <a:off x="1428840" y="1500120"/>
            <a:ext cx="6465960" cy="484992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11" descr="IMG_7290.JPG"/>
          <p:cNvPicPr/>
          <p:nvPr/>
        </p:nvPicPr>
        <p:blipFill>
          <a:blip r:embed="rId4"/>
          <a:stretch/>
        </p:blipFill>
        <p:spPr>
          <a:xfrm>
            <a:off x="1071720" y="1500120"/>
            <a:ext cx="6715080" cy="5037120"/>
          </a:xfrm>
          <a:prstGeom prst="rect">
            <a:avLst/>
          </a:prstGeom>
          <a:ln w="0">
            <a:noFill/>
          </a:ln>
        </p:spPr>
      </p:pic>
      <p:sp>
        <p:nvSpPr>
          <p:cNvPr id="125" name="Трапеция 5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Прямоугольник 6" descr=""/>
          <p:cNvPicPr/>
          <p:nvPr/>
        </p:nvPicPr>
        <p:blipFill>
          <a:blip r:embed="rId5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звитие фонематического слуха и навыков звукового анализа;</a:t>
            </a:r>
            <a:br>
              <a:rPr sz="2400"/>
            </a:b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28" name="Содержимое 4" descr="IMG_7304.JPG"/>
          <p:cNvPicPr/>
          <p:nvPr/>
        </p:nvPicPr>
        <p:blipFill>
          <a:blip r:embed="rId2"/>
          <a:stretch/>
        </p:blipFill>
        <p:spPr>
          <a:xfrm>
            <a:off x="1357200" y="128592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5" descr="IMG_7323.JPG"/>
          <p:cNvPicPr/>
          <p:nvPr/>
        </p:nvPicPr>
        <p:blipFill>
          <a:blip r:embed="rId3"/>
          <a:stretch/>
        </p:blipFill>
        <p:spPr>
          <a:xfrm>
            <a:off x="1500120" y="1214280"/>
            <a:ext cx="6537240" cy="490392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IMG_7323.JPG"/>
          <p:cNvPicPr/>
          <p:nvPr/>
        </p:nvPicPr>
        <p:blipFill>
          <a:blip r:embed="rId4"/>
          <a:stretch/>
        </p:blipFill>
        <p:spPr>
          <a:xfrm>
            <a:off x="1285920" y="1214280"/>
            <a:ext cx="6500880" cy="4875480"/>
          </a:xfrm>
          <a:prstGeom prst="rect">
            <a:avLst/>
          </a:prstGeom>
          <a:ln w="0">
            <a:noFill/>
          </a:ln>
        </p:spPr>
      </p:pic>
      <p:sp>
        <p:nvSpPr>
          <p:cNvPr id="131" name="Трапеция 5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Прямоугольник 6" descr=""/>
          <p:cNvPicPr/>
          <p:nvPr/>
        </p:nvPicPr>
        <p:blipFill>
          <a:blip r:embed="rId5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34" name="Содержимое 3" descr="IMG_7284.JPG"/>
          <p:cNvPicPr/>
          <p:nvPr/>
        </p:nvPicPr>
        <p:blipFill>
          <a:blip r:embed="rId2"/>
          <a:stretch/>
        </p:blipFill>
        <p:spPr>
          <a:xfrm>
            <a:off x="468360" y="0"/>
            <a:ext cx="764532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азминк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686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пособность говорить, говорение; разновидность или стиль языка; звучащий язык; разговор, беседа; публичное выступление – это…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50920" y="4292640"/>
            <a:ext cx="8686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64108"/>
                </a:solidFill>
                <a:uFillTx/>
                <a:latin typeface="Arial"/>
              </a:rPr>
              <a:t>РЕЧЬ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641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85840" y="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Практическая часть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686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Unicode MS"/>
              </a:rPr>
              <a:t>	</a:t>
            </a:r>
            <a:r>
              <a:rPr b="0" lang="ru-RU" sz="3600" spc="-1" strike="noStrike">
                <a:solidFill>
                  <a:srgbClr val="f64108"/>
                </a:solidFill>
                <a:latin typeface="Arial Unicode MS"/>
              </a:rPr>
              <a:t>Какие отделы речевого аппарата участвуют в произнесении звуков?</a:t>
            </a:r>
            <a:r>
              <a:rPr b="0" lang="ru-RU" sz="2400" spc="-1" strike="noStrike">
                <a:solidFill>
                  <a:srgbClr val="99eff1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2636640"/>
            <a:ext cx="4267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Дыхательный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Голосовой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Артикуляционный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11" descr="голосовой аппарат"/>
          <p:cNvPicPr/>
          <p:nvPr/>
        </p:nvPicPr>
        <p:blipFill>
          <a:blip r:embed="rId2"/>
          <a:stretch/>
        </p:blipFill>
        <p:spPr>
          <a:xfrm>
            <a:off x="6732720" y="3933720"/>
            <a:ext cx="1892160" cy="244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iп"/>
          <p:cNvPicPr/>
          <p:nvPr/>
        </p:nvPicPr>
        <p:blipFill>
          <a:blip r:embed="rId3"/>
          <a:stretch/>
        </p:blipFill>
        <p:spPr>
          <a:xfrm>
            <a:off x="4894200" y="1989000"/>
            <a:ext cx="194796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зовите главный орган артикуляционного аппарата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44" name="Picture 5" descr="язык"/>
          <p:cNvPicPr/>
          <p:nvPr/>
        </p:nvPicPr>
        <p:blipFill>
          <a:blip r:embed="rId2"/>
          <a:stretch/>
        </p:blipFill>
        <p:spPr>
          <a:xfrm>
            <a:off x="2771640" y="2205000"/>
            <a:ext cx="3335400" cy="35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64108"/>
                </a:solidFill>
                <a:latin typeface="Arial Black"/>
              </a:rPr>
              <a:t>Девиз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слушай - и ты узнаешь,</a:t>
            </a:r>
            <a:br>
              <a:rPr sz="3200"/>
            </a:b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2286000"/>
            <a:ext cx="8686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смотри - и ты поймешь,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627280" y="3933720"/>
            <a:ext cx="6886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делай – и ты научишься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… 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Сделай лучше нас!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«Речь удивительное сильное средство, но нужно иметь много ума, чтобы пользоваться им»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.Гегель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1428840"/>
            <a:ext cx="77724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«БЕЗ РЕЧИ НЕТ НИ СОЗНАНИЯ, НИ САМОСОЗНАНИЯ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Л.С.ВЫГОТСКИЙ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«РЕЧЬ – ВЕЛИКАЯ СИЛА: ОНА УБЕЖДАЕТ, ОБРАЩАЕТ, ПРИНУЖДАЕТ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Р.ЭМЕРСОН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178596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«ДОСТОИНСТВО РЕЧИ – БЫТЬ ЯСНОЙ И НЕ БЫТЬ НИЗКОЙ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АРИСТОТЕЛЬ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Black"/>
              </a:rPr>
              <a:t>Работа по ЗКР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14200" y="142884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Работа по звуковой культуре речи состоит из следующих разделов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развитие движений артикуляционного аппарата (артикуляционная гимнастика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занятия с детьми по усвоению фонетической системы родного языка (последовательное работа над гласными и согласными звуками, развитие умения различать звуки по акустическим и артикуляционным признакам, развитие мелодико – интонационной стороны речи)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-142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64108"/>
                </a:solidFill>
                <a:latin typeface="Arial Black"/>
              </a:rPr>
              <a:t>Основные различия работы над звукопроизношением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2920" y="714240"/>
          <a:ext cx="9001080" cy="551340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42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Логопед:</a:t>
                      </a:r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Воспитатель:</a:t>
                      </a:r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справляет нарушения речи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активно участвует в коррекционной работе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дготовительный этап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в зависимости от характера нарушения звука вырабатывает и тренирует движения органов артикуляционного аппарата, которые были неправильными или совсем отсутствовали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в игровой форме закрепляет у детей движения и положения органов артикуляционного аппарата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тап появления звука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ставит звуки, вырабатывает артикуляцию нужного звука, при этом используются специальные приёмы, отработанные на предыдущем этапе движения органов артикуляционного аппарата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закрепляет произнесение поставленного логопедом звука, фиксируя внимание ребёнка на его звучание и артикуляции, используя картинки символы и звукоподражания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тап усвоения звука (правильное произнесение звука в речи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автоматизирует звук, последовательно вводя его в речь: слог, слово, предложение, потешки, рассказы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с отдельными детьми закрепляет поставленный логопедом звук, подбирая соответствующий программный материал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41:23Z</dcterms:created>
  <dc:creator>Admin</dc:creator>
  <dc:description/>
  <cp:keywords/>
  <dc:language>en-US</dc:language>
  <cp:lastModifiedBy>Admin</cp:lastModifiedBy>
  <dcterms:modified xsi:type="dcterms:W3CDTF">2011-12-07T20:30:27Z</dcterms:modified>
  <cp:revision>72</cp:revision>
  <dc:subject/>
  <dc:title>Мастер – класс «Логопедические пятиминут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