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1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9A1-148C-43DC-BFBB-8C032759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09F-58D7-4557-B170-C0B6DD13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749-AB34-4994-A40C-90C94813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D7B-39A1-432E-BDB6-095B628C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157-DCEF-419A-92F6-67237799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034F-ACC7-4E68-B1FD-808D8D4E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3795-7070-4FCE-9F71-A30474FA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18D6-876A-4DDC-9C68-89FD163A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B20-DD3C-4633-A32B-6AD1E55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C8C6-7A4E-44B8-A94B-FF4353C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C91B-A6FF-4F18-B508-1B0BF0C4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31A-E96E-4F4B-A336-62C37DA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3E15-A58A-4CB7-9AE1-0A80EAB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5EE-B941-4C2F-A31E-8B513226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7BDD-233C-4865-B514-AB1F2607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3EFC-82C0-48D6-B54A-9B39FC06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F64F-239B-4E8A-8472-2AFCDA07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4E0-F8AD-4ADC-9485-8D19A2BC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4AF-D74F-4A45-9462-FE6FA62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40F-70AC-4BFC-B699-A46559AF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0D4-3262-4497-BC2B-AC226F4A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03B-41FA-4CBE-8F6C-0F015EA3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6C1-1EE0-4C9F-B2D1-DDED21D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CE9-D8A1-487B-80F5-D775CAD4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F0F4-5AA4-4E22-B7AF-B997EBBDB4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1956-4A14-4D27-B44A-D21F31E5AD52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64108"/>
                </a:solidFill>
                <a:latin typeface="Arial Black"/>
              </a:rPr>
              <a:t>Мастер – класс</a:t>
            </a:r>
            <a:br>
              <a:rPr sz="4800"/>
            </a:br>
            <a:r>
              <a:rPr b="0" lang="ru-RU" sz="4800" spc="-1" strike="noStrike">
                <a:solidFill>
                  <a:srgbClr val="f64108"/>
                </a:solidFill>
                <a:latin typeface="Arial Black"/>
              </a:rPr>
              <a:t>«Логопедические пятиминутки»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537336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узнецова С.А. - учитель-логопед МДОУ д/с № 1 «Родничок» п. Горный Кранопартизанского района, Саратовской области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Black"/>
              </a:rPr>
              <a:t>Роль «Логопедических пятиминуток»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228600" y="1676520"/>
          <a:ext cx="86868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76520"/>
                    <a:ext cx="8686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4108"/>
                </a:solidFill>
                <a:latin typeface="Arial Black"/>
              </a:rPr>
              <a:t>Структура «Логопедических пятиминуток»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01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абота по развитию артикуляционного аппара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чевая гимнастик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2" name="Содержимое 7" descr="IMG_7267.JPG"/>
          <p:cNvPicPr/>
          <p:nvPr/>
        </p:nvPicPr>
        <p:blipFill>
          <a:blip r:embed="rId2"/>
          <a:stretch/>
        </p:blipFill>
        <p:spPr>
          <a:xfrm>
            <a:off x="785880" y="1857240"/>
            <a:ext cx="6357960" cy="47689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8" descr="IMG_7266.JPG"/>
          <p:cNvPicPr/>
          <p:nvPr/>
        </p:nvPicPr>
        <p:blipFill>
          <a:blip r:embed="rId3"/>
          <a:stretch/>
        </p:blipFill>
        <p:spPr>
          <a:xfrm>
            <a:off x="785880" y="1857240"/>
            <a:ext cx="6381720" cy="47865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7" descr="IMG_7267.JPG"/>
          <p:cNvPicPr/>
          <p:nvPr/>
        </p:nvPicPr>
        <p:blipFill>
          <a:blip r:embed="rId4"/>
          <a:stretch/>
        </p:blipFill>
        <p:spPr>
          <a:xfrm>
            <a:off x="785880" y="1857240"/>
            <a:ext cx="6381720" cy="4786560"/>
          </a:xfrm>
          <a:prstGeom prst="rect">
            <a:avLst/>
          </a:prstGeom>
          <a:ln w="0">
            <a:noFill/>
          </a:ln>
        </p:spPr>
      </p:pic>
      <p:sp>
        <p:nvSpPr>
          <p:cNvPr id="105" name="Трапеция 7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6" name="Прямоугольник 8" descr=""/>
          <p:cNvPicPr/>
          <p:nvPr/>
        </p:nvPicPr>
        <p:blipFill>
          <a:blip r:embed="rId5"/>
          <a:stretch/>
        </p:blipFill>
        <p:spPr>
          <a:xfrm>
            <a:off x="7242120" y="4761000"/>
            <a:ext cx="2084400" cy="219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4" descr="IMG_7273.JPG"/>
          <p:cNvPicPr/>
          <p:nvPr/>
        </p:nvPicPr>
        <p:blipFill>
          <a:blip r:embed="rId2"/>
          <a:stretch/>
        </p:blipFill>
        <p:spPr>
          <a:xfrm>
            <a:off x="571680" y="1000080"/>
            <a:ext cx="7323120" cy="5492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работа над общей и мелкой моторикой;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09" name="Содержимое 4" descr="IMG_7273.JPG"/>
          <p:cNvPicPr/>
          <p:nvPr/>
        </p:nvPicPr>
        <p:blipFill>
          <a:blip r:embed="rId3"/>
          <a:stretch/>
        </p:blipFill>
        <p:spPr>
          <a:xfrm>
            <a:off x="428760" y="1000080"/>
            <a:ext cx="7394400" cy="55468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IMG_7273.JPG"/>
          <p:cNvPicPr/>
          <p:nvPr/>
        </p:nvPicPr>
        <p:blipFill>
          <a:blip r:embed="rId4"/>
          <a:stretch/>
        </p:blipFill>
        <p:spPr>
          <a:xfrm>
            <a:off x="428760" y="1000080"/>
            <a:ext cx="7466040" cy="559908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4" descr="IMG_7273.JPG"/>
          <p:cNvPicPr/>
          <p:nvPr/>
        </p:nvPicPr>
        <p:blipFill>
          <a:blip r:embed="rId5"/>
          <a:stretch/>
        </p:blipFill>
        <p:spPr>
          <a:xfrm>
            <a:off x="428760" y="10000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112" name="Трапеция 6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Прямоугольник 7" descr=""/>
          <p:cNvPicPr/>
          <p:nvPr/>
        </p:nvPicPr>
        <p:blipFill>
          <a:blip r:embed="rId6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5" descr="IMG_7336.JPG"/>
          <p:cNvPicPr/>
          <p:nvPr/>
        </p:nvPicPr>
        <p:blipFill>
          <a:blip r:embed="rId2"/>
          <a:stretch/>
        </p:blipFill>
        <p:spPr>
          <a:xfrm>
            <a:off x="4286160" y="3571920"/>
            <a:ext cx="4108680" cy="308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еодоление лексико-грамматического недоразвития речи на определённой лексической теме;</a:t>
            </a:r>
            <a:br>
              <a:rPr sz="2400"/>
            </a:b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16" name="Содержимое 4" descr="IMG_7308.JPG"/>
          <p:cNvPicPr/>
          <p:nvPr/>
        </p:nvPicPr>
        <p:blipFill>
          <a:blip r:embed="rId3"/>
          <a:stretch/>
        </p:blipFill>
        <p:spPr>
          <a:xfrm>
            <a:off x="428760" y="157176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7336.JPG"/>
          <p:cNvPicPr/>
          <p:nvPr/>
        </p:nvPicPr>
        <p:blipFill>
          <a:blip r:embed="rId4"/>
          <a:stretch/>
        </p:blipFill>
        <p:spPr>
          <a:xfrm>
            <a:off x="928800" y="1571760"/>
            <a:ext cx="7037280" cy="527832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5" descr="IMG_7336.JPG"/>
          <p:cNvPicPr/>
          <p:nvPr/>
        </p:nvPicPr>
        <p:blipFill>
          <a:blip r:embed="rId5"/>
          <a:stretch/>
        </p:blipFill>
        <p:spPr>
          <a:xfrm>
            <a:off x="214200" y="1500120"/>
            <a:ext cx="4000680" cy="3000600"/>
          </a:xfrm>
          <a:prstGeom prst="rect">
            <a:avLst/>
          </a:prstGeom>
          <a:ln w="0">
            <a:noFill/>
          </a:ln>
        </p:spPr>
      </p:pic>
      <p:sp>
        <p:nvSpPr>
          <p:cNvPr id="119" name="Трапеция 6"/>
          <p:cNvSpPr/>
          <p:nvPr/>
        </p:nvSpPr>
        <p:spPr>
          <a:xfrm rot="7992600">
            <a:off x="6724080" y="556092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Прямоугольник 7" descr=""/>
          <p:cNvPicPr/>
          <p:nvPr/>
        </p:nvPicPr>
        <p:blipFill>
          <a:blip r:embed="rId6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звитие правильного речевого дыхания;</a:t>
            </a:r>
            <a:br>
              <a:rPr sz="2400"/>
            </a:b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22" name="Содержимое 10" descr="IMG_7287.JPG"/>
          <p:cNvPicPr/>
          <p:nvPr/>
        </p:nvPicPr>
        <p:blipFill>
          <a:blip r:embed="rId2"/>
          <a:stretch/>
        </p:blipFill>
        <p:spPr>
          <a:xfrm>
            <a:off x="1071720" y="150012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11" descr="IMG_7290.JPG"/>
          <p:cNvPicPr/>
          <p:nvPr/>
        </p:nvPicPr>
        <p:blipFill>
          <a:blip r:embed="rId3"/>
          <a:stretch/>
        </p:blipFill>
        <p:spPr>
          <a:xfrm>
            <a:off x="1428840" y="1500120"/>
            <a:ext cx="6465960" cy="484992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11" descr="IMG_7290.JPG"/>
          <p:cNvPicPr/>
          <p:nvPr/>
        </p:nvPicPr>
        <p:blipFill>
          <a:blip r:embed="rId4"/>
          <a:stretch/>
        </p:blipFill>
        <p:spPr>
          <a:xfrm>
            <a:off x="1071720" y="1500120"/>
            <a:ext cx="6715080" cy="5037120"/>
          </a:xfrm>
          <a:prstGeom prst="rect">
            <a:avLst/>
          </a:prstGeom>
          <a:ln w="0">
            <a:noFill/>
          </a:ln>
        </p:spPr>
      </p:pic>
      <p:sp>
        <p:nvSpPr>
          <p:cNvPr id="125" name="Трапеция 5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Прямоугольник 6" descr=""/>
          <p:cNvPicPr/>
          <p:nvPr/>
        </p:nvPicPr>
        <p:blipFill>
          <a:blip r:embed="rId5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звитие фонематического слуха и навыков звукового анализа;</a:t>
            </a:r>
            <a:br>
              <a:rPr sz="2400"/>
            </a:b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28" name="Содержимое 4" descr="IMG_7304.JPG"/>
          <p:cNvPicPr/>
          <p:nvPr/>
        </p:nvPicPr>
        <p:blipFill>
          <a:blip r:embed="rId2"/>
          <a:stretch/>
        </p:blipFill>
        <p:spPr>
          <a:xfrm>
            <a:off x="1357200" y="128592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5" descr="IMG_7323.JPG"/>
          <p:cNvPicPr/>
          <p:nvPr/>
        </p:nvPicPr>
        <p:blipFill>
          <a:blip r:embed="rId3"/>
          <a:stretch/>
        </p:blipFill>
        <p:spPr>
          <a:xfrm>
            <a:off x="1500120" y="1214280"/>
            <a:ext cx="6537240" cy="490392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IMG_7323.JPG"/>
          <p:cNvPicPr/>
          <p:nvPr/>
        </p:nvPicPr>
        <p:blipFill>
          <a:blip r:embed="rId4"/>
          <a:stretch/>
        </p:blipFill>
        <p:spPr>
          <a:xfrm>
            <a:off x="1285920" y="1214280"/>
            <a:ext cx="6500880" cy="4875480"/>
          </a:xfrm>
          <a:prstGeom prst="rect">
            <a:avLst/>
          </a:prstGeom>
          <a:ln w="0">
            <a:noFill/>
          </a:ln>
        </p:spPr>
      </p:pic>
      <p:sp>
        <p:nvSpPr>
          <p:cNvPr id="131" name="Трапеция 5"/>
          <p:cNvSpPr/>
          <p:nvPr/>
        </p:nvSpPr>
        <p:spPr>
          <a:xfrm rot="7992600">
            <a:off x="6679800" y="5568840"/>
            <a:ext cx="3279600" cy="857160"/>
          </a:xfrm>
          <a:prstGeom prst="pie">
            <a:avLst/>
          </a:prstGeom>
          <a:solidFill>
            <a:srgbClr val="ffff0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Прямоугольник 6" descr=""/>
          <p:cNvPicPr/>
          <p:nvPr/>
        </p:nvPicPr>
        <p:blipFill>
          <a:blip r:embed="rId5"/>
          <a:stretch/>
        </p:blipFill>
        <p:spPr>
          <a:xfrm>
            <a:off x="7400880" y="4925880"/>
            <a:ext cx="1835280" cy="193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xit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34" name="Содержимое 3" descr="IMG_7284.JPG"/>
          <p:cNvPicPr/>
          <p:nvPr/>
        </p:nvPicPr>
        <p:blipFill>
          <a:blip r:embed="rId2"/>
          <a:stretch/>
        </p:blipFill>
        <p:spPr>
          <a:xfrm>
            <a:off x="468360" y="0"/>
            <a:ext cx="764532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азминк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686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пособность говорить, говорение; разновидность или стиль языка; звучащий язык; разговор, беседа; публичное выступление – это…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50920" y="4292640"/>
            <a:ext cx="8686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64108"/>
                </a:solidFill>
                <a:uFillTx/>
                <a:latin typeface="Arial"/>
              </a:rPr>
              <a:t>РЕЧЬ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641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85840" y="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Практическая часть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686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Unicode MS"/>
              </a:rPr>
              <a:t>	</a:t>
            </a:r>
            <a:r>
              <a:rPr b="0" lang="ru-RU" sz="3600" spc="-1" strike="noStrike">
                <a:solidFill>
                  <a:srgbClr val="f64108"/>
                </a:solidFill>
                <a:latin typeface="Arial Unicode MS"/>
              </a:rPr>
              <a:t>Какие отделы речевого аппарата участвуют в произнесении звуков?</a:t>
            </a:r>
            <a:r>
              <a:rPr b="0" lang="ru-RU" sz="2400" spc="-1" strike="noStrike">
                <a:solidFill>
                  <a:srgbClr val="99eff1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2636640"/>
            <a:ext cx="4267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Дыхательный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Голосовой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Артикуляционный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11" descr="голосовой аппарат"/>
          <p:cNvPicPr/>
          <p:nvPr/>
        </p:nvPicPr>
        <p:blipFill>
          <a:blip r:embed="rId2"/>
          <a:stretch/>
        </p:blipFill>
        <p:spPr>
          <a:xfrm>
            <a:off x="6732720" y="3933720"/>
            <a:ext cx="1892160" cy="244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iп"/>
          <p:cNvPicPr/>
          <p:nvPr/>
        </p:nvPicPr>
        <p:blipFill>
          <a:blip r:embed="rId3"/>
          <a:stretch/>
        </p:blipFill>
        <p:spPr>
          <a:xfrm>
            <a:off x="4894200" y="1989000"/>
            <a:ext cx="194796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зовите главный орган артикуляционного аппарата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44" name="Picture 5" descr="язык"/>
          <p:cNvPicPr/>
          <p:nvPr/>
        </p:nvPicPr>
        <p:blipFill>
          <a:blip r:embed="rId2"/>
          <a:stretch/>
        </p:blipFill>
        <p:spPr>
          <a:xfrm>
            <a:off x="2771640" y="2205000"/>
            <a:ext cx="3335400" cy="35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64108"/>
                </a:solidFill>
                <a:latin typeface="Arial Black"/>
              </a:rPr>
              <a:t>Девиз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слушай - и ты узнаешь,</a:t>
            </a:r>
            <a:br>
              <a:rPr sz="3200"/>
            </a:b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2286000"/>
            <a:ext cx="8686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смотри - и ты поймешь,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627280" y="3933720"/>
            <a:ext cx="6886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делай – и ты научишься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… 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Сделай лучше нас!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«Речь удивительное сильное средство, но нужно иметь много ума, чтобы пользоваться им»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.Гегель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1428840"/>
            <a:ext cx="77724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«БЕЗ РЕЧИ НЕТ НИ СОЗНАНИЯ, НИ САМОСОЗНАНИЯ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Л.С.ВЫГОТСКИЙ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«РЕЧЬ – ВЕЛИКАЯ СИЛА: ОНА УБЕЖДАЕТ, ОБРАЩАЕТ, ПРИНУЖДАЕТ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Р.ЭМЕРСОН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178596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«ДОСТОИНСТВО РЕЧИ – БЫТЬ ЯСНОЙ И НЕ БЫТЬ НИЗКОЙ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АРИСТОТЕЛЬ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Black"/>
              </a:rPr>
              <a:t>Работа по ЗКР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14200" y="142884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Работа по звуковой культуре речи состоит из следующих разделов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развитие движений артикуляционного аппарата (артикуляционная гимнастика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занятия с детьми по усвоению фонетической системы родного языка (последовательное работа над гласными и согласными звуками, развитие умения различать звуки по акустическим и артикуляционным признакам, развитие мелодико – интонационной стороны речи)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-142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64108"/>
                </a:solidFill>
                <a:latin typeface="Arial Black"/>
              </a:rPr>
              <a:t>Основные различия работы над звукопроизношением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2920" y="714240"/>
          <a:ext cx="9001080" cy="5513400"/>
        </p:xfrm>
        <a:graphic>
          <a:graphicData uri="http://schemas.openxmlformats.org/drawingml/2006/table">
            <a:tbl>
              <a:tblPr/>
              <a:tblGrid>
                <a:gridCol w="4500360"/>
                <a:gridCol w="4500720"/>
              </a:tblGrid>
              <a:tr h="421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Логопед:</a:t>
                      </a:r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Воспитатель:</a:t>
                      </a:r>
                      <a:endParaRPr b="0" lang="en-US" sz="2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исправляет нарушения речи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активно участвует в коррекционной работе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дготовительный этап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в зависимости от характера нарушения звука вырабатывает и тренирует движения органов артикуляционного аппарата, которые были неправильными или совсем отсутствовали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в игровой форме закрепляет у детей движения и положения органов артикуляционного аппарата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тап появления звука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ставит звуки, вырабатывает артикуляцию нужного звука, при этом используются специальные приёмы, отработанные на предыдущем этапе движения органов артикуляционного аппарата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закрепляет произнесение поставленного логопедом звука, фиксируя внимание ребёнка на его звучание и артикуляции, используя картинки символы и звукоподражания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тап усвоения звука (правильное произнесение звука в речи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автоматизирует звук, последовательно вводя его в речь: слог, слово, предложение, потешки, рассказы.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с отдельными детьми закрепляет поставленный логопедом звук, подбирая соответствующий программный материал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41:23Z</dcterms:created>
  <dc:creator>Admin</dc:creator>
  <dc:description/>
  <cp:keywords/>
  <dc:language>en-US</dc:language>
  <cp:lastModifiedBy>Admin</cp:lastModifiedBy>
  <dcterms:modified xsi:type="dcterms:W3CDTF">2011-12-07T20:30:27Z</dcterms:modified>
  <cp:revision>72</cp:revision>
  <dc:subject/>
  <dc:title>Мастер – класс «Логопедические пятиминут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