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.jpeg" ContentType="image/jpeg"/>
  <Override PartName="/ppt/media/image27.png" ContentType="image/png"/>
  <Override PartName="/ppt/media/image4.gif" ContentType="image/gif"/>
  <Override PartName="/ppt/media/image14.jpeg" ContentType="image/jpeg"/>
  <Override PartName="/ppt/media/image29.gif" ContentType="image/gif"/>
  <Override PartName="/ppt/media/image6.gif" ContentType="image/gif"/>
  <Override PartName="/ppt/media/image9.wmf" ContentType="image/x-wmf"/>
  <Override PartName="/ppt/media/image8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16.jpeg" ContentType="image/jpeg"/>
  <Override PartName="/ppt/media/image13.gif" ContentType="image/gif"/>
  <Override PartName="/ppt/media/image30.jpeg" ContentType="image/jpeg"/>
  <Override PartName="/ppt/media/image17.jpeg" ContentType="image/jpeg"/>
  <Override PartName="/ppt/media/image12.gif" ContentType="image/gif"/>
  <Override PartName="/ppt/media/image26.png" ContentType="image/png"/>
  <Override PartName="/ppt/media/image3.gif" ContentType="image/gif"/>
  <Override PartName="/ppt/media/image10.wmf" ContentType="image/x-wmf"/>
  <Override PartName="/ppt/media/image2.gif" ContentType="image/gif"/>
  <Override PartName="/ppt/media/image25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BB3-698C-4E53-91F6-4A1AA5F1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487-0425-4711-B778-7D77C1E3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0F1-0A5A-466D-B0C7-EBEFC4E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06F-1B7B-47DB-9247-1104CDA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EBD-42FF-47C9-97AA-37CC6AA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0A5-8E26-437D-A600-40A24690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820-4A47-445B-9D40-7A57D48D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4AC-2BEE-48F8-B61A-1FD00E68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1B4-582C-4C08-932A-CC7A5FB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D3F-69D9-493C-896D-0014101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EDC-EF86-4269-8101-E0B58F1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AB1-9E91-45C2-9BBB-A94C593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8A23-D348-4630-8A14-0B40013065C2}" type="slidenum">
              <a:rPr b="0" lang="ru-RU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Логопедические пятиминутки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57280" y="1643040"/>
            <a:ext cx="426744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арт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1-я недел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ема: «Весна»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43" name="Содержимое 4" descr="f012.gif"/>
          <p:cNvPicPr/>
          <p:nvPr/>
        </p:nvPicPr>
        <p:blipFill>
          <a:blip r:embed="rId2"/>
          <a:stretch/>
        </p:blipFill>
        <p:spPr>
          <a:xfrm>
            <a:off x="285840" y="214308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4" descr="f012.gif"/>
          <p:cNvPicPr/>
          <p:nvPr/>
        </p:nvPicPr>
        <p:blipFill>
          <a:blip r:embed="rId3"/>
          <a:stretch/>
        </p:blipFill>
        <p:spPr>
          <a:xfrm>
            <a:off x="3143160" y="4357800"/>
            <a:ext cx="20862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f012.gif"/>
          <p:cNvPicPr/>
          <p:nvPr/>
        </p:nvPicPr>
        <p:blipFill>
          <a:blip r:embed="rId4"/>
          <a:stretch/>
        </p:blipFill>
        <p:spPr>
          <a:xfrm>
            <a:off x="7112160" y="2000160"/>
            <a:ext cx="103176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Пользователь\Мои документы\Мои рисунки\Картинки\Анимашки\ромашка.gif"/>
          <p:cNvPicPr/>
          <p:nvPr/>
        </p:nvPicPr>
        <p:blipFill>
          <a:blip r:embed="rId5"/>
          <a:stretch/>
        </p:blipFill>
        <p:spPr>
          <a:xfrm>
            <a:off x="928800" y="47149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Рисунок4"/>
          <p:cNvPicPr/>
          <p:nvPr/>
        </p:nvPicPr>
        <p:blipFill>
          <a:blip r:embed="rId6"/>
          <a:stretch/>
        </p:blipFill>
        <p:spPr>
          <a:xfrm>
            <a:off x="6300720" y="429408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Вопросы к рефлексии</a:t>
            </a:r>
            <a:br>
              <a:rPr sz="4000"/>
            </a:b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(письменно, индивидуально)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Что взял полезного (интересного)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Хочется ли что-то отметить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Я узнал (а), что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Я научился (лась)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Трудности испытывал (а) в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Самым важным для меня было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Не допускай ленивого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сна на усталые очи,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Прежде чем на три вопроса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о деле дневном не ответишь: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Что я сделал?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Чего не сделал?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                 И что мне осталось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Пифагор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868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Учитель – логопед МДОУ д/с № 1 «Родничок» п. Горный Краснопартизанского района Саратовской области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Тел: 8(84577)2-10-16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-mail: kusnezova70@mail.ru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7" descr="DSC00409"/>
          <p:cNvPicPr/>
          <p:nvPr/>
        </p:nvPicPr>
        <p:blipFill>
          <a:blip r:embed="rId2"/>
          <a:stretch/>
        </p:blipFill>
        <p:spPr>
          <a:xfrm>
            <a:off x="324000" y="907920"/>
            <a:ext cx="3351240" cy="54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5680"/>
            <a:ext cx="6834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49" name="Содержимое 4" descr="IMG_7266.JPG"/>
          <p:cNvPicPr/>
          <p:nvPr/>
        </p:nvPicPr>
        <p:blipFill>
          <a:blip r:embed="rId2"/>
          <a:stretch/>
        </p:blipFill>
        <p:spPr>
          <a:xfrm>
            <a:off x="7524720" y="5013360"/>
            <a:ext cx="1392120" cy="16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62643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ртикуляционная гимнастика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Сосулька тает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Открыть рот, вытянуть «острый» язык, затем опустить «широкий» язык на нижнюю губу. Чередовать положения «острого» и «широкого» язык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Лужи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Открыть рот, положить «широкий» язык на нижнюю губу, чуть-чуть сдвинув его сначала в левую, затем в правую сторону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Капель стучит по крыше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днять кончик языка за верхние зубы к альвеолам и произносить: «Тдд-тдд-тдд»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Лопаются почки на деревьях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двести «широкий» язык под верхнюю губу и пощелкать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недель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64108"/>
                </a:solidFill>
                <a:latin typeface="Arial Black"/>
              </a:rPr>
              <a:t>Пальчиковая гимнастика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4267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Весенний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ждик»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ждик песенку поет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только кто ее поймет?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е поймем ни я, ни ты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о зато поймут цветы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 зеленая трав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 весенняя листв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Лучше всех поймет зерно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рорастать начнет он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55" name="Содержимое 7" descr="IMG_7274.JPG"/>
          <p:cNvPicPr/>
          <p:nvPr/>
        </p:nvPicPr>
        <p:blipFill>
          <a:blip r:embed="rId2"/>
          <a:stretch/>
        </p:blipFill>
        <p:spPr>
          <a:xfrm>
            <a:off x="4929120" y="4643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тор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35280" y="2781360"/>
            <a:ext cx="439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(Пальцы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 постукивают по столу – сначал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быстро,потом .медленно)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альцы барабанят быстро-быстро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ошёл ливень.)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(Пальцы стучат все медленнее 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медленнее и наконец останавливаются.)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758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              </a:t>
            </a: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упр. «Какой, какая, какие» ( с мячом)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Цель: развитие словаря детей, внимания, логического мышлени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Учить подбирать признак к предметам, согласовывать прилагательные с существительным.</a:t>
            </a:r>
            <a:br>
              <a:rPr sz="1600"/>
            </a:br>
            <a:endParaRPr b="0" lang="en-US" sz="1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997360"/>
            <a:ext cx="37670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Она приходит с ласкою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И со своею сказкою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Волшебной палочкой взмахнет 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В лесу подснежник расцветет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9900"/>
                </a:solidFill>
                <a:latin typeface="Arial"/>
              </a:rPr>
              <a:t>(Весна)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13" descr="3-3"/>
          <p:cNvPicPr/>
          <p:nvPr/>
        </p:nvPicPr>
        <p:blipFill>
          <a:blip r:embed="rId2"/>
          <a:stretch/>
        </p:blipFill>
        <p:spPr>
          <a:xfrm>
            <a:off x="5508720" y="4724280"/>
            <a:ext cx="1584360" cy="134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0" descr="13-4"/>
          <p:cNvPicPr/>
          <p:nvPr/>
        </p:nvPicPr>
        <p:blipFill>
          <a:blip r:embed="rId3"/>
          <a:stretch/>
        </p:blipFill>
        <p:spPr>
          <a:xfrm>
            <a:off x="4427640" y="2771640"/>
            <a:ext cx="1584360" cy="11750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3"/>
          <p:cNvGrpSpPr/>
          <p:nvPr/>
        </p:nvGrpSpPr>
        <p:grpSpPr>
          <a:xfrm>
            <a:off x="7020000" y="2708280"/>
            <a:ext cx="1438200" cy="1469880"/>
            <a:chOff x="7020000" y="2708280"/>
            <a:chExt cx="1438200" cy="1469880"/>
          </a:xfrm>
        </p:grpSpPr>
        <p:sp>
          <p:nvSpPr>
            <p:cNvPr id="66" name="AutoShape 52"/>
            <p:cNvSpPr/>
            <p:nvPr/>
          </p:nvSpPr>
          <p:spPr>
            <a:xfrm>
              <a:off x="7020000" y="2708280"/>
              <a:ext cx="14382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7" name="Freeform 54"/>
            <p:cNvSpPr/>
            <p:nvPr/>
          </p:nvSpPr>
          <p:spPr>
            <a:xfrm>
              <a:off x="7300800" y="3083040"/>
              <a:ext cx="793800" cy="7966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8" name="Freeform 55"/>
            <p:cNvSpPr/>
            <p:nvPr/>
          </p:nvSpPr>
          <p:spPr>
            <a:xfrm>
              <a:off x="7432560" y="2797200"/>
              <a:ext cx="133560" cy="243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9" name="Freeform 56"/>
            <p:cNvSpPr/>
            <p:nvPr/>
          </p:nvSpPr>
          <p:spPr>
            <a:xfrm>
              <a:off x="7178760" y="3021120"/>
              <a:ext cx="172800" cy="1364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7053120" y="3317760"/>
              <a:ext cx="189000" cy="1112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7021440" y="3579840"/>
              <a:ext cx="171360" cy="1569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7189920" y="3803760"/>
              <a:ext cx="141120" cy="2048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3" name="Freeform 60"/>
            <p:cNvSpPr/>
            <p:nvPr/>
          </p:nvSpPr>
          <p:spPr>
            <a:xfrm>
              <a:off x="7369200" y="3922560"/>
              <a:ext cx="96840" cy="216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4" name="Freeform 61"/>
            <p:cNvSpPr/>
            <p:nvPr/>
          </p:nvSpPr>
          <p:spPr>
            <a:xfrm>
              <a:off x="7667640" y="3929040"/>
              <a:ext cx="100080" cy="24912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5" name="Freeform 62"/>
            <p:cNvSpPr/>
            <p:nvPr/>
          </p:nvSpPr>
          <p:spPr>
            <a:xfrm>
              <a:off x="8064360" y="3757680"/>
              <a:ext cx="204840" cy="1587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6" name="Freeform 63"/>
            <p:cNvSpPr/>
            <p:nvPr/>
          </p:nvSpPr>
          <p:spPr>
            <a:xfrm>
              <a:off x="8177040" y="3502080"/>
              <a:ext cx="281160" cy="1126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7" name="Freeform 64"/>
            <p:cNvSpPr/>
            <p:nvPr/>
          </p:nvSpPr>
          <p:spPr>
            <a:xfrm>
              <a:off x="8199360" y="3198960"/>
              <a:ext cx="244440" cy="1634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8" name="Freeform 65"/>
            <p:cNvSpPr/>
            <p:nvPr/>
          </p:nvSpPr>
          <p:spPr>
            <a:xfrm>
              <a:off x="8029440" y="2911320"/>
              <a:ext cx="233640" cy="21132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9" name="Freeform 66"/>
            <p:cNvSpPr/>
            <p:nvPr/>
          </p:nvSpPr>
          <p:spPr>
            <a:xfrm>
              <a:off x="7777080" y="2757600"/>
              <a:ext cx="103320" cy="2379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0" name="Freeform 67"/>
            <p:cNvSpPr/>
            <p:nvPr/>
          </p:nvSpPr>
          <p:spPr>
            <a:xfrm>
              <a:off x="7929720" y="3897360"/>
              <a:ext cx="107640" cy="1998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" name="Freeform 68"/>
            <p:cNvSpPr/>
            <p:nvPr/>
          </p:nvSpPr>
          <p:spPr>
            <a:xfrm>
              <a:off x="7299360" y="3033720"/>
              <a:ext cx="793800" cy="7970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2" name="Freeform 69"/>
            <p:cNvSpPr/>
            <p:nvPr/>
          </p:nvSpPr>
          <p:spPr>
            <a:xfrm>
              <a:off x="7429680" y="2747880"/>
              <a:ext cx="134640" cy="24300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3" name="Freeform 70"/>
            <p:cNvSpPr/>
            <p:nvPr/>
          </p:nvSpPr>
          <p:spPr>
            <a:xfrm>
              <a:off x="7176960" y="2971800"/>
              <a:ext cx="173160" cy="1364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7051680" y="3268800"/>
              <a:ext cx="189000" cy="1108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020000" y="3530520"/>
              <a:ext cx="171360" cy="1573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" name="Freeform 73"/>
            <p:cNvSpPr/>
            <p:nvPr/>
          </p:nvSpPr>
          <p:spPr>
            <a:xfrm>
              <a:off x="7188120" y="3754440"/>
              <a:ext cx="141480" cy="2048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7" name="Freeform 74"/>
            <p:cNvSpPr/>
            <p:nvPr/>
          </p:nvSpPr>
          <p:spPr>
            <a:xfrm>
              <a:off x="7367760" y="3873600"/>
              <a:ext cx="96840" cy="2156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8" name="Freeform 75"/>
            <p:cNvSpPr/>
            <p:nvPr/>
          </p:nvSpPr>
          <p:spPr>
            <a:xfrm>
              <a:off x="7666200" y="3879720"/>
              <a:ext cx="99720" cy="2494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9" name="Freeform 76"/>
            <p:cNvSpPr/>
            <p:nvPr/>
          </p:nvSpPr>
          <p:spPr>
            <a:xfrm>
              <a:off x="8062920" y="3708360"/>
              <a:ext cx="204840" cy="1587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Freeform 77"/>
            <p:cNvSpPr/>
            <p:nvPr/>
          </p:nvSpPr>
          <p:spPr>
            <a:xfrm>
              <a:off x="8175600" y="3452760"/>
              <a:ext cx="281160" cy="1126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Freeform 78"/>
            <p:cNvSpPr/>
            <p:nvPr/>
          </p:nvSpPr>
          <p:spPr>
            <a:xfrm>
              <a:off x="8197920" y="3149640"/>
              <a:ext cx="244440" cy="1634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Freeform 79"/>
            <p:cNvSpPr/>
            <p:nvPr/>
          </p:nvSpPr>
          <p:spPr>
            <a:xfrm>
              <a:off x="8028000" y="2862360"/>
              <a:ext cx="233280" cy="2109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Freeform 80"/>
            <p:cNvSpPr/>
            <p:nvPr/>
          </p:nvSpPr>
          <p:spPr>
            <a:xfrm>
              <a:off x="7775640" y="2708280"/>
              <a:ext cx="102960" cy="2379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Freeform 81"/>
            <p:cNvSpPr/>
            <p:nvPr/>
          </p:nvSpPr>
          <p:spPr>
            <a:xfrm>
              <a:off x="7927920" y="3848040"/>
              <a:ext cx="108000" cy="2001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Freeform 82"/>
            <p:cNvSpPr/>
            <p:nvPr/>
          </p:nvSpPr>
          <p:spPr>
            <a:xfrm>
              <a:off x="7380360" y="3105000"/>
              <a:ext cx="630000" cy="648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Freeform 83"/>
            <p:cNvSpPr/>
            <p:nvPr/>
          </p:nvSpPr>
          <p:spPr>
            <a:xfrm>
              <a:off x="7496280" y="3267000"/>
              <a:ext cx="87120" cy="1015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Freeform 84"/>
            <p:cNvSpPr/>
            <p:nvPr/>
          </p:nvSpPr>
          <p:spPr>
            <a:xfrm>
              <a:off x="7740720" y="3189240"/>
              <a:ext cx="96840" cy="1159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Freeform 85"/>
            <p:cNvSpPr/>
            <p:nvPr/>
          </p:nvSpPr>
          <p:spPr>
            <a:xfrm>
              <a:off x="7531200" y="3448080"/>
              <a:ext cx="322200" cy="1810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развитие правильного речевого дыхания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421000"/>
            <a:ext cx="54957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пражнение  «Весенние ароматы»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Цель: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Закрепить диафрагмальный тип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дыхания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татическое  упражнение. 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Вдыхаем аромат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одснежник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дох носом, пауза, под счет «раз», «два»,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«три» выдох рто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твер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8" descr="3-1"/>
          <p:cNvPicPr/>
          <p:nvPr/>
        </p:nvPicPr>
        <p:blipFill>
          <a:blip r:embed="rId2"/>
          <a:stretch/>
        </p:blipFill>
        <p:spPr>
          <a:xfrm>
            <a:off x="5724360" y="2133720"/>
            <a:ext cx="1683000" cy="2381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284720" y="4797360"/>
            <a:ext cx="453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пр. «Кораблики»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ель: развитие силы диафрагмального выдоха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уем на кораблик в тазу, чтобы он поплыл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Picture 10" descr="MMj03544200000[1]"/>
          <p:cNvPicPr/>
          <p:nvPr/>
        </p:nvPicPr>
        <p:blipFill>
          <a:blip r:embed="rId3"/>
          <a:stretch/>
        </p:blipFill>
        <p:spPr>
          <a:xfrm>
            <a:off x="1042920" y="4724280"/>
            <a:ext cx="2158920" cy="189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Развитие фонематического слуха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33573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Цель:. Совершенствование навыка слогового анализа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лова: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весна, сосулька, проталинка, ледоход, подснежник, почка, ручейки, гнезда, верб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2060280"/>
            <a:ext cx="83296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пражнение «Паровозик»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логовой анализ слов по тем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ят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10" descr="Рисунок1"/>
          <p:cNvPicPr/>
          <p:nvPr/>
        </p:nvPicPr>
        <p:blipFill>
          <a:blip r:embed="rId2"/>
          <a:stretch/>
        </p:blipFill>
        <p:spPr>
          <a:xfrm>
            <a:off x="-7551720" y="3429000"/>
            <a:ext cx="16489440" cy="358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сканирование000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14200"/>
            <a:ext cx="2843280" cy="27878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8" descr="i_003.jpg"/>
          <p:cNvPicPr/>
          <p:nvPr/>
        </p:nvPicPr>
        <p:blipFill>
          <a:blip r:embed="rId4"/>
          <a:stretch/>
        </p:blipFill>
        <p:spPr>
          <a:xfrm>
            <a:off x="1706400" y="3352680"/>
            <a:ext cx="1835280" cy="122580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4" descr="сканирование0005.jpg"/>
          <p:cNvPicPr/>
          <p:nvPr/>
        </p:nvPicPr>
        <p:blipFill>
          <a:blip r:embed="rId5"/>
          <a:stretch/>
        </p:blipFill>
        <p:spPr>
          <a:xfrm>
            <a:off x="4000680" y="214200"/>
            <a:ext cx="12855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сканирование0005.jpg"/>
          <p:cNvPicPr/>
          <p:nvPr/>
        </p:nvPicPr>
        <p:blipFill>
          <a:blip r:embed="rId6"/>
          <a:stretch/>
        </p:blipFill>
        <p:spPr>
          <a:xfrm>
            <a:off x="5286240" y="214200"/>
            <a:ext cx="1357560" cy="27860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4" descr="сканирование0005.jpg"/>
          <p:cNvPicPr/>
          <p:nvPr/>
        </p:nvPicPr>
        <p:blipFill>
          <a:blip r:embed="rId7"/>
          <a:stretch/>
        </p:blipFill>
        <p:spPr>
          <a:xfrm>
            <a:off x="6643800" y="214200"/>
            <a:ext cx="1357200" cy="27957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8" descr="i_003.jpg"/>
          <p:cNvPicPr/>
          <p:nvPr/>
        </p:nvPicPr>
        <p:blipFill>
          <a:blip r:embed="rId8"/>
          <a:stretch/>
        </p:blipFill>
        <p:spPr>
          <a:xfrm>
            <a:off x="291960" y="2816280"/>
            <a:ext cx="976320" cy="332748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8" descr="i_003.jpg"/>
          <p:cNvPicPr/>
          <p:nvPr/>
        </p:nvPicPr>
        <p:blipFill>
          <a:blip r:embed="rId9"/>
          <a:stretch/>
        </p:blipFill>
        <p:spPr>
          <a:xfrm>
            <a:off x="3780000" y="3193920"/>
            <a:ext cx="1584000" cy="20368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8" descr="i_003.jpg"/>
          <p:cNvPicPr/>
          <p:nvPr/>
        </p:nvPicPr>
        <p:blipFill>
          <a:blip r:embed="rId10"/>
          <a:stretch/>
        </p:blipFill>
        <p:spPr>
          <a:xfrm>
            <a:off x="1639800" y="4992840"/>
            <a:ext cx="2114640" cy="1584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8" descr="i_003.jpg"/>
          <p:cNvPicPr/>
          <p:nvPr/>
        </p:nvPicPr>
        <p:blipFill>
          <a:blip r:embed="rId11"/>
          <a:stretch/>
        </p:blipFill>
        <p:spPr>
          <a:xfrm>
            <a:off x="7931160" y="2749680"/>
            <a:ext cx="944640" cy="3213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8" descr="i_003.jpg"/>
          <p:cNvPicPr/>
          <p:nvPr/>
        </p:nvPicPr>
        <p:blipFill>
          <a:blip r:embed="rId12"/>
          <a:stretch/>
        </p:blipFill>
        <p:spPr>
          <a:xfrm>
            <a:off x="5778360" y="3279600"/>
            <a:ext cx="1871640" cy="143856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8" descr="i_003.jpg"/>
          <p:cNvPicPr/>
          <p:nvPr/>
        </p:nvPicPr>
        <p:blipFill>
          <a:blip r:embed="rId13"/>
          <a:stretch/>
        </p:blipFill>
        <p:spPr>
          <a:xfrm>
            <a:off x="-6480" y="4591080"/>
            <a:ext cx="1646280" cy="227340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8" descr="i_003.jpg"/>
          <p:cNvPicPr/>
          <p:nvPr/>
        </p:nvPicPr>
        <p:blipFill>
          <a:blip r:embed="rId14"/>
          <a:stretch/>
        </p:blipFill>
        <p:spPr>
          <a:xfrm>
            <a:off x="3852720" y="5205240"/>
            <a:ext cx="136548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8" descr="i_003.jpg"/>
          <p:cNvPicPr/>
          <p:nvPr/>
        </p:nvPicPr>
        <p:blipFill>
          <a:blip r:embed="rId15"/>
          <a:stretch/>
        </p:blipFill>
        <p:spPr>
          <a:xfrm>
            <a:off x="5205240" y="4925880"/>
            <a:ext cx="2281320" cy="171936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8" descr="i_003.jpg"/>
          <p:cNvPicPr/>
          <p:nvPr/>
        </p:nvPicPr>
        <p:blipFill>
          <a:blip r:embed="rId16"/>
          <a:stretch/>
        </p:blipFill>
        <p:spPr>
          <a:xfrm>
            <a:off x="7491240" y="4638600"/>
            <a:ext cx="1659240" cy="229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Овал 4"/>
          <p:cNvSpPr/>
          <p:nvPr/>
        </p:nvSpPr>
        <p:spPr>
          <a:xfrm>
            <a:off x="2071800" y="1928880"/>
            <a:ext cx="4357440" cy="4071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ПОДУМАЙ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8" name="Содержимое 3" descr="Рисунок17.gif"/>
          <p:cNvPicPr/>
          <p:nvPr/>
        </p:nvPicPr>
        <p:blipFill>
          <a:blip r:embed="rId2"/>
          <a:stretch/>
        </p:blipFill>
        <p:spPr>
          <a:xfrm>
            <a:off x="2928960" y="2214720"/>
            <a:ext cx="2671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129" name="Управляющая кнопка: справка 5"/>
          <p:cNvGrpSpPr/>
          <p:nvPr/>
        </p:nvGrpSpPr>
        <p:grpSpPr>
          <a:xfrm>
            <a:off x="7991640" y="6059520"/>
            <a:ext cx="591840" cy="523800"/>
            <a:chOff x="7991640" y="6059520"/>
            <a:chExt cx="591840" cy="523800"/>
          </a:xfrm>
        </p:grpSpPr>
        <p:pic>
          <p:nvPicPr>
            <p:cNvPr id="130" name="Управляющая кнопка: справка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991640" y="6059520"/>
              <a:ext cx="5918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8001000" y="607212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57240" y="285840"/>
            <a:ext cx="542952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МОЛОДЕЦ!</a:t>
            </a:r>
            <a:endParaRPr b="0" lang="en-US" sz="6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33" name="Содержимое 3" descr="f52.gif"/>
          <p:cNvPicPr/>
          <p:nvPr/>
        </p:nvPicPr>
        <p:blipFill>
          <a:blip r:embed="rId2"/>
          <a:stretch/>
        </p:blipFill>
        <p:spPr>
          <a:xfrm>
            <a:off x="3214800" y="1785960"/>
            <a:ext cx="2600280" cy="47880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в начало 4">
            <a:hlinkClick r:id="" action="ppaction://hlinkshowjump?jump=previousslide"/>
          </p:cNvPr>
          <p:cNvSpPr/>
          <p:nvPr/>
        </p:nvSpPr>
        <p:spPr>
          <a:xfrm>
            <a:off x="800100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3783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11938" y="3794"/>
                </a:lnTo>
                <a:lnTo>
                  <a:pt x="11938" y="17806"/>
                </a:lnTo>
                <a:lnTo>
                  <a:pt x="10276" y="17806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41:23Z</dcterms:created>
  <dc:creator>Admin</dc:creator>
  <dc:description/>
  <cp:keywords/>
  <dc:language>en-US</dc:language>
  <cp:lastModifiedBy>Admin</cp:lastModifiedBy>
  <dcterms:modified xsi:type="dcterms:W3CDTF">2011-12-07T20:28:26Z</dcterms:modified>
  <cp:revision>74</cp:revision>
  <dc:subject/>
  <dc:title>Мастер – класс «Логопедические пятиминут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