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When%20You%20Wish%20Upon%20A%20Star.wav" ContentType="audio/x-wav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24FC-94EB-4B82-935F-56704BA65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A047-0B5E-45D0-B8D0-201F8DE6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35BD-8594-46E6-A4CB-66A570A64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A879-EBDD-4D6A-80DB-B4BDF2263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FAED-6EEF-4EBC-94C3-29FAA947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751F-7F2C-4FB4-80FE-25D13AB7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74A6-1FD6-4815-A140-068E2858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27F1-8133-45CE-852A-87B8F009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4CD6-8E13-4330-BC1A-60342665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D786-37E0-4535-9026-0D4AA908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310C-4DCA-467D-B181-8E5B4C83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73D2-D3C4-482E-BEE8-243BBDDB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934F-34EC-4EEB-8C70-F247ADE9C46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audio" Target="../media/When%20You%20Wish%20Upon%20A%20Star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alibri"/>
              </a:rPr>
              <a:t>When you wish upon a star…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Содержимое 4" descr="Stars_flash.gif"/>
          <p:cNvPicPr/>
          <p:nvPr/>
        </p:nvPicPr>
        <p:blipFill>
          <a:blip r:embed="rId1"/>
          <a:stretch/>
        </p:blipFill>
        <p:spPr>
          <a:xfrm>
            <a:off x="571680" y="1500120"/>
            <a:ext cx="8286480" cy="519120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857160" y="2000160"/>
            <a:ext cx="3786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When you wish upon a star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Makes no difference who you are.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Anything your heart desires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Will come to you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857160" y="3357720"/>
            <a:ext cx="3929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If your heart is in your dream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No request is too extreme.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When you wish upon a star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Your dreams come tru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оугольник 7"/>
          <p:cNvSpPr/>
          <p:nvPr/>
        </p:nvSpPr>
        <p:spPr>
          <a:xfrm>
            <a:off x="5786280" y="3857760"/>
            <a:ext cx="4572000" cy="25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Fate is kind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he brings to those who lov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he sweet fulfillment of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heir secret longing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Like a bolt out of the blu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Fate steps in and sees you through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When you wish upon a sta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Your dreams come tru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Рисунок 8" descr="Рисунок3.jpg"/>
          <p:cNvPicPr/>
          <p:nvPr/>
        </p:nvPicPr>
        <p:blipFill>
          <a:blip r:embed="rId2"/>
          <a:stretch/>
        </p:blipFill>
        <p:spPr>
          <a:xfrm>
            <a:off x="5138640" y="2352600"/>
            <a:ext cx="1586160" cy="15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en%20You%20Wish%20Upon%20A%20Sta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03:14:52Z</dcterms:created>
  <dc:creator>ss</dc:creator>
  <dc:description/>
  <dc:language>en-US</dc:language>
  <cp:lastModifiedBy>ss</cp:lastModifiedBy>
  <dcterms:modified xsi:type="dcterms:W3CDTF">2009-04-23T11:24:03Z</dcterms:modified>
  <cp:revision>4</cp:revision>
  <dc:subject/>
  <dc:title>Слайд 1</dc:title>
</cp:coreProperties>
</file>