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When%20You%20Wish%20Upon%20A%20Star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865-4DB3-4D8F-B327-543F81CE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76E-4BC3-412D-B75F-54D5738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DF0-31FB-43B1-92B9-8FB8382B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CB3-3B62-4F28-9954-D9BA3880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53C-52D9-414A-97BF-CCC5AE9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BB9-D7A6-45B3-9149-970D588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314-139D-4D18-A214-E2994E8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AD0-A643-45BA-B3E1-D26A6EB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36F-B3A5-4DD2-8876-17158E4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C27-F9B1-43A0-81B7-0488891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C10-ABA4-45EA-94E9-168BBE9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194-1ECD-4E1C-9A1C-F9D0DBE5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59F-C6AB-40AE-BA2B-54D787BE38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hen%20You%20Wish%20Upon%20A%20Sta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When you wish upon a star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Содержимое 4" descr="Stars_flash.gif"/>
          <p:cNvPicPr/>
          <p:nvPr/>
        </p:nvPicPr>
        <p:blipFill>
          <a:blip r:embed="rId1"/>
          <a:stretch/>
        </p:blipFill>
        <p:spPr>
          <a:xfrm>
            <a:off x="571680" y="1500120"/>
            <a:ext cx="8286480" cy="5191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57160" y="2000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Makes no difference who you are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nything your heart desire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ill come to you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857160" y="335772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If your heart is in your dream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No request is too extreme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Your dreams come tr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786280" y="3857760"/>
            <a:ext cx="457200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ate is ki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he brings to those who l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sweet fulfillment of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ir secret long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ke a bolt out of the blu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ate steps in and sees you throug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dreams come tr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Рисунок 8" descr="Рисунок3.jpg"/>
          <p:cNvPicPr/>
          <p:nvPr/>
        </p:nvPicPr>
        <p:blipFill>
          <a:blip r:embed="rId2"/>
          <a:stretch/>
        </p:blipFill>
        <p:spPr>
          <a:xfrm>
            <a:off x="5138640" y="2352600"/>
            <a:ext cx="158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en%20You%20Wish%20Upon%20A%20Sta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3:14:52Z</dcterms:created>
  <dc:creator>ss</dc:creator>
  <dc:description/>
  <dc:language>en-US</dc:language>
  <cp:lastModifiedBy>ss</cp:lastModifiedBy>
  <dcterms:modified xsi:type="dcterms:W3CDTF">2009-04-23T11:24:03Z</dcterms:modified>
  <cp:revision>4</cp:revision>
  <dc:subject/>
  <dc:title>Слайд 1</dc:title>
</cp:coreProperties>
</file>