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6563-DDDD-403C-AA1A-F0360FBF9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884-A876-4054-BB0E-9682736FC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30D-3558-4A65-BBB5-40C51A80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B71-B0B1-4F56-9C97-3C5D791A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204-5043-4627-A45E-D7147F0A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D92-31C0-4B0F-85AF-51031817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965-45C7-41B0-AAB3-A64D9BB7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7DF-6452-4EA9-85D5-8806CFD3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8771-1607-4B2C-84FF-22FD25B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6F6-06BE-4B22-B19B-4C2C98E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489F-26CC-4070-BB10-DBC8B952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530-388C-4370-80A3-513066A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6B11-3CC9-47D1-986E-5DE57FA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754-BB86-4D70-84F2-6CFBC83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78C-7567-4939-8652-F0D65DA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5F63-6D6E-46CC-A233-1D5EC16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E171-BC27-493B-84F4-390819A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AC32-7258-4103-AB1C-A64C8A7F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63B-B010-4828-9A68-0D86F7A7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045-E862-4AFA-BEAB-6335CBD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C08-9AE9-4FC4-9598-8BD45FC8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8CB-EE66-4358-A539-4397351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94F-51DD-49CD-898C-49CAC83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71A-1193-4321-8EA5-3D2C269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A5D-CDDD-42EB-99C8-0DFC1A83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75A-1173-42D4-972C-9079CB3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67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9417-B5D5-41EA-B583-B72C26D9647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67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D525-B7FC-4C97-8D72-9A2B73F0BBF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etskiysad.ru/" TargetMode="External"/><Relationship Id="rId3" Type="http://schemas.openxmlformats.org/officeDocument/2006/relationships/hyperlink" Target="http://www.propaganda-bdd.ru/" TargetMode="External"/><Relationship Id="rId4" Type="http://schemas.openxmlformats.org/officeDocument/2006/relationships/hyperlink" Target="http://festival.1semteber.ru/" TargetMode="External"/><Relationship Id="rId5" Type="http://schemas.openxmlformats.org/officeDocument/2006/relationships/hyperlink" Target="http://www.ivalex.vistcom.ru/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71720" y="142560"/>
            <a:ext cx="3000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Правила движения, 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се без исключения, 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Знать должны зверюшки: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Барсуки и хрюшки: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Зайцы и тигрята,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Пони и котята.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ам, ребята, тоже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се их надо знать.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                          В. Головко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64328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1011240" y="3157560"/>
            <a:ext cx="797400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571680" y="0"/>
            <a:ext cx="2357280" cy="2214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214200" y="1996920"/>
            <a:ext cx="8929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ема: « Формирование у детей дошкольного возраста навыков безопасного поведения через ознакомление с правилами дорожног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узнецова Елена Валентин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спитатель МБДОУ детского с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омбинированного вида №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«Заинь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кругленный прямоугольник 11"/>
          <p:cNvSpPr/>
          <p:nvPr/>
        </p:nvSpPr>
        <p:spPr>
          <a:xfrm>
            <a:off x="6786720" y="3500280"/>
            <a:ext cx="2357280" cy="12146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2928960" y="3143160"/>
            <a:ext cx="3786120" cy="1714680"/>
          </a:xfrm>
          <a:prstGeom prst="roundRect">
            <a:avLst>
              <a:gd name="adj" fmla="val 48231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дение дидактических и сюжетно – ролевы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3429000" y="5429160"/>
            <a:ext cx="2928960" cy="10717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5"/>
          <p:cNvSpPr/>
          <p:nvPr/>
        </p:nvSpPr>
        <p:spPr>
          <a:xfrm>
            <a:off x="0" y="3571920"/>
            <a:ext cx="2786040" cy="1143000"/>
          </a:xfrm>
          <a:prstGeom prst="roundRect">
            <a:avLst>
              <a:gd name="adj" fmla="val 48167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евые 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6"/>
          <p:cNvSpPr/>
          <p:nvPr/>
        </p:nvSpPr>
        <p:spPr>
          <a:xfrm>
            <a:off x="5643720" y="2000160"/>
            <a:ext cx="2857320" cy="1071720"/>
          </a:xfrm>
          <a:prstGeom prst="roundRect">
            <a:avLst>
              <a:gd name="adj" fmla="val 49486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7"/>
          <p:cNvSpPr/>
          <p:nvPr/>
        </p:nvSpPr>
        <p:spPr>
          <a:xfrm>
            <a:off x="1000080" y="2071800"/>
            <a:ext cx="2571840" cy="1000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8"/>
          <p:cNvSpPr/>
          <p:nvPr/>
        </p:nvSpPr>
        <p:spPr>
          <a:xfrm>
            <a:off x="928800" y="214200"/>
            <a:ext cx="7572240" cy="1285920"/>
          </a:xfrm>
          <a:prstGeom prst="roundRect">
            <a:avLst>
              <a:gd name="adj" fmla="val 50000"/>
            </a:avLst>
          </a:prstGeom>
          <a:solidFill>
            <a:srgbClr val="c056c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бота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643800" y="4929120"/>
            <a:ext cx="2301840" cy="192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Admin\Мои документы\Мои рисунки\воспит.jpeg"/>
          <p:cNvPicPr/>
          <p:nvPr/>
        </p:nvPicPr>
        <p:blipFill>
          <a:blip r:embed="rId2"/>
          <a:stretch/>
        </p:blipFill>
        <p:spPr>
          <a:xfrm>
            <a:off x="428760" y="4896000"/>
            <a:ext cx="23238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28880"/>
            <a:ext cx="40384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зна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Тематические занятия «Моя улица», «Дорожные знаки», «Транспорт»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Знакомство с профессией сотрудника ГИБДД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Отгадывание загадок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Целевые прогулки к светофору, пешеходному переходу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400068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ссматривание плакатов ПД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блюдение за транспорт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собственных проблемных ситуаций с помощью модел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715080" y="142920"/>
            <a:ext cx="2214720" cy="185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00080" y="1143000"/>
            <a:ext cx="8143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Управляющая кнопка: справка 7"/>
          <p:cNvSpPr/>
          <p:nvPr/>
        </p:nvSpPr>
        <p:spPr>
          <a:xfrm>
            <a:off x="3000240" y="2500200"/>
            <a:ext cx="3286440" cy="1857600"/>
          </a:xfrm>
          <a:custGeom>
            <a:avLst/>
            <a:gdLst>
              <a:gd name="textAreaLeft" fmla="*/ 120240 w 3286440"/>
              <a:gd name="textAreaRight" fmla="*/ 3166200 w 3286440"/>
              <a:gd name="textAreaTop" fmla="*/ 120240 h 1857600"/>
              <a:gd name="textAreaBottom" fmla="*/ 1737360 h 1857600"/>
            </a:gdLst>
            <a:ahLst/>
            <a:rect l="textAreaLeft" t="textAreaTop" r="textAreaRight" b="textAreaBottom"/>
            <a:pathLst>
              <a:path w="38211" h="21600">
                <a:moveTo>
                  <a:pt x="0" y="0"/>
                </a:moveTo>
                <a:lnTo>
                  <a:pt x="38211" y="0"/>
                </a:lnTo>
                <a:lnTo>
                  <a:pt x="38211" y="21600"/>
                </a:lnTo>
                <a:lnTo>
                  <a:pt x="0" y="21600"/>
                </a:lnTo>
                <a:close/>
              </a:path>
              <a:path fill="lightenLess" w="38211" h="21600">
                <a:moveTo>
                  <a:pt x="0" y="0"/>
                </a:moveTo>
                <a:lnTo>
                  <a:pt x="38211" y="0"/>
                </a:lnTo>
                <a:lnTo>
                  <a:pt x="36811" y="1400"/>
                </a:lnTo>
                <a:lnTo>
                  <a:pt x="1400" y="1400"/>
                </a:lnTo>
                <a:close/>
              </a:path>
              <a:path fill="darken" w="38211" h="21600">
                <a:moveTo>
                  <a:pt x="38211" y="0"/>
                </a:moveTo>
                <a:lnTo>
                  <a:pt x="38211" y="21600"/>
                </a:lnTo>
                <a:lnTo>
                  <a:pt x="36811" y="20200"/>
                </a:lnTo>
                <a:lnTo>
                  <a:pt x="36811" y="1400"/>
                </a:lnTo>
                <a:close/>
              </a:path>
              <a:path fill="darkenLess" w="38211" h="21600">
                <a:moveTo>
                  <a:pt x="38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1" y="20200"/>
                </a:lnTo>
                <a:close/>
              </a:path>
              <a:path fill="lighten" w="38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11" h="21600">
                <a:moveTo>
                  <a:pt x="191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211" h="21600">
                <a:moveTo>
                  <a:pt x="20211" y="14281"/>
                </a:moveTo>
                <a:lnTo>
                  <a:pt x="20211" y="12323"/>
                </a:lnTo>
                <a:cubicBezTo>
                  <a:pt x="20211" y="11496"/>
                  <a:pt x="20542" y="10800"/>
                  <a:pt x="21142" y="10800"/>
                </a:cubicBezTo>
                <a:cubicBezTo>
                  <a:pt x="22274" y="10800"/>
                  <a:pt x="23170" y="9434"/>
                  <a:pt x="23170" y="7849"/>
                </a:cubicBezTo>
                <a:cubicBezTo>
                  <a:pt x="23170" y="5534"/>
                  <a:pt x="21316" y="3794"/>
                  <a:pt x="19106" y="3794"/>
                </a:cubicBezTo>
                <a:cubicBezTo>
                  <a:pt x="16895" y="3794"/>
                  <a:pt x="15224" y="5534"/>
                  <a:pt x="15224" y="7849"/>
                </a:cubicBezTo>
                <a:lnTo>
                  <a:pt x="17078" y="7849"/>
                </a:lnTo>
                <a:cubicBezTo>
                  <a:pt x="17078" y="6709"/>
                  <a:pt x="18000" y="5821"/>
                  <a:pt x="19106" y="5821"/>
                </a:cubicBezTo>
                <a:cubicBezTo>
                  <a:pt x="20211" y="5821"/>
                  <a:pt x="21142" y="6709"/>
                  <a:pt x="21142" y="7849"/>
                </a:cubicBezTo>
                <a:cubicBezTo>
                  <a:pt x="21142" y="8589"/>
                  <a:pt x="20672" y="9320"/>
                  <a:pt x="20211" y="9320"/>
                </a:cubicBezTo>
                <a:cubicBezTo>
                  <a:pt x="19106" y="9320"/>
                  <a:pt x="18000" y="10800"/>
                  <a:pt x="18000" y="12323"/>
                </a:cubicBezTo>
                <a:lnTo>
                  <a:pt x="18000" y="14281"/>
                </a:lnTo>
                <a:close/>
              </a:path>
            </a:pathLst>
          </a:cu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уб «Почемуче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носка-облако 9"/>
          <p:cNvSpPr/>
          <p:nvPr/>
        </p:nvSpPr>
        <p:spPr>
          <a:xfrm>
            <a:off x="3143160" y="214200"/>
            <a:ext cx="2500560" cy="1428840"/>
          </a:xfrm>
          <a:prstGeom prst="cloudCallout">
            <a:avLst>
              <a:gd name="adj1" fmla="val -1199"/>
              <a:gd name="adj2" fmla="val 92143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НА ШИНАХ УЗО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носка-облако 10"/>
          <p:cNvSpPr/>
          <p:nvPr/>
        </p:nvSpPr>
        <p:spPr>
          <a:xfrm>
            <a:off x="5643720" y="0"/>
            <a:ext cx="3500280" cy="1928880"/>
          </a:xfrm>
          <a:prstGeom prst="cloudCallout">
            <a:avLst>
              <a:gd name="adj1" fmla="val -42574"/>
              <a:gd name="adj2" fmla="val 74356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НЕЛЬЗЯ  ПЕРЕБЕГАТЬ  ДОРОГУ  ПЕРЕД БЛИЗКО ИДУЩИМИ МАШИН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носка-облако 11"/>
          <p:cNvSpPr/>
          <p:nvPr/>
        </p:nvSpPr>
        <p:spPr>
          <a:xfrm>
            <a:off x="6000840" y="2643120"/>
            <a:ext cx="3286080" cy="1857600"/>
          </a:xfrm>
          <a:prstGeom prst="cloudCallout">
            <a:avLst>
              <a:gd name="adj1" fmla="val -62763"/>
              <a:gd name="adj2" fmla="val 19592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ОЕ  ЗНАЧЕНИЕ У ЗНАКОВ КРУГЛОЙ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-облако 13"/>
          <p:cNvSpPr/>
          <p:nvPr/>
        </p:nvSpPr>
        <p:spPr>
          <a:xfrm>
            <a:off x="357120" y="357120"/>
            <a:ext cx="2786040" cy="1571760"/>
          </a:xfrm>
          <a:prstGeom prst="cloudCallout">
            <a:avLst>
              <a:gd name="adj1" fmla="val 48458"/>
              <a:gd name="adj2" fmla="val 87425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СВЕТОФОР НАЗЫВАЕТСЯ СВЕТОФ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носка-облако 15"/>
          <p:cNvSpPr/>
          <p:nvPr/>
        </p:nvSpPr>
        <p:spPr>
          <a:xfrm>
            <a:off x="0" y="2143080"/>
            <a:ext cx="3357720" cy="2143080"/>
          </a:xfrm>
          <a:prstGeom prst="cloudCallout">
            <a:avLst>
              <a:gd name="adj1" fmla="val 49402"/>
              <a:gd name="adj2" fmla="val 42537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У АВТОМАШИНЫ ДАЖЕ Д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ОРАЮТСЯ КРАСНЫЕ ОГОНЬ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3286080" y="4786200"/>
            <a:ext cx="2500200" cy="185760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8"/>
          <p:cNvSpPr/>
          <p:nvPr/>
        </p:nvSpPr>
        <p:spPr>
          <a:xfrm>
            <a:off x="5572080" y="4714920"/>
            <a:ext cx="3071880" cy="1928880"/>
          </a:xfrm>
          <a:prstGeom prst="cloudCallout">
            <a:avLst>
              <a:gd name="adj1" fmla="val -38064"/>
              <a:gd name="adj2" fmla="val -78226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ВСЕ АВТОМОБИЛИ ОСНАЩЕНЫ СВЕТОВЫМИ ОГН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носка-облако 14"/>
          <p:cNvSpPr/>
          <p:nvPr/>
        </p:nvSpPr>
        <p:spPr>
          <a:xfrm>
            <a:off x="357120" y="4714920"/>
            <a:ext cx="3429000" cy="1714320"/>
          </a:xfrm>
          <a:prstGeom prst="cloudCallout">
            <a:avLst>
              <a:gd name="adj1" fmla="val 60666"/>
              <a:gd name="adj2" fmla="val -87731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ОБОЗНАЧАЕТ ЗНАК ТРЕУГОЛЬНОЙ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2421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4425840"/>
            <a:ext cx="5054760" cy="243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6800760" y="142920"/>
            <a:ext cx="2130480" cy="1785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5cc"/>
            </a:outerShdw>
          </a:effectLst>
        </p:spPr>
      </p:pic>
      <p:pic>
        <p:nvPicPr>
          <p:cNvPr id="172" name="Содержимое 6" descr=""/>
          <p:cNvPicPr/>
          <p:nvPr/>
        </p:nvPicPr>
        <p:blipFill>
          <a:blip r:embed="rId3"/>
          <a:stretch/>
        </p:blipFill>
        <p:spPr>
          <a:xfrm>
            <a:off x="3292560" y="1504800"/>
            <a:ext cx="514512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600" y="2017800"/>
            <a:ext cx="48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Речевое развит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исание дорожных знаков и элементов доро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ение художественной литературы на тему «Правила дорожные знать каждому положено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накомство с загадками, пословицами и поговор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ческое моделирование (сочинение словесных сказок на основе модел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седы на тему «Как правильно перейти дорогу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643800" y="0"/>
            <a:ext cx="2143080" cy="171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хема 3" descr=""/>
          <p:cNvPicPr/>
          <p:nvPr/>
        </p:nvPicPr>
        <p:blipFill>
          <a:blip r:embed="rId1"/>
          <a:stretch/>
        </p:blipFill>
        <p:spPr>
          <a:xfrm>
            <a:off x="122400" y="2266920"/>
            <a:ext cx="8881920" cy="4213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6929280" y="214200"/>
            <a:ext cx="2071800" cy="1735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27440" y="1928880"/>
            <a:ext cx="34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42960" y="185724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Встреча с инспектором ГИБДД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Консультация «Безопасность на дороге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Выпуск газеты «Дорога и дети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Родительское собрание «Дорога и дети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Анкетирование родителей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формление уголка ПДД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здание маршрута «Дом – детский сад»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29240" y="4929120"/>
            <a:ext cx="23018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педагогам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ультация «Работа по ПДД в детском саду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формление уголков ПД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дение тестов по знаниям ПД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3214800" y="4500720"/>
            <a:ext cx="25002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6840" y="1600200"/>
            <a:ext cx="69008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бновлён уголок ПДД в группе, наглядный материа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Изготовлены атрибуты для сюжетно – ролевой игры «Я – регулировщик», «Автобус»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Разработаны конспекты по теме «Правила дорожные знать каждому положено»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здана картотека дидактических игр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ставлена картотека со стихами и загадками, пословицами и поговорками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тоги реализации проекта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7097760" y="5000760"/>
            <a:ext cx="204624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тоги реализации проекта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15200" y="4572000"/>
            <a:ext cx="2728800" cy="2286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182240" y="2017440"/>
            <a:ext cx="73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формированы  у детей знания правил дорожного движения и навыков безопасного поведения на дороге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оявление интереса у родителей к проблемам ДОУ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Умение организовать сюжетно-ролевые игры на основе имеющихся знаний о правилах дорожного движения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формировано у детей умение составлять небольшие рассказы о дорожной ситуаци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роведена  выставка рисунков и поделок по теме «Я и дорог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формлен фотоальбом «Моя улиц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ктуальность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2920" y="1214280"/>
            <a:ext cx="8715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 мы живем в обществе, где надо соблюдать определенные нормы и правила поведения в дорожно-транспортной обстановке. Зачастую виновниками дорожно-транспортных происшествий являются сами дети, которые играют вблизи дорог, переходят улицу в неположенных местах, неправильно входят в транспортные средства и выходят из них. Приводят к этому элементарное незнание основ правил дорожного движения и безучастное отношение взрослых к поведению детей на проезжей части. У детей отсутствует защитная психологическая реакция на дорожную обстановку, которая свойственна взрослым. Дети ещё не умеют в должной степени управлять своим поведением. Желание постоянно открывать что-то новое, непосредственность часто ставят их перед реальными опасностями в быстро меняющейся дорожной обстановке. Вот почему с самого раннего возраста необходимо учить детей безопасному поведению на улицах, дорогах, в транспорте и правилам дорожного движения. В этом должны принимать участие и родители, и дошкольные учре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72160" y="14292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культуры безопасного поведения на улице у детей следует начинать с ранних лет, они легко усваивают правила и могут избежать опасных ситуаций, сохранить свою жизн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842160" y="0"/>
            <a:ext cx="23018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15200" y="4572000"/>
            <a:ext cx="272880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6840" y="1857240"/>
            <a:ext cx="747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 «Светофор»: обучение детей дошкольного возраста ПДД – Т.И. Данилова – СПб.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ук Л.И. «Защитим детство». – М., 200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аулина Т.Ф. «Три сигнала светофора: ознакомление дошкольников с правилами дорожного движения: для работы с детьми 3-7 лет.» - М.:  Мозаика – синтез,200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школьное воспитание – 1982 -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Детская Дорога Детства»: детское приложение к всероссийскому ежемесячнику «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P 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азета», 2000 – 200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очанов Н.И. -Дорога, ребёнок, безопасность– Ростов- на –Дону,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тинов В. – «Я дружу со светофором»– М., 19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королупова О. Л. – «Правила и безопасность дорожного движения». – М., 2003,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215040" y="4429080"/>
            <a:ext cx="2928960" cy="242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182240" y="2017800"/>
            <a:ext cx="59612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панова С.Н. «Правила дорожного движения дошкольникам». – М.: «Издательство Скрипторий 2003», 200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йорова Ф.С. «Изучаем дорожную азбуку». - М.: «Издательство Скрипторий 2003», 200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detskiysa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.propaganda-bd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festival.1semteber.ru/</a:t>
            </a: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 Фестивал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педагогических идей «Открытый уро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ivalex.vistcom.ru/</a:t>
            </a: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 Все для  д./са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785880" y="242892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риятного просмотр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2857680" y="3571920"/>
            <a:ext cx="27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тивореч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необходимостью формирования культуры безопасного поведения на улице и несоответствием приоритетов семьи целям дошкольного учреж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286680" y="4586400"/>
            <a:ext cx="2500200" cy="209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спорт проекта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68896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 проекта: познавательный, практическ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, родители, педагоги групп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олжительность проекта 1 меся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00880" y="428760"/>
            <a:ext cx="2071800" cy="192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идактическая 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017800"/>
            <a:ext cx="600048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 у детей модели безопасного поведения на дорогах, улице и транспорте, позволяющей  действовать адекватно конкретной реальной дорожной ситу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86560" y="200016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тодические задачи: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072120" y="471492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85480" y="2017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ить представления детей о правилах безопасного поведения на улицах и дорогах города через активные формы познания: рисование, художественно-речевую деятель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формировать умение у детей ориентироваться на улице символическими средствами дорожного движ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ктивизировать пропагандистскую деятельность среди родителей ДОУ по правилам дорожного движения и безопасному поведению на дорог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 детей навыки и умения наблюдения за дорожной обстановкой и предвидения опасных ситуаций, умение обходить и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ть дисциплинированность и сознательное выполнение правил дорожного движения, культуру поведения на улице, отзывчивость, умение оказать помощь друго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428840" y="571680"/>
            <a:ext cx="67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800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357960" y="428760"/>
            <a:ext cx="2500200" cy="2095200"/>
          </a:xfrm>
          <a:prstGeom prst="rect">
            <a:avLst/>
          </a:prstGeom>
          <a:ln w="0">
            <a:noFill/>
          </a:ln>
        </p:spPr>
      </p:pic>
      <p:sp>
        <p:nvSpPr>
          <p:cNvPr id="135" name="Выноска-облако 5"/>
          <p:cNvSpPr/>
          <p:nvPr/>
        </p:nvSpPr>
        <p:spPr>
          <a:xfrm>
            <a:off x="285840" y="1857240"/>
            <a:ext cx="8715240" cy="5000760"/>
          </a:xfrm>
          <a:prstGeom prst="cloudCallout">
            <a:avLst>
              <a:gd name="adj1" fmla="val 25078"/>
              <a:gd name="adj2" fmla="val -6462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сли дети с ранних лет поймут и усвоят правила дорожного движения, они смогут избежать опасных ситуаций и сохранить сво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Скругленная прямоугольная выноска 3"/>
          <p:cNvSpPr/>
          <p:nvPr/>
        </p:nvSpPr>
        <p:spPr>
          <a:xfrm>
            <a:off x="6215040" y="2000160"/>
            <a:ext cx="2786040" cy="1785960"/>
          </a:xfrm>
          <a:prstGeom prst="wedgeRoundRectCallout">
            <a:avLst>
              <a:gd name="adj1" fmla="val -15282"/>
              <a:gd name="adj2" fmla="val -81819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чем надо формировать у детей знания правил дорожного дви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ая прямоугольная выноска 4"/>
          <p:cNvSpPr/>
          <p:nvPr/>
        </p:nvSpPr>
        <p:spPr>
          <a:xfrm>
            <a:off x="0" y="2214720"/>
            <a:ext cx="2928960" cy="1357200"/>
          </a:xfrm>
          <a:prstGeom prst="wedgeRoundRectCallout">
            <a:avLst>
              <a:gd name="adj1" fmla="val 41689"/>
              <a:gd name="adj2" fmla="val -105009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роль выполняют родители в формировании правил поведения на ули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ая прямоугольная выноска 5"/>
          <p:cNvSpPr/>
          <p:nvPr/>
        </p:nvSpPr>
        <p:spPr>
          <a:xfrm>
            <a:off x="3286080" y="2143080"/>
            <a:ext cx="2357640" cy="1357200"/>
          </a:xfrm>
          <a:prstGeom prst="wedgeRoundRectCallout">
            <a:avLst>
              <a:gd name="adj1" fmla="val 28856"/>
              <a:gd name="adj2" fmla="val -91518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ова роль игры в изучении правил дорожного дви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ая прямоугольная выноска 6"/>
          <p:cNvSpPr/>
          <p:nvPr/>
        </p:nvSpPr>
        <p:spPr>
          <a:xfrm>
            <a:off x="5429160" y="4857840"/>
            <a:ext cx="3143520" cy="1500120"/>
          </a:xfrm>
          <a:prstGeom prst="wedgeRoundRectCallout">
            <a:avLst>
              <a:gd name="adj1" fmla="val -54527"/>
              <a:gd name="adj2" fmla="val -123375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опасность может возникнуть на улице, если ребёнок  не умеет правильно оценивать ситуац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7072200" y="142920"/>
            <a:ext cx="1960560" cy="1643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8"/>
          <p:cNvSpPr/>
          <p:nvPr/>
        </p:nvSpPr>
        <p:spPr>
          <a:xfrm>
            <a:off x="500040" y="4714920"/>
            <a:ext cx="4214880" cy="2000160"/>
          </a:xfrm>
          <a:prstGeom prst="wedgeRoundRectCallout">
            <a:avLst>
              <a:gd name="adj1" fmla="val 23699"/>
              <a:gd name="adj2" fmla="val -99185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научить ребёнка полученные «теоретические» знания пропускать через продуктивную деятельность, а затем реализовывать в играх и повседневной жизни детского са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Этапы проведения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5929200" y="4929120"/>
            <a:ext cx="2301840" cy="1928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4280"/>
            <a:ext cx="66866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одготови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Составление календарно – тематического плана по ПД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наглядно-иллюстративного матер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художественной литературы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Изготовление атрибутов для сюжетно-ролевых иг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Создание картотеки дидактических и настольно-печатных иг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Оформление настольного перекрёст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материала для продуктивной деятельности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7:30:32Z</dcterms:created>
  <dc:creator>Admin</dc:creator>
  <dc:description/>
  <dc:language>en-US</dc:language>
  <cp:lastModifiedBy>Admin</cp:lastModifiedBy>
  <dcterms:modified xsi:type="dcterms:W3CDTF">2011-12-06T22:36:11Z</dcterms:modified>
  <cp:revision>138</cp:revision>
  <dc:subject/>
  <dc:title>Слайд 1</dc:title>
</cp:coreProperties>
</file>