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5B9-1FE2-411A-9D7A-1AC93DFF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A03-941D-4515-8FFF-8AC175D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9B1-694B-4099-9B2B-2714E941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E6F-18B8-4B22-8810-F91AFDCC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FFB-FB51-4F16-81F7-56FDD96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47E-C897-4266-A9B6-7E69B39B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5EE-D247-418D-851E-89620F0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8B7-73EC-49C0-A1E8-132A841D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C2F-FB0E-4F03-85ED-9F78D130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DC1-BC00-49B5-9301-203A357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7BF-2978-41B9-A96F-EFEBF1F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FCA-C2FF-423B-B48A-835583A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B52B-D674-4AD9-A190-4240539005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7640" y="1125360"/>
            <a:ext cx="3995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Изготовл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русской народной тряпичной кук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8" descr="фото001"/>
          <p:cNvPicPr/>
          <p:nvPr/>
        </p:nvPicPr>
        <p:blipFill>
          <a:blip r:embed="rId1"/>
          <a:stretch/>
        </p:blipFill>
        <p:spPr>
          <a:xfrm>
            <a:off x="4241880" y="476280"/>
            <a:ext cx="4579920" cy="5905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360" y="47772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Нить плотно накладывают на пучок виток к витку и, не доходя 1 см до противоположной стороны, крепят двойным петельным узлом. Оставшиеся с обеих сторон петли разрезают пополам, пряжу на кончиках распушают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Мартиничка003"/>
          <p:cNvPicPr/>
          <p:nvPr/>
        </p:nvPicPr>
        <p:blipFill>
          <a:blip r:embed="rId1"/>
          <a:stretch/>
        </p:blipFill>
        <p:spPr>
          <a:xfrm>
            <a:off x="973080" y="3933720"/>
            <a:ext cx="7344000" cy="2175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На шаблон по ширине аккуратно и плотно, виток к витку, наматывают 20-25 витков пряжи. Под пряжу по сгибу пропускают нить и завязывают, стягивая намотанные витки. По противоположному сгибу намотанной пряжи нити разрезают. Пряжу снимают с шаблона. Под связанный сгиб закладывают горошину (бусину).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Мартиничка004"/>
          <p:cNvPicPr/>
          <p:nvPr/>
        </p:nvPicPr>
        <p:blipFill>
          <a:blip r:embed="rId1"/>
          <a:stretch/>
        </p:blipFill>
        <p:spPr>
          <a:xfrm>
            <a:off x="3492360" y="2708280"/>
            <a:ext cx="2168640" cy="38545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Горошину равномерно обкладывают пряжей. Чтобы пряжа плотно обтянулась, одной из нитей под горошиной затягивают петельный узел. Для закрепления делают второй петельный узел. Остаток нити укладывают в пучок вместе с остальн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Мартиничка005"/>
          <p:cNvPicPr/>
          <p:nvPr/>
        </p:nvPicPr>
        <p:blipFill>
          <a:blip r:embed="rId1"/>
          <a:stretch/>
        </p:blipFill>
        <p:spPr>
          <a:xfrm>
            <a:off x="3348000" y="2349360"/>
            <a:ext cx="2171880" cy="43084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учок раскладывают на две части. Между прядями пучка укладывают первый пучок, под которым одной из свободных нитей обе разложенные пряди снова стягивают двумя-тремя петельными узлами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Мартиничка006"/>
          <p:cNvPicPr/>
          <p:nvPr/>
        </p:nvPicPr>
        <p:blipFill>
          <a:blip r:embed="rId1"/>
          <a:stretch/>
        </p:blipFill>
        <p:spPr>
          <a:xfrm>
            <a:off x="3132000" y="2565360"/>
            <a:ext cx="2745000" cy="40654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Концы пряжи слегка распушают. Можно изготовить куклу-мальч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Мартиничка008"/>
          <p:cNvPicPr/>
          <p:nvPr/>
        </p:nvPicPr>
        <p:blipFill>
          <a:blip r:embed="rId1"/>
          <a:stretch/>
        </p:blipFill>
        <p:spPr>
          <a:xfrm>
            <a:off x="4643280" y="1916280"/>
            <a:ext cx="3056040" cy="4599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pic>
        <p:nvPicPr>
          <p:cNvPr id="68" name="Picture 5" descr="Мартиничка007"/>
          <p:cNvPicPr/>
          <p:nvPr/>
        </p:nvPicPr>
        <p:blipFill>
          <a:blip r:embed="rId2"/>
          <a:stretch/>
        </p:blipFill>
        <p:spPr>
          <a:xfrm>
            <a:off x="1116000" y="1916280"/>
            <a:ext cx="3029040" cy="46209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Обрядовая свадебная кук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Свадебная кукла017"/>
          <p:cNvPicPr/>
          <p:nvPr/>
        </p:nvPicPr>
        <p:blipFill>
          <a:blip r:embed="rId1"/>
          <a:stretch/>
        </p:blipFill>
        <p:spPr>
          <a:xfrm>
            <a:off x="2556000" y="1125360"/>
            <a:ext cx="4022640" cy="55152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оскут белой ткани размером 6x7 см складывают следующим образом. От краев коротких сторон ткань подгибают к середине и разглаживают. От места сгибов лоскут еще раз подгибают к середине и складывают пополам. Получившуюся многослойную полосу белой ткани складывают вдвое по дли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Свадебная кукла001"/>
          <p:cNvPicPr/>
          <p:nvPr/>
        </p:nvPicPr>
        <p:blipFill>
          <a:blip r:embed="rId1"/>
          <a:stretch/>
        </p:blipFill>
        <p:spPr>
          <a:xfrm>
            <a:off x="3059280" y="2997360"/>
            <a:ext cx="2990520" cy="367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нутрь сложенной пополам полосы ткани вставляют тонкую плоскую щепку (длина 25-30 см, ширина до 1,5 см) так, чтобы она не доходила до места сгиба на 2 см. Ткань тремя-четырьмя витками нити крепят к щепке. На другой конец щепки крепят сложенный так же лоскут белой тк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Свадебная кукла002"/>
          <p:cNvPicPr/>
          <p:nvPr/>
        </p:nvPicPr>
        <p:blipFill>
          <a:blip r:embed="rId1"/>
          <a:stretch/>
        </p:blipFill>
        <p:spPr>
          <a:xfrm>
            <a:off x="2916360" y="2421000"/>
            <a:ext cx="3563640" cy="421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Щепку по всей длине обматывают полосой красной ткани. Сначала, отступив от края щепки, чтобы остался кончик белой ткани примерно 1 см, красную ткань накладывают двумя плотными витками один на один. Затем наматывают по всей длине щепки наискосок, чтобы остался кончик белой ткани примерно 1 см с другой стороны. Последним витком полосу закрепляют. Для этого перед последним витком намотанную полосу удерживают на щепке большим пальцем, а конец ее пропускают под петлей последнего витка и плотно обтягивают. Остаток ленты обрывают. Ленту с обеих сторон щепки дополнительно закрепляют несколькими витками красной нити. Эту деталь называют "рукой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Свадебная кукла003 2"/>
          <p:cNvPicPr/>
          <p:nvPr/>
        </p:nvPicPr>
        <p:blipFill>
          <a:blip r:embed="rId1"/>
          <a:stretch/>
        </p:blipFill>
        <p:spPr>
          <a:xfrm>
            <a:off x="1187280" y="4653000"/>
            <a:ext cx="6696360" cy="17715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Лоскут красной ткани размером 15x30 см дважды складывают от краев длинной стороны к середине. В середине получившейся полосы двумя-тремя оборотами наматывают полосу белой ткани шириной около 5 см. Затем всю полосу скрученной ткани складывают вдвое. Красной нитью сложенную полосу перематывают несколько раз по краю белой тк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Свадебная кукла004"/>
          <p:cNvPicPr/>
          <p:nvPr/>
        </p:nvPicPr>
        <p:blipFill>
          <a:blip r:embed="rId1"/>
          <a:stretch/>
        </p:blipFill>
        <p:spPr>
          <a:xfrm>
            <a:off x="3564000" y="2781360"/>
            <a:ext cx="1913040" cy="39178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Цель – познакомить учащихся с традицион-ной тряпичной куклой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Задачи: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привить интерес и любовь к русской тря-пичной кукле как виду народного художест-венного творчества;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обучить практическим навыкам работы с материалами;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- развить у учащихся творческие способнос-ти, стремление к самостоятельному твор-честву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ложенную таким образом ткань навешивают на "руку" и крепят под ней несколькими витками красной нити. После закрепления эта деталь может двигаться по всей длине "руки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Свадебная кукла005"/>
          <p:cNvPicPr/>
          <p:nvPr/>
        </p:nvPicPr>
        <p:blipFill>
          <a:blip r:embed="rId1"/>
          <a:stretch/>
        </p:blipFill>
        <p:spPr>
          <a:xfrm>
            <a:off x="1403280" y="2421000"/>
            <a:ext cx="6193080" cy="4176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тем полосу стягивают с "руки". На полосу изнаночной стороной наружу двумя-тремя неплотными оборотами наматывают лоскут цветного ситца размером 15x15 см. Край ситца наматывают ниже на 1 см под вторым креплением красной нитью. Ею же там и закрепляют ситец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Свадебная кукла006"/>
          <p:cNvPicPr/>
          <p:nvPr/>
        </p:nvPicPr>
        <p:blipFill>
          <a:blip r:embed="rId1"/>
          <a:stretch/>
        </p:blipFill>
        <p:spPr>
          <a:xfrm>
            <a:off x="3132000" y="2492280"/>
            <a:ext cx="2463840" cy="4186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огда нить завязана, цветной ситец выворачивают на лицевую сторону и расправляют. Получается заготовка для куклы Невесты, которую вновь надевают на "руку". Лицевая сторона куклы будет находиться там, где нет разъ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Свадебная кукла007"/>
          <p:cNvPicPr/>
          <p:nvPr/>
        </p:nvPicPr>
        <p:blipFill>
          <a:blip r:embed="rId1"/>
          <a:stretch/>
        </p:blipFill>
        <p:spPr>
          <a:xfrm>
            <a:off x="1906560" y="2421000"/>
            <a:ext cx="5473800" cy="41641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з двух цветных нитей вьют поясок. Свитым пояском с лицевой стороны куклы подвязывают небольшой (3x5 см) передник из лоскута отличающейся по цвету ткани. Для этого лоскут подвязывают с изнаночной стороны, а затем переворачивают на лицевую сторону и два раза оборачивают пояском. Узел пояска крепят на лицевой стор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Свадебная кукла008"/>
          <p:cNvPicPr/>
          <p:nvPr/>
        </p:nvPicPr>
        <p:blipFill>
          <a:blip r:embed="rId1"/>
          <a:stretch/>
        </p:blipFill>
        <p:spPr>
          <a:xfrm>
            <a:off x="2052720" y="2836800"/>
            <a:ext cx="5040360" cy="3760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0920" y="33336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 голове куклы сначала повязывают, как повойник, тонкую полоску красной ткани. Затем сложенный пополам по диагонали лоскут цветного ситца размером 10x10 см подвязывают, как платок, с узлом под подбород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Свадебная кукла009"/>
          <p:cNvPicPr/>
          <p:nvPr/>
        </p:nvPicPr>
        <p:blipFill>
          <a:blip r:embed="rId1"/>
          <a:stretch/>
        </p:blipFill>
        <p:spPr>
          <a:xfrm>
            <a:off x="2124000" y="2773440"/>
            <a:ext cx="5184720" cy="38685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уклу Жениха изготавливают по такой же технологии из лоскута красной ткани размером 15x50 см. Лоскут дважды складывают от краев длинной стороны к середине, а затем вдвое. В середине наматывают лоскут белой ткани, обозначающий голову. Перегнув полосу пополам, по краю белой ткани плотно наматывают красную нить. Навесив на деталь "руки", чуть сдвинув концы красной полосы в стороны, чтобы они образовали букву "Л", заготовку снова перетягивают ни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Свадебная кукла010"/>
          <p:cNvPicPr/>
          <p:nvPr/>
        </p:nvPicPr>
        <p:blipFill>
          <a:blip r:embed="rId1"/>
          <a:stretch/>
        </p:blipFill>
        <p:spPr>
          <a:xfrm>
            <a:off x="2511360" y="3500280"/>
            <a:ext cx="4005360" cy="31816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янув с детали "руки" заготовку, на концах полосы изготавливают сапоги. Для этого лоскут черной ткани размером 15x6 см от краев короткой стороны дважды складывают к середине и вдвое. Получившуюся полоску перегибают пополам и накладывают с двух сторон на конец красной полосы. Черный лоскут плотно, виток к витку, обматывают нитью по направлению к краю. Кончик черного лоскута (примерно 1 см) подгибают под прямым углом и также закрепляют нитью. Из второго лоскута изготавливают второй сапо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Свадебная кукла011"/>
          <p:cNvPicPr/>
          <p:nvPr/>
        </p:nvPicPr>
        <p:blipFill>
          <a:blip r:embed="rId1"/>
          <a:stretch/>
        </p:blipFill>
        <p:spPr>
          <a:xfrm>
            <a:off x="3419640" y="3860640"/>
            <a:ext cx="1892160" cy="2826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осками сапог определяется лицевая сторона куклы. Куклу Жениха навешивают на "руку" лицевой стороной слева от куклы Невес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Свадебная кукла012"/>
          <p:cNvPicPr/>
          <p:nvPr/>
        </p:nvPicPr>
        <p:blipFill>
          <a:blip r:embed="rId1"/>
          <a:stretch/>
        </p:blipFill>
        <p:spPr>
          <a:xfrm>
            <a:off x="2195640" y="2637000"/>
            <a:ext cx="4968720" cy="3906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убаху для куклы Жениха изготавливают из цветного ситцевого лоскута размером 5x14 см. Лоскут складывают вдвое по длинной стороне. По сгибу в центре делают разрез примерно 1,5 см. Ситец раскладывают и делают еще один разрез около 1,5 см от края первого разреза к короткому краю ситц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Свадебная кукла013"/>
          <p:cNvPicPr/>
          <p:nvPr/>
        </p:nvPicPr>
        <p:blipFill>
          <a:blip r:embed="rId1"/>
          <a:stretch/>
        </p:blipFill>
        <p:spPr>
          <a:xfrm>
            <a:off x="1762200" y="3639960"/>
            <a:ext cx="5689440" cy="295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итец складывают пополам и надевают через голову куклы косым разрезом на лицевую сторону. Рубаху расправляют: сначала края изнаночной стороны подгибают на лицевую сторону, потом на них накладывают края лицевой стороны. Расправленную рубаху крепят двумя-тремя витками цветного пояска из скрученных ниток. Узел пояска крепят сбоку на лицевой сторо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Свадебная кукла014"/>
          <p:cNvPicPr/>
          <p:nvPr/>
        </p:nvPicPr>
        <p:blipFill>
          <a:blip r:embed="rId1"/>
          <a:stretch/>
        </p:blipFill>
        <p:spPr>
          <a:xfrm>
            <a:off x="2411280" y="3427560"/>
            <a:ext cx="4032360" cy="3189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Рождественский анг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Ангел фото 1"/>
          <p:cNvPicPr/>
          <p:nvPr/>
        </p:nvPicPr>
        <p:blipFill>
          <a:blip r:embed="rId1"/>
          <a:stretch/>
        </p:blipFill>
        <p:spPr>
          <a:xfrm>
            <a:off x="2268360" y="1211400"/>
            <a:ext cx="4608720" cy="5386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0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а последнем этапе мастерят волосы для куклы Жениха. Для этого наматывают нитки на три пальца руки. В середине моток связывают, а по краям разрезают. Получившуюся прядь волос крепят под картуз — небольшой лоскут, закрепленный в верхней части головы плотными витками ни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 кукол получается одна общая рука, чтобы муж и жена шли по жизни рука об руку, были вместе в радости и в беде. Куклы можно свободно двигать по "руке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Свадебная кукла015"/>
          <p:cNvPicPr/>
          <p:nvPr/>
        </p:nvPicPr>
        <p:blipFill>
          <a:blip r:embed="rId1"/>
          <a:stretch/>
        </p:blipFill>
        <p:spPr>
          <a:xfrm>
            <a:off x="2556000" y="3578400"/>
            <a:ext cx="4032000" cy="3100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920" y="47628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прощённый вариант изготовления свадебной куклы из лоскутов тк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Свадебная кукла016"/>
          <p:cNvPicPr/>
          <p:nvPr/>
        </p:nvPicPr>
        <p:blipFill>
          <a:blip r:embed="rId1"/>
          <a:stretch/>
        </p:blipFill>
        <p:spPr>
          <a:xfrm>
            <a:off x="2122560" y="2565360"/>
            <a:ext cx="5041800" cy="386100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920" y="475920"/>
            <a:ext cx="8640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брядовая свадебная кукла с дет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Свадебная кукла018"/>
          <p:cNvPicPr/>
          <p:nvPr/>
        </p:nvPicPr>
        <p:blipFill>
          <a:blip r:embed="rId1"/>
          <a:stretch/>
        </p:blipFill>
        <p:spPr>
          <a:xfrm>
            <a:off x="2556000" y="1557360"/>
            <a:ext cx="4011480" cy="42480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Rage Italic"/>
              </a:rPr>
              <a:t>Спасибо </a:t>
            </a:r>
            <a:br>
              <a:rPr sz="7200"/>
            </a:br>
            <a:r>
              <a:rPr b="1" i="1" lang="ru-RU" sz="7200" spc="-1" strike="noStrike">
                <a:solidFill>
                  <a:srgbClr val="ffff00"/>
                </a:solidFill>
                <a:latin typeface="Rage Italic"/>
              </a:rPr>
              <a:t>за внимание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Куклу делают из простого лоскута белой ткани размером 15x15 см без помощи иглы, только перевязывая лоскут ни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ачала лоскут перегибают по диагонали попо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Затем в центр его закладывают комок пакли или спутанных ниток. Комок обтягивают в центре лоску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и закрепляют ни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Ангел001"/>
          <p:cNvPicPr/>
          <p:nvPr/>
        </p:nvPicPr>
        <p:blipFill>
          <a:blip r:embed="rId1"/>
          <a:stretch/>
        </p:blipFill>
        <p:spPr>
          <a:xfrm>
            <a:off x="2698920" y="3154320"/>
            <a:ext cx="3528720" cy="35290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Расправив в стороны два противоположных края лоскута, сложенных по диагонали, другие два противоположных края расправляют вниз. Белой нитью или узкой светлой тесьмой сложенный лоскут перетягивают посередине, накладывая пояс, а затем от пояса через грудь куклы — крест-накре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Ангел002"/>
          <p:cNvPicPr/>
          <p:nvPr/>
        </p:nvPicPr>
        <p:blipFill>
          <a:blip r:embed="rId1"/>
          <a:stretch/>
        </p:blipFill>
        <p:spPr>
          <a:xfrm>
            <a:off x="2987640" y="3103560"/>
            <a:ext cx="3456000" cy="334980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05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оковые края лоскута расправляют крыльями, а на голову куклы повязывают ленту или тесь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Ангел003"/>
          <p:cNvPicPr/>
          <p:nvPr/>
        </p:nvPicPr>
        <p:blipFill>
          <a:blip r:embed="rId1"/>
          <a:stretch/>
        </p:blipFill>
        <p:spPr>
          <a:xfrm>
            <a:off x="2987640" y="2781360"/>
            <a:ext cx="3263760" cy="33512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770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артинич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Мартиничка фото 1"/>
          <p:cNvPicPr/>
          <p:nvPr/>
        </p:nvPicPr>
        <p:blipFill>
          <a:blip r:embed="rId1"/>
          <a:stretch/>
        </p:blipFill>
        <p:spPr>
          <a:xfrm>
            <a:off x="2689200" y="1125360"/>
            <a:ext cx="3754440" cy="54547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Куклу вяжут из обрывков разноцветных шерстяных нитей, используя картон для подготовительных операций и целую сухую горошину в качестве основы. Сегодня шерстяную пряжу можно заменить нитками "ирис", мулине и им подобными. Размер куклы зависит от размера шаблона, на который наматывают заготовку. Для шаблона берут небольшой кусок плотного картона длиной примерно 20 см и шириной до 10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шаблон по ширине наматывают 3-4 витка пряжи. Оставшимся длинным концом, пропущенным под пряжу по сгибу, делают стягивающий петельный узел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Мартиничка001"/>
          <p:cNvPicPr/>
          <p:nvPr/>
        </p:nvPicPr>
        <p:blipFill>
          <a:blip r:embed="rId1"/>
          <a:stretch/>
        </p:blipFill>
        <p:spPr>
          <a:xfrm>
            <a:off x="3276720" y="3068640"/>
            <a:ext cx="2784240" cy="36734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640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яжу через край стягивают с шаблона. Оставшимся концом пряжи, отступив 1 см от узла, делают двойной петельный узел, стягивающий весь пучок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Мартиничка002"/>
          <p:cNvPicPr/>
          <p:nvPr/>
        </p:nvPicPr>
        <p:blipFill>
          <a:blip r:embed="rId1"/>
          <a:stretch/>
        </p:blipFill>
        <p:spPr>
          <a:xfrm>
            <a:off x="3348000" y="2781360"/>
            <a:ext cx="2638440" cy="3887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9:39Z</dcterms:created>
  <dc:creator>Андрей</dc:creator>
  <dc:description/>
  <dc:language>en-US</dc:language>
  <cp:lastModifiedBy>Татьяна</cp:lastModifiedBy>
  <dcterms:modified xsi:type="dcterms:W3CDTF">2011-12-07T09:14:46Z</dcterms:modified>
  <cp:revision>353</cp:revision>
  <dc:subject/>
  <dc:title>Слайд 1</dc:title>
</cp:coreProperties>
</file>