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19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E27-71FC-4420-A6C5-B973AE96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BD-F74F-4906-A0C3-5004E05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ACE-5CE3-4EE3-9FFF-D6285EED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C33-2BA1-4DED-B272-4498B21E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5227E-A912-412C-B9A4-2AFD97A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85F6-DECB-4540-9B81-2D5151D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83B5-6138-4F60-BA79-9A50AD47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EDF0D-D11B-402C-90AB-E16EA2C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0A9F-0386-456D-B977-E5F0986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D3934-E3F6-4555-A429-5DB54F2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508C-B38C-4F75-BEFA-4CB1AA9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686-A1B5-47AC-9F04-C6AAD675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DFB15-C80C-4B7A-8269-283DB90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F008D-ADB0-45EA-9763-D205F53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FEE9-932C-4516-AFD5-A60D1E5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8771-F896-4819-8035-388EA71D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7B4E-E3C9-4409-80BF-4B886748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C1D7-B6C6-472C-9CFD-209A0D61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8010-552E-49ED-9BA0-48AD176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A4E0-3779-4163-9887-B6EA4EA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69CF-D5DE-4C81-BAB3-6E29CDF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0B58-2915-47BE-823C-EF2B1AD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6B6-A093-4EEA-9A3C-37E1701E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CBE3-D5FF-4F2C-A224-3E95AC6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AA78-1C0B-48E2-8418-5E96AD67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4CDA-D245-40BC-A750-20BB080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6673-9E7F-4243-9532-807857D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254B-4AD9-4BC8-AABD-B7A743A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54D2-61C1-405B-B4E8-785CB5ED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9A90-B22A-4FA3-B889-94307C0D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02118-72A9-48C2-8198-D9D7CA3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0AE22-C8A8-44B3-9857-94F710E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10DA3-0566-4256-BFCF-C38B29D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399-75DB-4D61-B7FB-2BD75A67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D7C2E-053C-469C-B0FC-F0D4DD8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A44F6-3AB7-4FB3-AAFB-F6C6F6E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81EC0-A158-4B9E-A836-7C0BC420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D2DE7-336B-473A-A375-7EF0299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43136-0D3C-4E11-869F-E35EDB4F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59319-DB1D-446D-BB4A-A292398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E4EA8-BF58-4D0B-86C3-B544092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16768-92F0-4A92-9E4C-6BBD375A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9B191-EBCA-42AE-95E9-B2B89CF9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526-BB6D-446A-A10E-040E38F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6F5-4C9A-45EA-9E35-D6D07F24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EA5-CBFB-4250-84F3-F45CA66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055-B3D1-4F39-BC51-81CA71E2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D65-6674-442F-BA4E-AF2679F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E37-8724-4B72-B038-1E2A736CE0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8AF5-418C-44A5-B32A-56B915BD0BC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5D2-ECC5-4360-B730-32D089CB05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32F-E589-478E-8C0F-AE88D35251E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ktopridumal.ru/" TargetMode="External"/><Relationship Id="rId3" Type="http://schemas.openxmlformats.org/officeDocument/2006/relationships/hyperlink" Target="http://www.librero.ru/article/pott/buu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3217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Кусочек бересты разделим на тонкие сло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F:\проект\проектУльяны\рисунки\SDC12510.JPG"/>
          <p:cNvPicPr/>
          <p:nvPr/>
        </p:nvPicPr>
        <p:blipFill>
          <a:blip r:embed="rId2"/>
          <a:stretch/>
        </p:blipFill>
        <p:spPr>
          <a:xfrm>
            <a:off x="1285920" y="2309760"/>
            <a:ext cx="5786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дин слой очистим от мелких час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0" name="Picture 2" descr="F:\проект\проектУльяны\рисунки\SDC12511.JPG"/>
          <p:cNvPicPr/>
          <p:nvPr/>
        </p:nvPicPr>
        <p:blipFill>
          <a:blip r:embed="rId1"/>
          <a:stretch/>
        </p:blipFill>
        <p:spPr>
          <a:xfrm>
            <a:off x="1325520" y="2232000"/>
            <a:ext cx="5461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Пробуем писать буквы славянского алфав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Picture 2" descr="F:\проект\проектУльяны\рисунки\SDC12512.JPG"/>
          <p:cNvPicPr/>
          <p:nvPr/>
        </p:nvPicPr>
        <p:blipFill>
          <a:blip r:embed="rId1"/>
          <a:stretch/>
        </p:blipFill>
        <p:spPr>
          <a:xfrm>
            <a:off x="1515960" y="2065320"/>
            <a:ext cx="56278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6" name="Picture 2" descr="F:\проект\проектУльяны\рисунки\SDC12513.JPG"/>
          <p:cNvPicPr/>
          <p:nvPr/>
        </p:nvPicPr>
        <p:blipFill>
          <a:blip r:embed="rId1"/>
          <a:stretch/>
        </p:blipFill>
        <p:spPr>
          <a:xfrm>
            <a:off x="1706400" y="2065320"/>
            <a:ext cx="572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равнению с глиняной табличкой береста более удобный материал, но заготовка коры берёзы требует сноров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еверно написанных символов невозмож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13840" y="1523520"/>
            <a:ext cx="85726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древней Греции, Риме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юди писали на деревянн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щечках, покрытых воск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лочки, которыми процарапывал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к, были с одной стороны заострены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с другой стороны имели закругл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виде лопатки, с помощью не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но было стереть написанно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е дощечки можно было связать шнурком, продетым в отверстия, которые просверливались  заранее. Таким образом, данные дощечки можно считать первыми книг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F:\проект\проектУльяны\рисунки\восктаб.jpg"/>
          <p:cNvPicPr/>
          <p:nvPr/>
        </p:nvPicPr>
        <p:blipFill>
          <a:blip r:embed="rId2"/>
          <a:stretch/>
        </p:blipFill>
        <p:spPr>
          <a:xfrm>
            <a:off x="5929200" y="1143000"/>
            <a:ext cx="300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Подготовим деревянную дощечку с борти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G:\проект\проектУльяны\рисунки\SDC12519.JPG"/>
          <p:cNvPicPr/>
          <p:nvPr/>
        </p:nvPicPr>
        <p:blipFill>
          <a:blip r:embed="rId2"/>
          <a:stretch/>
        </p:blipFill>
        <p:spPr>
          <a:xfrm>
            <a:off x="1357200" y="2357280"/>
            <a:ext cx="54482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712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Расплавим на плите восковые свечи и выльем на подготовленную досоч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7" name="Picture 2" descr="G:\проект\проектУльяны\рисунки\SDC12516.JPG"/>
          <p:cNvPicPr/>
          <p:nvPr/>
        </p:nvPicPr>
        <p:blipFill>
          <a:blip r:embed="rId1"/>
          <a:stretch/>
        </p:blipFill>
        <p:spPr>
          <a:xfrm>
            <a:off x="0" y="1714680"/>
            <a:ext cx="4210200" cy="31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G:\проект\проектУльяны\рисунки\SDC12520.JPG"/>
          <p:cNvPicPr/>
          <p:nvPr/>
        </p:nvPicPr>
        <p:blipFill>
          <a:blip r:embed="rId2"/>
          <a:stretch/>
        </p:blipFill>
        <p:spPr>
          <a:xfrm>
            <a:off x="4267080" y="27147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После застывания воска наносим иероглиф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1" name="Picture 2" descr="G:\проект\проектУльяны\рисунки\SDC12521.JPG"/>
          <p:cNvPicPr/>
          <p:nvPr/>
        </p:nvPicPr>
        <p:blipFill>
          <a:blip r:embed="rId1"/>
          <a:stretch/>
        </p:blipFill>
        <p:spPr>
          <a:xfrm>
            <a:off x="142920" y="2071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G:\проект\проектУльяны\рисунки\SDC12522.JPG"/>
          <p:cNvPicPr/>
          <p:nvPr/>
        </p:nvPicPr>
        <p:blipFill>
          <a:blip r:embed="rId2"/>
          <a:stretch/>
        </p:blipFill>
        <p:spPr>
          <a:xfrm>
            <a:off x="4714920" y="3571920"/>
            <a:ext cx="388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5" name="Picture 3" descr="G:\проект\проектУльяны\рисунки\SDC12523.JPG"/>
          <p:cNvPicPr/>
          <p:nvPr/>
        </p:nvPicPr>
        <p:blipFill>
          <a:blip r:embed="rId1"/>
          <a:stretch/>
        </p:blipFill>
        <p:spPr>
          <a:xfrm>
            <a:off x="1785960" y="22147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бумаги было много предшественников. Камень и глина, дерево и береста, папирус и пергамент – все они служили человеку материалом для письма. Но каждый из них был не вполне пригоден для этого. Одни материалы были тяжелыми, другие – хрупкими, третьи – дороги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спользование такого материала для письма, как восковые дощечки неудобно тем, что, изготовленные таким способом книги будут очень тяжелы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исать на воске очень легко и удобно, палочка движется как по твёрдому масл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78596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мага действительно величайшее изобретение человека. Ни один из опробованных мною материалов для письма не может её замени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78596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льин М., Сегал Е. Откуда приходят вещи – М.: Мысль, 1975. – 185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умага [Электронный ресурс] // История изобретений – Режим доступа: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ktopridumal.ru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История бумаги [Электронный ресурс] // Электронная библиотека – Режим доступа: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http://www.librero.ru/article/pott/buu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 Новосад Е. Знаете ли вы историю бумаги? [Электронный ресурс] // Интернет-журнал вопросов и ответов «Школа жизни. ру» – Режим доступа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-360" y="1523520"/>
            <a:ext cx="64292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ним из предшественник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умаги были глиняные таблички.  Люди догадались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 можно наносить рисунк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ие то знаки на мокрой глин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ину замешивали, оставляли 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которое время для закиса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этого можно было изготавливать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бличку и наносить на неё информаци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ревние люди сушили таблички на солнц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ли обжигали на огне. Такие табличк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но было посылать на далёкие расстоя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нако они были очень тяжелым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их изготовление занимало много времени.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:\проект\проектУльяны\рисунки\глинтаб.jpg"/>
          <p:cNvPicPr/>
          <p:nvPr/>
        </p:nvPicPr>
        <p:blipFill>
          <a:blip r:embed="rId2"/>
          <a:stretch/>
        </p:blipFill>
        <p:spPr>
          <a:xfrm>
            <a:off x="5365800" y="2357280"/>
            <a:ext cx="3735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Замешиваем глину в большой ёмк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:\проект\проектУльяны\рисунки\SDC12482.JPG"/>
          <p:cNvPicPr/>
          <p:nvPr/>
        </p:nvPicPr>
        <p:blipFill>
          <a:blip r:embed="rId2"/>
          <a:stretch/>
        </p:blipFill>
        <p:spPr>
          <a:xfrm>
            <a:off x="214200" y="2071800"/>
            <a:ext cx="4210200" cy="315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G:\проект\проектУльяны\рисунки\SDC12483.JPG"/>
          <p:cNvPicPr/>
          <p:nvPr/>
        </p:nvPicPr>
        <p:blipFill>
          <a:blip r:embed="rId3"/>
          <a:stretch/>
        </p:blipFill>
        <p:spPr>
          <a:xfrm>
            <a:off x="4643280" y="3500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Выкладываем получившуюся массу и разравнивае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Picture 6" descr="F:\проект\проектУльяны\рисунки\SDC12485.JPG"/>
          <p:cNvPicPr/>
          <p:nvPr/>
        </p:nvPicPr>
        <p:blipFill>
          <a:blip r:embed="rId1"/>
          <a:stretch/>
        </p:blipFill>
        <p:spPr>
          <a:xfrm>
            <a:off x="2058840" y="2071800"/>
            <a:ext cx="4765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На следующий день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егка смочив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рхность пишем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ероглиф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6" descr="F:\проект\проектУльяны\рисунки\SDC12490.JPG"/>
          <p:cNvPicPr/>
          <p:nvPr/>
        </p:nvPicPr>
        <p:blipFill>
          <a:blip r:embed="rId1"/>
          <a:stretch/>
        </p:blipFill>
        <p:spPr>
          <a:xfrm>
            <a:off x="4429080" y="1571760"/>
            <a:ext cx="3543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2151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готовление глиняной таблички очень трудоёмкий процесс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хранить большой объём информации на них невозмож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7840" y="1428840"/>
            <a:ext cx="38289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Руси самы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пространённы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риалом для письм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ыла береста. Это определённы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и коры берёзы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сок бересты с выцарапанным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наками назывался берестяной грамотой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F:\проект\проектУльяны\рисунки\берастян-грам.jpg"/>
          <p:cNvPicPr/>
          <p:nvPr/>
        </p:nvPicPr>
        <p:blipFill>
          <a:blip r:embed="rId2"/>
          <a:stretch/>
        </p:blipFill>
        <p:spPr>
          <a:xfrm>
            <a:off x="428760" y="1785960"/>
            <a:ext cx="3111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8:05:14Z</dcterms:created>
  <dc:creator>Admin</dc:creator>
  <dc:description/>
  <dc:language>en-US</dc:language>
  <cp:lastModifiedBy>user</cp:lastModifiedBy>
  <dcterms:modified xsi:type="dcterms:W3CDTF">2011-12-02T16:08:45Z</dcterms:modified>
  <cp:revision>31</cp:revision>
  <dc:subject/>
  <dc:title>Бумага – величайшее изобретение  человека или обычный материал?</dc:title>
</cp:coreProperties>
</file>