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19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704-FBA6-42DF-9FED-A306847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D80-ACF6-4B1B-A266-55C4E7E6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2D1-6B94-4324-85AE-5FE3E73C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27E-927F-4867-ABF5-E073FE31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C5302-E021-4732-AA66-BA3D92B2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E553B-A3E7-4C38-BAE0-6A99FD9E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9B648-797F-4CB1-9891-B8F363C9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360AC-6D8D-47F1-9C11-7883AEE6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796FC-BD4E-402D-B510-B06F508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6A039-4641-42D0-A1AA-06D4C270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F606D-A1E9-4F84-8766-96B076C9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E91-1759-4D36-B400-1BEA1514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16A55-167B-4725-8754-CE7E53B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CD8A-C163-4B65-BE85-CD51B85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75EA2-D064-4FF9-A929-5BDA1A43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295BD-41CE-4577-A1ED-7A3FACFA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88CAB-F6FE-4A8E-B396-F1A35D6E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EFDC-2CF4-4FA7-9194-EE4EDA80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3BE5-BDE0-44BD-979C-0E8C579D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6F62-47FE-4198-BDCD-8369242A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0BB4-CB8A-4A2D-B700-1AEE1DC1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3886-2C06-4878-B897-77156561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DDE-C6EE-435D-99A7-BB8114A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1BFF-FBC0-44D1-9C57-1DA32C34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346C-FE0A-4E5C-8B67-2D47F04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0A0D-C8EA-4A32-9092-A32A49DF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5802-781C-45B3-981E-284D9A4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366E-63F6-46F5-9D6C-03A95D72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0CED-4AD4-4710-99D8-0D42D1F5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6A5D-0040-4A58-A7F4-9B2EF9F8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B8370-4EBF-4482-A92D-3C5DFE6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C0AD5-24EE-489A-BAD6-02A21A0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CA897-F8C5-4386-8939-4ABD0C9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613-70FE-4754-88AF-1AE41D0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413E3-0C2B-4B67-B752-2F263E8E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5D6F2-C4DB-421C-A1CF-C19AD13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DC2C8-559B-4454-935C-9B3A786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79F9B-01F9-4DB6-879F-EB533701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2533F-42DF-4215-810A-507AD986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43B1A-0E9A-4778-B015-5565C61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E8208-890A-4CCC-9774-1292E06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2CA9F-733A-46ED-A611-C17DC68F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AC1E6-667B-4B9D-82D9-3CB05D77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AB6-4E77-421C-9D89-D242B2B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20B-163E-4949-8DFB-FD01B3F4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4A8-C350-45CF-A5AF-E174F8B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80B-FE01-43A8-9E36-AAB1C6B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FC4-D46A-49C7-96C7-CC3C8BF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2B6-6302-4BC3-85F3-7D5591B4180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C4D8-BC5A-4517-9138-2B6F9FB164C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EB08-4C98-4AF0-9E2B-B1828739C58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2289-AA2B-4F46-93AF-2B556FDB6A5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ktopridumal.ru/" TargetMode="External"/><Relationship Id="rId3" Type="http://schemas.openxmlformats.org/officeDocument/2006/relationships/hyperlink" Target="http://www.librero.ru/article/pott/buu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3217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Кусочек бересты разделим на тонкие сло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F:\проект\проектУльяны\рисунки\SDC12510.JPG"/>
          <p:cNvPicPr/>
          <p:nvPr/>
        </p:nvPicPr>
        <p:blipFill>
          <a:blip r:embed="rId2"/>
          <a:stretch/>
        </p:blipFill>
        <p:spPr>
          <a:xfrm>
            <a:off x="1285920" y="2309760"/>
            <a:ext cx="57862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Один слой очистим от мелких част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0" name="Picture 2" descr="F:\проект\проектУльяны\рисунки\SDC12511.JPG"/>
          <p:cNvPicPr/>
          <p:nvPr/>
        </p:nvPicPr>
        <p:blipFill>
          <a:blip r:embed="rId1"/>
          <a:stretch/>
        </p:blipFill>
        <p:spPr>
          <a:xfrm>
            <a:off x="1325520" y="2232000"/>
            <a:ext cx="5461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71388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Пробуем писать буквы славянского алфав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Picture 2" descr="F:\проект\проектУльяны\рисунки\SDC12512.JPG"/>
          <p:cNvPicPr/>
          <p:nvPr/>
        </p:nvPicPr>
        <p:blipFill>
          <a:blip r:embed="rId1"/>
          <a:stretch/>
        </p:blipFill>
        <p:spPr>
          <a:xfrm>
            <a:off x="1515960" y="2065320"/>
            <a:ext cx="56278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зульт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6" name="Picture 2" descr="F:\проект\проектУльяны\рисунки\SDC12513.JPG"/>
          <p:cNvPicPr/>
          <p:nvPr/>
        </p:nvPicPr>
        <p:blipFill>
          <a:blip r:embed="rId1"/>
          <a:stretch/>
        </p:blipFill>
        <p:spPr>
          <a:xfrm>
            <a:off x="1706400" y="2065320"/>
            <a:ext cx="572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сравнению с глиняной табличкой береста более удобный материал, но заготовка коры берёзы требует сноров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даление неверно написанных символов невозмож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13840" y="1523520"/>
            <a:ext cx="85726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древней Греции, Риме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юди писали на деревянн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щечках, покрытых воск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лочки, которыми процарапывал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к, были с одной стороны заострены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с другой стороны имели закругл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виде лопатки, с помощью нег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но было стереть написанно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ве дощечки можно было связать шнурком, продетым в отверстия, которые просверливались  заранее. Таким образом, данные дощечки можно считать первыми книг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F:\проект\проектУльяны\рисунки\восктаб.jpg"/>
          <p:cNvPicPr/>
          <p:nvPr/>
        </p:nvPicPr>
        <p:blipFill>
          <a:blip r:embed="rId2"/>
          <a:stretch/>
        </p:blipFill>
        <p:spPr>
          <a:xfrm>
            <a:off x="5929200" y="1143000"/>
            <a:ext cx="300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Подготовим деревянную дощечку с борти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G:\проект\проектУльяны\рисунки\SDC12519.JPG"/>
          <p:cNvPicPr/>
          <p:nvPr/>
        </p:nvPicPr>
        <p:blipFill>
          <a:blip r:embed="rId2"/>
          <a:stretch/>
        </p:blipFill>
        <p:spPr>
          <a:xfrm>
            <a:off x="1357200" y="2357280"/>
            <a:ext cx="54482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7120" y="7855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Расплавим на плите восковые свечи и выльем на подготовленную досоч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7" name="Picture 2" descr="G:\проект\проектУльяны\рисунки\SDC12516.JPG"/>
          <p:cNvPicPr/>
          <p:nvPr/>
        </p:nvPicPr>
        <p:blipFill>
          <a:blip r:embed="rId1"/>
          <a:stretch/>
        </p:blipFill>
        <p:spPr>
          <a:xfrm>
            <a:off x="0" y="1714680"/>
            <a:ext cx="4210200" cy="31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G:\проект\проектУльяны\рисунки\SDC12520.JPG"/>
          <p:cNvPicPr/>
          <p:nvPr/>
        </p:nvPicPr>
        <p:blipFill>
          <a:blip r:embed="rId2"/>
          <a:stretch/>
        </p:blipFill>
        <p:spPr>
          <a:xfrm>
            <a:off x="4267080" y="271476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После застывания воска наносим иероглиф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1" name="Picture 2" descr="G:\проект\проектУльяны\рисунки\SDC12521.JPG"/>
          <p:cNvPicPr/>
          <p:nvPr/>
        </p:nvPicPr>
        <p:blipFill>
          <a:blip r:embed="rId1"/>
          <a:stretch/>
        </p:blipFill>
        <p:spPr>
          <a:xfrm>
            <a:off x="142920" y="2071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G:\проект\проектУльяны\рисунки\SDC12522.JPG"/>
          <p:cNvPicPr/>
          <p:nvPr/>
        </p:nvPicPr>
        <p:blipFill>
          <a:blip r:embed="rId2"/>
          <a:stretch/>
        </p:blipFill>
        <p:spPr>
          <a:xfrm>
            <a:off x="4714920" y="3571920"/>
            <a:ext cx="388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зульт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25" name="Picture 3" descr="G:\проект\проектУльяны\рисунки\SDC12523.JPG"/>
          <p:cNvPicPr/>
          <p:nvPr/>
        </p:nvPicPr>
        <p:blipFill>
          <a:blip r:embed="rId1"/>
          <a:stretch/>
        </p:blipFill>
        <p:spPr>
          <a:xfrm>
            <a:off x="1785960" y="22147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бумаги было много предшественников. Камень и глина, дерево и береста, папирус и пергамент – все они служили человеку материалом для письма. Но каждый из них был не вполне пригоден для этого. Одни материалы были тяжелыми, другие – хрупкими, третьи – дороги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Использование такого материала для письма, как восковые дощечки неудобно тем, что, изготовленные таким способом книги будут очень тяжелым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исать на воске очень легко и удобно, палочка движется как по твёрдому масл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785960"/>
            <a:ext cx="9144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мага действительно величайшее изобретение человека. Ни один из опробованных мною материалов для письма не может её замени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785960"/>
            <a:ext cx="91440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льин М., Сегал Е. Откуда приходят вещи – М.: Мысль, 1975. – 185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умага [Электронный ресурс] // История изобретений – Режим доступа: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ktopridumal.ru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История бумаги [Электронный ресурс] // Электронная библиотека – Режим доступа: </a:t>
            </a:r>
            <a:r>
              <a:rPr b="0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http://www.librero.ru/article/pott/buu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 Новосад Е. Знаете ли вы историю бумаги? [Электронный ресурс] // Интернет-журнал вопросов и ответов «Школа жизни. ру» – Режим доступа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-360" y="1523520"/>
            <a:ext cx="64292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дним из предшественник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умаги были глиняные таблички.  Люди догадались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 можно наносить рисунк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ие то знаки на мокрой глин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ину замешивали, оставляли 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которое время для закиса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ле этого можно было изготавливать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бличку и наносить на неё информаци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ревние люди сушили таблички на солнц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ли обжигали на огне. Такие табличк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жно было посылать на далёкие расстояни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днако они были очень тяжелым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их изготовление занимало много времени.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:\проект\проектУльяны\рисунки\глинтаб.jpg"/>
          <p:cNvPicPr/>
          <p:nvPr/>
        </p:nvPicPr>
        <p:blipFill>
          <a:blip r:embed="rId2"/>
          <a:stretch/>
        </p:blipFill>
        <p:spPr>
          <a:xfrm>
            <a:off x="5365800" y="2357280"/>
            <a:ext cx="3735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Замешиваем глину в большой ёмк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:\проект\проектУльяны\рисунки\SDC12482.JPG"/>
          <p:cNvPicPr/>
          <p:nvPr/>
        </p:nvPicPr>
        <p:blipFill>
          <a:blip r:embed="rId2"/>
          <a:stretch/>
        </p:blipFill>
        <p:spPr>
          <a:xfrm>
            <a:off x="214200" y="2071800"/>
            <a:ext cx="4210200" cy="315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G:\проект\проектУльяны\рисунки\SDC12483.JPG"/>
          <p:cNvPicPr/>
          <p:nvPr/>
        </p:nvPicPr>
        <p:blipFill>
          <a:blip r:embed="rId3"/>
          <a:stretch/>
        </p:blipFill>
        <p:spPr>
          <a:xfrm>
            <a:off x="4643280" y="35002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71388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Выкладываем получившуюся массу и разравнивае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Picture 6" descr="F:\проект\проектУльяны\рисунки\SDC12485.JPG"/>
          <p:cNvPicPr/>
          <p:nvPr/>
        </p:nvPicPr>
        <p:blipFill>
          <a:blip r:embed="rId1"/>
          <a:stretch/>
        </p:blipFill>
        <p:spPr>
          <a:xfrm>
            <a:off x="2058840" y="2071800"/>
            <a:ext cx="4765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На следующий день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егка смочив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ерхность пишем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ероглиф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6" name="Picture 6" descr="F:\проект\проектУльяны\рисунки\SDC12490.JPG"/>
          <p:cNvPicPr/>
          <p:nvPr/>
        </p:nvPicPr>
        <p:blipFill>
          <a:blip r:embed="rId1"/>
          <a:stretch/>
        </p:blipFill>
        <p:spPr>
          <a:xfrm>
            <a:off x="4429080" y="1571760"/>
            <a:ext cx="3543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Результ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2151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готовление глиняной таблички очень трудоёмкий процесс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хранить большой объём информации на них невозмож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7840" y="1428840"/>
            <a:ext cx="38289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Руси самы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пространённы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риалом для письм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ыла береста. Это определённы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лои коры берёзы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усок бересты с выцарапанным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наками назывался берестяной грамотой.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F:\проект\проектУльяны\рисунки\берастян-грам.jpg"/>
          <p:cNvPicPr/>
          <p:nvPr/>
        </p:nvPicPr>
        <p:blipFill>
          <a:blip r:embed="rId2"/>
          <a:stretch/>
        </p:blipFill>
        <p:spPr>
          <a:xfrm>
            <a:off x="428760" y="1785960"/>
            <a:ext cx="3111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8:05:14Z</dcterms:created>
  <dc:creator>Admin</dc:creator>
  <dc:description/>
  <dc:language>en-US</dc:language>
  <cp:lastModifiedBy>user</cp:lastModifiedBy>
  <dcterms:modified xsi:type="dcterms:W3CDTF">2011-12-02T16:08:45Z</dcterms:modified>
  <cp:revision>31</cp:revision>
  <dc:subject/>
  <dc:title>Бумага – величайшее изобретение  человека или обычный материал?</dc:title>
</cp:coreProperties>
</file>